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940425" cy="66992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7000" y="359676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3624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10456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91212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9700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210456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391212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97000" y="1567440"/>
            <a:ext cx="534564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534564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97000" y="267120"/>
            <a:ext cx="5345640" cy="51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3624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0" descr=""/>
          <p:cNvPicPr/>
          <p:nvPr/>
        </p:nvPicPr>
        <p:blipFill>
          <a:blip r:embed="rId2"/>
          <a:stretch/>
        </p:blipFill>
        <p:spPr>
          <a:xfrm>
            <a:off x="3924360" y="755640"/>
            <a:ext cx="103968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131"/>
          <p:cNvSpPr/>
          <p:nvPr/>
        </p:nvSpPr>
        <p:spPr>
          <a:xfrm>
            <a:off x="3024360" y="526248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132"/>
          <p:cNvSpPr/>
          <p:nvPr/>
        </p:nvSpPr>
        <p:spPr>
          <a:xfrm>
            <a:off x="3016080" y="11444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55"/>
          <p:cNvSpPr/>
          <p:nvPr/>
        </p:nvSpPr>
        <p:spPr>
          <a:xfrm>
            <a:off x="593640" y="5713560"/>
            <a:ext cx="3291120" cy="984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65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86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32"/>
          <p:cNvSpPr/>
          <p:nvPr/>
        </p:nvSpPr>
        <p:spPr>
          <a:xfrm>
            <a:off x="3967200" y="6199200"/>
            <a:ext cx="1352520" cy="444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165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186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グループ化 5"/>
          <p:cNvGrpSpPr/>
          <p:nvPr/>
        </p:nvGrpSpPr>
        <p:grpSpPr>
          <a:xfrm>
            <a:off x="1450800" y="1343160"/>
            <a:ext cx="3038760" cy="4011480"/>
            <a:chOff x="1450800" y="1343160"/>
            <a:chExt cx="3038760" cy="4011480"/>
          </a:xfrm>
        </p:grpSpPr>
        <p:grpSp>
          <p:nvGrpSpPr>
            <p:cNvPr id="6" name="object 2"/>
            <p:cNvGrpSpPr/>
            <p:nvPr/>
          </p:nvGrpSpPr>
          <p:grpSpPr>
            <a:xfrm>
              <a:off x="1473840" y="4895640"/>
              <a:ext cx="436320" cy="436320"/>
              <a:chOff x="1473840" y="4895640"/>
              <a:chExt cx="436320" cy="436320"/>
            </a:xfrm>
          </p:grpSpPr>
          <p:sp>
            <p:nvSpPr>
              <p:cNvPr id="7" name="object 3"/>
              <p:cNvSpPr/>
              <p:nvPr/>
            </p:nvSpPr>
            <p:spPr>
              <a:xfrm>
                <a:off x="1473840" y="48956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object 4"/>
              <p:cNvSpPr/>
              <p:nvPr/>
            </p:nvSpPr>
            <p:spPr>
              <a:xfrm>
                <a:off x="1473840" y="500436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" name="object 5"/>
            <p:cNvGrpSpPr/>
            <p:nvPr/>
          </p:nvGrpSpPr>
          <p:grpSpPr>
            <a:xfrm>
              <a:off x="1473840" y="1366200"/>
              <a:ext cx="436320" cy="436320"/>
              <a:chOff x="1473840" y="1366200"/>
              <a:chExt cx="436320" cy="436320"/>
            </a:xfrm>
          </p:grpSpPr>
          <p:sp>
            <p:nvSpPr>
              <p:cNvPr id="10" name="object 6"/>
              <p:cNvSpPr/>
              <p:nvPr/>
            </p:nvSpPr>
            <p:spPr>
              <a:xfrm>
                <a:off x="1473840" y="136620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object 7"/>
              <p:cNvSpPr/>
              <p:nvPr/>
            </p:nvSpPr>
            <p:spPr>
              <a:xfrm>
                <a:off x="1473840" y="136620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" name="object 8"/>
            <p:cNvGrpSpPr/>
            <p:nvPr/>
          </p:nvGrpSpPr>
          <p:grpSpPr>
            <a:xfrm>
              <a:off x="4030560" y="1366200"/>
              <a:ext cx="436320" cy="436320"/>
              <a:chOff x="4030560" y="1366200"/>
              <a:chExt cx="436320" cy="436320"/>
            </a:xfrm>
          </p:grpSpPr>
          <p:sp>
            <p:nvSpPr>
              <p:cNvPr id="13" name="object 9"/>
              <p:cNvSpPr/>
              <p:nvPr/>
            </p:nvSpPr>
            <p:spPr>
              <a:xfrm>
                <a:off x="4139280" y="136620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bject 10"/>
              <p:cNvSpPr/>
              <p:nvPr/>
            </p:nvSpPr>
            <p:spPr>
              <a:xfrm>
                <a:off x="4030560" y="136620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object 11"/>
            <p:cNvGrpSpPr/>
            <p:nvPr/>
          </p:nvGrpSpPr>
          <p:grpSpPr>
            <a:xfrm>
              <a:off x="4030560" y="4895640"/>
              <a:ext cx="436320" cy="436320"/>
              <a:chOff x="4030560" y="4895640"/>
              <a:chExt cx="436320" cy="436320"/>
            </a:xfrm>
          </p:grpSpPr>
          <p:sp>
            <p:nvSpPr>
              <p:cNvPr id="16" name="object 12"/>
              <p:cNvSpPr/>
              <p:nvPr/>
            </p:nvSpPr>
            <p:spPr>
              <a:xfrm>
                <a:off x="4139280" y="48956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bject 13"/>
              <p:cNvSpPr/>
              <p:nvPr/>
            </p:nvSpPr>
            <p:spPr>
              <a:xfrm>
                <a:off x="4030560" y="500436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object 14"/>
            <p:cNvGrpSpPr/>
            <p:nvPr/>
          </p:nvGrpSpPr>
          <p:grpSpPr>
            <a:xfrm>
              <a:off x="1450800" y="2891520"/>
              <a:ext cx="304560" cy="914400"/>
              <a:chOff x="1450800" y="2891520"/>
              <a:chExt cx="304560" cy="914400"/>
            </a:xfrm>
          </p:grpSpPr>
          <p:sp>
            <p:nvSpPr>
              <p:cNvPr id="19" name="object 15"/>
              <p:cNvSpPr/>
              <p:nvPr/>
            </p:nvSpPr>
            <p:spPr>
              <a:xfrm>
                <a:off x="1450800" y="3348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bject 16"/>
              <p:cNvSpPr/>
              <p:nvPr/>
            </p:nvSpPr>
            <p:spPr>
              <a:xfrm>
                <a:off x="1679400" y="2891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" name="object 17"/>
            <p:cNvGrpSpPr/>
            <p:nvPr/>
          </p:nvGrpSpPr>
          <p:grpSpPr>
            <a:xfrm>
              <a:off x="4185000" y="2891520"/>
              <a:ext cx="304560" cy="914400"/>
              <a:chOff x="4185000" y="2891520"/>
              <a:chExt cx="304560" cy="914400"/>
            </a:xfrm>
          </p:grpSpPr>
          <p:sp>
            <p:nvSpPr>
              <p:cNvPr id="22" name="object 18"/>
              <p:cNvSpPr/>
              <p:nvPr/>
            </p:nvSpPr>
            <p:spPr>
              <a:xfrm>
                <a:off x="4185000" y="3348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bject 19"/>
              <p:cNvSpPr/>
              <p:nvPr/>
            </p:nvSpPr>
            <p:spPr>
              <a:xfrm>
                <a:off x="4260960" y="2891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" name="object 20"/>
            <p:cNvGrpSpPr/>
            <p:nvPr/>
          </p:nvGrpSpPr>
          <p:grpSpPr>
            <a:xfrm>
              <a:off x="2512800" y="1343160"/>
              <a:ext cx="914400" cy="304560"/>
              <a:chOff x="2512800" y="1343160"/>
              <a:chExt cx="914400" cy="304560"/>
            </a:xfrm>
          </p:grpSpPr>
          <p:sp>
            <p:nvSpPr>
              <p:cNvPr id="25" name="object 21"/>
              <p:cNvSpPr/>
              <p:nvPr/>
            </p:nvSpPr>
            <p:spPr>
              <a:xfrm>
                <a:off x="2512800" y="157176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object 22"/>
              <p:cNvSpPr/>
              <p:nvPr/>
            </p:nvSpPr>
            <p:spPr>
              <a:xfrm>
                <a:off x="2970000" y="134316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" name="object 23"/>
            <p:cNvGrpSpPr/>
            <p:nvPr/>
          </p:nvGrpSpPr>
          <p:grpSpPr>
            <a:xfrm>
              <a:off x="2512800" y="5050080"/>
              <a:ext cx="914400" cy="304560"/>
              <a:chOff x="2512800" y="5050080"/>
              <a:chExt cx="914400" cy="304560"/>
            </a:xfrm>
          </p:grpSpPr>
          <p:sp>
            <p:nvSpPr>
              <p:cNvPr id="28" name="object 24"/>
              <p:cNvSpPr/>
              <p:nvPr/>
            </p:nvSpPr>
            <p:spPr>
              <a:xfrm>
                <a:off x="2512800" y="51260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object 25"/>
              <p:cNvSpPr/>
              <p:nvPr/>
            </p:nvSpPr>
            <p:spPr>
              <a:xfrm>
                <a:off x="2970000" y="5050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99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" name="グループ化 30"/>
          <p:cNvGrpSpPr/>
          <p:nvPr/>
        </p:nvGrpSpPr>
        <p:grpSpPr>
          <a:xfrm>
            <a:off x="179280" y="179280"/>
            <a:ext cx="5100840" cy="849600"/>
            <a:chOff x="179280" y="179280"/>
            <a:chExt cx="5100840" cy="849600"/>
          </a:xfrm>
        </p:grpSpPr>
        <p:sp>
          <p:nvSpPr>
            <p:cNvPr id="31" name="object 2"/>
            <p:cNvSpPr/>
            <p:nvPr/>
          </p:nvSpPr>
          <p:spPr>
            <a:xfrm>
              <a:off x="1991160" y="349200"/>
              <a:ext cx="136080" cy="206280"/>
            </a:xfrm>
            <a:custGeom>
              <a:avLst/>
              <a:gdLst/>
              <a:ahLst/>
              <a:rect l="l" t="t" r="r" b="b"/>
              <a:pathLst>
                <a:path w="219075" h="331470">
                  <a:moveTo>
                    <a:pt x="59245" y="0"/>
                  </a:moveTo>
                  <a:lnTo>
                    <a:pt x="0" y="0"/>
                  </a:lnTo>
                  <a:lnTo>
                    <a:pt x="0" y="331431"/>
                  </a:lnTo>
                  <a:lnTo>
                    <a:pt x="59245" y="331431"/>
                  </a:lnTo>
                  <a:lnTo>
                    <a:pt x="59245" y="158915"/>
                  </a:lnTo>
                  <a:lnTo>
                    <a:pt x="92371" y="176864"/>
                  </a:lnTo>
                  <a:lnTo>
                    <a:pt x="124445" y="196724"/>
                  </a:lnTo>
                  <a:lnTo>
                    <a:pt x="155470" y="218263"/>
                  </a:lnTo>
                  <a:lnTo>
                    <a:pt x="185445" y="241249"/>
                  </a:lnTo>
                  <a:lnTo>
                    <a:pt x="218744" y="189699"/>
                  </a:lnTo>
                  <a:lnTo>
                    <a:pt x="185296" y="165551"/>
                  </a:lnTo>
                  <a:lnTo>
                    <a:pt x="150695" y="143079"/>
                  </a:lnTo>
                  <a:lnTo>
                    <a:pt x="114974" y="122353"/>
                  </a:lnTo>
                  <a:lnTo>
                    <a:pt x="78168" y="103441"/>
                  </a:lnTo>
                  <a:lnTo>
                    <a:pt x="59245" y="139598"/>
                  </a:lnTo>
                  <a:lnTo>
                    <a:pt x="59245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bject 3"/>
            <p:cNvSpPr/>
            <p:nvPr/>
          </p:nvSpPr>
          <p:spPr>
            <a:xfrm>
              <a:off x="2185200" y="351000"/>
              <a:ext cx="804600" cy="207720"/>
            </a:xfrm>
            <a:custGeom>
              <a:avLst/>
              <a:gdLst/>
              <a:ahLst/>
              <a:rect l="l" t="t" r="r" b="b"/>
              <a:pathLst>
                <a:path w="1293495" h="333375">
                  <a:moveTo>
                    <a:pt x="281508" y="165366"/>
                  </a:moveTo>
                  <a:lnTo>
                    <a:pt x="241185" y="123126"/>
                  </a:lnTo>
                  <a:lnTo>
                    <a:pt x="212115" y="158521"/>
                  </a:lnTo>
                  <a:lnTo>
                    <a:pt x="178993" y="189636"/>
                  </a:lnTo>
                  <a:lnTo>
                    <a:pt x="142252" y="215976"/>
                  </a:lnTo>
                  <a:lnTo>
                    <a:pt x="102323" y="237045"/>
                  </a:lnTo>
                  <a:lnTo>
                    <a:pt x="59601" y="252336"/>
                  </a:lnTo>
                  <a:lnTo>
                    <a:pt x="59601" y="0"/>
                  </a:lnTo>
                  <a:lnTo>
                    <a:pt x="0" y="0"/>
                  </a:lnTo>
                  <a:lnTo>
                    <a:pt x="0" y="325005"/>
                  </a:lnTo>
                  <a:lnTo>
                    <a:pt x="47688" y="316534"/>
                  </a:lnTo>
                  <a:lnTo>
                    <a:pt x="93218" y="303364"/>
                  </a:lnTo>
                  <a:lnTo>
                    <a:pt x="136410" y="285457"/>
                  </a:lnTo>
                  <a:lnTo>
                    <a:pt x="177050" y="262750"/>
                  </a:lnTo>
                  <a:lnTo>
                    <a:pt x="214909" y="235204"/>
                  </a:lnTo>
                  <a:lnTo>
                    <a:pt x="249809" y="202755"/>
                  </a:lnTo>
                  <a:lnTo>
                    <a:pt x="281508" y="165366"/>
                  </a:lnTo>
                  <a:close/>
                </a:path>
                <a:path w="1293495" h="333375">
                  <a:moveTo>
                    <a:pt x="626198" y="134937"/>
                  </a:moveTo>
                  <a:lnTo>
                    <a:pt x="306489" y="134937"/>
                  </a:lnTo>
                  <a:lnTo>
                    <a:pt x="306489" y="191846"/>
                  </a:lnTo>
                  <a:lnTo>
                    <a:pt x="626198" y="191846"/>
                  </a:lnTo>
                  <a:lnTo>
                    <a:pt x="626198" y="134937"/>
                  </a:lnTo>
                  <a:close/>
                </a:path>
                <a:path w="1293495" h="333375">
                  <a:moveTo>
                    <a:pt x="965263" y="65506"/>
                  </a:moveTo>
                  <a:lnTo>
                    <a:pt x="958227" y="55346"/>
                  </a:lnTo>
                  <a:lnTo>
                    <a:pt x="953300" y="49034"/>
                  </a:lnTo>
                  <a:lnTo>
                    <a:pt x="950722" y="45720"/>
                  </a:lnTo>
                  <a:lnTo>
                    <a:pt x="946124" y="40449"/>
                  </a:lnTo>
                  <a:lnTo>
                    <a:pt x="942695" y="36512"/>
                  </a:lnTo>
                  <a:lnTo>
                    <a:pt x="934072" y="27571"/>
                  </a:lnTo>
                  <a:lnTo>
                    <a:pt x="918997" y="40449"/>
                  </a:lnTo>
                  <a:lnTo>
                    <a:pt x="918997" y="10375"/>
                  </a:lnTo>
                  <a:lnTo>
                    <a:pt x="697788" y="10375"/>
                  </a:lnTo>
                  <a:lnTo>
                    <a:pt x="697788" y="66573"/>
                  </a:lnTo>
                  <a:lnTo>
                    <a:pt x="918997" y="66573"/>
                  </a:lnTo>
                  <a:lnTo>
                    <a:pt x="918997" y="49034"/>
                  </a:lnTo>
                  <a:lnTo>
                    <a:pt x="926058" y="56692"/>
                  </a:lnTo>
                  <a:lnTo>
                    <a:pt x="932586" y="64643"/>
                  </a:lnTo>
                  <a:lnTo>
                    <a:pt x="938720" y="72948"/>
                  </a:lnTo>
                  <a:lnTo>
                    <a:pt x="944587" y="81610"/>
                  </a:lnTo>
                  <a:lnTo>
                    <a:pt x="965263" y="65506"/>
                  </a:lnTo>
                  <a:close/>
                </a:path>
                <a:path w="1293495" h="333375">
                  <a:moveTo>
                    <a:pt x="977188" y="102730"/>
                  </a:moveTo>
                  <a:lnTo>
                    <a:pt x="656424" y="102730"/>
                  </a:lnTo>
                  <a:lnTo>
                    <a:pt x="656424" y="158915"/>
                  </a:lnTo>
                  <a:lnTo>
                    <a:pt x="794194" y="158915"/>
                  </a:lnTo>
                  <a:lnTo>
                    <a:pt x="791933" y="177800"/>
                  </a:lnTo>
                  <a:lnTo>
                    <a:pt x="772464" y="230149"/>
                  </a:lnTo>
                  <a:lnTo>
                    <a:pt x="736841" y="264502"/>
                  </a:lnTo>
                  <a:lnTo>
                    <a:pt x="692531" y="287058"/>
                  </a:lnTo>
                  <a:lnTo>
                    <a:pt x="735304" y="333235"/>
                  </a:lnTo>
                  <a:lnTo>
                    <a:pt x="787184" y="303250"/>
                  </a:lnTo>
                  <a:lnTo>
                    <a:pt x="827506" y="258787"/>
                  </a:lnTo>
                  <a:lnTo>
                    <a:pt x="846442" y="210464"/>
                  </a:lnTo>
                  <a:lnTo>
                    <a:pt x="853795" y="158915"/>
                  </a:lnTo>
                  <a:lnTo>
                    <a:pt x="977188" y="158915"/>
                  </a:lnTo>
                  <a:lnTo>
                    <a:pt x="977188" y="102730"/>
                  </a:lnTo>
                  <a:close/>
                </a:path>
                <a:path w="1293495" h="333375">
                  <a:moveTo>
                    <a:pt x="995070" y="40449"/>
                  </a:moveTo>
                  <a:lnTo>
                    <a:pt x="988021" y="30289"/>
                  </a:lnTo>
                  <a:lnTo>
                    <a:pt x="980516" y="20675"/>
                  </a:lnTo>
                  <a:lnTo>
                    <a:pt x="972489" y="11455"/>
                  </a:lnTo>
                  <a:lnTo>
                    <a:pt x="963866" y="2501"/>
                  </a:lnTo>
                  <a:lnTo>
                    <a:pt x="944232" y="19329"/>
                  </a:lnTo>
                  <a:lnTo>
                    <a:pt x="952601" y="28067"/>
                  </a:lnTo>
                  <a:lnTo>
                    <a:pt x="960399" y="37134"/>
                  </a:lnTo>
                  <a:lnTo>
                    <a:pt x="967752" y="46609"/>
                  </a:lnTo>
                  <a:lnTo>
                    <a:pt x="974737" y="56553"/>
                  </a:lnTo>
                  <a:lnTo>
                    <a:pt x="995070" y="40449"/>
                  </a:lnTo>
                  <a:close/>
                </a:path>
                <a:path w="1293495" h="333375">
                  <a:moveTo>
                    <a:pt x="1293139" y="88417"/>
                  </a:moveTo>
                  <a:lnTo>
                    <a:pt x="1253528" y="55486"/>
                  </a:lnTo>
                  <a:lnTo>
                    <a:pt x="1213446" y="90119"/>
                  </a:lnTo>
                  <a:lnTo>
                    <a:pt x="1171638" y="120027"/>
                  </a:lnTo>
                  <a:lnTo>
                    <a:pt x="1127721" y="145592"/>
                  </a:lnTo>
                  <a:lnTo>
                    <a:pt x="1081290" y="167246"/>
                  </a:lnTo>
                  <a:lnTo>
                    <a:pt x="1031963" y="185407"/>
                  </a:lnTo>
                  <a:lnTo>
                    <a:pt x="1057211" y="231228"/>
                  </a:lnTo>
                  <a:lnTo>
                    <a:pt x="1081189" y="222745"/>
                  </a:lnTo>
                  <a:lnTo>
                    <a:pt x="1104785" y="213372"/>
                  </a:lnTo>
                  <a:lnTo>
                    <a:pt x="1128001" y="202984"/>
                  </a:lnTo>
                  <a:lnTo>
                    <a:pt x="1150810" y="191490"/>
                  </a:lnTo>
                  <a:lnTo>
                    <a:pt x="1150810" y="333235"/>
                  </a:lnTo>
                  <a:lnTo>
                    <a:pt x="1201991" y="333235"/>
                  </a:lnTo>
                  <a:lnTo>
                    <a:pt x="1201991" y="161429"/>
                  </a:lnTo>
                  <a:lnTo>
                    <a:pt x="1226032" y="144780"/>
                  </a:lnTo>
                  <a:lnTo>
                    <a:pt x="1249260" y="127063"/>
                  </a:lnTo>
                  <a:lnTo>
                    <a:pt x="1271638" y="108267"/>
                  </a:lnTo>
                  <a:lnTo>
                    <a:pt x="1293139" y="88417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bject 4"/>
            <p:cNvSpPr/>
            <p:nvPr/>
          </p:nvSpPr>
          <p:spPr>
            <a:xfrm>
              <a:off x="3037320" y="339120"/>
              <a:ext cx="618840" cy="221400"/>
            </a:xfrm>
            <a:custGeom>
              <a:avLst/>
              <a:gdLst/>
              <a:ahLst/>
              <a:rect l="l" t="t" r="r" b="b"/>
              <a:pathLst>
                <a:path w="995045" h="355600">
                  <a:moveTo>
                    <a:pt x="141274" y="98056"/>
                  </a:moveTo>
                  <a:lnTo>
                    <a:pt x="115773" y="77673"/>
                  </a:lnTo>
                  <a:lnTo>
                    <a:pt x="89242" y="58915"/>
                  </a:lnTo>
                  <a:lnTo>
                    <a:pt x="61747" y="41846"/>
                  </a:lnTo>
                  <a:lnTo>
                    <a:pt x="33299" y="26479"/>
                  </a:lnTo>
                  <a:lnTo>
                    <a:pt x="0" y="73723"/>
                  </a:lnTo>
                  <a:lnTo>
                    <a:pt x="27203" y="89700"/>
                  </a:lnTo>
                  <a:lnTo>
                    <a:pt x="53581" y="107061"/>
                  </a:lnTo>
                  <a:lnTo>
                    <a:pt x="79108" y="125818"/>
                  </a:lnTo>
                  <a:lnTo>
                    <a:pt x="103759" y="146024"/>
                  </a:lnTo>
                  <a:lnTo>
                    <a:pt x="141274" y="98056"/>
                  </a:lnTo>
                  <a:close/>
                </a:path>
                <a:path w="995045" h="355600">
                  <a:moveTo>
                    <a:pt x="312686" y="142811"/>
                  </a:moveTo>
                  <a:lnTo>
                    <a:pt x="271678" y="94488"/>
                  </a:lnTo>
                  <a:lnTo>
                    <a:pt x="243382" y="138137"/>
                  </a:lnTo>
                  <a:lnTo>
                    <a:pt x="212394" y="175958"/>
                  </a:lnTo>
                  <a:lnTo>
                    <a:pt x="178320" y="208203"/>
                  </a:lnTo>
                  <a:lnTo>
                    <a:pt x="140817" y="235102"/>
                  </a:lnTo>
                  <a:lnTo>
                    <a:pt x="99542" y="256870"/>
                  </a:lnTo>
                  <a:lnTo>
                    <a:pt x="54114" y="273748"/>
                  </a:lnTo>
                  <a:lnTo>
                    <a:pt x="4203" y="285965"/>
                  </a:lnTo>
                  <a:lnTo>
                    <a:pt x="31203" y="344665"/>
                  </a:lnTo>
                  <a:lnTo>
                    <a:pt x="81470" y="331063"/>
                  </a:lnTo>
                  <a:lnTo>
                    <a:pt x="128549" y="312127"/>
                  </a:lnTo>
                  <a:lnTo>
                    <a:pt x="172339" y="288023"/>
                  </a:lnTo>
                  <a:lnTo>
                    <a:pt x="212750" y="258889"/>
                  </a:lnTo>
                  <a:lnTo>
                    <a:pt x="249669" y="224878"/>
                  </a:lnTo>
                  <a:lnTo>
                    <a:pt x="283019" y="186131"/>
                  </a:lnTo>
                  <a:lnTo>
                    <a:pt x="312686" y="142811"/>
                  </a:lnTo>
                  <a:close/>
                </a:path>
                <a:path w="995045" h="355600">
                  <a:moveTo>
                    <a:pt x="621969" y="43662"/>
                  </a:moveTo>
                  <a:lnTo>
                    <a:pt x="614934" y="33451"/>
                  </a:lnTo>
                  <a:lnTo>
                    <a:pt x="607466" y="23749"/>
                  </a:lnTo>
                  <a:lnTo>
                    <a:pt x="599541" y="14516"/>
                  </a:lnTo>
                  <a:lnTo>
                    <a:pt x="591121" y="5715"/>
                  </a:lnTo>
                  <a:lnTo>
                    <a:pt x="571131" y="21831"/>
                  </a:lnTo>
                  <a:lnTo>
                    <a:pt x="579437" y="30822"/>
                  </a:lnTo>
                  <a:lnTo>
                    <a:pt x="587095" y="40132"/>
                  </a:lnTo>
                  <a:lnTo>
                    <a:pt x="594207" y="49758"/>
                  </a:lnTo>
                  <a:lnTo>
                    <a:pt x="600938" y="59766"/>
                  </a:lnTo>
                  <a:lnTo>
                    <a:pt x="621969" y="43662"/>
                  </a:lnTo>
                  <a:close/>
                </a:path>
                <a:path w="995045" h="355600">
                  <a:moveTo>
                    <a:pt x="645109" y="62992"/>
                  </a:moveTo>
                  <a:lnTo>
                    <a:pt x="498919" y="62992"/>
                  </a:lnTo>
                  <a:lnTo>
                    <a:pt x="502742" y="55194"/>
                  </a:lnTo>
                  <a:lnTo>
                    <a:pt x="506323" y="47371"/>
                  </a:lnTo>
                  <a:lnTo>
                    <a:pt x="509714" y="39471"/>
                  </a:lnTo>
                  <a:lnTo>
                    <a:pt x="512940" y="31483"/>
                  </a:lnTo>
                  <a:lnTo>
                    <a:pt x="456501" y="13589"/>
                  </a:lnTo>
                  <a:lnTo>
                    <a:pt x="434949" y="58521"/>
                  </a:lnTo>
                  <a:lnTo>
                    <a:pt x="407644" y="99809"/>
                  </a:lnTo>
                  <a:lnTo>
                    <a:pt x="375412" y="137261"/>
                  </a:lnTo>
                  <a:lnTo>
                    <a:pt x="339064" y="170726"/>
                  </a:lnTo>
                  <a:lnTo>
                    <a:pt x="382892" y="210451"/>
                  </a:lnTo>
                  <a:lnTo>
                    <a:pt x="406184" y="189788"/>
                  </a:lnTo>
                  <a:lnTo>
                    <a:pt x="428066" y="167551"/>
                  </a:lnTo>
                  <a:lnTo>
                    <a:pt x="448310" y="143764"/>
                  </a:lnTo>
                  <a:lnTo>
                    <a:pt x="466674" y="118465"/>
                  </a:lnTo>
                  <a:lnTo>
                    <a:pt x="573951" y="118465"/>
                  </a:lnTo>
                  <a:lnTo>
                    <a:pt x="545807" y="182270"/>
                  </a:lnTo>
                  <a:lnTo>
                    <a:pt x="503478" y="236943"/>
                  </a:lnTo>
                  <a:lnTo>
                    <a:pt x="449008" y="278599"/>
                  </a:lnTo>
                  <a:lnTo>
                    <a:pt x="386384" y="306031"/>
                  </a:lnTo>
                  <a:lnTo>
                    <a:pt x="426008" y="355053"/>
                  </a:lnTo>
                  <a:lnTo>
                    <a:pt x="471995" y="334632"/>
                  </a:lnTo>
                  <a:lnTo>
                    <a:pt x="512495" y="308813"/>
                  </a:lnTo>
                  <a:lnTo>
                    <a:pt x="547585" y="277990"/>
                  </a:lnTo>
                  <a:lnTo>
                    <a:pt x="577367" y="242570"/>
                  </a:lnTo>
                  <a:lnTo>
                    <a:pt x="601916" y="202958"/>
                  </a:lnTo>
                  <a:lnTo>
                    <a:pt x="621322" y="159562"/>
                  </a:lnTo>
                  <a:lnTo>
                    <a:pt x="633945" y="118465"/>
                  </a:lnTo>
                  <a:lnTo>
                    <a:pt x="635698" y="112763"/>
                  </a:lnTo>
                  <a:lnTo>
                    <a:pt x="645109" y="62992"/>
                  </a:lnTo>
                  <a:close/>
                </a:path>
                <a:path w="995045" h="355600">
                  <a:moveTo>
                    <a:pt x="668248" y="38303"/>
                  </a:moveTo>
                  <a:lnTo>
                    <a:pt x="661263" y="28079"/>
                  </a:lnTo>
                  <a:lnTo>
                    <a:pt x="653910" y="18338"/>
                  </a:lnTo>
                  <a:lnTo>
                    <a:pt x="646112" y="9004"/>
                  </a:lnTo>
                  <a:lnTo>
                    <a:pt x="637743" y="0"/>
                  </a:lnTo>
                  <a:lnTo>
                    <a:pt x="617766" y="16459"/>
                  </a:lnTo>
                  <a:lnTo>
                    <a:pt x="625919" y="25247"/>
                  </a:lnTo>
                  <a:lnTo>
                    <a:pt x="633577" y="34442"/>
                  </a:lnTo>
                  <a:lnTo>
                    <a:pt x="640778" y="44043"/>
                  </a:lnTo>
                  <a:lnTo>
                    <a:pt x="647560" y="54038"/>
                  </a:lnTo>
                  <a:lnTo>
                    <a:pt x="668248" y="38303"/>
                  </a:lnTo>
                  <a:close/>
                </a:path>
                <a:path w="995045" h="355600">
                  <a:moveTo>
                    <a:pt x="994702" y="80162"/>
                  </a:moveTo>
                  <a:lnTo>
                    <a:pt x="868159" y="80162"/>
                  </a:lnTo>
                  <a:lnTo>
                    <a:pt x="868959" y="63461"/>
                  </a:lnTo>
                  <a:lnTo>
                    <a:pt x="869378" y="46659"/>
                  </a:lnTo>
                  <a:lnTo>
                    <a:pt x="869556" y="12877"/>
                  </a:lnTo>
                  <a:lnTo>
                    <a:pt x="812063" y="12877"/>
                  </a:lnTo>
                  <a:lnTo>
                    <a:pt x="811580" y="46659"/>
                  </a:lnTo>
                  <a:lnTo>
                    <a:pt x="810310" y="80162"/>
                  </a:lnTo>
                  <a:lnTo>
                    <a:pt x="698487" y="80162"/>
                  </a:lnTo>
                  <a:lnTo>
                    <a:pt x="698487" y="136715"/>
                  </a:lnTo>
                  <a:lnTo>
                    <a:pt x="805395" y="136715"/>
                  </a:lnTo>
                  <a:lnTo>
                    <a:pt x="801052" y="159042"/>
                  </a:lnTo>
                  <a:lnTo>
                    <a:pt x="787260" y="201803"/>
                  </a:lnTo>
                  <a:lnTo>
                    <a:pt x="760818" y="245287"/>
                  </a:lnTo>
                  <a:lnTo>
                    <a:pt x="720166" y="284518"/>
                  </a:lnTo>
                  <a:lnTo>
                    <a:pt x="697077" y="300647"/>
                  </a:lnTo>
                  <a:lnTo>
                    <a:pt x="739495" y="343598"/>
                  </a:lnTo>
                  <a:lnTo>
                    <a:pt x="780491" y="311569"/>
                  </a:lnTo>
                  <a:lnTo>
                    <a:pt x="812660" y="275310"/>
                  </a:lnTo>
                  <a:lnTo>
                    <a:pt x="836663" y="234378"/>
                  </a:lnTo>
                  <a:lnTo>
                    <a:pt x="853186" y="188328"/>
                  </a:lnTo>
                  <a:lnTo>
                    <a:pt x="862888" y="136715"/>
                  </a:lnTo>
                  <a:lnTo>
                    <a:pt x="935456" y="136715"/>
                  </a:lnTo>
                  <a:lnTo>
                    <a:pt x="931735" y="192468"/>
                  </a:lnTo>
                  <a:lnTo>
                    <a:pt x="923544" y="247662"/>
                  </a:lnTo>
                  <a:lnTo>
                    <a:pt x="892340" y="282028"/>
                  </a:lnTo>
                  <a:lnTo>
                    <a:pt x="882396" y="281787"/>
                  </a:lnTo>
                  <a:lnTo>
                    <a:pt x="872528" y="281139"/>
                  </a:lnTo>
                  <a:lnTo>
                    <a:pt x="852728" y="279171"/>
                  </a:lnTo>
                  <a:lnTo>
                    <a:pt x="864298" y="337870"/>
                  </a:lnTo>
                  <a:lnTo>
                    <a:pt x="879500" y="338683"/>
                  </a:lnTo>
                  <a:lnTo>
                    <a:pt x="894448" y="338950"/>
                  </a:lnTo>
                  <a:lnTo>
                    <a:pt x="918438" y="337134"/>
                  </a:lnTo>
                  <a:lnTo>
                    <a:pt x="956157" y="317652"/>
                  </a:lnTo>
                  <a:lnTo>
                    <a:pt x="980643" y="251447"/>
                  </a:lnTo>
                  <a:lnTo>
                    <a:pt x="988085" y="191262"/>
                  </a:lnTo>
                  <a:lnTo>
                    <a:pt x="992428" y="129654"/>
                  </a:lnTo>
                  <a:lnTo>
                    <a:pt x="994702" y="80162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bject 5"/>
            <p:cNvSpPr/>
            <p:nvPr/>
          </p:nvSpPr>
          <p:spPr>
            <a:xfrm>
              <a:off x="3685320" y="434880"/>
              <a:ext cx="199080" cy="35280"/>
            </a:xfrm>
            <a:custGeom>
              <a:avLst/>
              <a:gdLst/>
              <a:ahLst/>
              <a:rect l="l" t="t" r="r" b="b"/>
              <a:pathLst>
                <a:path w="320039" h="57150">
                  <a:moveTo>
                    <a:pt x="319709" y="0"/>
                  </a:moveTo>
                  <a:lnTo>
                    <a:pt x="0" y="0"/>
                  </a:lnTo>
                  <a:lnTo>
                    <a:pt x="0" y="56908"/>
                  </a:lnTo>
                  <a:lnTo>
                    <a:pt x="319709" y="56908"/>
                  </a:lnTo>
                  <a:lnTo>
                    <a:pt x="319709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bject 6"/>
            <p:cNvSpPr/>
            <p:nvPr/>
          </p:nvSpPr>
          <p:spPr>
            <a:xfrm>
              <a:off x="3952440" y="349200"/>
              <a:ext cx="142200" cy="206280"/>
            </a:xfrm>
            <a:custGeom>
              <a:avLst/>
              <a:gdLst/>
              <a:ahLst/>
              <a:rect l="l" t="t" r="r" b="b"/>
              <a:pathLst>
                <a:path w="228600" h="331470">
                  <a:moveTo>
                    <a:pt x="59245" y="0"/>
                  </a:moveTo>
                  <a:lnTo>
                    <a:pt x="0" y="0"/>
                  </a:lnTo>
                  <a:lnTo>
                    <a:pt x="0" y="331419"/>
                  </a:lnTo>
                  <a:lnTo>
                    <a:pt x="59245" y="331419"/>
                  </a:lnTo>
                  <a:lnTo>
                    <a:pt x="59245" y="158902"/>
                  </a:lnTo>
                  <a:lnTo>
                    <a:pt x="174854" y="158902"/>
                  </a:lnTo>
                  <a:lnTo>
                    <a:pt x="150396" y="143067"/>
                  </a:lnTo>
                  <a:lnTo>
                    <a:pt x="144389" y="139585"/>
                  </a:lnTo>
                  <a:lnTo>
                    <a:pt x="59245" y="139585"/>
                  </a:lnTo>
                  <a:lnTo>
                    <a:pt x="59245" y="0"/>
                  </a:lnTo>
                  <a:close/>
                </a:path>
                <a:path w="228600" h="331470">
                  <a:moveTo>
                    <a:pt x="174854" y="158902"/>
                  </a:moveTo>
                  <a:lnTo>
                    <a:pt x="59245" y="158902"/>
                  </a:lnTo>
                  <a:lnTo>
                    <a:pt x="92173" y="176851"/>
                  </a:lnTo>
                  <a:lnTo>
                    <a:pt x="124145" y="196711"/>
                  </a:lnTo>
                  <a:lnTo>
                    <a:pt x="155132" y="218250"/>
                  </a:lnTo>
                  <a:lnTo>
                    <a:pt x="185102" y="241236"/>
                  </a:lnTo>
                  <a:lnTo>
                    <a:pt x="218757" y="189687"/>
                  </a:lnTo>
                  <a:lnTo>
                    <a:pt x="185103" y="165538"/>
                  </a:lnTo>
                  <a:lnTo>
                    <a:pt x="174854" y="158902"/>
                  </a:lnTo>
                  <a:close/>
                </a:path>
                <a:path w="228600" h="331470">
                  <a:moveTo>
                    <a:pt x="77825" y="103428"/>
                  </a:moveTo>
                  <a:lnTo>
                    <a:pt x="59245" y="139585"/>
                  </a:lnTo>
                  <a:lnTo>
                    <a:pt x="144389" y="139585"/>
                  </a:lnTo>
                  <a:lnTo>
                    <a:pt x="114637" y="122341"/>
                  </a:lnTo>
                  <a:lnTo>
                    <a:pt x="77825" y="103428"/>
                  </a:lnTo>
                  <a:close/>
                </a:path>
                <a:path w="228600" h="331470">
                  <a:moveTo>
                    <a:pt x="158457" y="38277"/>
                  </a:moveTo>
                  <a:lnTo>
                    <a:pt x="138468" y="57619"/>
                  </a:lnTo>
                  <a:lnTo>
                    <a:pt x="147942" y="66560"/>
                  </a:lnTo>
                  <a:lnTo>
                    <a:pt x="157005" y="75869"/>
                  </a:lnTo>
                  <a:lnTo>
                    <a:pt x="165437" y="85393"/>
                  </a:lnTo>
                  <a:lnTo>
                    <a:pt x="173532" y="95554"/>
                  </a:lnTo>
                  <a:lnTo>
                    <a:pt x="194919" y="75869"/>
                  </a:lnTo>
                  <a:lnTo>
                    <a:pt x="186664" y="65849"/>
                  </a:lnTo>
                  <a:lnTo>
                    <a:pt x="177736" y="56140"/>
                  </a:lnTo>
                  <a:lnTo>
                    <a:pt x="168391" y="47026"/>
                  </a:lnTo>
                  <a:lnTo>
                    <a:pt x="158457" y="38277"/>
                  </a:lnTo>
                  <a:close/>
                </a:path>
                <a:path w="228600" h="331470">
                  <a:moveTo>
                    <a:pt x="192112" y="8216"/>
                  </a:moveTo>
                  <a:lnTo>
                    <a:pt x="171780" y="27914"/>
                  </a:lnTo>
                  <a:lnTo>
                    <a:pt x="181404" y="36704"/>
                  </a:lnTo>
                  <a:lnTo>
                    <a:pt x="190401" y="45934"/>
                  </a:lnTo>
                  <a:lnTo>
                    <a:pt x="198937" y="55637"/>
                  </a:lnTo>
                  <a:lnTo>
                    <a:pt x="207071" y="65720"/>
                  </a:lnTo>
                  <a:lnTo>
                    <a:pt x="207175" y="65849"/>
                  </a:lnTo>
                  <a:lnTo>
                    <a:pt x="228219" y="46151"/>
                  </a:lnTo>
                  <a:lnTo>
                    <a:pt x="219864" y="35952"/>
                  </a:lnTo>
                  <a:lnTo>
                    <a:pt x="211085" y="26250"/>
                  </a:lnTo>
                  <a:lnTo>
                    <a:pt x="201846" y="17016"/>
                  </a:lnTo>
                  <a:lnTo>
                    <a:pt x="192112" y="8216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bject 7"/>
            <p:cNvSpPr/>
            <p:nvPr/>
          </p:nvSpPr>
          <p:spPr>
            <a:xfrm>
              <a:off x="4253040" y="341640"/>
              <a:ext cx="1027080" cy="221400"/>
            </a:xfrm>
            <a:custGeom>
              <a:avLst/>
              <a:gdLst/>
              <a:ahLst/>
              <a:rect l="l" t="t" r="r" b="b"/>
              <a:pathLst>
                <a:path w="1651000" h="355600">
                  <a:moveTo>
                    <a:pt x="111836" y="32931"/>
                  </a:moveTo>
                  <a:lnTo>
                    <a:pt x="82384" y="0"/>
                  </a:lnTo>
                  <a:lnTo>
                    <a:pt x="48666" y="37655"/>
                  </a:lnTo>
                  <a:lnTo>
                    <a:pt x="22656" y="80048"/>
                  </a:lnTo>
                  <a:lnTo>
                    <a:pt x="5918" y="126796"/>
                  </a:lnTo>
                  <a:lnTo>
                    <a:pt x="0" y="177533"/>
                  </a:lnTo>
                  <a:lnTo>
                    <a:pt x="5918" y="228130"/>
                  </a:lnTo>
                  <a:lnTo>
                    <a:pt x="22656" y="274891"/>
                  </a:lnTo>
                  <a:lnTo>
                    <a:pt x="48666" y="317360"/>
                  </a:lnTo>
                  <a:lnTo>
                    <a:pt x="82384" y="355066"/>
                  </a:lnTo>
                  <a:lnTo>
                    <a:pt x="111836" y="322135"/>
                  </a:lnTo>
                  <a:lnTo>
                    <a:pt x="85318" y="291033"/>
                  </a:lnTo>
                  <a:lnTo>
                    <a:pt x="64592" y="256413"/>
                  </a:lnTo>
                  <a:lnTo>
                    <a:pt x="51104" y="218503"/>
                  </a:lnTo>
                  <a:lnTo>
                    <a:pt x="46278" y="177533"/>
                  </a:lnTo>
                  <a:lnTo>
                    <a:pt x="51155" y="136766"/>
                  </a:lnTo>
                  <a:lnTo>
                    <a:pt x="64731" y="98653"/>
                  </a:lnTo>
                  <a:lnTo>
                    <a:pt x="85471" y="63830"/>
                  </a:lnTo>
                  <a:lnTo>
                    <a:pt x="111836" y="32931"/>
                  </a:lnTo>
                  <a:close/>
                </a:path>
                <a:path w="1651000" h="355600">
                  <a:moveTo>
                    <a:pt x="465289" y="296367"/>
                  </a:moveTo>
                  <a:lnTo>
                    <a:pt x="440829" y="266014"/>
                  </a:lnTo>
                  <a:lnTo>
                    <a:pt x="414756" y="236905"/>
                  </a:lnTo>
                  <a:lnTo>
                    <a:pt x="387045" y="209346"/>
                  </a:lnTo>
                  <a:lnTo>
                    <a:pt x="357670" y="183616"/>
                  </a:lnTo>
                  <a:lnTo>
                    <a:pt x="378650" y="148196"/>
                  </a:lnTo>
                  <a:lnTo>
                    <a:pt x="396405" y="111277"/>
                  </a:lnTo>
                  <a:lnTo>
                    <a:pt x="410997" y="72936"/>
                  </a:lnTo>
                  <a:lnTo>
                    <a:pt x="422516" y="33286"/>
                  </a:lnTo>
                  <a:lnTo>
                    <a:pt x="164160" y="33286"/>
                  </a:lnTo>
                  <a:lnTo>
                    <a:pt x="164160" y="90563"/>
                  </a:lnTo>
                  <a:lnTo>
                    <a:pt x="341198" y="90563"/>
                  </a:lnTo>
                  <a:lnTo>
                    <a:pt x="319189" y="136296"/>
                  </a:lnTo>
                  <a:lnTo>
                    <a:pt x="291706" y="176949"/>
                  </a:lnTo>
                  <a:lnTo>
                    <a:pt x="259245" y="212750"/>
                  </a:lnTo>
                  <a:lnTo>
                    <a:pt x="222288" y="243852"/>
                  </a:lnTo>
                  <a:lnTo>
                    <a:pt x="181317" y="270471"/>
                  </a:lnTo>
                  <a:lnTo>
                    <a:pt x="136817" y="292785"/>
                  </a:lnTo>
                  <a:lnTo>
                    <a:pt x="171869" y="342887"/>
                  </a:lnTo>
                  <a:lnTo>
                    <a:pt x="214350" y="320649"/>
                  </a:lnTo>
                  <a:lnTo>
                    <a:pt x="253326" y="294576"/>
                  </a:lnTo>
                  <a:lnTo>
                    <a:pt x="289344" y="264477"/>
                  </a:lnTo>
                  <a:lnTo>
                    <a:pt x="322961" y="230149"/>
                  </a:lnTo>
                  <a:lnTo>
                    <a:pt x="349059" y="255193"/>
                  </a:lnTo>
                  <a:lnTo>
                    <a:pt x="373786" y="281470"/>
                  </a:lnTo>
                  <a:lnTo>
                    <a:pt x="397205" y="309029"/>
                  </a:lnTo>
                  <a:lnTo>
                    <a:pt x="419366" y="337883"/>
                  </a:lnTo>
                  <a:lnTo>
                    <a:pt x="465289" y="296367"/>
                  </a:lnTo>
                  <a:close/>
                </a:path>
                <a:path w="1651000" h="355600">
                  <a:moveTo>
                    <a:pt x="808926" y="137807"/>
                  </a:moveTo>
                  <a:lnTo>
                    <a:pt x="661339" y="137807"/>
                  </a:lnTo>
                  <a:lnTo>
                    <a:pt x="661339" y="90563"/>
                  </a:lnTo>
                  <a:lnTo>
                    <a:pt x="784034" y="90563"/>
                  </a:lnTo>
                  <a:lnTo>
                    <a:pt x="784034" y="34366"/>
                  </a:lnTo>
                  <a:lnTo>
                    <a:pt x="516204" y="34366"/>
                  </a:lnTo>
                  <a:lnTo>
                    <a:pt x="516204" y="90563"/>
                  </a:lnTo>
                  <a:lnTo>
                    <a:pt x="603846" y="90563"/>
                  </a:lnTo>
                  <a:lnTo>
                    <a:pt x="603846" y="137807"/>
                  </a:lnTo>
                  <a:lnTo>
                    <a:pt x="490956" y="137807"/>
                  </a:lnTo>
                  <a:lnTo>
                    <a:pt x="490956" y="193636"/>
                  </a:lnTo>
                  <a:lnTo>
                    <a:pt x="603846" y="193636"/>
                  </a:lnTo>
                  <a:lnTo>
                    <a:pt x="603846" y="265950"/>
                  </a:lnTo>
                  <a:lnTo>
                    <a:pt x="617601" y="311150"/>
                  </a:lnTo>
                  <a:lnTo>
                    <a:pt x="667423" y="333857"/>
                  </a:lnTo>
                  <a:lnTo>
                    <a:pt x="707263" y="335737"/>
                  </a:lnTo>
                  <a:lnTo>
                    <a:pt x="729348" y="335546"/>
                  </a:lnTo>
                  <a:lnTo>
                    <a:pt x="750150" y="335026"/>
                  </a:lnTo>
                  <a:lnTo>
                    <a:pt x="789635" y="333235"/>
                  </a:lnTo>
                  <a:lnTo>
                    <a:pt x="791743" y="277761"/>
                  </a:lnTo>
                  <a:lnTo>
                    <a:pt x="748969" y="279717"/>
                  </a:lnTo>
                  <a:lnTo>
                    <a:pt x="727557" y="280365"/>
                  </a:lnTo>
                  <a:lnTo>
                    <a:pt x="688759" y="280619"/>
                  </a:lnTo>
                  <a:lnTo>
                    <a:pt x="661339" y="264871"/>
                  </a:lnTo>
                  <a:lnTo>
                    <a:pt x="661339" y="193636"/>
                  </a:lnTo>
                  <a:lnTo>
                    <a:pt x="808926" y="193636"/>
                  </a:lnTo>
                  <a:lnTo>
                    <a:pt x="808926" y="137807"/>
                  </a:lnTo>
                  <a:close/>
                </a:path>
                <a:path w="1651000" h="355600">
                  <a:moveTo>
                    <a:pt x="1160627" y="149618"/>
                  </a:moveTo>
                  <a:lnTo>
                    <a:pt x="840917" y="149618"/>
                  </a:lnTo>
                  <a:lnTo>
                    <a:pt x="840917" y="206527"/>
                  </a:lnTo>
                  <a:lnTo>
                    <a:pt x="1160627" y="206527"/>
                  </a:lnTo>
                  <a:lnTo>
                    <a:pt x="1160627" y="149618"/>
                  </a:lnTo>
                  <a:close/>
                </a:path>
                <a:path w="1651000" h="355600">
                  <a:moveTo>
                    <a:pt x="1306893" y="20764"/>
                  </a:moveTo>
                  <a:lnTo>
                    <a:pt x="1248346" y="20764"/>
                  </a:lnTo>
                  <a:lnTo>
                    <a:pt x="1248346" y="115620"/>
                  </a:lnTo>
                  <a:lnTo>
                    <a:pt x="1245616" y="165785"/>
                  </a:lnTo>
                  <a:lnTo>
                    <a:pt x="1245514" y="167678"/>
                  </a:lnTo>
                  <a:lnTo>
                    <a:pt x="1235417" y="215023"/>
                  </a:lnTo>
                  <a:lnTo>
                    <a:pt x="1215656" y="258762"/>
                  </a:lnTo>
                  <a:lnTo>
                    <a:pt x="1183843" y="299948"/>
                  </a:lnTo>
                  <a:lnTo>
                    <a:pt x="1227315" y="345046"/>
                  </a:lnTo>
                  <a:lnTo>
                    <a:pt x="1260754" y="304228"/>
                  </a:lnTo>
                  <a:lnTo>
                    <a:pt x="1283639" y="260985"/>
                  </a:lnTo>
                  <a:lnTo>
                    <a:pt x="1297736" y="215023"/>
                  </a:lnTo>
                  <a:lnTo>
                    <a:pt x="1304899" y="165785"/>
                  </a:lnTo>
                  <a:lnTo>
                    <a:pt x="1306791" y="115620"/>
                  </a:lnTo>
                  <a:lnTo>
                    <a:pt x="1306893" y="20764"/>
                  </a:lnTo>
                  <a:close/>
                </a:path>
                <a:path w="1651000" h="355600">
                  <a:moveTo>
                    <a:pt x="1525282" y="205803"/>
                  </a:moveTo>
                  <a:lnTo>
                    <a:pt x="1487081" y="163576"/>
                  </a:lnTo>
                  <a:lnTo>
                    <a:pt x="1468018" y="189611"/>
                  </a:lnTo>
                  <a:lnTo>
                    <a:pt x="1446631" y="213728"/>
                  </a:lnTo>
                  <a:lnTo>
                    <a:pt x="1422933" y="235496"/>
                  </a:lnTo>
                  <a:lnTo>
                    <a:pt x="1396987" y="254482"/>
                  </a:lnTo>
                  <a:lnTo>
                    <a:pt x="1396987" y="15036"/>
                  </a:lnTo>
                  <a:lnTo>
                    <a:pt x="1338795" y="15036"/>
                  </a:lnTo>
                  <a:lnTo>
                    <a:pt x="1338795" y="341109"/>
                  </a:lnTo>
                  <a:lnTo>
                    <a:pt x="1383220" y="326009"/>
                  </a:lnTo>
                  <a:lnTo>
                    <a:pt x="1424520" y="304050"/>
                  </a:lnTo>
                  <a:lnTo>
                    <a:pt x="1462252" y="276110"/>
                  </a:lnTo>
                  <a:lnTo>
                    <a:pt x="1484337" y="254482"/>
                  </a:lnTo>
                  <a:lnTo>
                    <a:pt x="1495983" y="243078"/>
                  </a:lnTo>
                  <a:lnTo>
                    <a:pt x="1525282" y="205803"/>
                  </a:lnTo>
                  <a:close/>
                </a:path>
                <a:path w="1651000" h="355600">
                  <a:moveTo>
                    <a:pt x="1650873" y="177520"/>
                  </a:moveTo>
                  <a:lnTo>
                    <a:pt x="1644942" y="126796"/>
                  </a:lnTo>
                  <a:lnTo>
                    <a:pt x="1628216" y="80048"/>
                  </a:lnTo>
                  <a:lnTo>
                    <a:pt x="1602206" y="37655"/>
                  </a:lnTo>
                  <a:lnTo>
                    <a:pt x="1568488" y="0"/>
                  </a:lnTo>
                  <a:lnTo>
                    <a:pt x="1539049" y="32931"/>
                  </a:lnTo>
                  <a:lnTo>
                    <a:pt x="1565554" y="64033"/>
                  </a:lnTo>
                  <a:lnTo>
                    <a:pt x="1586280" y="98653"/>
                  </a:lnTo>
                  <a:lnTo>
                    <a:pt x="1599780" y="136563"/>
                  </a:lnTo>
                  <a:lnTo>
                    <a:pt x="1604606" y="177520"/>
                  </a:lnTo>
                  <a:lnTo>
                    <a:pt x="1599730" y="218300"/>
                  </a:lnTo>
                  <a:lnTo>
                    <a:pt x="1586153" y="256413"/>
                  </a:lnTo>
                  <a:lnTo>
                    <a:pt x="1565402" y="291236"/>
                  </a:lnTo>
                  <a:lnTo>
                    <a:pt x="1539049" y="322135"/>
                  </a:lnTo>
                  <a:lnTo>
                    <a:pt x="1568488" y="355066"/>
                  </a:lnTo>
                  <a:lnTo>
                    <a:pt x="1602206" y="317411"/>
                  </a:lnTo>
                  <a:lnTo>
                    <a:pt x="1628216" y="275018"/>
                  </a:lnTo>
                  <a:lnTo>
                    <a:pt x="1644942" y="228269"/>
                  </a:lnTo>
                  <a:lnTo>
                    <a:pt x="1650873" y="17752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bject 8"/>
            <p:cNvSpPr/>
            <p:nvPr/>
          </p:nvSpPr>
          <p:spPr>
            <a:xfrm>
              <a:off x="1958760" y="631440"/>
              <a:ext cx="728280" cy="216720"/>
            </a:xfrm>
            <a:custGeom>
              <a:avLst/>
              <a:gdLst/>
              <a:ahLst/>
              <a:rect l="l" t="t" r="r" b="b"/>
              <a:pathLst>
                <a:path w="1170939" h="347980">
                  <a:moveTo>
                    <a:pt x="342493" y="293509"/>
                  </a:moveTo>
                  <a:lnTo>
                    <a:pt x="306539" y="277037"/>
                  </a:lnTo>
                  <a:lnTo>
                    <a:pt x="273431" y="254482"/>
                  </a:lnTo>
                  <a:lnTo>
                    <a:pt x="287743" y="243535"/>
                  </a:lnTo>
                  <a:lnTo>
                    <a:pt x="301726" y="232117"/>
                  </a:lnTo>
                  <a:lnTo>
                    <a:pt x="315328" y="220154"/>
                  </a:lnTo>
                  <a:lnTo>
                    <a:pt x="315734" y="219773"/>
                  </a:lnTo>
                  <a:lnTo>
                    <a:pt x="328472" y="207606"/>
                  </a:lnTo>
                  <a:lnTo>
                    <a:pt x="291312" y="179324"/>
                  </a:lnTo>
                  <a:lnTo>
                    <a:pt x="340042" y="179324"/>
                  </a:lnTo>
                  <a:lnTo>
                    <a:pt x="340042" y="136740"/>
                  </a:lnTo>
                  <a:lnTo>
                    <a:pt x="283248" y="136740"/>
                  </a:lnTo>
                  <a:lnTo>
                    <a:pt x="283248" y="179324"/>
                  </a:lnTo>
                  <a:lnTo>
                    <a:pt x="272110" y="190881"/>
                  </a:lnTo>
                  <a:lnTo>
                    <a:pt x="262293" y="200355"/>
                  </a:lnTo>
                  <a:lnTo>
                    <a:pt x="252082" y="209423"/>
                  </a:lnTo>
                  <a:lnTo>
                    <a:pt x="239776" y="219773"/>
                  </a:lnTo>
                  <a:lnTo>
                    <a:pt x="232994" y="210286"/>
                  </a:lnTo>
                  <a:lnTo>
                    <a:pt x="226885" y="200494"/>
                  </a:lnTo>
                  <a:lnTo>
                    <a:pt x="221424" y="190220"/>
                  </a:lnTo>
                  <a:lnTo>
                    <a:pt x="218998" y="184696"/>
                  </a:lnTo>
                  <a:lnTo>
                    <a:pt x="216636" y="179324"/>
                  </a:lnTo>
                  <a:lnTo>
                    <a:pt x="283248" y="179324"/>
                  </a:lnTo>
                  <a:lnTo>
                    <a:pt x="283248" y="136740"/>
                  </a:lnTo>
                  <a:lnTo>
                    <a:pt x="199466" y="136740"/>
                  </a:lnTo>
                  <a:lnTo>
                    <a:pt x="199466" y="120269"/>
                  </a:lnTo>
                  <a:lnTo>
                    <a:pt x="313397" y="120269"/>
                  </a:lnTo>
                  <a:lnTo>
                    <a:pt x="313397" y="81610"/>
                  </a:lnTo>
                  <a:lnTo>
                    <a:pt x="199466" y="81610"/>
                  </a:lnTo>
                  <a:lnTo>
                    <a:pt x="199466" y="66941"/>
                  </a:lnTo>
                  <a:lnTo>
                    <a:pt x="330923" y="66941"/>
                  </a:lnTo>
                  <a:lnTo>
                    <a:pt x="330923" y="23990"/>
                  </a:lnTo>
                  <a:lnTo>
                    <a:pt x="199466" y="23990"/>
                  </a:lnTo>
                  <a:lnTo>
                    <a:pt x="199466" y="0"/>
                  </a:lnTo>
                  <a:lnTo>
                    <a:pt x="146177" y="0"/>
                  </a:lnTo>
                  <a:lnTo>
                    <a:pt x="146177" y="23990"/>
                  </a:lnTo>
                  <a:lnTo>
                    <a:pt x="14020" y="23990"/>
                  </a:lnTo>
                  <a:lnTo>
                    <a:pt x="14020" y="66941"/>
                  </a:lnTo>
                  <a:lnTo>
                    <a:pt x="146177" y="66941"/>
                  </a:lnTo>
                  <a:lnTo>
                    <a:pt x="146177" y="81610"/>
                  </a:lnTo>
                  <a:lnTo>
                    <a:pt x="31191" y="81610"/>
                  </a:lnTo>
                  <a:lnTo>
                    <a:pt x="31191" y="120269"/>
                  </a:lnTo>
                  <a:lnTo>
                    <a:pt x="146177" y="120269"/>
                  </a:lnTo>
                  <a:lnTo>
                    <a:pt x="146177" y="136740"/>
                  </a:lnTo>
                  <a:lnTo>
                    <a:pt x="5600" y="136740"/>
                  </a:lnTo>
                  <a:lnTo>
                    <a:pt x="5600" y="179324"/>
                  </a:lnTo>
                  <a:lnTo>
                    <a:pt x="105156" y="179324"/>
                  </a:lnTo>
                  <a:lnTo>
                    <a:pt x="81965" y="194475"/>
                  </a:lnTo>
                  <a:lnTo>
                    <a:pt x="54800" y="207098"/>
                  </a:lnTo>
                  <a:lnTo>
                    <a:pt x="26530" y="217119"/>
                  </a:lnTo>
                  <a:lnTo>
                    <a:pt x="0" y="224421"/>
                  </a:lnTo>
                  <a:lnTo>
                    <a:pt x="17513" y="276682"/>
                  </a:lnTo>
                  <a:lnTo>
                    <a:pt x="34531" y="270560"/>
                  </a:lnTo>
                  <a:lnTo>
                    <a:pt x="51396" y="263969"/>
                  </a:lnTo>
                  <a:lnTo>
                    <a:pt x="68046" y="256844"/>
                  </a:lnTo>
                  <a:lnTo>
                    <a:pt x="84480" y="249110"/>
                  </a:lnTo>
                  <a:lnTo>
                    <a:pt x="84480" y="283845"/>
                  </a:lnTo>
                  <a:lnTo>
                    <a:pt x="71056" y="285381"/>
                  </a:lnTo>
                  <a:lnTo>
                    <a:pt x="57619" y="286740"/>
                  </a:lnTo>
                  <a:lnTo>
                    <a:pt x="44107" y="287909"/>
                  </a:lnTo>
                  <a:lnTo>
                    <a:pt x="30492" y="288848"/>
                  </a:lnTo>
                  <a:lnTo>
                    <a:pt x="39255" y="339318"/>
                  </a:lnTo>
                  <a:lnTo>
                    <a:pt x="81826" y="333502"/>
                  </a:lnTo>
                  <a:lnTo>
                    <a:pt x="124345" y="327190"/>
                  </a:lnTo>
                  <a:lnTo>
                    <a:pt x="166725" y="320141"/>
                  </a:lnTo>
                  <a:lnTo>
                    <a:pt x="208927" y="312115"/>
                  </a:lnTo>
                  <a:lnTo>
                    <a:pt x="207962" y="279095"/>
                  </a:lnTo>
                  <a:lnTo>
                    <a:pt x="207911" y="277037"/>
                  </a:lnTo>
                  <a:lnTo>
                    <a:pt x="207835" y="274459"/>
                  </a:lnTo>
                  <a:lnTo>
                    <a:pt x="207721" y="270560"/>
                  </a:lnTo>
                  <a:lnTo>
                    <a:pt x="207606" y="266725"/>
                  </a:lnTo>
                  <a:lnTo>
                    <a:pt x="207518" y="263436"/>
                  </a:lnTo>
                  <a:lnTo>
                    <a:pt x="189776" y="267817"/>
                  </a:lnTo>
                  <a:lnTo>
                    <a:pt x="171856" y="271449"/>
                  </a:lnTo>
                  <a:lnTo>
                    <a:pt x="153784" y="274459"/>
                  </a:lnTo>
                  <a:lnTo>
                    <a:pt x="135661" y="277037"/>
                  </a:lnTo>
                  <a:lnTo>
                    <a:pt x="135661" y="249110"/>
                  </a:lnTo>
                  <a:lnTo>
                    <a:pt x="135661" y="217627"/>
                  </a:lnTo>
                  <a:lnTo>
                    <a:pt x="144487" y="210070"/>
                  </a:lnTo>
                  <a:lnTo>
                    <a:pt x="152692" y="202234"/>
                  </a:lnTo>
                  <a:lnTo>
                    <a:pt x="160451" y="193865"/>
                  </a:lnTo>
                  <a:lnTo>
                    <a:pt x="167906" y="184696"/>
                  </a:lnTo>
                  <a:lnTo>
                    <a:pt x="191884" y="237236"/>
                  </a:lnTo>
                  <a:lnTo>
                    <a:pt x="223075" y="279095"/>
                  </a:lnTo>
                  <a:lnTo>
                    <a:pt x="262610" y="313042"/>
                  </a:lnTo>
                  <a:lnTo>
                    <a:pt x="311645" y="341820"/>
                  </a:lnTo>
                  <a:lnTo>
                    <a:pt x="342493" y="293509"/>
                  </a:lnTo>
                  <a:close/>
                </a:path>
                <a:path w="1170939" h="347980">
                  <a:moveTo>
                    <a:pt x="689279" y="10375"/>
                  </a:moveTo>
                  <a:lnTo>
                    <a:pt x="357644" y="10375"/>
                  </a:lnTo>
                  <a:lnTo>
                    <a:pt x="357644" y="59410"/>
                  </a:lnTo>
                  <a:lnTo>
                    <a:pt x="488061" y="59410"/>
                  </a:lnTo>
                  <a:lnTo>
                    <a:pt x="487006" y="66929"/>
                  </a:lnTo>
                  <a:lnTo>
                    <a:pt x="484898" y="75869"/>
                  </a:lnTo>
                  <a:lnTo>
                    <a:pt x="482104" y="83045"/>
                  </a:lnTo>
                  <a:lnTo>
                    <a:pt x="449135" y="83045"/>
                  </a:lnTo>
                  <a:lnTo>
                    <a:pt x="449135" y="128498"/>
                  </a:lnTo>
                  <a:lnTo>
                    <a:pt x="449135" y="279527"/>
                  </a:lnTo>
                  <a:lnTo>
                    <a:pt x="422135" y="279527"/>
                  </a:lnTo>
                  <a:lnTo>
                    <a:pt x="422135" y="128498"/>
                  </a:lnTo>
                  <a:lnTo>
                    <a:pt x="449135" y="128498"/>
                  </a:lnTo>
                  <a:lnTo>
                    <a:pt x="449135" y="83045"/>
                  </a:lnTo>
                  <a:lnTo>
                    <a:pt x="372021" y="83045"/>
                  </a:lnTo>
                  <a:lnTo>
                    <a:pt x="372021" y="339305"/>
                  </a:lnTo>
                  <a:lnTo>
                    <a:pt x="422135" y="339305"/>
                  </a:lnTo>
                  <a:lnTo>
                    <a:pt x="422135" y="326428"/>
                  </a:lnTo>
                  <a:lnTo>
                    <a:pt x="624776" y="326428"/>
                  </a:lnTo>
                  <a:lnTo>
                    <a:pt x="624776" y="339305"/>
                  </a:lnTo>
                  <a:lnTo>
                    <a:pt x="673862" y="339305"/>
                  </a:lnTo>
                  <a:lnTo>
                    <a:pt x="673862" y="326428"/>
                  </a:lnTo>
                  <a:lnTo>
                    <a:pt x="673862" y="279527"/>
                  </a:lnTo>
                  <a:lnTo>
                    <a:pt x="673862" y="128498"/>
                  </a:lnTo>
                  <a:lnTo>
                    <a:pt x="673862" y="83045"/>
                  </a:lnTo>
                  <a:lnTo>
                    <a:pt x="624776" y="83045"/>
                  </a:lnTo>
                  <a:lnTo>
                    <a:pt x="624776" y="128498"/>
                  </a:lnTo>
                  <a:lnTo>
                    <a:pt x="624776" y="279527"/>
                  </a:lnTo>
                  <a:lnTo>
                    <a:pt x="597433" y="279527"/>
                  </a:lnTo>
                  <a:lnTo>
                    <a:pt x="597433" y="128498"/>
                  </a:lnTo>
                  <a:lnTo>
                    <a:pt x="624776" y="128498"/>
                  </a:lnTo>
                  <a:lnTo>
                    <a:pt x="624776" y="83045"/>
                  </a:lnTo>
                  <a:lnTo>
                    <a:pt x="549757" y="83045"/>
                  </a:lnTo>
                  <a:lnTo>
                    <a:pt x="549757" y="128498"/>
                  </a:lnTo>
                  <a:lnTo>
                    <a:pt x="549757" y="151409"/>
                  </a:lnTo>
                  <a:lnTo>
                    <a:pt x="549757" y="190055"/>
                  </a:lnTo>
                  <a:lnTo>
                    <a:pt x="549757" y="214388"/>
                  </a:lnTo>
                  <a:lnTo>
                    <a:pt x="549757" y="253060"/>
                  </a:lnTo>
                  <a:lnTo>
                    <a:pt x="549757" y="279527"/>
                  </a:lnTo>
                  <a:lnTo>
                    <a:pt x="495071" y="279527"/>
                  </a:lnTo>
                  <a:lnTo>
                    <a:pt x="495071" y="253060"/>
                  </a:lnTo>
                  <a:lnTo>
                    <a:pt x="549757" y="253060"/>
                  </a:lnTo>
                  <a:lnTo>
                    <a:pt x="549757" y="214388"/>
                  </a:lnTo>
                  <a:lnTo>
                    <a:pt x="495071" y="214388"/>
                  </a:lnTo>
                  <a:lnTo>
                    <a:pt x="495071" y="190055"/>
                  </a:lnTo>
                  <a:lnTo>
                    <a:pt x="549757" y="190055"/>
                  </a:lnTo>
                  <a:lnTo>
                    <a:pt x="549757" y="151409"/>
                  </a:lnTo>
                  <a:lnTo>
                    <a:pt x="495071" y="151409"/>
                  </a:lnTo>
                  <a:lnTo>
                    <a:pt x="495071" y="128498"/>
                  </a:lnTo>
                  <a:lnTo>
                    <a:pt x="549757" y="128498"/>
                  </a:lnTo>
                  <a:lnTo>
                    <a:pt x="549757" y="83045"/>
                  </a:lnTo>
                  <a:lnTo>
                    <a:pt x="538530" y="83045"/>
                  </a:lnTo>
                  <a:lnTo>
                    <a:pt x="540994" y="75171"/>
                  </a:lnTo>
                  <a:lnTo>
                    <a:pt x="543090" y="67284"/>
                  </a:lnTo>
                  <a:lnTo>
                    <a:pt x="544842" y="59410"/>
                  </a:lnTo>
                  <a:lnTo>
                    <a:pt x="689279" y="59410"/>
                  </a:lnTo>
                  <a:lnTo>
                    <a:pt x="689279" y="10375"/>
                  </a:lnTo>
                  <a:close/>
                </a:path>
                <a:path w="1170939" h="347980">
                  <a:moveTo>
                    <a:pt x="884631" y="295656"/>
                  </a:moveTo>
                  <a:lnTo>
                    <a:pt x="709345" y="295656"/>
                  </a:lnTo>
                  <a:lnTo>
                    <a:pt x="709345" y="343268"/>
                  </a:lnTo>
                  <a:lnTo>
                    <a:pt x="884631" y="343268"/>
                  </a:lnTo>
                  <a:lnTo>
                    <a:pt x="884631" y="295656"/>
                  </a:lnTo>
                  <a:close/>
                </a:path>
                <a:path w="1170939" h="347980">
                  <a:moveTo>
                    <a:pt x="1170711" y="44564"/>
                  </a:moveTo>
                  <a:lnTo>
                    <a:pt x="872388" y="44564"/>
                  </a:lnTo>
                  <a:lnTo>
                    <a:pt x="872388" y="101460"/>
                  </a:lnTo>
                  <a:lnTo>
                    <a:pt x="1103045" y="101460"/>
                  </a:lnTo>
                  <a:lnTo>
                    <a:pt x="1090726" y="147789"/>
                  </a:lnTo>
                  <a:lnTo>
                    <a:pt x="1071575" y="188468"/>
                  </a:lnTo>
                  <a:lnTo>
                    <a:pt x="1045997" y="223697"/>
                  </a:lnTo>
                  <a:lnTo>
                    <a:pt x="1014399" y="253682"/>
                  </a:lnTo>
                  <a:lnTo>
                    <a:pt x="977188" y="278612"/>
                  </a:lnTo>
                  <a:lnTo>
                    <a:pt x="934783" y="298691"/>
                  </a:lnTo>
                  <a:lnTo>
                    <a:pt x="973340" y="347726"/>
                  </a:lnTo>
                  <a:lnTo>
                    <a:pt x="1016152" y="325462"/>
                  </a:lnTo>
                  <a:lnTo>
                    <a:pt x="1055471" y="297434"/>
                  </a:lnTo>
                  <a:lnTo>
                    <a:pt x="1090180" y="263766"/>
                  </a:lnTo>
                  <a:lnTo>
                    <a:pt x="1119174" y="224599"/>
                  </a:lnTo>
                  <a:lnTo>
                    <a:pt x="1140345" y="182778"/>
                  </a:lnTo>
                  <a:lnTo>
                    <a:pt x="1155458" y="137807"/>
                  </a:lnTo>
                  <a:lnTo>
                    <a:pt x="1165326" y="91224"/>
                  </a:lnTo>
                  <a:lnTo>
                    <a:pt x="1170711" y="44564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object 9"/>
            <p:cNvSpPr/>
            <p:nvPr/>
          </p:nvSpPr>
          <p:spPr>
            <a:xfrm>
              <a:off x="2755800" y="644400"/>
              <a:ext cx="147960" cy="205920"/>
            </a:xfrm>
            <a:custGeom>
              <a:avLst/>
              <a:gdLst/>
              <a:ahLst/>
              <a:rect l="l" t="t" r="r" b="b"/>
              <a:pathLst>
                <a:path w="238125" h="330834">
                  <a:moveTo>
                    <a:pt x="238036" y="0"/>
                  </a:moveTo>
                  <a:lnTo>
                    <a:pt x="178434" y="0"/>
                  </a:lnTo>
                  <a:lnTo>
                    <a:pt x="178434" y="127787"/>
                  </a:lnTo>
                  <a:lnTo>
                    <a:pt x="177728" y="152948"/>
                  </a:lnTo>
                  <a:lnTo>
                    <a:pt x="167639" y="202475"/>
                  </a:lnTo>
                  <a:lnTo>
                    <a:pt x="136530" y="243626"/>
                  </a:lnTo>
                  <a:lnTo>
                    <a:pt x="89789" y="269816"/>
                  </a:lnTo>
                  <a:lnTo>
                    <a:pt x="64515" y="277749"/>
                  </a:lnTo>
                  <a:lnTo>
                    <a:pt x="97104" y="330365"/>
                  </a:lnTo>
                  <a:lnTo>
                    <a:pt x="159116" y="302844"/>
                  </a:lnTo>
                  <a:lnTo>
                    <a:pt x="208241" y="256273"/>
                  </a:lnTo>
                  <a:lnTo>
                    <a:pt x="232735" y="193367"/>
                  </a:lnTo>
                  <a:lnTo>
                    <a:pt x="237969" y="127787"/>
                  </a:lnTo>
                  <a:lnTo>
                    <a:pt x="238036" y="0"/>
                  </a:lnTo>
                  <a:close/>
                </a:path>
                <a:path w="238125" h="330834">
                  <a:moveTo>
                    <a:pt x="59245" y="5740"/>
                  </a:moveTo>
                  <a:lnTo>
                    <a:pt x="0" y="5740"/>
                  </a:lnTo>
                  <a:lnTo>
                    <a:pt x="0" y="209753"/>
                  </a:lnTo>
                  <a:lnTo>
                    <a:pt x="59245" y="209753"/>
                  </a:lnTo>
                  <a:lnTo>
                    <a:pt x="59245" y="574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object 10"/>
            <p:cNvSpPr/>
            <p:nvPr/>
          </p:nvSpPr>
          <p:spPr>
            <a:xfrm>
              <a:off x="2957400" y="727920"/>
              <a:ext cx="199080" cy="35280"/>
            </a:xfrm>
            <a:custGeom>
              <a:avLst/>
              <a:gdLst/>
              <a:ahLst/>
              <a:rect l="l" t="t" r="r" b="b"/>
              <a:pathLst>
                <a:path w="320039" h="57150">
                  <a:moveTo>
                    <a:pt x="319709" y="0"/>
                  </a:moveTo>
                  <a:lnTo>
                    <a:pt x="0" y="0"/>
                  </a:lnTo>
                  <a:lnTo>
                    <a:pt x="0" y="56908"/>
                  </a:lnTo>
                  <a:lnTo>
                    <a:pt x="319709" y="56908"/>
                  </a:lnTo>
                  <a:lnTo>
                    <a:pt x="319709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" name="object 11"/>
            <p:cNvGrpSpPr/>
            <p:nvPr/>
          </p:nvGrpSpPr>
          <p:grpSpPr>
            <a:xfrm>
              <a:off x="2100240" y="936720"/>
              <a:ext cx="308520" cy="82800"/>
              <a:chOff x="2100240" y="936720"/>
              <a:chExt cx="308520" cy="82800"/>
            </a:xfrm>
          </p:grpSpPr>
          <p:pic>
            <p:nvPicPr>
              <p:cNvPr id="41" name="object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2100240" y="936720"/>
                <a:ext cx="274680" cy="8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" name="object 13"/>
              <p:cNvSpPr/>
              <p:nvPr/>
            </p:nvSpPr>
            <p:spPr>
              <a:xfrm>
                <a:off x="2399040" y="979200"/>
                <a:ext cx="9720" cy="38520"/>
              </a:xfrm>
              <a:custGeom>
                <a:avLst/>
                <a:gdLst/>
                <a:ahLst/>
                <a:rect l="l" t="t" r="r" b="b"/>
                <a:pathLst>
                  <a:path w="15875" h="62230">
                    <a:moveTo>
                      <a:pt x="0" y="-3307"/>
                    </a:moveTo>
                    <a:lnTo>
                      <a:pt x="15455" y="-3307"/>
                    </a:lnTo>
                    <a:lnTo>
                      <a:pt x="15455" y="0"/>
                    </a:lnTo>
                    <a:lnTo>
                      <a:pt x="0" y="0"/>
                    </a:lnTo>
                    <a:lnTo>
                      <a:pt x="0" y="-3307"/>
                    </a:lnTo>
                    <a:close/>
                  </a:path>
                </a:pathLst>
              </a:custGeom>
              <a:solidFill>
                <a:srgbClr val="23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" name="object 14"/>
            <p:cNvGrpSpPr/>
            <p:nvPr/>
          </p:nvGrpSpPr>
          <p:grpSpPr>
            <a:xfrm>
              <a:off x="2399040" y="936720"/>
              <a:ext cx="375840" cy="82800"/>
              <a:chOff x="2399040" y="936720"/>
              <a:chExt cx="375840" cy="82800"/>
            </a:xfrm>
          </p:grpSpPr>
          <p:sp>
            <p:nvSpPr>
              <p:cNvPr id="44" name="object 15"/>
              <p:cNvSpPr/>
              <p:nvPr/>
            </p:nvSpPr>
            <p:spPr>
              <a:xfrm>
                <a:off x="2399040" y="936720"/>
                <a:ext cx="59400" cy="81360"/>
              </a:xfrm>
              <a:custGeom>
                <a:avLst/>
                <a:gdLst/>
                <a:ahLst/>
                <a:rect l="l" t="t" r="r" b="b"/>
                <a:pathLst>
                  <a:path w="95885" h="130809">
                    <a:moveTo>
                      <a:pt x="95326" y="0"/>
                    </a:moveTo>
                    <a:lnTo>
                      <a:pt x="79870" y="0"/>
                    </a:lnTo>
                    <a:lnTo>
                      <a:pt x="79870" y="55880"/>
                    </a:lnTo>
                    <a:lnTo>
                      <a:pt x="15455" y="55880"/>
                    </a:lnTo>
                    <a:lnTo>
                      <a:pt x="15455" y="0"/>
                    </a:lnTo>
                    <a:lnTo>
                      <a:pt x="0" y="0"/>
                    </a:lnTo>
                    <a:lnTo>
                      <a:pt x="0" y="55880"/>
                    </a:lnTo>
                    <a:lnTo>
                      <a:pt x="0" y="68580"/>
                    </a:lnTo>
                    <a:lnTo>
                      <a:pt x="79870" y="68580"/>
                    </a:lnTo>
                    <a:lnTo>
                      <a:pt x="79870" y="130810"/>
                    </a:lnTo>
                    <a:lnTo>
                      <a:pt x="95326" y="130810"/>
                    </a:lnTo>
                    <a:lnTo>
                      <a:pt x="95326" y="68580"/>
                    </a:lnTo>
                    <a:lnTo>
                      <a:pt x="95326" y="55880"/>
                    </a:lnTo>
                    <a:lnTo>
                      <a:pt x="95326" y="0"/>
                    </a:lnTo>
                    <a:close/>
                  </a:path>
                </a:pathLst>
              </a:custGeom>
              <a:solidFill>
                <a:srgbClr val="23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5" name="object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2477520" y="936720"/>
                <a:ext cx="49680" cy="8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object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2540880" y="936720"/>
                <a:ext cx="47520" cy="8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object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2604960" y="960480"/>
                <a:ext cx="75240" cy="5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" name="object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2699640" y="960480"/>
                <a:ext cx="75240" cy="57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9" name="object 20" descr=""/>
            <p:cNvPicPr/>
            <p:nvPr/>
          </p:nvPicPr>
          <p:blipFill>
            <a:blip r:embed="rId8"/>
            <a:stretch/>
          </p:blipFill>
          <p:spPr>
            <a:xfrm>
              <a:off x="1977120" y="929160"/>
              <a:ext cx="99360" cy="9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object 21"/>
            <p:cNvSpPr/>
            <p:nvPr/>
          </p:nvSpPr>
          <p:spPr>
            <a:xfrm>
              <a:off x="770040" y="373320"/>
              <a:ext cx="385560" cy="385560"/>
            </a:xfrm>
            <a:custGeom>
              <a:avLst/>
              <a:gdLst/>
              <a:ahLst/>
              <a:rect l="l" t="t" r="r" b="b"/>
              <a:pathLst>
                <a:path w="619760" h="619125">
                  <a:moveTo>
                    <a:pt x="619607" y="0"/>
                  </a:moveTo>
                  <a:lnTo>
                    <a:pt x="498678" y="0"/>
                  </a:lnTo>
                  <a:lnTo>
                    <a:pt x="498678" y="308991"/>
                  </a:lnTo>
                  <a:lnTo>
                    <a:pt x="491919" y="359152"/>
                  </a:lnTo>
                  <a:lnTo>
                    <a:pt x="472853" y="404260"/>
                  </a:lnTo>
                  <a:lnTo>
                    <a:pt x="443295" y="442502"/>
                  </a:lnTo>
                  <a:lnTo>
                    <a:pt x="405059" y="472064"/>
                  </a:lnTo>
                  <a:lnTo>
                    <a:pt x="359961" y="491131"/>
                  </a:lnTo>
                  <a:lnTo>
                    <a:pt x="309816" y="497890"/>
                  </a:lnTo>
                  <a:lnTo>
                    <a:pt x="259652" y="491131"/>
                  </a:lnTo>
                  <a:lnTo>
                    <a:pt x="214547" y="472064"/>
                  </a:lnTo>
                  <a:lnTo>
                    <a:pt x="176312" y="442502"/>
                  </a:lnTo>
                  <a:lnTo>
                    <a:pt x="146758" y="404260"/>
                  </a:lnTo>
                  <a:lnTo>
                    <a:pt x="127698" y="359152"/>
                  </a:lnTo>
                  <a:lnTo>
                    <a:pt x="120942" y="308991"/>
                  </a:lnTo>
                  <a:lnTo>
                    <a:pt x="120942" y="0"/>
                  </a:lnTo>
                  <a:lnTo>
                    <a:pt x="0" y="0"/>
                  </a:lnTo>
                  <a:lnTo>
                    <a:pt x="0" y="308991"/>
                  </a:lnTo>
                  <a:lnTo>
                    <a:pt x="3364" y="354719"/>
                  </a:lnTo>
                  <a:lnTo>
                    <a:pt x="13137" y="398382"/>
                  </a:lnTo>
                  <a:lnTo>
                    <a:pt x="28836" y="439497"/>
                  </a:lnTo>
                  <a:lnTo>
                    <a:pt x="49977" y="477582"/>
                  </a:lnTo>
                  <a:lnTo>
                    <a:pt x="76078" y="512155"/>
                  </a:lnTo>
                  <a:lnTo>
                    <a:pt x="106657" y="542733"/>
                  </a:lnTo>
                  <a:lnTo>
                    <a:pt x="141230" y="568833"/>
                  </a:lnTo>
                  <a:lnTo>
                    <a:pt x="179315" y="589973"/>
                  </a:lnTo>
                  <a:lnTo>
                    <a:pt x="220430" y="605670"/>
                  </a:lnTo>
                  <a:lnTo>
                    <a:pt x="264091" y="615442"/>
                  </a:lnTo>
                  <a:lnTo>
                    <a:pt x="309816" y="618807"/>
                  </a:lnTo>
                  <a:lnTo>
                    <a:pt x="355532" y="615442"/>
                  </a:lnTo>
                  <a:lnTo>
                    <a:pt x="399186" y="605670"/>
                  </a:lnTo>
                  <a:lnTo>
                    <a:pt x="440296" y="589973"/>
                  </a:lnTo>
                  <a:lnTo>
                    <a:pt x="478378" y="568833"/>
                  </a:lnTo>
                  <a:lnTo>
                    <a:pt x="512949" y="542733"/>
                  </a:lnTo>
                  <a:lnTo>
                    <a:pt x="543527" y="512155"/>
                  </a:lnTo>
                  <a:lnTo>
                    <a:pt x="569628" y="477582"/>
                  </a:lnTo>
                  <a:lnTo>
                    <a:pt x="590769" y="439497"/>
                  </a:lnTo>
                  <a:lnTo>
                    <a:pt x="606468" y="398382"/>
                  </a:lnTo>
                  <a:lnTo>
                    <a:pt x="616242" y="354719"/>
                  </a:lnTo>
                  <a:lnTo>
                    <a:pt x="619607" y="308991"/>
                  </a:lnTo>
                  <a:lnTo>
                    <a:pt x="619607" y="0"/>
                  </a:lnTo>
                  <a:close/>
                </a:path>
              </a:pathLst>
            </a:custGeom>
            <a:solidFill>
              <a:srgbClr val="244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bject 22"/>
            <p:cNvSpPr/>
            <p:nvPr/>
          </p:nvSpPr>
          <p:spPr>
            <a:xfrm>
              <a:off x="1215720" y="372960"/>
              <a:ext cx="385560" cy="386280"/>
            </a:xfrm>
            <a:custGeom>
              <a:avLst/>
              <a:gdLst/>
              <a:ahLst/>
              <a:rect l="l" t="t" r="r" b="b"/>
              <a:pathLst>
                <a:path w="619760" h="619760">
                  <a:moveTo>
                    <a:pt x="309791" y="0"/>
                  </a:moveTo>
                  <a:lnTo>
                    <a:pt x="264069" y="3364"/>
                  </a:lnTo>
                  <a:lnTo>
                    <a:pt x="220411" y="13137"/>
                  </a:lnTo>
                  <a:lnTo>
                    <a:pt x="179300" y="28835"/>
                  </a:lnTo>
                  <a:lnTo>
                    <a:pt x="141218" y="49976"/>
                  </a:lnTo>
                  <a:lnTo>
                    <a:pt x="106647" y="76076"/>
                  </a:lnTo>
                  <a:lnTo>
                    <a:pt x="76071" y="106652"/>
                  </a:lnTo>
                  <a:lnTo>
                    <a:pt x="49973" y="141223"/>
                  </a:lnTo>
                  <a:lnTo>
                    <a:pt x="28833" y="179305"/>
                  </a:lnTo>
                  <a:lnTo>
                    <a:pt x="13136" y="220416"/>
                  </a:lnTo>
                  <a:lnTo>
                    <a:pt x="3364" y="264072"/>
                  </a:lnTo>
                  <a:lnTo>
                    <a:pt x="0" y="309791"/>
                  </a:lnTo>
                  <a:lnTo>
                    <a:pt x="3364" y="355509"/>
                  </a:lnTo>
                  <a:lnTo>
                    <a:pt x="13136" y="399166"/>
                  </a:lnTo>
                  <a:lnTo>
                    <a:pt x="28833" y="440276"/>
                  </a:lnTo>
                  <a:lnTo>
                    <a:pt x="49973" y="478358"/>
                  </a:lnTo>
                  <a:lnTo>
                    <a:pt x="76071" y="512929"/>
                  </a:lnTo>
                  <a:lnTo>
                    <a:pt x="106647" y="543506"/>
                  </a:lnTo>
                  <a:lnTo>
                    <a:pt x="141218" y="569605"/>
                  </a:lnTo>
                  <a:lnTo>
                    <a:pt x="179300" y="590746"/>
                  </a:lnTo>
                  <a:lnTo>
                    <a:pt x="220411" y="606444"/>
                  </a:lnTo>
                  <a:lnTo>
                    <a:pt x="264069" y="616217"/>
                  </a:lnTo>
                  <a:lnTo>
                    <a:pt x="309791" y="619582"/>
                  </a:lnTo>
                  <a:lnTo>
                    <a:pt x="489381" y="619582"/>
                  </a:lnTo>
                  <a:lnTo>
                    <a:pt x="489381" y="498652"/>
                  </a:lnTo>
                  <a:lnTo>
                    <a:pt x="309791" y="498652"/>
                  </a:lnTo>
                  <a:lnTo>
                    <a:pt x="259982" y="491984"/>
                  </a:lnTo>
                  <a:lnTo>
                    <a:pt x="215153" y="473166"/>
                  </a:lnTo>
                  <a:lnTo>
                    <a:pt x="177069" y="443978"/>
                  </a:lnTo>
                  <a:lnTo>
                    <a:pt x="147498" y="406198"/>
                  </a:lnTo>
                  <a:lnTo>
                    <a:pt x="128206" y="361607"/>
                  </a:lnTo>
                  <a:lnTo>
                    <a:pt x="615175" y="361607"/>
                  </a:lnTo>
                  <a:lnTo>
                    <a:pt x="617071" y="348879"/>
                  </a:lnTo>
                  <a:lnTo>
                    <a:pt x="618456" y="335999"/>
                  </a:lnTo>
                  <a:lnTo>
                    <a:pt x="619306" y="322968"/>
                  </a:lnTo>
                  <a:lnTo>
                    <a:pt x="619594" y="309791"/>
                  </a:lnTo>
                  <a:lnTo>
                    <a:pt x="616229" y="264072"/>
                  </a:lnTo>
                  <a:lnTo>
                    <a:pt x="612926" y="249313"/>
                  </a:lnTo>
                  <a:lnTo>
                    <a:pt x="130911" y="249313"/>
                  </a:lnTo>
                  <a:lnTo>
                    <a:pt x="151249" y="207327"/>
                  </a:lnTo>
                  <a:lnTo>
                    <a:pt x="180885" y="171902"/>
                  </a:lnTo>
                  <a:lnTo>
                    <a:pt x="218239" y="144630"/>
                  </a:lnTo>
                  <a:lnTo>
                    <a:pt x="261734" y="127100"/>
                  </a:lnTo>
                  <a:lnTo>
                    <a:pt x="309791" y="120903"/>
                  </a:lnTo>
                  <a:lnTo>
                    <a:pt x="554276" y="120903"/>
                  </a:lnTo>
                  <a:lnTo>
                    <a:pt x="543517" y="106652"/>
                  </a:lnTo>
                  <a:lnTo>
                    <a:pt x="512939" y="76076"/>
                  </a:lnTo>
                  <a:lnTo>
                    <a:pt x="478367" y="49976"/>
                  </a:lnTo>
                  <a:lnTo>
                    <a:pt x="440284" y="28835"/>
                  </a:lnTo>
                  <a:lnTo>
                    <a:pt x="399171" y="13137"/>
                  </a:lnTo>
                  <a:lnTo>
                    <a:pt x="355513" y="3364"/>
                  </a:lnTo>
                  <a:lnTo>
                    <a:pt x="309791" y="0"/>
                  </a:lnTo>
                  <a:close/>
                </a:path>
                <a:path w="619760" h="619760">
                  <a:moveTo>
                    <a:pt x="554276" y="120903"/>
                  </a:moveTo>
                  <a:lnTo>
                    <a:pt x="309791" y="120903"/>
                  </a:lnTo>
                  <a:lnTo>
                    <a:pt x="357839" y="127100"/>
                  </a:lnTo>
                  <a:lnTo>
                    <a:pt x="401337" y="144630"/>
                  </a:lnTo>
                  <a:lnTo>
                    <a:pt x="438703" y="171902"/>
                  </a:lnTo>
                  <a:lnTo>
                    <a:pt x="468354" y="207327"/>
                  </a:lnTo>
                  <a:lnTo>
                    <a:pt x="488708" y="249313"/>
                  </a:lnTo>
                  <a:lnTo>
                    <a:pt x="612926" y="249313"/>
                  </a:lnTo>
                  <a:lnTo>
                    <a:pt x="606457" y="220416"/>
                  </a:lnTo>
                  <a:lnTo>
                    <a:pt x="590758" y="179305"/>
                  </a:lnTo>
                  <a:lnTo>
                    <a:pt x="569618" y="141223"/>
                  </a:lnTo>
                  <a:lnTo>
                    <a:pt x="554276" y="120903"/>
                  </a:lnTo>
                  <a:close/>
                </a:path>
              </a:pathLst>
            </a:custGeom>
            <a:solidFill>
              <a:srgbClr val="244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bject 23"/>
            <p:cNvSpPr/>
            <p:nvPr/>
          </p:nvSpPr>
          <p:spPr>
            <a:xfrm>
              <a:off x="624240" y="179280"/>
              <a:ext cx="75240" cy="579960"/>
            </a:xfrm>
            <a:custGeom>
              <a:avLst/>
              <a:gdLst/>
              <a:ahLst/>
              <a:rect l="l" t="t" r="r" b="b"/>
              <a:pathLst>
                <a:path w="121284" h="930910">
                  <a:moveTo>
                    <a:pt x="120916" y="0"/>
                  </a:moveTo>
                  <a:lnTo>
                    <a:pt x="0" y="0"/>
                  </a:lnTo>
                  <a:lnTo>
                    <a:pt x="0" y="930325"/>
                  </a:lnTo>
                  <a:lnTo>
                    <a:pt x="120916" y="930325"/>
                  </a:lnTo>
                  <a:lnTo>
                    <a:pt x="120916" y="0"/>
                  </a:lnTo>
                  <a:close/>
                </a:path>
              </a:pathLst>
            </a:custGeom>
            <a:solidFill>
              <a:srgbClr val="244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bject 24"/>
            <p:cNvSpPr/>
            <p:nvPr/>
          </p:nvSpPr>
          <p:spPr>
            <a:xfrm>
              <a:off x="179280" y="179280"/>
              <a:ext cx="385560" cy="579960"/>
            </a:xfrm>
            <a:custGeom>
              <a:avLst/>
              <a:gdLst/>
              <a:ahLst/>
              <a:rect l="l" t="t" r="r" b="b"/>
              <a:pathLst>
                <a:path w="619760" h="930910">
                  <a:moveTo>
                    <a:pt x="120929" y="0"/>
                  </a:moveTo>
                  <a:lnTo>
                    <a:pt x="0" y="0"/>
                  </a:lnTo>
                  <a:lnTo>
                    <a:pt x="0" y="620560"/>
                  </a:lnTo>
                  <a:lnTo>
                    <a:pt x="3364" y="666278"/>
                  </a:lnTo>
                  <a:lnTo>
                    <a:pt x="13137" y="709935"/>
                  </a:lnTo>
                  <a:lnTo>
                    <a:pt x="28835" y="751045"/>
                  </a:lnTo>
                  <a:lnTo>
                    <a:pt x="49976" y="789127"/>
                  </a:lnTo>
                  <a:lnTo>
                    <a:pt x="76076" y="823698"/>
                  </a:lnTo>
                  <a:lnTo>
                    <a:pt x="106652" y="854275"/>
                  </a:lnTo>
                  <a:lnTo>
                    <a:pt x="141223" y="880374"/>
                  </a:lnTo>
                  <a:lnTo>
                    <a:pt x="179305" y="901515"/>
                  </a:lnTo>
                  <a:lnTo>
                    <a:pt x="220416" y="917213"/>
                  </a:lnTo>
                  <a:lnTo>
                    <a:pt x="264072" y="926986"/>
                  </a:lnTo>
                  <a:lnTo>
                    <a:pt x="309791" y="930351"/>
                  </a:lnTo>
                  <a:lnTo>
                    <a:pt x="355510" y="926986"/>
                  </a:lnTo>
                  <a:lnTo>
                    <a:pt x="399167" y="917213"/>
                  </a:lnTo>
                  <a:lnTo>
                    <a:pt x="440278" y="901515"/>
                  </a:lnTo>
                  <a:lnTo>
                    <a:pt x="478362" y="880374"/>
                  </a:lnTo>
                  <a:lnTo>
                    <a:pt x="512934" y="854275"/>
                  </a:lnTo>
                  <a:lnTo>
                    <a:pt x="543513" y="823698"/>
                  </a:lnTo>
                  <a:lnTo>
                    <a:pt x="569614" y="789127"/>
                  </a:lnTo>
                  <a:lnTo>
                    <a:pt x="590756" y="751045"/>
                  </a:lnTo>
                  <a:lnTo>
                    <a:pt x="606456" y="709935"/>
                  </a:lnTo>
                  <a:lnTo>
                    <a:pt x="616229" y="666278"/>
                  </a:lnTo>
                  <a:lnTo>
                    <a:pt x="619594" y="620560"/>
                  </a:lnTo>
                  <a:lnTo>
                    <a:pt x="616229" y="574840"/>
                  </a:lnTo>
                  <a:lnTo>
                    <a:pt x="606456" y="531182"/>
                  </a:lnTo>
                  <a:lnTo>
                    <a:pt x="590756" y="490070"/>
                  </a:lnTo>
                  <a:lnTo>
                    <a:pt x="569614" y="451985"/>
                  </a:lnTo>
                  <a:lnTo>
                    <a:pt x="543513" y="417411"/>
                  </a:lnTo>
                  <a:lnTo>
                    <a:pt x="512934" y="386830"/>
                  </a:lnTo>
                  <a:lnTo>
                    <a:pt x="478362" y="360727"/>
                  </a:lnTo>
                  <a:lnTo>
                    <a:pt x="440278" y="339584"/>
                  </a:lnTo>
                  <a:lnTo>
                    <a:pt x="399167" y="323883"/>
                  </a:lnTo>
                  <a:lnTo>
                    <a:pt x="355510" y="314109"/>
                  </a:lnTo>
                  <a:lnTo>
                    <a:pt x="309791" y="310743"/>
                  </a:lnTo>
                  <a:lnTo>
                    <a:pt x="172732" y="310743"/>
                  </a:lnTo>
                  <a:lnTo>
                    <a:pt x="172732" y="431673"/>
                  </a:lnTo>
                  <a:lnTo>
                    <a:pt x="309791" y="431673"/>
                  </a:lnTo>
                  <a:lnTo>
                    <a:pt x="359945" y="438431"/>
                  </a:lnTo>
                  <a:lnTo>
                    <a:pt x="405048" y="457498"/>
                  </a:lnTo>
                  <a:lnTo>
                    <a:pt x="443285" y="487059"/>
                  </a:lnTo>
                  <a:lnTo>
                    <a:pt x="472843" y="525299"/>
                  </a:lnTo>
                  <a:lnTo>
                    <a:pt x="491907" y="570404"/>
                  </a:lnTo>
                  <a:lnTo>
                    <a:pt x="498665" y="620560"/>
                  </a:lnTo>
                  <a:lnTo>
                    <a:pt x="491907" y="670705"/>
                  </a:lnTo>
                  <a:lnTo>
                    <a:pt x="472843" y="715803"/>
                  </a:lnTo>
                  <a:lnTo>
                    <a:pt x="443285" y="754038"/>
                  </a:lnTo>
                  <a:lnTo>
                    <a:pt x="405048" y="783597"/>
                  </a:lnTo>
                  <a:lnTo>
                    <a:pt x="359945" y="802663"/>
                  </a:lnTo>
                  <a:lnTo>
                    <a:pt x="309791" y="809421"/>
                  </a:lnTo>
                  <a:lnTo>
                    <a:pt x="259628" y="802663"/>
                  </a:lnTo>
                  <a:lnTo>
                    <a:pt x="214525" y="783597"/>
                  </a:lnTo>
                  <a:lnTo>
                    <a:pt x="176293" y="754038"/>
                  </a:lnTo>
                  <a:lnTo>
                    <a:pt x="146742" y="715803"/>
                  </a:lnTo>
                  <a:lnTo>
                    <a:pt x="127684" y="670705"/>
                  </a:lnTo>
                  <a:lnTo>
                    <a:pt x="120929" y="620560"/>
                  </a:lnTo>
                  <a:lnTo>
                    <a:pt x="120929" y="0"/>
                  </a:lnTo>
                  <a:close/>
                </a:path>
              </a:pathLst>
            </a:custGeom>
            <a:solidFill>
              <a:srgbClr val="244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8-28T19:57:17Z</dcterms:created>
  <dc:creator/>
  <dc:description/>
  <dc:language>en-US</dc:language>
  <cp:lastModifiedBy/>
  <dcterms:modified xsi:type="dcterms:W3CDTF">2025-11-24T07:05:46Z</dcterms:modified>
  <cp:revision>1</cp:revision>
  <dc:subject/>
  <dc:title/>
</cp:coreProperties>
</file>