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6699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0456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91212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9700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10456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391212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97000" y="267120"/>
            <a:ext cx="534564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"/>
          <p:cNvPicPr/>
          <p:nvPr/>
        </p:nvPicPr>
        <p:blipFill>
          <a:blip r:embed="rId2"/>
          <a:stretch/>
        </p:blipFill>
        <p:spPr>
          <a:xfrm>
            <a:off x="3992400" y="71928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131"/>
          <p:cNvSpPr/>
          <p:nvPr/>
        </p:nvSpPr>
        <p:spPr>
          <a:xfrm>
            <a:off x="3024360" y="536112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132"/>
          <p:cNvSpPr/>
          <p:nvPr/>
        </p:nvSpPr>
        <p:spPr>
          <a:xfrm>
            <a:off x="3016080" y="111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5"/>
          <p:cNvSpPr/>
          <p:nvPr/>
        </p:nvSpPr>
        <p:spPr>
          <a:xfrm>
            <a:off x="593640" y="5713560"/>
            <a:ext cx="3291120" cy="98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6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6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32"/>
          <p:cNvSpPr/>
          <p:nvPr/>
        </p:nvSpPr>
        <p:spPr>
          <a:xfrm>
            <a:off x="3967200" y="619920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6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86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グループ化 5"/>
          <p:cNvGrpSpPr/>
          <p:nvPr/>
        </p:nvGrpSpPr>
        <p:grpSpPr>
          <a:xfrm>
            <a:off x="1379520" y="1308240"/>
            <a:ext cx="3181320" cy="4081320"/>
            <a:chOff x="1379520" y="1308240"/>
            <a:chExt cx="3181320" cy="4081320"/>
          </a:xfrm>
        </p:grpSpPr>
        <p:grpSp>
          <p:nvGrpSpPr>
            <p:cNvPr id="6" name="object 2"/>
            <p:cNvGrpSpPr/>
            <p:nvPr/>
          </p:nvGrpSpPr>
          <p:grpSpPr>
            <a:xfrm>
              <a:off x="1402560" y="4930560"/>
              <a:ext cx="435960" cy="435960"/>
              <a:chOff x="1402560" y="4930560"/>
              <a:chExt cx="435960" cy="435960"/>
            </a:xfrm>
          </p:grpSpPr>
          <p:sp>
            <p:nvSpPr>
              <p:cNvPr id="7" name="object 3"/>
              <p:cNvSpPr/>
              <p:nvPr/>
            </p:nvSpPr>
            <p:spPr>
              <a:xfrm>
                <a:off x="1402560" y="4930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bject 4"/>
              <p:cNvSpPr/>
              <p:nvPr/>
            </p:nvSpPr>
            <p:spPr>
              <a:xfrm>
                <a:off x="1402560" y="5039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object 5"/>
            <p:cNvGrpSpPr/>
            <p:nvPr/>
          </p:nvGrpSpPr>
          <p:grpSpPr>
            <a:xfrm>
              <a:off x="1402560" y="1331280"/>
              <a:ext cx="435960" cy="435960"/>
              <a:chOff x="1402560" y="1331280"/>
              <a:chExt cx="435960" cy="435960"/>
            </a:xfrm>
          </p:grpSpPr>
          <p:sp>
            <p:nvSpPr>
              <p:cNvPr id="10" name="object 6"/>
              <p:cNvSpPr/>
              <p:nvPr/>
            </p:nvSpPr>
            <p:spPr>
              <a:xfrm>
                <a:off x="1402560" y="1331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object 7"/>
              <p:cNvSpPr/>
              <p:nvPr/>
            </p:nvSpPr>
            <p:spPr>
              <a:xfrm>
                <a:off x="1402560" y="1331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object 8"/>
            <p:cNvGrpSpPr/>
            <p:nvPr/>
          </p:nvGrpSpPr>
          <p:grpSpPr>
            <a:xfrm>
              <a:off x="4101840" y="1331280"/>
              <a:ext cx="435960" cy="435960"/>
              <a:chOff x="4101840" y="1331280"/>
              <a:chExt cx="435960" cy="435960"/>
            </a:xfrm>
          </p:grpSpPr>
          <p:sp>
            <p:nvSpPr>
              <p:cNvPr id="13" name="object 9"/>
              <p:cNvSpPr/>
              <p:nvPr/>
            </p:nvSpPr>
            <p:spPr>
              <a:xfrm>
                <a:off x="4210560" y="1331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bject 10"/>
              <p:cNvSpPr/>
              <p:nvPr/>
            </p:nvSpPr>
            <p:spPr>
              <a:xfrm>
                <a:off x="4101840" y="1331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object 11"/>
            <p:cNvGrpSpPr/>
            <p:nvPr/>
          </p:nvGrpSpPr>
          <p:grpSpPr>
            <a:xfrm>
              <a:off x="4101840" y="4930560"/>
              <a:ext cx="435960" cy="435960"/>
              <a:chOff x="4101840" y="4930560"/>
              <a:chExt cx="435960" cy="435960"/>
            </a:xfrm>
          </p:grpSpPr>
          <p:sp>
            <p:nvSpPr>
              <p:cNvPr id="16" name="object 12"/>
              <p:cNvSpPr/>
              <p:nvPr/>
            </p:nvSpPr>
            <p:spPr>
              <a:xfrm>
                <a:off x="4210560" y="4930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bject 13"/>
              <p:cNvSpPr/>
              <p:nvPr/>
            </p:nvSpPr>
            <p:spPr>
              <a:xfrm>
                <a:off x="4101840" y="5039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object 14"/>
            <p:cNvGrpSpPr/>
            <p:nvPr/>
          </p:nvGrpSpPr>
          <p:grpSpPr>
            <a:xfrm>
              <a:off x="1379520" y="2891880"/>
              <a:ext cx="304560" cy="914040"/>
              <a:chOff x="1379520" y="2891880"/>
              <a:chExt cx="304560" cy="914040"/>
            </a:xfrm>
          </p:grpSpPr>
          <p:sp>
            <p:nvSpPr>
              <p:cNvPr id="19" name="object 15"/>
              <p:cNvSpPr/>
              <p:nvPr/>
            </p:nvSpPr>
            <p:spPr>
              <a:xfrm>
                <a:off x="1379520" y="3348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bject 16"/>
              <p:cNvSpPr/>
              <p:nvPr/>
            </p:nvSpPr>
            <p:spPr>
              <a:xfrm>
                <a:off x="1608120" y="2891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object 17"/>
            <p:cNvGrpSpPr/>
            <p:nvPr/>
          </p:nvGrpSpPr>
          <p:grpSpPr>
            <a:xfrm>
              <a:off x="4256280" y="2891880"/>
              <a:ext cx="304560" cy="914040"/>
              <a:chOff x="4256280" y="2891880"/>
              <a:chExt cx="304560" cy="914040"/>
            </a:xfrm>
          </p:grpSpPr>
          <p:sp>
            <p:nvSpPr>
              <p:cNvPr id="22" name="object 18"/>
              <p:cNvSpPr/>
              <p:nvPr/>
            </p:nvSpPr>
            <p:spPr>
              <a:xfrm>
                <a:off x="4256280" y="3348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19"/>
              <p:cNvSpPr/>
              <p:nvPr/>
            </p:nvSpPr>
            <p:spPr>
              <a:xfrm>
                <a:off x="4332240" y="2891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20"/>
            <p:cNvGrpSpPr/>
            <p:nvPr/>
          </p:nvGrpSpPr>
          <p:grpSpPr>
            <a:xfrm>
              <a:off x="2513160" y="1308240"/>
              <a:ext cx="914040" cy="304560"/>
              <a:chOff x="2513160" y="1308240"/>
              <a:chExt cx="914040" cy="304560"/>
            </a:xfrm>
          </p:grpSpPr>
          <p:sp>
            <p:nvSpPr>
              <p:cNvPr id="25" name="object 21"/>
              <p:cNvSpPr/>
              <p:nvPr/>
            </p:nvSpPr>
            <p:spPr>
              <a:xfrm>
                <a:off x="2513160" y="153684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22"/>
              <p:cNvSpPr/>
              <p:nvPr/>
            </p:nvSpPr>
            <p:spPr>
              <a:xfrm>
                <a:off x="2970000" y="1308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23"/>
            <p:cNvGrpSpPr/>
            <p:nvPr/>
          </p:nvGrpSpPr>
          <p:grpSpPr>
            <a:xfrm>
              <a:off x="2513160" y="5085000"/>
              <a:ext cx="914040" cy="304560"/>
              <a:chOff x="2513160" y="5085000"/>
              <a:chExt cx="914040" cy="304560"/>
            </a:xfrm>
          </p:grpSpPr>
          <p:sp>
            <p:nvSpPr>
              <p:cNvPr id="28" name="object 24"/>
              <p:cNvSpPr/>
              <p:nvPr/>
            </p:nvSpPr>
            <p:spPr>
              <a:xfrm>
                <a:off x="2513160" y="516096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25"/>
              <p:cNvSpPr/>
              <p:nvPr/>
            </p:nvSpPr>
            <p:spPr>
              <a:xfrm>
                <a:off x="2970000" y="5085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グループ化 5"/>
          <p:cNvGrpSpPr/>
          <p:nvPr/>
        </p:nvGrpSpPr>
        <p:grpSpPr>
          <a:xfrm>
            <a:off x="179280" y="179280"/>
            <a:ext cx="5288040" cy="806400"/>
            <a:chOff x="179280" y="179280"/>
            <a:chExt cx="5288040" cy="806400"/>
          </a:xfrm>
        </p:grpSpPr>
        <p:sp>
          <p:nvSpPr>
            <p:cNvPr id="31" name="object 2"/>
            <p:cNvSpPr/>
            <p:nvPr/>
          </p:nvSpPr>
          <p:spPr>
            <a:xfrm>
              <a:off x="1909440" y="340920"/>
              <a:ext cx="129960" cy="196920"/>
            </a:xfrm>
            <a:custGeom>
              <a:avLst/>
              <a:gdLst/>
              <a:ahLst/>
              <a:rect l="l" t="t" r="r" b="b"/>
              <a:pathLst>
                <a:path w="219075" h="331470">
                  <a:moveTo>
                    <a:pt x="59245" y="0"/>
                  </a:moveTo>
                  <a:lnTo>
                    <a:pt x="0" y="0"/>
                  </a:lnTo>
                  <a:lnTo>
                    <a:pt x="0" y="331431"/>
                  </a:lnTo>
                  <a:lnTo>
                    <a:pt x="59245" y="331431"/>
                  </a:lnTo>
                  <a:lnTo>
                    <a:pt x="59245" y="158915"/>
                  </a:lnTo>
                  <a:lnTo>
                    <a:pt x="92371" y="176864"/>
                  </a:lnTo>
                  <a:lnTo>
                    <a:pt x="124445" y="196724"/>
                  </a:lnTo>
                  <a:lnTo>
                    <a:pt x="155470" y="218263"/>
                  </a:lnTo>
                  <a:lnTo>
                    <a:pt x="185445" y="241249"/>
                  </a:lnTo>
                  <a:lnTo>
                    <a:pt x="218744" y="189699"/>
                  </a:lnTo>
                  <a:lnTo>
                    <a:pt x="185296" y="165551"/>
                  </a:lnTo>
                  <a:lnTo>
                    <a:pt x="150695" y="143079"/>
                  </a:lnTo>
                  <a:lnTo>
                    <a:pt x="114974" y="122353"/>
                  </a:lnTo>
                  <a:lnTo>
                    <a:pt x="78168" y="103441"/>
                  </a:lnTo>
                  <a:lnTo>
                    <a:pt x="59245" y="139598"/>
                  </a:lnTo>
                  <a:lnTo>
                    <a:pt x="59245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bject 3"/>
            <p:cNvSpPr/>
            <p:nvPr/>
          </p:nvSpPr>
          <p:spPr>
            <a:xfrm>
              <a:off x="2094840" y="342720"/>
              <a:ext cx="768600" cy="198000"/>
            </a:xfrm>
            <a:custGeom>
              <a:avLst/>
              <a:gdLst/>
              <a:ahLst/>
              <a:rect l="l" t="t" r="r" b="b"/>
              <a:pathLst>
                <a:path w="1293495" h="333375">
                  <a:moveTo>
                    <a:pt x="281508" y="165354"/>
                  </a:moveTo>
                  <a:lnTo>
                    <a:pt x="241185" y="123126"/>
                  </a:lnTo>
                  <a:lnTo>
                    <a:pt x="212102" y="158534"/>
                  </a:lnTo>
                  <a:lnTo>
                    <a:pt x="178981" y="189649"/>
                  </a:lnTo>
                  <a:lnTo>
                    <a:pt x="142240" y="215988"/>
                  </a:lnTo>
                  <a:lnTo>
                    <a:pt x="102311" y="237058"/>
                  </a:lnTo>
                  <a:lnTo>
                    <a:pt x="59601" y="252336"/>
                  </a:lnTo>
                  <a:lnTo>
                    <a:pt x="59601" y="0"/>
                  </a:lnTo>
                  <a:lnTo>
                    <a:pt x="0" y="0"/>
                  </a:lnTo>
                  <a:lnTo>
                    <a:pt x="0" y="325005"/>
                  </a:lnTo>
                  <a:lnTo>
                    <a:pt x="47675" y="316547"/>
                  </a:lnTo>
                  <a:lnTo>
                    <a:pt x="93205" y="303377"/>
                  </a:lnTo>
                  <a:lnTo>
                    <a:pt x="136398" y="285470"/>
                  </a:lnTo>
                  <a:lnTo>
                    <a:pt x="177025" y="262763"/>
                  </a:lnTo>
                  <a:lnTo>
                    <a:pt x="214896" y="235204"/>
                  </a:lnTo>
                  <a:lnTo>
                    <a:pt x="249796" y="202755"/>
                  </a:lnTo>
                  <a:lnTo>
                    <a:pt x="281508" y="165354"/>
                  </a:lnTo>
                  <a:close/>
                </a:path>
                <a:path w="1293495" h="333375">
                  <a:moveTo>
                    <a:pt x="626198" y="134937"/>
                  </a:moveTo>
                  <a:lnTo>
                    <a:pt x="306489" y="134937"/>
                  </a:lnTo>
                  <a:lnTo>
                    <a:pt x="306489" y="191858"/>
                  </a:lnTo>
                  <a:lnTo>
                    <a:pt x="626198" y="191858"/>
                  </a:lnTo>
                  <a:lnTo>
                    <a:pt x="626198" y="134937"/>
                  </a:lnTo>
                  <a:close/>
                </a:path>
                <a:path w="1293495" h="333375">
                  <a:moveTo>
                    <a:pt x="965250" y="65519"/>
                  </a:moveTo>
                  <a:lnTo>
                    <a:pt x="958215" y="55359"/>
                  </a:lnTo>
                  <a:lnTo>
                    <a:pt x="953300" y="49047"/>
                  </a:lnTo>
                  <a:lnTo>
                    <a:pt x="950709" y="45732"/>
                  </a:lnTo>
                  <a:lnTo>
                    <a:pt x="946111" y="40462"/>
                  </a:lnTo>
                  <a:lnTo>
                    <a:pt x="942682" y="36525"/>
                  </a:lnTo>
                  <a:lnTo>
                    <a:pt x="934059" y="27584"/>
                  </a:lnTo>
                  <a:lnTo>
                    <a:pt x="918984" y="40462"/>
                  </a:lnTo>
                  <a:lnTo>
                    <a:pt x="918984" y="10388"/>
                  </a:lnTo>
                  <a:lnTo>
                    <a:pt x="697776" y="10388"/>
                  </a:lnTo>
                  <a:lnTo>
                    <a:pt x="697776" y="66586"/>
                  </a:lnTo>
                  <a:lnTo>
                    <a:pt x="918984" y="66586"/>
                  </a:lnTo>
                  <a:lnTo>
                    <a:pt x="918984" y="49047"/>
                  </a:lnTo>
                  <a:lnTo>
                    <a:pt x="926045" y="56705"/>
                  </a:lnTo>
                  <a:lnTo>
                    <a:pt x="932573" y="64655"/>
                  </a:lnTo>
                  <a:lnTo>
                    <a:pt x="938707" y="72961"/>
                  </a:lnTo>
                  <a:lnTo>
                    <a:pt x="944575" y="81622"/>
                  </a:lnTo>
                  <a:lnTo>
                    <a:pt x="965250" y="65519"/>
                  </a:lnTo>
                  <a:close/>
                </a:path>
                <a:path w="1293495" h="333375">
                  <a:moveTo>
                    <a:pt x="977176" y="102743"/>
                  </a:moveTo>
                  <a:lnTo>
                    <a:pt x="656412" y="102743"/>
                  </a:lnTo>
                  <a:lnTo>
                    <a:pt x="656412" y="158927"/>
                  </a:lnTo>
                  <a:lnTo>
                    <a:pt x="794181" y="158927"/>
                  </a:lnTo>
                  <a:lnTo>
                    <a:pt x="791933" y="177812"/>
                  </a:lnTo>
                  <a:lnTo>
                    <a:pt x="772452" y="230162"/>
                  </a:lnTo>
                  <a:lnTo>
                    <a:pt x="736828" y="264515"/>
                  </a:lnTo>
                  <a:lnTo>
                    <a:pt x="692518" y="287070"/>
                  </a:lnTo>
                  <a:lnTo>
                    <a:pt x="735291" y="333248"/>
                  </a:lnTo>
                  <a:lnTo>
                    <a:pt x="787184" y="303263"/>
                  </a:lnTo>
                  <a:lnTo>
                    <a:pt x="827493" y="258800"/>
                  </a:lnTo>
                  <a:lnTo>
                    <a:pt x="846429" y="210477"/>
                  </a:lnTo>
                  <a:lnTo>
                    <a:pt x="853782" y="158927"/>
                  </a:lnTo>
                  <a:lnTo>
                    <a:pt x="977176" y="158927"/>
                  </a:lnTo>
                  <a:lnTo>
                    <a:pt x="977176" y="102743"/>
                  </a:lnTo>
                  <a:close/>
                </a:path>
                <a:path w="1293495" h="333375">
                  <a:moveTo>
                    <a:pt x="995057" y="40462"/>
                  </a:moveTo>
                  <a:lnTo>
                    <a:pt x="988021" y="30302"/>
                  </a:lnTo>
                  <a:lnTo>
                    <a:pt x="980516" y="20688"/>
                  </a:lnTo>
                  <a:lnTo>
                    <a:pt x="972477" y="11468"/>
                  </a:lnTo>
                  <a:lnTo>
                    <a:pt x="963853" y="2514"/>
                  </a:lnTo>
                  <a:lnTo>
                    <a:pt x="944219" y="19342"/>
                  </a:lnTo>
                  <a:lnTo>
                    <a:pt x="952588" y="28079"/>
                  </a:lnTo>
                  <a:lnTo>
                    <a:pt x="960399" y="37147"/>
                  </a:lnTo>
                  <a:lnTo>
                    <a:pt x="967740" y="46621"/>
                  </a:lnTo>
                  <a:lnTo>
                    <a:pt x="974725" y="56565"/>
                  </a:lnTo>
                  <a:lnTo>
                    <a:pt x="995057" y="40462"/>
                  </a:lnTo>
                  <a:close/>
                </a:path>
                <a:path w="1293495" h="333375">
                  <a:moveTo>
                    <a:pt x="1293126" y="88430"/>
                  </a:moveTo>
                  <a:lnTo>
                    <a:pt x="1253515" y="55499"/>
                  </a:lnTo>
                  <a:lnTo>
                    <a:pt x="1213446" y="90131"/>
                  </a:lnTo>
                  <a:lnTo>
                    <a:pt x="1171638" y="120040"/>
                  </a:lnTo>
                  <a:lnTo>
                    <a:pt x="1127709" y="145605"/>
                  </a:lnTo>
                  <a:lnTo>
                    <a:pt x="1081278" y="167259"/>
                  </a:lnTo>
                  <a:lnTo>
                    <a:pt x="1031951" y="185420"/>
                  </a:lnTo>
                  <a:lnTo>
                    <a:pt x="1057198" y="231241"/>
                  </a:lnTo>
                  <a:lnTo>
                    <a:pt x="1081189" y="222758"/>
                  </a:lnTo>
                  <a:lnTo>
                    <a:pt x="1104785" y="213385"/>
                  </a:lnTo>
                  <a:lnTo>
                    <a:pt x="1127988" y="202996"/>
                  </a:lnTo>
                  <a:lnTo>
                    <a:pt x="1150797" y="191503"/>
                  </a:lnTo>
                  <a:lnTo>
                    <a:pt x="1150797" y="333248"/>
                  </a:lnTo>
                  <a:lnTo>
                    <a:pt x="1201978" y="333248"/>
                  </a:lnTo>
                  <a:lnTo>
                    <a:pt x="1201978" y="161442"/>
                  </a:lnTo>
                  <a:lnTo>
                    <a:pt x="1226032" y="144792"/>
                  </a:lnTo>
                  <a:lnTo>
                    <a:pt x="1249260" y="127076"/>
                  </a:lnTo>
                  <a:lnTo>
                    <a:pt x="1271638" y="108280"/>
                  </a:lnTo>
                  <a:lnTo>
                    <a:pt x="1293126" y="8843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bject 4"/>
            <p:cNvSpPr/>
            <p:nvPr/>
          </p:nvSpPr>
          <p:spPr>
            <a:xfrm>
              <a:off x="2908440" y="331560"/>
              <a:ext cx="591120" cy="211320"/>
            </a:xfrm>
            <a:custGeom>
              <a:avLst/>
              <a:gdLst/>
              <a:ahLst/>
              <a:rect l="l" t="t" r="r" b="b"/>
              <a:pathLst>
                <a:path w="995045" h="355600">
                  <a:moveTo>
                    <a:pt x="141274" y="98056"/>
                  </a:moveTo>
                  <a:lnTo>
                    <a:pt x="115785" y="77660"/>
                  </a:lnTo>
                  <a:lnTo>
                    <a:pt x="89268" y="58915"/>
                  </a:lnTo>
                  <a:lnTo>
                    <a:pt x="61760" y="41833"/>
                  </a:lnTo>
                  <a:lnTo>
                    <a:pt x="33312" y="26466"/>
                  </a:lnTo>
                  <a:lnTo>
                    <a:pt x="0" y="73723"/>
                  </a:lnTo>
                  <a:lnTo>
                    <a:pt x="27216" y="89700"/>
                  </a:lnTo>
                  <a:lnTo>
                    <a:pt x="53606" y="107061"/>
                  </a:lnTo>
                  <a:lnTo>
                    <a:pt x="79133" y="125818"/>
                  </a:lnTo>
                  <a:lnTo>
                    <a:pt x="103771" y="146024"/>
                  </a:lnTo>
                  <a:lnTo>
                    <a:pt x="141274" y="98056"/>
                  </a:lnTo>
                  <a:close/>
                </a:path>
                <a:path w="995045" h="355600">
                  <a:moveTo>
                    <a:pt x="312712" y="142811"/>
                  </a:moveTo>
                  <a:lnTo>
                    <a:pt x="271691" y="94488"/>
                  </a:lnTo>
                  <a:lnTo>
                    <a:pt x="243408" y="138137"/>
                  </a:lnTo>
                  <a:lnTo>
                    <a:pt x="212407" y="175958"/>
                  </a:lnTo>
                  <a:lnTo>
                    <a:pt x="178333" y="208203"/>
                  </a:lnTo>
                  <a:lnTo>
                    <a:pt x="140843" y="235102"/>
                  </a:lnTo>
                  <a:lnTo>
                    <a:pt x="99555" y="256870"/>
                  </a:lnTo>
                  <a:lnTo>
                    <a:pt x="54140" y="273748"/>
                  </a:lnTo>
                  <a:lnTo>
                    <a:pt x="4216" y="285965"/>
                  </a:lnTo>
                  <a:lnTo>
                    <a:pt x="31203" y="344665"/>
                  </a:lnTo>
                  <a:lnTo>
                    <a:pt x="81470" y="331063"/>
                  </a:lnTo>
                  <a:lnTo>
                    <a:pt x="128562" y="312127"/>
                  </a:lnTo>
                  <a:lnTo>
                    <a:pt x="172351" y="288023"/>
                  </a:lnTo>
                  <a:lnTo>
                    <a:pt x="212763" y="258889"/>
                  </a:lnTo>
                  <a:lnTo>
                    <a:pt x="249694" y="224866"/>
                  </a:lnTo>
                  <a:lnTo>
                    <a:pt x="283044" y="186131"/>
                  </a:lnTo>
                  <a:lnTo>
                    <a:pt x="312712" y="142811"/>
                  </a:lnTo>
                  <a:close/>
                </a:path>
                <a:path w="995045" h="355600">
                  <a:moveTo>
                    <a:pt x="621982" y="43675"/>
                  </a:moveTo>
                  <a:lnTo>
                    <a:pt x="614946" y="33464"/>
                  </a:lnTo>
                  <a:lnTo>
                    <a:pt x="607479" y="23749"/>
                  </a:lnTo>
                  <a:lnTo>
                    <a:pt x="599554" y="14516"/>
                  </a:lnTo>
                  <a:lnTo>
                    <a:pt x="591134" y="5715"/>
                  </a:lnTo>
                  <a:lnTo>
                    <a:pt x="571144" y="21831"/>
                  </a:lnTo>
                  <a:lnTo>
                    <a:pt x="579462" y="30822"/>
                  </a:lnTo>
                  <a:lnTo>
                    <a:pt x="587108" y="40132"/>
                  </a:lnTo>
                  <a:lnTo>
                    <a:pt x="594233" y="49758"/>
                  </a:lnTo>
                  <a:lnTo>
                    <a:pt x="600951" y="59766"/>
                  </a:lnTo>
                  <a:lnTo>
                    <a:pt x="621982" y="43675"/>
                  </a:lnTo>
                  <a:close/>
                </a:path>
                <a:path w="995045" h="355600">
                  <a:moveTo>
                    <a:pt x="645121" y="62992"/>
                  </a:moveTo>
                  <a:lnTo>
                    <a:pt x="498932" y="62992"/>
                  </a:lnTo>
                  <a:lnTo>
                    <a:pt x="502754" y="55194"/>
                  </a:lnTo>
                  <a:lnTo>
                    <a:pt x="506336" y="47371"/>
                  </a:lnTo>
                  <a:lnTo>
                    <a:pt x="509727" y="39484"/>
                  </a:lnTo>
                  <a:lnTo>
                    <a:pt x="512953" y="31496"/>
                  </a:lnTo>
                  <a:lnTo>
                    <a:pt x="456514" y="13589"/>
                  </a:lnTo>
                  <a:lnTo>
                    <a:pt x="434962" y="58534"/>
                  </a:lnTo>
                  <a:lnTo>
                    <a:pt x="407657" y="99809"/>
                  </a:lnTo>
                  <a:lnTo>
                    <a:pt x="375424" y="137261"/>
                  </a:lnTo>
                  <a:lnTo>
                    <a:pt x="339077" y="170726"/>
                  </a:lnTo>
                  <a:lnTo>
                    <a:pt x="382905" y="210451"/>
                  </a:lnTo>
                  <a:lnTo>
                    <a:pt x="406209" y="189788"/>
                  </a:lnTo>
                  <a:lnTo>
                    <a:pt x="428078" y="167551"/>
                  </a:lnTo>
                  <a:lnTo>
                    <a:pt x="448322" y="143764"/>
                  </a:lnTo>
                  <a:lnTo>
                    <a:pt x="466686" y="118465"/>
                  </a:lnTo>
                  <a:lnTo>
                    <a:pt x="573963" y="118465"/>
                  </a:lnTo>
                  <a:lnTo>
                    <a:pt x="545820" y="182270"/>
                  </a:lnTo>
                  <a:lnTo>
                    <a:pt x="503491" y="236943"/>
                  </a:lnTo>
                  <a:lnTo>
                    <a:pt x="449021" y="278599"/>
                  </a:lnTo>
                  <a:lnTo>
                    <a:pt x="386397" y="306031"/>
                  </a:lnTo>
                  <a:lnTo>
                    <a:pt x="426021" y="355053"/>
                  </a:lnTo>
                  <a:lnTo>
                    <a:pt x="472020" y="334632"/>
                  </a:lnTo>
                  <a:lnTo>
                    <a:pt x="512521" y="308813"/>
                  </a:lnTo>
                  <a:lnTo>
                    <a:pt x="547611" y="277990"/>
                  </a:lnTo>
                  <a:lnTo>
                    <a:pt x="577380" y="242570"/>
                  </a:lnTo>
                  <a:lnTo>
                    <a:pt x="601929" y="202958"/>
                  </a:lnTo>
                  <a:lnTo>
                    <a:pt x="621347" y="159562"/>
                  </a:lnTo>
                  <a:lnTo>
                    <a:pt x="633958" y="118465"/>
                  </a:lnTo>
                  <a:lnTo>
                    <a:pt x="635711" y="112763"/>
                  </a:lnTo>
                  <a:lnTo>
                    <a:pt x="645121" y="62992"/>
                  </a:lnTo>
                  <a:close/>
                </a:path>
                <a:path w="995045" h="355600">
                  <a:moveTo>
                    <a:pt x="668261" y="38303"/>
                  </a:moveTo>
                  <a:lnTo>
                    <a:pt x="661276" y="28079"/>
                  </a:lnTo>
                  <a:lnTo>
                    <a:pt x="653935" y="18338"/>
                  </a:lnTo>
                  <a:lnTo>
                    <a:pt x="646125" y="9004"/>
                  </a:lnTo>
                  <a:lnTo>
                    <a:pt x="637755" y="0"/>
                  </a:lnTo>
                  <a:lnTo>
                    <a:pt x="617778" y="16459"/>
                  </a:lnTo>
                  <a:lnTo>
                    <a:pt x="625932" y="25247"/>
                  </a:lnTo>
                  <a:lnTo>
                    <a:pt x="633603" y="34442"/>
                  </a:lnTo>
                  <a:lnTo>
                    <a:pt x="640803" y="44043"/>
                  </a:lnTo>
                  <a:lnTo>
                    <a:pt x="647573" y="54038"/>
                  </a:lnTo>
                  <a:lnTo>
                    <a:pt x="668261" y="38303"/>
                  </a:lnTo>
                  <a:close/>
                </a:path>
                <a:path w="995045" h="355600">
                  <a:moveTo>
                    <a:pt x="994714" y="80162"/>
                  </a:moveTo>
                  <a:lnTo>
                    <a:pt x="868172" y="80162"/>
                  </a:lnTo>
                  <a:lnTo>
                    <a:pt x="868972" y="63461"/>
                  </a:lnTo>
                  <a:lnTo>
                    <a:pt x="869391" y="46659"/>
                  </a:lnTo>
                  <a:lnTo>
                    <a:pt x="869569" y="12877"/>
                  </a:lnTo>
                  <a:lnTo>
                    <a:pt x="812076" y="12877"/>
                  </a:lnTo>
                  <a:lnTo>
                    <a:pt x="811593" y="46659"/>
                  </a:lnTo>
                  <a:lnTo>
                    <a:pt x="810323" y="80162"/>
                  </a:lnTo>
                  <a:lnTo>
                    <a:pt x="698500" y="80162"/>
                  </a:lnTo>
                  <a:lnTo>
                    <a:pt x="698500" y="136715"/>
                  </a:lnTo>
                  <a:lnTo>
                    <a:pt x="805421" y="136715"/>
                  </a:lnTo>
                  <a:lnTo>
                    <a:pt x="801077" y="159042"/>
                  </a:lnTo>
                  <a:lnTo>
                    <a:pt x="787273" y="201803"/>
                  </a:lnTo>
                  <a:lnTo>
                    <a:pt x="760831" y="245287"/>
                  </a:lnTo>
                  <a:lnTo>
                    <a:pt x="720178" y="284518"/>
                  </a:lnTo>
                  <a:lnTo>
                    <a:pt x="697090" y="300647"/>
                  </a:lnTo>
                  <a:lnTo>
                    <a:pt x="739508" y="343598"/>
                  </a:lnTo>
                  <a:lnTo>
                    <a:pt x="780503" y="311569"/>
                  </a:lnTo>
                  <a:lnTo>
                    <a:pt x="812673" y="275310"/>
                  </a:lnTo>
                  <a:lnTo>
                    <a:pt x="836688" y="234378"/>
                  </a:lnTo>
                  <a:lnTo>
                    <a:pt x="853198" y="188328"/>
                  </a:lnTo>
                  <a:lnTo>
                    <a:pt x="862901" y="136715"/>
                  </a:lnTo>
                  <a:lnTo>
                    <a:pt x="935469" y="136715"/>
                  </a:lnTo>
                  <a:lnTo>
                    <a:pt x="931748" y="192468"/>
                  </a:lnTo>
                  <a:lnTo>
                    <a:pt x="923556" y="247662"/>
                  </a:lnTo>
                  <a:lnTo>
                    <a:pt x="892352" y="282028"/>
                  </a:lnTo>
                  <a:lnTo>
                    <a:pt x="882421" y="281787"/>
                  </a:lnTo>
                  <a:lnTo>
                    <a:pt x="872553" y="281139"/>
                  </a:lnTo>
                  <a:lnTo>
                    <a:pt x="852741" y="279171"/>
                  </a:lnTo>
                  <a:lnTo>
                    <a:pt x="864311" y="337870"/>
                  </a:lnTo>
                  <a:lnTo>
                    <a:pt x="879513" y="338683"/>
                  </a:lnTo>
                  <a:lnTo>
                    <a:pt x="894461" y="338950"/>
                  </a:lnTo>
                  <a:lnTo>
                    <a:pt x="918451" y="337134"/>
                  </a:lnTo>
                  <a:lnTo>
                    <a:pt x="956170" y="317652"/>
                  </a:lnTo>
                  <a:lnTo>
                    <a:pt x="980668" y="251460"/>
                  </a:lnTo>
                  <a:lnTo>
                    <a:pt x="988098" y="191262"/>
                  </a:lnTo>
                  <a:lnTo>
                    <a:pt x="992441" y="129654"/>
                  </a:lnTo>
                  <a:lnTo>
                    <a:pt x="994714" y="80162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bject 5"/>
            <p:cNvSpPr/>
            <p:nvPr/>
          </p:nvSpPr>
          <p:spPr>
            <a:xfrm>
              <a:off x="3527280" y="423000"/>
              <a:ext cx="190080" cy="33840"/>
            </a:xfrm>
            <a:custGeom>
              <a:avLst/>
              <a:gdLst/>
              <a:ahLst/>
              <a:rect l="l" t="t" r="r" b="b"/>
              <a:pathLst>
                <a:path w="320039" h="57150">
                  <a:moveTo>
                    <a:pt x="319709" y="0"/>
                  </a:moveTo>
                  <a:lnTo>
                    <a:pt x="0" y="0"/>
                  </a:lnTo>
                  <a:lnTo>
                    <a:pt x="0" y="56921"/>
                  </a:lnTo>
                  <a:lnTo>
                    <a:pt x="319709" y="56921"/>
                  </a:lnTo>
                  <a:lnTo>
                    <a:pt x="319709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bject 6"/>
            <p:cNvSpPr/>
            <p:nvPr/>
          </p:nvSpPr>
          <p:spPr>
            <a:xfrm>
              <a:off x="3782520" y="340920"/>
              <a:ext cx="135720" cy="196920"/>
            </a:xfrm>
            <a:custGeom>
              <a:avLst/>
              <a:gdLst/>
              <a:ahLst/>
              <a:rect l="l" t="t" r="r" b="b"/>
              <a:pathLst>
                <a:path w="228600" h="331470">
                  <a:moveTo>
                    <a:pt x="59245" y="0"/>
                  </a:moveTo>
                  <a:lnTo>
                    <a:pt x="0" y="0"/>
                  </a:lnTo>
                  <a:lnTo>
                    <a:pt x="0" y="331431"/>
                  </a:lnTo>
                  <a:lnTo>
                    <a:pt x="59245" y="331431"/>
                  </a:lnTo>
                  <a:lnTo>
                    <a:pt x="59245" y="158915"/>
                  </a:lnTo>
                  <a:lnTo>
                    <a:pt x="174854" y="158915"/>
                  </a:lnTo>
                  <a:lnTo>
                    <a:pt x="150396" y="143079"/>
                  </a:lnTo>
                  <a:lnTo>
                    <a:pt x="144389" y="139598"/>
                  </a:lnTo>
                  <a:lnTo>
                    <a:pt x="59245" y="139598"/>
                  </a:lnTo>
                  <a:lnTo>
                    <a:pt x="59245" y="0"/>
                  </a:lnTo>
                  <a:close/>
                </a:path>
                <a:path w="228600" h="331470">
                  <a:moveTo>
                    <a:pt x="174854" y="158915"/>
                  </a:moveTo>
                  <a:lnTo>
                    <a:pt x="59245" y="158915"/>
                  </a:lnTo>
                  <a:lnTo>
                    <a:pt x="92173" y="176864"/>
                  </a:lnTo>
                  <a:lnTo>
                    <a:pt x="124145" y="196724"/>
                  </a:lnTo>
                  <a:lnTo>
                    <a:pt x="155132" y="218263"/>
                  </a:lnTo>
                  <a:lnTo>
                    <a:pt x="185102" y="241249"/>
                  </a:lnTo>
                  <a:lnTo>
                    <a:pt x="218757" y="189699"/>
                  </a:lnTo>
                  <a:lnTo>
                    <a:pt x="185103" y="165551"/>
                  </a:lnTo>
                  <a:lnTo>
                    <a:pt x="174854" y="158915"/>
                  </a:lnTo>
                  <a:close/>
                </a:path>
                <a:path w="228600" h="331470">
                  <a:moveTo>
                    <a:pt x="77825" y="103441"/>
                  </a:moveTo>
                  <a:lnTo>
                    <a:pt x="59245" y="139598"/>
                  </a:lnTo>
                  <a:lnTo>
                    <a:pt x="144389" y="139598"/>
                  </a:lnTo>
                  <a:lnTo>
                    <a:pt x="114637" y="122353"/>
                  </a:lnTo>
                  <a:lnTo>
                    <a:pt x="77825" y="103441"/>
                  </a:lnTo>
                  <a:close/>
                </a:path>
                <a:path w="228600" h="331470">
                  <a:moveTo>
                    <a:pt x="158457" y="38290"/>
                  </a:moveTo>
                  <a:lnTo>
                    <a:pt x="138468" y="57632"/>
                  </a:lnTo>
                  <a:lnTo>
                    <a:pt x="147942" y="66572"/>
                  </a:lnTo>
                  <a:lnTo>
                    <a:pt x="157005" y="75882"/>
                  </a:lnTo>
                  <a:lnTo>
                    <a:pt x="165437" y="85405"/>
                  </a:lnTo>
                  <a:lnTo>
                    <a:pt x="173532" y="95567"/>
                  </a:lnTo>
                  <a:lnTo>
                    <a:pt x="194919" y="75882"/>
                  </a:lnTo>
                  <a:lnTo>
                    <a:pt x="186669" y="65862"/>
                  </a:lnTo>
                  <a:lnTo>
                    <a:pt x="177736" y="56143"/>
                  </a:lnTo>
                  <a:lnTo>
                    <a:pt x="168391" y="47032"/>
                  </a:lnTo>
                  <a:lnTo>
                    <a:pt x="158457" y="38290"/>
                  </a:lnTo>
                  <a:close/>
                </a:path>
                <a:path w="228600" h="331470">
                  <a:moveTo>
                    <a:pt x="192112" y="8229"/>
                  </a:moveTo>
                  <a:lnTo>
                    <a:pt x="171780" y="27927"/>
                  </a:lnTo>
                  <a:lnTo>
                    <a:pt x="181404" y="36717"/>
                  </a:lnTo>
                  <a:lnTo>
                    <a:pt x="190401" y="45947"/>
                  </a:lnTo>
                  <a:lnTo>
                    <a:pt x="198937" y="55650"/>
                  </a:lnTo>
                  <a:lnTo>
                    <a:pt x="207065" y="65726"/>
                  </a:lnTo>
                  <a:lnTo>
                    <a:pt x="207175" y="65862"/>
                  </a:lnTo>
                  <a:lnTo>
                    <a:pt x="228219" y="46164"/>
                  </a:lnTo>
                  <a:lnTo>
                    <a:pt x="219864" y="35965"/>
                  </a:lnTo>
                  <a:lnTo>
                    <a:pt x="211085" y="26263"/>
                  </a:lnTo>
                  <a:lnTo>
                    <a:pt x="201846" y="17028"/>
                  </a:lnTo>
                  <a:lnTo>
                    <a:pt x="192112" y="822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bject 7"/>
            <p:cNvSpPr/>
            <p:nvPr/>
          </p:nvSpPr>
          <p:spPr>
            <a:xfrm>
              <a:off x="4069440" y="334080"/>
              <a:ext cx="472680" cy="211320"/>
            </a:xfrm>
            <a:custGeom>
              <a:avLst/>
              <a:gdLst/>
              <a:ahLst/>
              <a:rect l="l" t="t" r="r" b="b"/>
              <a:pathLst>
                <a:path w="795654" h="355600">
                  <a:moveTo>
                    <a:pt x="111836" y="32931"/>
                  </a:moveTo>
                  <a:lnTo>
                    <a:pt x="82384" y="0"/>
                  </a:lnTo>
                  <a:lnTo>
                    <a:pt x="48653" y="37655"/>
                  </a:lnTo>
                  <a:lnTo>
                    <a:pt x="22656" y="80048"/>
                  </a:lnTo>
                  <a:lnTo>
                    <a:pt x="5918" y="126796"/>
                  </a:lnTo>
                  <a:lnTo>
                    <a:pt x="0" y="177533"/>
                  </a:lnTo>
                  <a:lnTo>
                    <a:pt x="5918" y="228130"/>
                  </a:lnTo>
                  <a:lnTo>
                    <a:pt x="22656" y="274891"/>
                  </a:lnTo>
                  <a:lnTo>
                    <a:pt x="48653" y="317360"/>
                  </a:lnTo>
                  <a:lnTo>
                    <a:pt x="82384" y="355066"/>
                  </a:lnTo>
                  <a:lnTo>
                    <a:pt x="111836" y="322135"/>
                  </a:lnTo>
                  <a:lnTo>
                    <a:pt x="85318" y="291033"/>
                  </a:lnTo>
                  <a:lnTo>
                    <a:pt x="64592" y="256413"/>
                  </a:lnTo>
                  <a:lnTo>
                    <a:pt x="51092" y="218503"/>
                  </a:lnTo>
                  <a:lnTo>
                    <a:pt x="46278" y="177533"/>
                  </a:lnTo>
                  <a:lnTo>
                    <a:pt x="51142" y="136766"/>
                  </a:lnTo>
                  <a:lnTo>
                    <a:pt x="64719" y="98653"/>
                  </a:lnTo>
                  <a:lnTo>
                    <a:pt x="85471" y="63830"/>
                  </a:lnTo>
                  <a:lnTo>
                    <a:pt x="111836" y="32931"/>
                  </a:lnTo>
                  <a:close/>
                </a:path>
                <a:path w="795654" h="355600">
                  <a:moveTo>
                    <a:pt x="465277" y="296367"/>
                  </a:moveTo>
                  <a:lnTo>
                    <a:pt x="440817" y="266014"/>
                  </a:lnTo>
                  <a:lnTo>
                    <a:pt x="414756" y="236905"/>
                  </a:lnTo>
                  <a:lnTo>
                    <a:pt x="387045" y="209346"/>
                  </a:lnTo>
                  <a:lnTo>
                    <a:pt x="357657" y="183616"/>
                  </a:lnTo>
                  <a:lnTo>
                    <a:pt x="378637" y="148196"/>
                  </a:lnTo>
                  <a:lnTo>
                    <a:pt x="396392" y="111277"/>
                  </a:lnTo>
                  <a:lnTo>
                    <a:pt x="410984" y="72936"/>
                  </a:lnTo>
                  <a:lnTo>
                    <a:pt x="422503" y="33286"/>
                  </a:lnTo>
                  <a:lnTo>
                    <a:pt x="164147" y="33286"/>
                  </a:lnTo>
                  <a:lnTo>
                    <a:pt x="164147" y="90563"/>
                  </a:lnTo>
                  <a:lnTo>
                    <a:pt x="341185" y="90563"/>
                  </a:lnTo>
                  <a:lnTo>
                    <a:pt x="319176" y="136296"/>
                  </a:lnTo>
                  <a:lnTo>
                    <a:pt x="291706" y="176949"/>
                  </a:lnTo>
                  <a:lnTo>
                    <a:pt x="259245" y="212750"/>
                  </a:lnTo>
                  <a:lnTo>
                    <a:pt x="222275" y="243852"/>
                  </a:lnTo>
                  <a:lnTo>
                    <a:pt x="181305" y="270471"/>
                  </a:lnTo>
                  <a:lnTo>
                    <a:pt x="136804" y="292785"/>
                  </a:lnTo>
                  <a:lnTo>
                    <a:pt x="171856" y="342887"/>
                  </a:lnTo>
                  <a:lnTo>
                    <a:pt x="214350" y="320649"/>
                  </a:lnTo>
                  <a:lnTo>
                    <a:pt x="253314" y="294576"/>
                  </a:lnTo>
                  <a:lnTo>
                    <a:pt x="289331" y="264477"/>
                  </a:lnTo>
                  <a:lnTo>
                    <a:pt x="322948" y="230149"/>
                  </a:lnTo>
                  <a:lnTo>
                    <a:pt x="349046" y="255193"/>
                  </a:lnTo>
                  <a:lnTo>
                    <a:pt x="373786" y="281470"/>
                  </a:lnTo>
                  <a:lnTo>
                    <a:pt x="397192" y="309016"/>
                  </a:lnTo>
                  <a:lnTo>
                    <a:pt x="419354" y="337870"/>
                  </a:lnTo>
                  <a:lnTo>
                    <a:pt x="465277" y="296367"/>
                  </a:lnTo>
                  <a:close/>
                </a:path>
                <a:path w="795654" h="355600">
                  <a:moveTo>
                    <a:pt x="795591" y="55841"/>
                  </a:moveTo>
                  <a:lnTo>
                    <a:pt x="652551" y="55841"/>
                  </a:lnTo>
                  <a:lnTo>
                    <a:pt x="656640" y="47663"/>
                  </a:lnTo>
                  <a:lnTo>
                    <a:pt x="660539" y="39281"/>
                  </a:lnTo>
                  <a:lnTo>
                    <a:pt x="667981" y="22199"/>
                  </a:lnTo>
                  <a:lnTo>
                    <a:pt x="611898" y="5016"/>
                  </a:lnTo>
                  <a:lnTo>
                    <a:pt x="590194" y="49745"/>
                  </a:lnTo>
                  <a:lnTo>
                    <a:pt x="562559" y="90957"/>
                  </a:lnTo>
                  <a:lnTo>
                    <a:pt x="530059" y="128485"/>
                  </a:lnTo>
                  <a:lnTo>
                    <a:pt x="493750" y="162140"/>
                  </a:lnTo>
                  <a:lnTo>
                    <a:pt x="536867" y="201879"/>
                  </a:lnTo>
                  <a:lnTo>
                    <a:pt x="559358" y="181127"/>
                  </a:lnTo>
                  <a:lnTo>
                    <a:pt x="580567" y="159143"/>
                  </a:lnTo>
                  <a:lnTo>
                    <a:pt x="600519" y="135890"/>
                  </a:lnTo>
                  <a:lnTo>
                    <a:pt x="619252" y="111315"/>
                  </a:lnTo>
                  <a:lnTo>
                    <a:pt x="725474" y="111315"/>
                  </a:lnTo>
                  <a:lnTo>
                    <a:pt x="719696" y="128981"/>
                  </a:lnTo>
                  <a:lnTo>
                    <a:pt x="712851" y="146088"/>
                  </a:lnTo>
                  <a:lnTo>
                    <a:pt x="704964" y="162712"/>
                  </a:lnTo>
                  <a:lnTo>
                    <a:pt x="696023" y="178968"/>
                  </a:lnTo>
                  <a:lnTo>
                    <a:pt x="679196" y="168960"/>
                  </a:lnTo>
                  <a:lnTo>
                    <a:pt x="662292" y="159283"/>
                  </a:lnTo>
                  <a:lnTo>
                    <a:pt x="645248" y="149872"/>
                  </a:lnTo>
                  <a:lnTo>
                    <a:pt x="628015" y="140677"/>
                  </a:lnTo>
                  <a:lnTo>
                    <a:pt x="596125" y="183984"/>
                  </a:lnTo>
                  <a:lnTo>
                    <a:pt x="612825" y="193294"/>
                  </a:lnTo>
                  <a:lnTo>
                    <a:pt x="629335" y="202946"/>
                  </a:lnTo>
                  <a:lnTo>
                    <a:pt x="662025" y="222999"/>
                  </a:lnTo>
                  <a:lnTo>
                    <a:pt x="633082" y="248742"/>
                  </a:lnTo>
                  <a:lnTo>
                    <a:pt x="600595" y="269836"/>
                  </a:lnTo>
                  <a:lnTo>
                    <a:pt x="565594" y="286562"/>
                  </a:lnTo>
                  <a:lnTo>
                    <a:pt x="529158" y="299237"/>
                  </a:lnTo>
                  <a:lnTo>
                    <a:pt x="566318" y="347560"/>
                  </a:lnTo>
                  <a:lnTo>
                    <a:pt x="606717" y="332066"/>
                  </a:lnTo>
                  <a:lnTo>
                    <a:pt x="644194" y="311442"/>
                  </a:lnTo>
                  <a:lnTo>
                    <a:pt x="678573" y="285788"/>
                  </a:lnTo>
                  <a:lnTo>
                    <a:pt x="709701" y="255206"/>
                  </a:lnTo>
                  <a:lnTo>
                    <a:pt x="719696" y="262572"/>
                  </a:lnTo>
                  <a:lnTo>
                    <a:pt x="749668" y="285635"/>
                  </a:lnTo>
                  <a:lnTo>
                    <a:pt x="784021" y="237312"/>
                  </a:lnTo>
                  <a:lnTo>
                    <a:pt x="773976" y="230073"/>
                  </a:lnTo>
                  <a:lnTo>
                    <a:pt x="743356" y="208673"/>
                  </a:lnTo>
                  <a:lnTo>
                    <a:pt x="761923" y="172618"/>
                  </a:lnTo>
                  <a:lnTo>
                    <a:pt x="776706" y="134950"/>
                  </a:lnTo>
                  <a:lnTo>
                    <a:pt x="787869" y="95935"/>
                  </a:lnTo>
                  <a:lnTo>
                    <a:pt x="795591" y="55841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bject 8"/>
            <p:cNvSpPr/>
            <p:nvPr/>
          </p:nvSpPr>
          <p:spPr>
            <a:xfrm>
              <a:off x="4575600" y="331200"/>
              <a:ext cx="600480" cy="210960"/>
            </a:xfrm>
            <a:custGeom>
              <a:avLst/>
              <a:gdLst/>
              <a:ahLst/>
              <a:rect l="l" t="t" r="r" b="b"/>
              <a:pathLst>
                <a:path w="1010920" h="354965">
                  <a:moveTo>
                    <a:pt x="141274" y="98780"/>
                  </a:moveTo>
                  <a:lnTo>
                    <a:pt x="115773" y="78384"/>
                  </a:lnTo>
                  <a:lnTo>
                    <a:pt x="89268" y="59639"/>
                  </a:lnTo>
                  <a:lnTo>
                    <a:pt x="61760" y="42557"/>
                  </a:lnTo>
                  <a:lnTo>
                    <a:pt x="33312" y="27190"/>
                  </a:lnTo>
                  <a:lnTo>
                    <a:pt x="0" y="74447"/>
                  </a:lnTo>
                  <a:lnTo>
                    <a:pt x="27216" y="90424"/>
                  </a:lnTo>
                  <a:lnTo>
                    <a:pt x="53594" y="107784"/>
                  </a:lnTo>
                  <a:lnTo>
                    <a:pt x="79133" y="126542"/>
                  </a:lnTo>
                  <a:lnTo>
                    <a:pt x="103771" y="146748"/>
                  </a:lnTo>
                  <a:lnTo>
                    <a:pt x="141274" y="98780"/>
                  </a:lnTo>
                  <a:close/>
                </a:path>
                <a:path w="1010920" h="354965">
                  <a:moveTo>
                    <a:pt x="312712" y="143535"/>
                  </a:moveTo>
                  <a:lnTo>
                    <a:pt x="271691" y="95211"/>
                  </a:lnTo>
                  <a:lnTo>
                    <a:pt x="243408" y="138861"/>
                  </a:lnTo>
                  <a:lnTo>
                    <a:pt x="212407" y="176682"/>
                  </a:lnTo>
                  <a:lnTo>
                    <a:pt x="178333" y="208927"/>
                  </a:lnTo>
                  <a:lnTo>
                    <a:pt x="140830" y="235826"/>
                  </a:lnTo>
                  <a:lnTo>
                    <a:pt x="99555" y="257594"/>
                  </a:lnTo>
                  <a:lnTo>
                    <a:pt x="54127" y="274472"/>
                  </a:lnTo>
                  <a:lnTo>
                    <a:pt x="4216" y="286689"/>
                  </a:lnTo>
                  <a:lnTo>
                    <a:pt x="31216" y="345389"/>
                  </a:lnTo>
                  <a:lnTo>
                    <a:pt x="81483" y="331787"/>
                  </a:lnTo>
                  <a:lnTo>
                    <a:pt x="128562" y="312851"/>
                  </a:lnTo>
                  <a:lnTo>
                    <a:pt x="172351" y="288747"/>
                  </a:lnTo>
                  <a:lnTo>
                    <a:pt x="212763" y="259613"/>
                  </a:lnTo>
                  <a:lnTo>
                    <a:pt x="249694" y="225590"/>
                  </a:lnTo>
                  <a:lnTo>
                    <a:pt x="283044" y="186855"/>
                  </a:lnTo>
                  <a:lnTo>
                    <a:pt x="312712" y="143535"/>
                  </a:lnTo>
                  <a:close/>
                </a:path>
                <a:path w="1010920" h="354965">
                  <a:moveTo>
                    <a:pt x="623036" y="44030"/>
                  </a:moveTo>
                  <a:lnTo>
                    <a:pt x="615734" y="34086"/>
                  </a:lnTo>
                  <a:lnTo>
                    <a:pt x="607999" y="24650"/>
                  </a:lnTo>
                  <a:lnTo>
                    <a:pt x="599821" y="15684"/>
                  </a:lnTo>
                  <a:lnTo>
                    <a:pt x="591146" y="7150"/>
                  </a:lnTo>
                  <a:lnTo>
                    <a:pt x="571868" y="24333"/>
                  </a:lnTo>
                  <a:lnTo>
                    <a:pt x="580275" y="32854"/>
                  </a:lnTo>
                  <a:lnTo>
                    <a:pt x="588200" y="41783"/>
                  </a:lnTo>
                  <a:lnTo>
                    <a:pt x="595668" y="51117"/>
                  </a:lnTo>
                  <a:lnTo>
                    <a:pt x="602703" y="60845"/>
                  </a:lnTo>
                  <a:lnTo>
                    <a:pt x="623036" y="44030"/>
                  </a:lnTo>
                  <a:close/>
                </a:path>
                <a:path w="1010920" h="354965">
                  <a:moveTo>
                    <a:pt x="642670" y="62636"/>
                  </a:moveTo>
                  <a:lnTo>
                    <a:pt x="499300" y="62636"/>
                  </a:lnTo>
                  <a:lnTo>
                    <a:pt x="503428" y="54457"/>
                  </a:lnTo>
                  <a:lnTo>
                    <a:pt x="507441" y="46088"/>
                  </a:lnTo>
                  <a:lnTo>
                    <a:pt x="511314" y="37579"/>
                  </a:lnTo>
                  <a:lnTo>
                    <a:pt x="515061" y="28994"/>
                  </a:lnTo>
                  <a:lnTo>
                    <a:pt x="458978" y="11811"/>
                  </a:lnTo>
                  <a:lnTo>
                    <a:pt x="437210" y="56692"/>
                  </a:lnTo>
                  <a:lnTo>
                    <a:pt x="409460" y="97891"/>
                  </a:lnTo>
                  <a:lnTo>
                    <a:pt x="376847" y="135331"/>
                  </a:lnTo>
                  <a:lnTo>
                    <a:pt x="340487" y="168948"/>
                  </a:lnTo>
                  <a:lnTo>
                    <a:pt x="383603" y="208673"/>
                  </a:lnTo>
                  <a:lnTo>
                    <a:pt x="406336" y="187921"/>
                  </a:lnTo>
                  <a:lnTo>
                    <a:pt x="427596" y="166027"/>
                  </a:lnTo>
                  <a:lnTo>
                    <a:pt x="447586" y="142684"/>
                  </a:lnTo>
                  <a:lnTo>
                    <a:pt x="465988" y="118122"/>
                  </a:lnTo>
                  <a:lnTo>
                    <a:pt x="572211" y="118122"/>
                  </a:lnTo>
                  <a:lnTo>
                    <a:pt x="566572" y="135775"/>
                  </a:lnTo>
                  <a:lnTo>
                    <a:pt x="559765" y="152831"/>
                  </a:lnTo>
                  <a:lnTo>
                    <a:pt x="551891" y="169354"/>
                  </a:lnTo>
                  <a:lnTo>
                    <a:pt x="543115" y="185407"/>
                  </a:lnTo>
                  <a:lnTo>
                    <a:pt x="526211" y="175602"/>
                  </a:lnTo>
                  <a:lnTo>
                    <a:pt x="509193" y="166027"/>
                  </a:lnTo>
                  <a:lnTo>
                    <a:pt x="492036" y="156654"/>
                  </a:lnTo>
                  <a:lnTo>
                    <a:pt x="474751" y="147459"/>
                  </a:lnTo>
                  <a:lnTo>
                    <a:pt x="443204" y="190411"/>
                  </a:lnTo>
                  <a:lnTo>
                    <a:pt x="459905" y="199872"/>
                  </a:lnTo>
                  <a:lnTo>
                    <a:pt x="476415" y="209511"/>
                  </a:lnTo>
                  <a:lnTo>
                    <a:pt x="492785" y="219354"/>
                  </a:lnTo>
                  <a:lnTo>
                    <a:pt x="509257" y="229514"/>
                  </a:lnTo>
                  <a:lnTo>
                    <a:pt x="508990" y="229514"/>
                  </a:lnTo>
                  <a:lnTo>
                    <a:pt x="479958" y="255384"/>
                  </a:lnTo>
                  <a:lnTo>
                    <a:pt x="447357" y="276580"/>
                  </a:lnTo>
                  <a:lnTo>
                    <a:pt x="412330" y="293357"/>
                  </a:lnTo>
                  <a:lnTo>
                    <a:pt x="375894" y="306031"/>
                  </a:lnTo>
                  <a:lnTo>
                    <a:pt x="413410" y="354342"/>
                  </a:lnTo>
                  <a:lnTo>
                    <a:pt x="453796" y="338709"/>
                  </a:lnTo>
                  <a:lnTo>
                    <a:pt x="491223" y="318109"/>
                  </a:lnTo>
                  <a:lnTo>
                    <a:pt x="525500" y="292544"/>
                  </a:lnTo>
                  <a:lnTo>
                    <a:pt x="556437" y="262001"/>
                  </a:lnTo>
                  <a:lnTo>
                    <a:pt x="566623" y="269367"/>
                  </a:lnTo>
                  <a:lnTo>
                    <a:pt x="576668" y="276898"/>
                  </a:lnTo>
                  <a:lnTo>
                    <a:pt x="596404" y="292061"/>
                  </a:lnTo>
                  <a:lnTo>
                    <a:pt x="618147" y="262001"/>
                  </a:lnTo>
                  <a:lnTo>
                    <a:pt x="631101" y="244106"/>
                  </a:lnTo>
                  <a:lnTo>
                    <a:pt x="610895" y="229514"/>
                  </a:lnTo>
                  <a:lnTo>
                    <a:pt x="600684" y="222364"/>
                  </a:lnTo>
                  <a:lnTo>
                    <a:pt x="590435" y="215468"/>
                  </a:lnTo>
                  <a:lnTo>
                    <a:pt x="605904" y="185407"/>
                  </a:lnTo>
                  <a:lnTo>
                    <a:pt x="608990" y="179412"/>
                  </a:lnTo>
                  <a:lnTo>
                    <a:pt x="623785" y="141732"/>
                  </a:lnTo>
                  <a:lnTo>
                    <a:pt x="630542" y="118122"/>
                  </a:lnTo>
                  <a:lnTo>
                    <a:pt x="634949" y="102730"/>
                  </a:lnTo>
                  <a:lnTo>
                    <a:pt x="642670" y="62636"/>
                  </a:lnTo>
                  <a:close/>
                </a:path>
                <a:path w="1010920" h="354965">
                  <a:moveTo>
                    <a:pt x="668261" y="37223"/>
                  </a:moveTo>
                  <a:lnTo>
                    <a:pt x="661111" y="27279"/>
                  </a:lnTo>
                  <a:lnTo>
                    <a:pt x="653402" y="17805"/>
                  </a:lnTo>
                  <a:lnTo>
                    <a:pt x="645236" y="8737"/>
                  </a:lnTo>
                  <a:lnTo>
                    <a:pt x="636714" y="0"/>
                  </a:lnTo>
                  <a:lnTo>
                    <a:pt x="617080" y="16471"/>
                  </a:lnTo>
                  <a:lnTo>
                    <a:pt x="625487" y="25361"/>
                  </a:lnTo>
                  <a:lnTo>
                    <a:pt x="633374" y="34404"/>
                  </a:lnTo>
                  <a:lnTo>
                    <a:pt x="640740" y="43802"/>
                  </a:lnTo>
                  <a:lnTo>
                    <a:pt x="647585" y="53695"/>
                  </a:lnTo>
                  <a:lnTo>
                    <a:pt x="668261" y="37223"/>
                  </a:lnTo>
                  <a:close/>
                </a:path>
                <a:path w="1010920" h="354965">
                  <a:moveTo>
                    <a:pt x="1010500" y="154254"/>
                  </a:moveTo>
                  <a:lnTo>
                    <a:pt x="690791" y="154254"/>
                  </a:lnTo>
                  <a:lnTo>
                    <a:pt x="690791" y="211175"/>
                  </a:lnTo>
                  <a:lnTo>
                    <a:pt x="1010500" y="211175"/>
                  </a:lnTo>
                  <a:lnTo>
                    <a:pt x="1010500" y="154254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bject 9"/>
            <p:cNvSpPr/>
            <p:nvPr/>
          </p:nvSpPr>
          <p:spPr>
            <a:xfrm>
              <a:off x="5241240" y="334080"/>
              <a:ext cx="226080" cy="211320"/>
            </a:xfrm>
            <a:custGeom>
              <a:avLst/>
              <a:gdLst/>
              <a:ahLst/>
              <a:rect l="l" t="t" r="r" b="b"/>
              <a:pathLst>
                <a:path w="381000" h="355600">
                  <a:moveTo>
                    <a:pt x="194906" y="87693"/>
                  </a:moveTo>
                  <a:lnTo>
                    <a:pt x="186664" y="77673"/>
                  </a:lnTo>
                  <a:lnTo>
                    <a:pt x="177736" y="67957"/>
                  </a:lnTo>
                  <a:lnTo>
                    <a:pt x="168389" y="58851"/>
                  </a:lnTo>
                  <a:lnTo>
                    <a:pt x="158457" y="50101"/>
                  </a:lnTo>
                  <a:lnTo>
                    <a:pt x="138468" y="69443"/>
                  </a:lnTo>
                  <a:lnTo>
                    <a:pt x="147942" y="78384"/>
                  </a:lnTo>
                  <a:lnTo>
                    <a:pt x="157010" y="87693"/>
                  </a:lnTo>
                  <a:lnTo>
                    <a:pt x="165430" y="97218"/>
                  </a:lnTo>
                  <a:lnTo>
                    <a:pt x="173520" y="107378"/>
                  </a:lnTo>
                  <a:lnTo>
                    <a:pt x="194906" y="87693"/>
                  </a:lnTo>
                  <a:close/>
                </a:path>
                <a:path w="381000" h="355600">
                  <a:moveTo>
                    <a:pt x="218744" y="201510"/>
                  </a:moveTo>
                  <a:lnTo>
                    <a:pt x="185089" y="177368"/>
                  </a:lnTo>
                  <a:lnTo>
                    <a:pt x="150393" y="154901"/>
                  </a:lnTo>
                  <a:lnTo>
                    <a:pt x="114630" y="134175"/>
                  </a:lnTo>
                  <a:lnTo>
                    <a:pt x="77812" y="115252"/>
                  </a:lnTo>
                  <a:lnTo>
                    <a:pt x="59245" y="151409"/>
                  </a:lnTo>
                  <a:lnTo>
                    <a:pt x="59245" y="11811"/>
                  </a:lnTo>
                  <a:lnTo>
                    <a:pt x="0" y="11811"/>
                  </a:lnTo>
                  <a:lnTo>
                    <a:pt x="0" y="343242"/>
                  </a:lnTo>
                  <a:lnTo>
                    <a:pt x="59245" y="343242"/>
                  </a:lnTo>
                  <a:lnTo>
                    <a:pt x="59245" y="170726"/>
                  </a:lnTo>
                  <a:lnTo>
                    <a:pt x="92176" y="188683"/>
                  </a:lnTo>
                  <a:lnTo>
                    <a:pt x="124142" y="208546"/>
                  </a:lnTo>
                  <a:lnTo>
                    <a:pt x="155130" y="230085"/>
                  </a:lnTo>
                  <a:lnTo>
                    <a:pt x="185089" y="253060"/>
                  </a:lnTo>
                  <a:lnTo>
                    <a:pt x="218744" y="201510"/>
                  </a:lnTo>
                  <a:close/>
                </a:path>
                <a:path w="381000" h="355600">
                  <a:moveTo>
                    <a:pt x="228206" y="57975"/>
                  </a:moveTo>
                  <a:lnTo>
                    <a:pt x="219862" y="47777"/>
                  </a:lnTo>
                  <a:lnTo>
                    <a:pt x="211086" y="38074"/>
                  </a:lnTo>
                  <a:lnTo>
                    <a:pt x="201841" y="28841"/>
                  </a:lnTo>
                  <a:lnTo>
                    <a:pt x="192100" y="20040"/>
                  </a:lnTo>
                  <a:lnTo>
                    <a:pt x="171767" y="39738"/>
                  </a:lnTo>
                  <a:lnTo>
                    <a:pt x="181394" y="48539"/>
                  </a:lnTo>
                  <a:lnTo>
                    <a:pt x="190398" y="57759"/>
                  </a:lnTo>
                  <a:lnTo>
                    <a:pt x="198932" y="67462"/>
                  </a:lnTo>
                  <a:lnTo>
                    <a:pt x="207073" y="77546"/>
                  </a:lnTo>
                  <a:lnTo>
                    <a:pt x="207175" y="77673"/>
                  </a:lnTo>
                  <a:lnTo>
                    <a:pt x="228206" y="57975"/>
                  </a:lnTo>
                  <a:close/>
                </a:path>
                <a:path w="381000" h="355600">
                  <a:moveTo>
                    <a:pt x="380796" y="177520"/>
                  </a:moveTo>
                  <a:lnTo>
                    <a:pt x="374865" y="126796"/>
                  </a:lnTo>
                  <a:lnTo>
                    <a:pt x="358140" y="80048"/>
                  </a:lnTo>
                  <a:lnTo>
                    <a:pt x="332143" y="37655"/>
                  </a:lnTo>
                  <a:lnTo>
                    <a:pt x="298411" y="0"/>
                  </a:lnTo>
                  <a:lnTo>
                    <a:pt x="268973" y="32931"/>
                  </a:lnTo>
                  <a:lnTo>
                    <a:pt x="295478" y="64033"/>
                  </a:lnTo>
                  <a:lnTo>
                    <a:pt x="316204" y="98653"/>
                  </a:lnTo>
                  <a:lnTo>
                    <a:pt x="329704" y="136563"/>
                  </a:lnTo>
                  <a:lnTo>
                    <a:pt x="334530" y="177520"/>
                  </a:lnTo>
                  <a:lnTo>
                    <a:pt x="329653" y="218300"/>
                  </a:lnTo>
                  <a:lnTo>
                    <a:pt x="316077" y="256413"/>
                  </a:lnTo>
                  <a:lnTo>
                    <a:pt x="295325" y="291236"/>
                  </a:lnTo>
                  <a:lnTo>
                    <a:pt x="268973" y="322135"/>
                  </a:lnTo>
                  <a:lnTo>
                    <a:pt x="298411" y="355066"/>
                  </a:lnTo>
                  <a:lnTo>
                    <a:pt x="332143" y="317411"/>
                  </a:lnTo>
                  <a:lnTo>
                    <a:pt x="358140" y="275018"/>
                  </a:lnTo>
                  <a:lnTo>
                    <a:pt x="374865" y="228269"/>
                  </a:lnTo>
                  <a:lnTo>
                    <a:pt x="380796" y="17752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bject 10"/>
            <p:cNvSpPr/>
            <p:nvPr/>
          </p:nvSpPr>
          <p:spPr>
            <a:xfrm>
              <a:off x="1878120" y="610200"/>
              <a:ext cx="695880" cy="206640"/>
            </a:xfrm>
            <a:custGeom>
              <a:avLst/>
              <a:gdLst/>
              <a:ahLst/>
              <a:rect l="l" t="t" r="r" b="b"/>
              <a:pathLst>
                <a:path w="1170939" h="347980">
                  <a:moveTo>
                    <a:pt x="342493" y="293509"/>
                  </a:moveTo>
                  <a:lnTo>
                    <a:pt x="306552" y="277037"/>
                  </a:lnTo>
                  <a:lnTo>
                    <a:pt x="273431" y="254482"/>
                  </a:lnTo>
                  <a:lnTo>
                    <a:pt x="287743" y="243535"/>
                  </a:lnTo>
                  <a:lnTo>
                    <a:pt x="301739" y="232117"/>
                  </a:lnTo>
                  <a:lnTo>
                    <a:pt x="315328" y="220167"/>
                  </a:lnTo>
                  <a:lnTo>
                    <a:pt x="315747" y="219773"/>
                  </a:lnTo>
                  <a:lnTo>
                    <a:pt x="328472" y="207606"/>
                  </a:lnTo>
                  <a:lnTo>
                    <a:pt x="291312" y="179336"/>
                  </a:lnTo>
                  <a:lnTo>
                    <a:pt x="340042" y="179336"/>
                  </a:lnTo>
                  <a:lnTo>
                    <a:pt x="340042" y="136740"/>
                  </a:lnTo>
                  <a:lnTo>
                    <a:pt x="283248" y="136740"/>
                  </a:lnTo>
                  <a:lnTo>
                    <a:pt x="283248" y="179336"/>
                  </a:lnTo>
                  <a:lnTo>
                    <a:pt x="272110" y="190881"/>
                  </a:lnTo>
                  <a:lnTo>
                    <a:pt x="262293" y="200355"/>
                  </a:lnTo>
                  <a:lnTo>
                    <a:pt x="252082" y="209423"/>
                  </a:lnTo>
                  <a:lnTo>
                    <a:pt x="239776" y="219773"/>
                  </a:lnTo>
                  <a:lnTo>
                    <a:pt x="233006" y="210286"/>
                  </a:lnTo>
                  <a:lnTo>
                    <a:pt x="226885" y="200494"/>
                  </a:lnTo>
                  <a:lnTo>
                    <a:pt x="221437" y="190233"/>
                  </a:lnTo>
                  <a:lnTo>
                    <a:pt x="218998" y="184696"/>
                  </a:lnTo>
                  <a:lnTo>
                    <a:pt x="216636" y="179336"/>
                  </a:lnTo>
                  <a:lnTo>
                    <a:pt x="283248" y="179336"/>
                  </a:lnTo>
                  <a:lnTo>
                    <a:pt x="283248" y="136740"/>
                  </a:lnTo>
                  <a:lnTo>
                    <a:pt x="199466" y="136740"/>
                  </a:lnTo>
                  <a:lnTo>
                    <a:pt x="199466" y="120269"/>
                  </a:lnTo>
                  <a:lnTo>
                    <a:pt x="313397" y="120269"/>
                  </a:lnTo>
                  <a:lnTo>
                    <a:pt x="313397" y="81610"/>
                  </a:lnTo>
                  <a:lnTo>
                    <a:pt x="199466" y="81610"/>
                  </a:lnTo>
                  <a:lnTo>
                    <a:pt x="199466" y="66941"/>
                  </a:lnTo>
                  <a:lnTo>
                    <a:pt x="330923" y="66941"/>
                  </a:lnTo>
                  <a:lnTo>
                    <a:pt x="330923" y="23990"/>
                  </a:lnTo>
                  <a:lnTo>
                    <a:pt x="199466" y="23990"/>
                  </a:lnTo>
                  <a:lnTo>
                    <a:pt x="199466" y="0"/>
                  </a:lnTo>
                  <a:lnTo>
                    <a:pt x="146177" y="0"/>
                  </a:lnTo>
                  <a:lnTo>
                    <a:pt x="146177" y="23990"/>
                  </a:lnTo>
                  <a:lnTo>
                    <a:pt x="14020" y="23990"/>
                  </a:lnTo>
                  <a:lnTo>
                    <a:pt x="14020" y="66941"/>
                  </a:lnTo>
                  <a:lnTo>
                    <a:pt x="146177" y="66941"/>
                  </a:lnTo>
                  <a:lnTo>
                    <a:pt x="146177" y="81610"/>
                  </a:lnTo>
                  <a:lnTo>
                    <a:pt x="31191" y="81610"/>
                  </a:lnTo>
                  <a:lnTo>
                    <a:pt x="31191" y="120269"/>
                  </a:lnTo>
                  <a:lnTo>
                    <a:pt x="146177" y="120269"/>
                  </a:lnTo>
                  <a:lnTo>
                    <a:pt x="146177" y="136740"/>
                  </a:lnTo>
                  <a:lnTo>
                    <a:pt x="5600" y="136740"/>
                  </a:lnTo>
                  <a:lnTo>
                    <a:pt x="5600" y="179336"/>
                  </a:lnTo>
                  <a:lnTo>
                    <a:pt x="105156" y="179336"/>
                  </a:lnTo>
                  <a:lnTo>
                    <a:pt x="81965" y="194475"/>
                  </a:lnTo>
                  <a:lnTo>
                    <a:pt x="54813" y="207098"/>
                  </a:lnTo>
                  <a:lnTo>
                    <a:pt x="26530" y="217119"/>
                  </a:lnTo>
                  <a:lnTo>
                    <a:pt x="0" y="224421"/>
                  </a:lnTo>
                  <a:lnTo>
                    <a:pt x="17526" y="276682"/>
                  </a:lnTo>
                  <a:lnTo>
                    <a:pt x="34544" y="270560"/>
                  </a:lnTo>
                  <a:lnTo>
                    <a:pt x="51396" y="263969"/>
                  </a:lnTo>
                  <a:lnTo>
                    <a:pt x="68059" y="256844"/>
                  </a:lnTo>
                  <a:lnTo>
                    <a:pt x="84480" y="249123"/>
                  </a:lnTo>
                  <a:lnTo>
                    <a:pt x="84480" y="283845"/>
                  </a:lnTo>
                  <a:lnTo>
                    <a:pt x="71069" y="285381"/>
                  </a:lnTo>
                  <a:lnTo>
                    <a:pt x="57619" y="286740"/>
                  </a:lnTo>
                  <a:lnTo>
                    <a:pt x="44107" y="287909"/>
                  </a:lnTo>
                  <a:lnTo>
                    <a:pt x="30492" y="288848"/>
                  </a:lnTo>
                  <a:lnTo>
                    <a:pt x="39255" y="339318"/>
                  </a:lnTo>
                  <a:lnTo>
                    <a:pt x="81838" y="333502"/>
                  </a:lnTo>
                  <a:lnTo>
                    <a:pt x="124358" y="327190"/>
                  </a:lnTo>
                  <a:lnTo>
                    <a:pt x="166738" y="320141"/>
                  </a:lnTo>
                  <a:lnTo>
                    <a:pt x="208927" y="312115"/>
                  </a:lnTo>
                  <a:lnTo>
                    <a:pt x="207975" y="279095"/>
                  </a:lnTo>
                  <a:lnTo>
                    <a:pt x="207911" y="277037"/>
                  </a:lnTo>
                  <a:lnTo>
                    <a:pt x="207835" y="274459"/>
                  </a:lnTo>
                  <a:lnTo>
                    <a:pt x="207721" y="270560"/>
                  </a:lnTo>
                  <a:lnTo>
                    <a:pt x="207606" y="266725"/>
                  </a:lnTo>
                  <a:lnTo>
                    <a:pt x="207518" y="263436"/>
                  </a:lnTo>
                  <a:lnTo>
                    <a:pt x="189788" y="267817"/>
                  </a:lnTo>
                  <a:lnTo>
                    <a:pt x="171856" y="271437"/>
                  </a:lnTo>
                  <a:lnTo>
                    <a:pt x="153797" y="274459"/>
                  </a:lnTo>
                  <a:lnTo>
                    <a:pt x="135661" y="277037"/>
                  </a:lnTo>
                  <a:lnTo>
                    <a:pt x="135661" y="249123"/>
                  </a:lnTo>
                  <a:lnTo>
                    <a:pt x="135661" y="217627"/>
                  </a:lnTo>
                  <a:lnTo>
                    <a:pt x="144487" y="210058"/>
                  </a:lnTo>
                  <a:lnTo>
                    <a:pt x="152704" y="202234"/>
                  </a:lnTo>
                  <a:lnTo>
                    <a:pt x="160451" y="193865"/>
                  </a:lnTo>
                  <a:lnTo>
                    <a:pt x="167906" y="184696"/>
                  </a:lnTo>
                  <a:lnTo>
                    <a:pt x="191897" y="237223"/>
                  </a:lnTo>
                  <a:lnTo>
                    <a:pt x="223088" y="279095"/>
                  </a:lnTo>
                  <a:lnTo>
                    <a:pt x="262610" y="313042"/>
                  </a:lnTo>
                  <a:lnTo>
                    <a:pt x="311645" y="341820"/>
                  </a:lnTo>
                  <a:lnTo>
                    <a:pt x="342493" y="293509"/>
                  </a:lnTo>
                  <a:close/>
                </a:path>
                <a:path w="1170939" h="347980">
                  <a:moveTo>
                    <a:pt x="689279" y="10375"/>
                  </a:moveTo>
                  <a:lnTo>
                    <a:pt x="357657" y="10375"/>
                  </a:lnTo>
                  <a:lnTo>
                    <a:pt x="357657" y="59410"/>
                  </a:lnTo>
                  <a:lnTo>
                    <a:pt x="488061" y="59410"/>
                  </a:lnTo>
                  <a:lnTo>
                    <a:pt x="487006" y="66929"/>
                  </a:lnTo>
                  <a:lnTo>
                    <a:pt x="484911" y="75869"/>
                  </a:lnTo>
                  <a:lnTo>
                    <a:pt x="482104" y="83045"/>
                  </a:lnTo>
                  <a:lnTo>
                    <a:pt x="449160" y="83045"/>
                  </a:lnTo>
                  <a:lnTo>
                    <a:pt x="449160" y="128485"/>
                  </a:lnTo>
                  <a:lnTo>
                    <a:pt x="449160" y="279527"/>
                  </a:lnTo>
                  <a:lnTo>
                    <a:pt x="422160" y="279527"/>
                  </a:lnTo>
                  <a:lnTo>
                    <a:pt x="422160" y="128485"/>
                  </a:lnTo>
                  <a:lnTo>
                    <a:pt x="449160" y="128485"/>
                  </a:lnTo>
                  <a:lnTo>
                    <a:pt x="449160" y="83045"/>
                  </a:lnTo>
                  <a:lnTo>
                    <a:pt x="372021" y="83045"/>
                  </a:lnTo>
                  <a:lnTo>
                    <a:pt x="372021" y="339305"/>
                  </a:lnTo>
                  <a:lnTo>
                    <a:pt x="422160" y="339305"/>
                  </a:lnTo>
                  <a:lnTo>
                    <a:pt x="422160" y="326428"/>
                  </a:lnTo>
                  <a:lnTo>
                    <a:pt x="624776" y="326428"/>
                  </a:lnTo>
                  <a:lnTo>
                    <a:pt x="624776" y="339305"/>
                  </a:lnTo>
                  <a:lnTo>
                    <a:pt x="673862" y="339305"/>
                  </a:lnTo>
                  <a:lnTo>
                    <a:pt x="673862" y="326428"/>
                  </a:lnTo>
                  <a:lnTo>
                    <a:pt x="673862" y="279527"/>
                  </a:lnTo>
                  <a:lnTo>
                    <a:pt x="673862" y="128485"/>
                  </a:lnTo>
                  <a:lnTo>
                    <a:pt x="673862" y="83045"/>
                  </a:lnTo>
                  <a:lnTo>
                    <a:pt x="624789" y="83045"/>
                  </a:lnTo>
                  <a:lnTo>
                    <a:pt x="624789" y="128485"/>
                  </a:lnTo>
                  <a:lnTo>
                    <a:pt x="624789" y="279527"/>
                  </a:lnTo>
                  <a:lnTo>
                    <a:pt x="597446" y="279527"/>
                  </a:lnTo>
                  <a:lnTo>
                    <a:pt x="597446" y="128485"/>
                  </a:lnTo>
                  <a:lnTo>
                    <a:pt x="624789" y="128485"/>
                  </a:lnTo>
                  <a:lnTo>
                    <a:pt x="624789" y="83045"/>
                  </a:lnTo>
                  <a:lnTo>
                    <a:pt x="549757" y="83045"/>
                  </a:lnTo>
                  <a:lnTo>
                    <a:pt x="549757" y="128485"/>
                  </a:lnTo>
                  <a:lnTo>
                    <a:pt x="549757" y="151396"/>
                  </a:lnTo>
                  <a:lnTo>
                    <a:pt x="549757" y="190055"/>
                  </a:lnTo>
                  <a:lnTo>
                    <a:pt x="549757" y="214388"/>
                  </a:lnTo>
                  <a:lnTo>
                    <a:pt x="549757" y="253047"/>
                  </a:lnTo>
                  <a:lnTo>
                    <a:pt x="549757" y="279527"/>
                  </a:lnTo>
                  <a:lnTo>
                    <a:pt x="495071" y="279527"/>
                  </a:lnTo>
                  <a:lnTo>
                    <a:pt x="495071" y="253047"/>
                  </a:lnTo>
                  <a:lnTo>
                    <a:pt x="549757" y="253047"/>
                  </a:lnTo>
                  <a:lnTo>
                    <a:pt x="549757" y="214388"/>
                  </a:lnTo>
                  <a:lnTo>
                    <a:pt x="495071" y="214388"/>
                  </a:lnTo>
                  <a:lnTo>
                    <a:pt x="495071" y="190055"/>
                  </a:lnTo>
                  <a:lnTo>
                    <a:pt x="549757" y="190055"/>
                  </a:lnTo>
                  <a:lnTo>
                    <a:pt x="549757" y="151396"/>
                  </a:lnTo>
                  <a:lnTo>
                    <a:pt x="495071" y="151396"/>
                  </a:lnTo>
                  <a:lnTo>
                    <a:pt x="495071" y="128485"/>
                  </a:lnTo>
                  <a:lnTo>
                    <a:pt x="549757" y="128485"/>
                  </a:lnTo>
                  <a:lnTo>
                    <a:pt x="549757" y="83045"/>
                  </a:lnTo>
                  <a:lnTo>
                    <a:pt x="538543" y="83045"/>
                  </a:lnTo>
                  <a:lnTo>
                    <a:pt x="540994" y="75171"/>
                  </a:lnTo>
                  <a:lnTo>
                    <a:pt x="543102" y="67284"/>
                  </a:lnTo>
                  <a:lnTo>
                    <a:pt x="544855" y="59410"/>
                  </a:lnTo>
                  <a:lnTo>
                    <a:pt x="689279" y="59410"/>
                  </a:lnTo>
                  <a:lnTo>
                    <a:pt x="689279" y="10375"/>
                  </a:lnTo>
                  <a:close/>
                </a:path>
                <a:path w="1170939" h="347980">
                  <a:moveTo>
                    <a:pt x="884631" y="295656"/>
                  </a:moveTo>
                  <a:lnTo>
                    <a:pt x="709345" y="295656"/>
                  </a:lnTo>
                  <a:lnTo>
                    <a:pt x="709345" y="343255"/>
                  </a:lnTo>
                  <a:lnTo>
                    <a:pt x="884631" y="343255"/>
                  </a:lnTo>
                  <a:lnTo>
                    <a:pt x="884631" y="295656"/>
                  </a:lnTo>
                  <a:close/>
                </a:path>
                <a:path w="1170939" h="347980">
                  <a:moveTo>
                    <a:pt x="1170724" y="44564"/>
                  </a:moveTo>
                  <a:lnTo>
                    <a:pt x="872401" y="44564"/>
                  </a:lnTo>
                  <a:lnTo>
                    <a:pt x="872401" y="101460"/>
                  </a:lnTo>
                  <a:lnTo>
                    <a:pt x="1103058" y="101460"/>
                  </a:lnTo>
                  <a:lnTo>
                    <a:pt x="1090739" y="147789"/>
                  </a:lnTo>
                  <a:lnTo>
                    <a:pt x="1071587" y="188468"/>
                  </a:lnTo>
                  <a:lnTo>
                    <a:pt x="1045997" y="223697"/>
                  </a:lnTo>
                  <a:lnTo>
                    <a:pt x="1014399" y="253682"/>
                  </a:lnTo>
                  <a:lnTo>
                    <a:pt x="977201" y="278612"/>
                  </a:lnTo>
                  <a:lnTo>
                    <a:pt x="934796" y="298691"/>
                  </a:lnTo>
                  <a:lnTo>
                    <a:pt x="973366" y="347726"/>
                  </a:lnTo>
                  <a:lnTo>
                    <a:pt x="1016165" y="325462"/>
                  </a:lnTo>
                  <a:lnTo>
                    <a:pt x="1055471" y="297434"/>
                  </a:lnTo>
                  <a:lnTo>
                    <a:pt x="1090180" y="263766"/>
                  </a:lnTo>
                  <a:lnTo>
                    <a:pt x="1119187" y="224599"/>
                  </a:lnTo>
                  <a:lnTo>
                    <a:pt x="1140345" y="182778"/>
                  </a:lnTo>
                  <a:lnTo>
                    <a:pt x="1155471" y="137807"/>
                  </a:lnTo>
                  <a:lnTo>
                    <a:pt x="1165326" y="91224"/>
                  </a:lnTo>
                  <a:lnTo>
                    <a:pt x="1170724" y="44564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bject 11"/>
            <p:cNvSpPr/>
            <p:nvPr/>
          </p:nvSpPr>
          <p:spPr>
            <a:xfrm>
              <a:off x="2639520" y="622800"/>
              <a:ext cx="141480" cy="196560"/>
            </a:xfrm>
            <a:custGeom>
              <a:avLst/>
              <a:gdLst/>
              <a:ahLst/>
              <a:rect l="l" t="t" r="r" b="b"/>
              <a:pathLst>
                <a:path w="238125" h="330834">
                  <a:moveTo>
                    <a:pt x="238036" y="0"/>
                  </a:moveTo>
                  <a:lnTo>
                    <a:pt x="178434" y="0"/>
                  </a:lnTo>
                  <a:lnTo>
                    <a:pt x="178434" y="127787"/>
                  </a:lnTo>
                  <a:lnTo>
                    <a:pt x="177728" y="152948"/>
                  </a:lnTo>
                  <a:lnTo>
                    <a:pt x="167639" y="202475"/>
                  </a:lnTo>
                  <a:lnTo>
                    <a:pt x="136530" y="243626"/>
                  </a:lnTo>
                  <a:lnTo>
                    <a:pt x="89783" y="269816"/>
                  </a:lnTo>
                  <a:lnTo>
                    <a:pt x="64503" y="277749"/>
                  </a:lnTo>
                  <a:lnTo>
                    <a:pt x="97104" y="330365"/>
                  </a:lnTo>
                  <a:lnTo>
                    <a:pt x="159116" y="302844"/>
                  </a:lnTo>
                  <a:lnTo>
                    <a:pt x="208241" y="256273"/>
                  </a:lnTo>
                  <a:lnTo>
                    <a:pt x="232730" y="193367"/>
                  </a:lnTo>
                  <a:lnTo>
                    <a:pt x="237969" y="127787"/>
                  </a:lnTo>
                  <a:lnTo>
                    <a:pt x="238036" y="0"/>
                  </a:lnTo>
                  <a:close/>
                </a:path>
                <a:path w="238125" h="330834">
                  <a:moveTo>
                    <a:pt x="59245" y="5740"/>
                  </a:moveTo>
                  <a:lnTo>
                    <a:pt x="0" y="5740"/>
                  </a:lnTo>
                  <a:lnTo>
                    <a:pt x="0" y="209753"/>
                  </a:lnTo>
                  <a:lnTo>
                    <a:pt x="59245" y="209753"/>
                  </a:lnTo>
                  <a:lnTo>
                    <a:pt x="59245" y="574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bject 12"/>
            <p:cNvSpPr/>
            <p:nvPr/>
          </p:nvSpPr>
          <p:spPr>
            <a:xfrm>
              <a:off x="2832120" y="702360"/>
              <a:ext cx="190080" cy="33840"/>
            </a:xfrm>
            <a:custGeom>
              <a:avLst/>
              <a:gdLst/>
              <a:ahLst/>
              <a:rect l="l" t="t" r="r" b="b"/>
              <a:pathLst>
                <a:path w="320039" h="57150">
                  <a:moveTo>
                    <a:pt x="319709" y="0"/>
                  </a:moveTo>
                  <a:lnTo>
                    <a:pt x="0" y="0"/>
                  </a:lnTo>
                  <a:lnTo>
                    <a:pt x="0" y="56921"/>
                  </a:lnTo>
                  <a:lnTo>
                    <a:pt x="319709" y="56921"/>
                  </a:lnTo>
                  <a:lnTo>
                    <a:pt x="319709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" name="object 13" descr=""/>
            <p:cNvPicPr/>
            <p:nvPr/>
          </p:nvPicPr>
          <p:blipFill>
            <a:blip r:embed="rId3"/>
            <a:stretch/>
          </p:blipFill>
          <p:spPr>
            <a:xfrm>
              <a:off x="1894320" y="890640"/>
              <a:ext cx="95040" cy="9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object 14"/>
            <p:cNvGrpSpPr/>
            <p:nvPr/>
          </p:nvGrpSpPr>
          <p:grpSpPr>
            <a:xfrm>
              <a:off x="2023560" y="893520"/>
              <a:ext cx="308160" cy="79200"/>
              <a:chOff x="2023560" y="893520"/>
              <a:chExt cx="308160" cy="79200"/>
            </a:xfrm>
          </p:grpSpPr>
          <p:pic>
            <p:nvPicPr>
              <p:cNvPr id="44" name="object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023560" y="893520"/>
                <a:ext cx="144720" cy="7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object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0160" y="893520"/>
                <a:ext cx="46440" cy="7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object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2246040" y="906480"/>
                <a:ext cx="52920" cy="5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object 18"/>
              <p:cNvSpPr/>
              <p:nvPr/>
            </p:nvSpPr>
            <p:spPr>
              <a:xfrm>
                <a:off x="2322360" y="934200"/>
                <a:ext cx="9360" cy="37080"/>
              </a:xfrm>
              <a:custGeom>
                <a:avLst/>
                <a:gdLst/>
                <a:ahLst/>
                <a:rect l="l" t="t" r="r" b="b"/>
                <a:pathLst>
                  <a:path w="15875" h="62230">
                    <a:moveTo>
                      <a:pt x="0" y="-3306"/>
                    </a:moveTo>
                    <a:lnTo>
                      <a:pt x="15455" y="-3306"/>
                    </a:lnTo>
                    <a:lnTo>
                      <a:pt x="15455" y="0"/>
                    </a:lnTo>
                    <a:lnTo>
                      <a:pt x="0" y="0"/>
                    </a:lnTo>
                    <a:lnTo>
                      <a:pt x="0" y="-3306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object 19"/>
            <p:cNvGrpSpPr/>
            <p:nvPr/>
          </p:nvGrpSpPr>
          <p:grpSpPr>
            <a:xfrm>
              <a:off x="2322360" y="893520"/>
              <a:ext cx="358920" cy="79200"/>
              <a:chOff x="2322360" y="893520"/>
              <a:chExt cx="358920" cy="79200"/>
            </a:xfrm>
          </p:grpSpPr>
          <p:sp>
            <p:nvSpPr>
              <p:cNvPr id="49" name="object 20"/>
              <p:cNvSpPr/>
              <p:nvPr/>
            </p:nvSpPr>
            <p:spPr>
              <a:xfrm>
                <a:off x="2322360" y="893520"/>
                <a:ext cx="56880" cy="77760"/>
              </a:xfrm>
              <a:custGeom>
                <a:avLst/>
                <a:gdLst/>
                <a:ahLst/>
                <a:rect l="l" t="t" r="r" b="b"/>
                <a:pathLst>
                  <a:path w="95885" h="130809">
                    <a:moveTo>
                      <a:pt x="95326" y="0"/>
                    </a:moveTo>
                    <a:lnTo>
                      <a:pt x="79870" y="0"/>
                    </a:lnTo>
                    <a:lnTo>
                      <a:pt x="79870" y="55880"/>
                    </a:lnTo>
                    <a:lnTo>
                      <a:pt x="15455" y="55880"/>
                    </a:lnTo>
                    <a:lnTo>
                      <a:pt x="15455" y="0"/>
                    </a:lnTo>
                    <a:lnTo>
                      <a:pt x="0" y="0"/>
                    </a:lnTo>
                    <a:lnTo>
                      <a:pt x="0" y="55880"/>
                    </a:lnTo>
                    <a:lnTo>
                      <a:pt x="0" y="68580"/>
                    </a:lnTo>
                    <a:lnTo>
                      <a:pt x="79870" y="68580"/>
                    </a:lnTo>
                    <a:lnTo>
                      <a:pt x="79870" y="130810"/>
                    </a:lnTo>
                    <a:lnTo>
                      <a:pt x="95326" y="130810"/>
                    </a:lnTo>
                    <a:lnTo>
                      <a:pt x="95326" y="68580"/>
                    </a:lnTo>
                    <a:lnTo>
                      <a:pt x="95326" y="55880"/>
                    </a:lnTo>
                    <a:lnTo>
                      <a:pt x="95326" y="0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object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2397240" y="893520"/>
                <a:ext cx="106560" cy="7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object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2518920" y="916200"/>
                <a:ext cx="71640" cy="5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object 23" descr=""/>
              <p:cNvPicPr/>
              <p:nvPr/>
            </p:nvPicPr>
            <p:blipFill>
              <a:blip r:embed="rId9"/>
              <a:stretch/>
            </p:blipFill>
            <p:spPr>
              <a:xfrm>
                <a:off x="2609640" y="916200"/>
                <a:ext cx="71640" cy="55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" name="object 24"/>
            <p:cNvSpPr/>
            <p:nvPr/>
          </p:nvSpPr>
          <p:spPr>
            <a:xfrm>
              <a:off x="743760" y="364320"/>
              <a:ext cx="368280" cy="367920"/>
            </a:xfrm>
            <a:custGeom>
              <a:avLst/>
              <a:gdLst/>
              <a:ahLst/>
              <a:rect l="l" t="t" r="r" b="b"/>
              <a:pathLst>
                <a:path w="619760" h="619125">
                  <a:moveTo>
                    <a:pt x="619607" y="0"/>
                  </a:moveTo>
                  <a:lnTo>
                    <a:pt x="498678" y="0"/>
                  </a:lnTo>
                  <a:lnTo>
                    <a:pt x="498678" y="308991"/>
                  </a:lnTo>
                  <a:lnTo>
                    <a:pt x="491919" y="359152"/>
                  </a:lnTo>
                  <a:lnTo>
                    <a:pt x="472853" y="404260"/>
                  </a:lnTo>
                  <a:lnTo>
                    <a:pt x="443295" y="442502"/>
                  </a:lnTo>
                  <a:lnTo>
                    <a:pt x="405059" y="472064"/>
                  </a:lnTo>
                  <a:lnTo>
                    <a:pt x="359961" y="491131"/>
                  </a:lnTo>
                  <a:lnTo>
                    <a:pt x="309816" y="497890"/>
                  </a:lnTo>
                  <a:lnTo>
                    <a:pt x="259652" y="491131"/>
                  </a:lnTo>
                  <a:lnTo>
                    <a:pt x="214547" y="472064"/>
                  </a:lnTo>
                  <a:lnTo>
                    <a:pt x="176312" y="442502"/>
                  </a:lnTo>
                  <a:lnTo>
                    <a:pt x="146758" y="404260"/>
                  </a:lnTo>
                  <a:lnTo>
                    <a:pt x="127698" y="359152"/>
                  </a:lnTo>
                  <a:lnTo>
                    <a:pt x="120942" y="308991"/>
                  </a:lnTo>
                  <a:lnTo>
                    <a:pt x="120942" y="0"/>
                  </a:lnTo>
                  <a:lnTo>
                    <a:pt x="0" y="0"/>
                  </a:lnTo>
                  <a:lnTo>
                    <a:pt x="0" y="308991"/>
                  </a:lnTo>
                  <a:lnTo>
                    <a:pt x="3364" y="354719"/>
                  </a:lnTo>
                  <a:lnTo>
                    <a:pt x="13137" y="398382"/>
                  </a:lnTo>
                  <a:lnTo>
                    <a:pt x="28836" y="439497"/>
                  </a:lnTo>
                  <a:lnTo>
                    <a:pt x="49977" y="477582"/>
                  </a:lnTo>
                  <a:lnTo>
                    <a:pt x="76078" y="512155"/>
                  </a:lnTo>
                  <a:lnTo>
                    <a:pt x="106657" y="542733"/>
                  </a:lnTo>
                  <a:lnTo>
                    <a:pt x="141230" y="568833"/>
                  </a:lnTo>
                  <a:lnTo>
                    <a:pt x="179315" y="589973"/>
                  </a:lnTo>
                  <a:lnTo>
                    <a:pt x="220430" y="605670"/>
                  </a:lnTo>
                  <a:lnTo>
                    <a:pt x="264091" y="615442"/>
                  </a:lnTo>
                  <a:lnTo>
                    <a:pt x="309816" y="618807"/>
                  </a:lnTo>
                  <a:lnTo>
                    <a:pt x="355532" y="615442"/>
                  </a:lnTo>
                  <a:lnTo>
                    <a:pt x="399186" y="605670"/>
                  </a:lnTo>
                  <a:lnTo>
                    <a:pt x="440296" y="589973"/>
                  </a:lnTo>
                  <a:lnTo>
                    <a:pt x="478378" y="568833"/>
                  </a:lnTo>
                  <a:lnTo>
                    <a:pt x="512949" y="542733"/>
                  </a:lnTo>
                  <a:lnTo>
                    <a:pt x="543527" y="512155"/>
                  </a:lnTo>
                  <a:lnTo>
                    <a:pt x="569628" y="477582"/>
                  </a:lnTo>
                  <a:lnTo>
                    <a:pt x="590769" y="439497"/>
                  </a:lnTo>
                  <a:lnTo>
                    <a:pt x="606468" y="398382"/>
                  </a:lnTo>
                  <a:lnTo>
                    <a:pt x="616242" y="354719"/>
                  </a:lnTo>
                  <a:lnTo>
                    <a:pt x="619607" y="308991"/>
                  </a:lnTo>
                  <a:lnTo>
                    <a:pt x="619607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bject 25"/>
            <p:cNvSpPr/>
            <p:nvPr/>
          </p:nvSpPr>
          <p:spPr>
            <a:xfrm>
              <a:off x="1169280" y="363960"/>
              <a:ext cx="368280" cy="368280"/>
            </a:xfrm>
            <a:custGeom>
              <a:avLst/>
              <a:gdLst/>
              <a:ahLst/>
              <a:rect l="l" t="t" r="r" b="b"/>
              <a:pathLst>
                <a:path w="619760" h="619760">
                  <a:moveTo>
                    <a:pt x="309791" y="0"/>
                  </a:moveTo>
                  <a:lnTo>
                    <a:pt x="264069" y="3364"/>
                  </a:lnTo>
                  <a:lnTo>
                    <a:pt x="220411" y="13137"/>
                  </a:lnTo>
                  <a:lnTo>
                    <a:pt x="179300" y="28835"/>
                  </a:lnTo>
                  <a:lnTo>
                    <a:pt x="141218" y="49976"/>
                  </a:lnTo>
                  <a:lnTo>
                    <a:pt x="106647" y="76076"/>
                  </a:lnTo>
                  <a:lnTo>
                    <a:pt x="76071" y="106652"/>
                  </a:lnTo>
                  <a:lnTo>
                    <a:pt x="49973" y="141223"/>
                  </a:lnTo>
                  <a:lnTo>
                    <a:pt x="28833" y="179305"/>
                  </a:lnTo>
                  <a:lnTo>
                    <a:pt x="13136" y="220416"/>
                  </a:lnTo>
                  <a:lnTo>
                    <a:pt x="3364" y="264072"/>
                  </a:lnTo>
                  <a:lnTo>
                    <a:pt x="0" y="309791"/>
                  </a:lnTo>
                  <a:lnTo>
                    <a:pt x="3364" y="355509"/>
                  </a:lnTo>
                  <a:lnTo>
                    <a:pt x="13136" y="399166"/>
                  </a:lnTo>
                  <a:lnTo>
                    <a:pt x="28833" y="440276"/>
                  </a:lnTo>
                  <a:lnTo>
                    <a:pt x="49973" y="478358"/>
                  </a:lnTo>
                  <a:lnTo>
                    <a:pt x="76071" y="512929"/>
                  </a:lnTo>
                  <a:lnTo>
                    <a:pt x="106647" y="543506"/>
                  </a:lnTo>
                  <a:lnTo>
                    <a:pt x="141218" y="569605"/>
                  </a:lnTo>
                  <a:lnTo>
                    <a:pt x="179300" y="590746"/>
                  </a:lnTo>
                  <a:lnTo>
                    <a:pt x="220411" y="606444"/>
                  </a:lnTo>
                  <a:lnTo>
                    <a:pt x="264069" y="616217"/>
                  </a:lnTo>
                  <a:lnTo>
                    <a:pt x="309791" y="619582"/>
                  </a:lnTo>
                  <a:lnTo>
                    <a:pt x="489381" y="619582"/>
                  </a:lnTo>
                  <a:lnTo>
                    <a:pt x="489381" y="498652"/>
                  </a:lnTo>
                  <a:lnTo>
                    <a:pt x="309791" y="498652"/>
                  </a:lnTo>
                  <a:lnTo>
                    <a:pt x="259982" y="491984"/>
                  </a:lnTo>
                  <a:lnTo>
                    <a:pt x="215153" y="473166"/>
                  </a:lnTo>
                  <a:lnTo>
                    <a:pt x="177069" y="443978"/>
                  </a:lnTo>
                  <a:lnTo>
                    <a:pt x="147498" y="406198"/>
                  </a:lnTo>
                  <a:lnTo>
                    <a:pt x="128206" y="361607"/>
                  </a:lnTo>
                  <a:lnTo>
                    <a:pt x="615175" y="361607"/>
                  </a:lnTo>
                  <a:lnTo>
                    <a:pt x="617071" y="348879"/>
                  </a:lnTo>
                  <a:lnTo>
                    <a:pt x="618456" y="335999"/>
                  </a:lnTo>
                  <a:lnTo>
                    <a:pt x="619306" y="322968"/>
                  </a:lnTo>
                  <a:lnTo>
                    <a:pt x="619594" y="309791"/>
                  </a:lnTo>
                  <a:lnTo>
                    <a:pt x="616229" y="264072"/>
                  </a:lnTo>
                  <a:lnTo>
                    <a:pt x="612926" y="249313"/>
                  </a:lnTo>
                  <a:lnTo>
                    <a:pt x="130911" y="249313"/>
                  </a:lnTo>
                  <a:lnTo>
                    <a:pt x="151249" y="207327"/>
                  </a:lnTo>
                  <a:lnTo>
                    <a:pt x="180885" y="171902"/>
                  </a:lnTo>
                  <a:lnTo>
                    <a:pt x="218239" y="144630"/>
                  </a:lnTo>
                  <a:lnTo>
                    <a:pt x="261734" y="127100"/>
                  </a:lnTo>
                  <a:lnTo>
                    <a:pt x="309791" y="120903"/>
                  </a:lnTo>
                  <a:lnTo>
                    <a:pt x="554276" y="120903"/>
                  </a:lnTo>
                  <a:lnTo>
                    <a:pt x="543517" y="106652"/>
                  </a:lnTo>
                  <a:lnTo>
                    <a:pt x="512939" y="76076"/>
                  </a:lnTo>
                  <a:lnTo>
                    <a:pt x="478367" y="49976"/>
                  </a:lnTo>
                  <a:lnTo>
                    <a:pt x="440284" y="28835"/>
                  </a:lnTo>
                  <a:lnTo>
                    <a:pt x="399171" y="13137"/>
                  </a:lnTo>
                  <a:lnTo>
                    <a:pt x="355513" y="3364"/>
                  </a:lnTo>
                  <a:lnTo>
                    <a:pt x="309791" y="0"/>
                  </a:lnTo>
                  <a:close/>
                </a:path>
                <a:path w="619760" h="619760">
                  <a:moveTo>
                    <a:pt x="554276" y="120903"/>
                  </a:moveTo>
                  <a:lnTo>
                    <a:pt x="309791" y="120903"/>
                  </a:lnTo>
                  <a:lnTo>
                    <a:pt x="357839" y="127100"/>
                  </a:lnTo>
                  <a:lnTo>
                    <a:pt x="401337" y="144630"/>
                  </a:lnTo>
                  <a:lnTo>
                    <a:pt x="438703" y="171902"/>
                  </a:lnTo>
                  <a:lnTo>
                    <a:pt x="468354" y="207327"/>
                  </a:lnTo>
                  <a:lnTo>
                    <a:pt x="488708" y="249313"/>
                  </a:lnTo>
                  <a:lnTo>
                    <a:pt x="612926" y="249313"/>
                  </a:lnTo>
                  <a:lnTo>
                    <a:pt x="606457" y="220416"/>
                  </a:lnTo>
                  <a:lnTo>
                    <a:pt x="590758" y="179305"/>
                  </a:lnTo>
                  <a:lnTo>
                    <a:pt x="569618" y="141223"/>
                  </a:lnTo>
                  <a:lnTo>
                    <a:pt x="554276" y="120903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ject 26"/>
            <p:cNvSpPr/>
            <p:nvPr/>
          </p:nvSpPr>
          <p:spPr>
            <a:xfrm>
              <a:off x="604080" y="179280"/>
              <a:ext cx="72000" cy="553320"/>
            </a:xfrm>
            <a:custGeom>
              <a:avLst/>
              <a:gdLst/>
              <a:ahLst/>
              <a:rect l="l" t="t" r="r" b="b"/>
              <a:pathLst>
                <a:path w="121284" h="930910">
                  <a:moveTo>
                    <a:pt x="120916" y="0"/>
                  </a:moveTo>
                  <a:lnTo>
                    <a:pt x="0" y="0"/>
                  </a:lnTo>
                  <a:lnTo>
                    <a:pt x="0" y="930325"/>
                  </a:lnTo>
                  <a:lnTo>
                    <a:pt x="120916" y="930325"/>
                  </a:lnTo>
                  <a:lnTo>
                    <a:pt x="120916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bject 27"/>
            <p:cNvSpPr/>
            <p:nvPr/>
          </p:nvSpPr>
          <p:spPr>
            <a:xfrm>
              <a:off x="179280" y="179280"/>
              <a:ext cx="368280" cy="553320"/>
            </a:xfrm>
            <a:custGeom>
              <a:avLst/>
              <a:gdLst/>
              <a:ahLst/>
              <a:rect l="l" t="t" r="r" b="b"/>
              <a:pathLst>
                <a:path w="619760" h="930910">
                  <a:moveTo>
                    <a:pt x="120929" y="0"/>
                  </a:moveTo>
                  <a:lnTo>
                    <a:pt x="0" y="0"/>
                  </a:lnTo>
                  <a:lnTo>
                    <a:pt x="0" y="620560"/>
                  </a:lnTo>
                  <a:lnTo>
                    <a:pt x="3364" y="666278"/>
                  </a:lnTo>
                  <a:lnTo>
                    <a:pt x="13137" y="709935"/>
                  </a:lnTo>
                  <a:lnTo>
                    <a:pt x="28835" y="751045"/>
                  </a:lnTo>
                  <a:lnTo>
                    <a:pt x="49976" y="789127"/>
                  </a:lnTo>
                  <a:lnTo>
                    <a:pt x="76076" y="823698"/>
                  </a:lnTo>
                  <a:lnTo>
                    <a:pt x="106652" y="854275"/>
                  </a:lnTo>
                  <a:lnTo>
                    <a:pt x="141223" y="880374"/>
                  </a:lnTo>
                  <a:lnTo>
                    <a:pt x="179305" y="901515"/>
                  </a:lnTo>
                  <a:lnTo>
                    <a:pt x="220416" y="917213"/>
                  </a:lnTo>
                  <a:lnTo>
                    <a:pt x="264072" y="926986"/>
                  </a:lnTo>
                  <a:lnTo>
                    <a:pt x="309791" y="930351"/>
                  </a:lnTo>
                  <a:lnTo>
                    <a:pt x="355510" y="926986"/>
                  </a:lnTo>
                  <a:lnTo>
                    <a:pt x="399167" y="917213"/>
                  </a:lnTo>
                  <a:lnTo>
                    <a:pt x="440278" y="901515"/>
                  </a:lnTo>
                  <a:lnTo>
                    <a:pt x="478362" y="880374"/>
                  </a:lnTo>
                  <a:lnTo>
                    <a:pt x="512934" y="854275"/>
                  </a:lnTo>
                  <a:lnTo>
                    <a:pt x="543513" y="823698"/>
                  </a:lnTo>
                  <a:lnTo>
                    <a:pt x="569614" y="789127"/>
                  </a:lnTo>
                  <a:lnTo>
                    <a:pt x="590756" y="751045"/>
                  </a:lnTo>
                  <a:lnTo>
                    <a:pt x="606456" y="709935"/>
                  </a:lnTo>
                  <a:lnTo>
                    <a:pt x="616229" y="666278"/>
                  </a:lnTo>
                  <a:lnTo>
                    <a:pt x="619594" y="620560"/>
                  </a:lnTo>
                  <a:lnTo>
                    <a:pt x="616229" y="574840"/>
                  </a:lnTo>
                  <a:lnTo>
                    <a:pt x="606456" y="531182"/>
                  </a:lnTo>
                  <a:lnTo>
                    <a:pt x="590756" y="490070"/>
                  </a:lnTo>
                  <a:lnTo>
                    <a:pt x="569614" y="451985"/>
                  </a:lnTo>
                  <a:lnTo>
                    <a:pt x="543513" y="417411"/>
                  </a:lnTo>
                  <a:lnTo>
                    <a:pt x="512934" y="386830"/>
                  </a:lnTo>
                  <a:lnTo>
                    <a:pt x="478362" y="360727"/>
                  </a:lnTo>
                  <a:lnTo>
                    <a:pt x="440278" y="339584"/>
                  </a:lnTo>
                  <a:lnTo>
                    <a:pt x="399167" y="323883"/>
                  </a:lnTo>
                  <a:lnTo>
                    <a:pt x="355510" y="314109"/>
                  </a:lnTo>
                  <a:lnTo>
                    <a:pt x="309791" y="310743"/>
                  </a:lnTo>
                  <a:lnTo>
                    <a:pt x="172732" y="310743"/>
                  </a:lnTo>
                  <a:lnTo>
                    <a:pt x="172732" y="431673"/>
                  </a:lnTo>
                  <a:lnTo>
                    <a:pt x="309791" y="431673"/>
                  </a:lnTo>
                  <a:lnTo>
                    <a:pt x="359945" y="438431"/>
                  </a:lnTo>
                  <a:lnTo>
                    <a:pt x="405048" y="457498"/>
                  </a:lnTo>
                  <a:lnTo>
                    <a:pt x="443285" y="487059"/>
                  </a:lnTo>
                  <a:lnTo>
                    <a:pt x="472843" y="525299"/>
                  </a:lnTo>
                  <a:lnTo>
                    <a:pt x="491907" y="570404"/>
                  </a:lnTo>
                  <a:lnTo>
                    <a:pt x="498665" y="620560"/>
                  </a:lnTo>
                  <a:lnTo>
                    <a:pt x="491907" y="670705"/>
                  </a:lnTo>
                  <a:lnTo>
                    <a:pt x="472843" y="715803"/>
                  </a:lnTo>
                  <a:lnTo>
                    <a:pt x="443285" y="754038"/>
                  </a:lnTo>
                  <a:lnTo>
                    <a:pt x="405048" y="783597"/>
                  </a:lnTo>
                  <a:lnTo>
                    <a:pt x="359945" y="802663"/>
                  </a:lnTo>
                  <a:lnTo>
                    <a:pt x="309791" y="809421"/>
                  </a:lnTo>
                  <a:lnTo>
                    <a:pt x="259628" y="802663"/>
                  </a:lnTo>
                  <a:lnTo>
                    <a:pt x="214525" y="783597"/>
                  </a:lnTo>
                  <a:lnTo>
                    <a:pt x="176293" y="754038"/>
                  </a:lnTo>
                  <a:lnTo>
                    <a:pt x="146742" y="715803"/>
                  </a:lnTo>
                  <a:lnTo>
                    <a:pt x="127684" y="670705"/>
                  </a:lnTo>
                  <a:lnTo>
                    <a:pt x="120929" y="620560"/>
                  </a:lnTo>
                  <a:lnTo>
                    <a:pt x="120929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19:57:17Z</dcterms:created>
  <dc:creator/>
  <dc:description/>
  <dc:language>en-US</dc:language>
  <cp:lastModifiedBy/>
  <dcterms:modified xsi:type="dcterms:W3CDTF">2025-11-24T06:22:20Z</dcterms:modified>
  <cp:revision>1</cp:revision>
  <dc:subject/>
  <dc:title/>
</cp:coreProperties>
</file>