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3182938" cy="4083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2093760" y="685440"/>
            <a:ext cx="2670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9C92D-775C-4BFD-80F2-B338D01F4FE0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093760" y="685800"/>
            <a:ext cx="26704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0" lang="ja-JP" sz="5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2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F9ACB-C39D-45CC-A642-25CA9C11FD1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D4F-89FC-4304-AB36-77A84C5C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AA5-664F-48ED-89BC-4DBF529D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F13-5ACF-4228-B9DC-A2D18EE7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32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540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24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32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540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9E4-77EA-47F7-B3F8-EB2777C5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19240" y="217440"/>
            <a:ext cx="27446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765-A130-4A27-B898-DBBF1F6E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732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07540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1924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114732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207540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793-798D-4A86-A874-A1D3AF18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1F4-42DA-4888-8FA3-796752CE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9A3-017F-448B-A483-6954A2BE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240" y="217440"/>
            <a:ext cx="27446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170-340D-441E-9770-9B093F4B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D96-92EC-4318-BEA2-18DD0C11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5E1-637D-4ED5-809F-DCE9B615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836-B360-4C16-9794-A011E77E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3796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9672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5548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240" y="3784680"/>
            <a:ext cx="71568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53720" y="3784680"/>
            <a:ext cx="107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47480" y="3784680"/>
            <a:ext cx="716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C27AD-9C70-4041-A9D7-8FC49E33D7BD}" type="slidenum">
              <a: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5"/>
          <p:cNvSpPr/>
          <p:nvPr/>
        </p:nvSpPr>
        <p:spPr>
          <a:xfrm>
            <a:off x="-12600" y="-781200"/>
            <a:ext cx="7062840" cy="4875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7"/>
          <p:cNvSpPr/>
          <p:nvPr/>
        </p:nvSpPr>
        <p:spPr>
          <a:xfrm>
            <a:off x="7068600" y="-822240"/>
            <a:ext cx="788040" cy="4925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グループ化 8" descr=""/>
          <p:cNvPicPr/>
          <p:nvPr/>
        </p:nvPicPr>
        <p:blipFill>
          <a:blip r:embed="rId2"/>
          <a:stretch/>
        </p:blipFill>
        <p:spPr>
          <a:xfrm>
            <a:off x="-19080" y="-2036880"/>
            <a:ext cx="7883640" cy="126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6" descr="トンボ説明ol"/>
          <p:cNvPicPr/>
          <p:nvPr/>
        </p:nvPicPr>
        <p:blipFill>
          <a:blip r:embed="rId3"/>
          <a:stretch/>
        </p:blipFill>
        <p:spPr>
          <a:xfrm>
            <a:off x="2579760" y="-717480"/>
            <a:ext cx="1230120" cy="1279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0" y="4103640"/>
            <a:ext cx="7862760" cy="5032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8640" bIns="86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5"/>
          <p:cNvSpPr/>
          <p:nvPr/>
        </p:nvSpPr>
        <p:spPr>
          <a:xfrm>
            <a:off x="0" y="0"/>
            <a:ext cx="3182760" cy="40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グループ化 14"/>
          <p:cNvGrpSpPr/>
          <p:nvPr/>
        </p:nvGrpSpPr>
        <p:grpSpPr>
          <a:xfrm>
            <a:off x="4062240" y="-727200"/>
            <a:ext cx="2718000" cy="1030320"/>
            <a:chOff x="4062240" y="-727200"/>
            <a:chExt cx="2718000" cy="1030320"/>
          </a:xfrm>
        </p:grpSpPr>
        <p:pic>
          <p:nvPicPr>
            <p:cNvPr id="48" name="Picture 2" descr=""/>
            <p:cNvPicPr/>
            <p:nvPr/>
          </p:nvPicPr>
          <p:blipFill>
            <a:blip r:embed="rId4"/>
            <a:stretch/>
          </p:blipFill>
          <p:spPr>
            <a:xfrm>
              <a:off x="5822280" y="-727200"/>
              <a:ext cx="91512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テキスト ボックス 16"/>
            <p:cNvSpPr/>
            <p:nvPr/>
          </p:nvSpPr>
          <p:spPr>
            <a:xfrm>
              <a:off x="4379400" y="-255240"/>
              <a:ext cx="16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部分は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</a:t>
              </a:r>
              <a:r>
                <a:rPr b="0" lang="en-US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R(</a:t>
              </a: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丸</a:t>
              </a:r>
              <a:r>
                <a:rPr b="0" lang="en-US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)</a:t>
              </a: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になります↘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円/楕円 46"/>
            <p:cNvSpPr/>
            <p:nvPr/>
          </p:nvSpPr>
          <p:spPr>
            <a:xfrm>
              <a:off x="5769000" y="79200"/>
              <a:ext cx="207720" cy="199800"/>
            </a:xfrm>
            <a:prstGeom prst="ellipse">
              <a:avLst/>
            </a:prstGeom>
            <a:noFill/>
            <a:ln w="9360">
              <a:solidFill>
                <a:srgbClr val="c55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角丸四角形 47"/>
            <p:cNvSpPr/>
            <p:nvPr/>
          </p:nvSpPr>
          <p:spPr>
            <a:xfrm>
              <a:off x="4062240" y="-727200"/>
              <a:ext cx="2718000" cy="1030320"/>
            </a:xfrm>
            <a:prstGeom prst="roundRect">
              <a:avLst>
                <a:gd name="adj" fmla="val 7218"/>
              </a:avLst>
            </a:prstGeom>
            <a:noFill/>
            <a:ln w="9360">
              <a:solidFill>
                <a:srgbClr val="c55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右カーブ矢印 48"/>
          <p:cNvSpPr/>
          <p:nvPr/>
        </p:nvSpPr>
        <p:spPr>
          <a:xfrm flipH="1" rot="15175200">
            <a:off x="3631320" y="-501840"/>
            <a:ext cx="296640" cy="958680"/>
          </a:xfrm>
          <a:custGeom>
            <a:avLst/>
            <a:gdLst>
              <a:gd name="textAreaLeft" fmla="*/ 39600 w 296640"/>
              <a:gd name="textAreaRight" fmla="*/ 257040 w 296640"/>
              <a:gd name="textAreaTop" fmla="*/ 198720 h 958680"/>
              <a:gd name="textAreaBottom" fmla="*/ 670320 h 95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2" stAng="-5400000" swAng="-5400000"/>
                <a:lnTo>
                  <a:pt x="0" y="10623"/>
                </a:lnTo>
                <a:arcTo wR="21600" hR="8952" stAng="10800000" swAng="-3484539"/>
                <a:lnTo>
                  <a:pt x="16200" y="21316"/>
                </a:lnTo>
                <a:lnTo>
                  <a:pt x="21600" y="18739"/>
                </a:lnTo>
                <a:lnTo>
                  <a:pt x="16200" y="15593"/>
                </a:lnTo>
                <a:lnTo>
                  <a:pt x="16200" y="17619"/>
                </a:lnTo>
                <a:arcTo wR="21600" hR="8952" stAng="7315461" swAng="3351050"/>
                <a:lnTo>
                  <a:pt x="94" y="9787"/>
                </a:lnTo>
                <a:arcTo wR="21600" hR="8952" stAng="-10666510" swAng="5266510"/>
                <a:close/>
              </a:path>
              <a:path fill="darkenLess" w="21600" h="21600">
                <a:moveTo>
                  <a:pt x="21600" y="0"/>
                </a:moveTo>
                <a:arcTo wR="21600" hR="8952" stAng="-5400000" swAng="-5400000"/>
                <a:lnTo>
                  <a:pt x="0" y="8952"/>
                </a:lnTo>
                <a:arcTo wR="21600" hR="8952" stAng="10800000" swAng="-133490"/>
                <a:lnTo>
                  <a:pt x="94" y="9787"/>
                </a:lnTo>
                <a:arcTo wR="21600" hR="8952" stAng="-10666510" swAng="5266510"/>
                <a:close/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20"/>
          <p:cNvSpPr/>
          <p:nvPr/>
        </p:nvSpPr>
        <p:spPr>
          <a:xfrm>
            <a:off x="349200" y="349200"/>
            <a:ext cx="2484360" cy="338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グループ化 21"/>
          <p:cNvGrpSpPr/>
          <p:nvPr/>
        </p:nvGrpSpPr>
        <p:grpSpPr>
          <a:xfrm>
            <a:off x="0" y="0"/>
            <a:ext cx="3182760" cy="4083120"/>
            <a:chOff x="0" y="0"/>
            <a:chExt cx="3182760" cy="4083120"/>
          </a:xfrm>
        </p:grpSpPr>
        <p:grpSp>
          <p:nvGrpSpPr>
            <p:cNvPr id="55" name="object 2"/>
            <p:cNvGrpSpPr/>
            <p:nvPr/>
          </p:nvGrpSpPr>
          <p:grpSpPr>
            <a:xfrm>
              <a:off x="23040" y="3624120"/>
              <a:ext cx="436320" cy="436320"/>
              <a:chOff x="23040" y="3624120"/>
              <a:chExt cx="436320" cy="436320"/>
            </a:xfrm>
          </p:grpSpPr>
          <p:sp>
            <p:nvSpPr>
              <p:cNvPr id="56" name="object 3"/>
              <p:cNvSpPr/>
              <p:nvPr/>
            </p:nvSpPr>
            <p:spPr>
              <a:xfrm>
                <a:off x="23040" y="36241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object 4"/>
              <p:cNvSpPr/>
              <p:nvPr/>
            </p:nvSpPr>
            <p:spPr>
              <a:xfrm>
                <a:off x="23040" y="3732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object 5"/>
            <p:cNvGrpSpPr/>
            <p:nvPr/>
          </p:nvGrpSpPr>
          <p:grpSpPr>
            <a:xfrm>
              <a:off x="23040" y="23040"/>
              <a:ext cx="436320" cy="436320"/>
              <a:chOff x="23040" y="23040"/>
              <a:chExt cx="436320" cy="436320"/>
            </a:xfrm>
          </p:grpSpPr>
          <p:sp>
            <p:nvSpPr>
              <p:cNvPr id="59" name="object 6"/>
              <p:cNvSpPr/>
              <p:nvPr/>
            </p:nvSpPr>
            <p:spPr>
              <a:xfrm>
                <a:off x="23040" y="230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object 7"/>
              <p:cNvSpPr/>
              <p:nvPr/>
            </p:nvSpPr>
            <p:spPr>
              <a:xfrm>
                <a:off x="23040" y="230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object 8"/>
            <p:cNvGrpSpPr/>
            <p:nvPr/>
          </p:nvGrpSpPr>
          <p:grpSpPr>
            <a:xfrm>
              <a:off x="2723760" y="23040"/>
              <a:ext cx="436320" cy="436320"/>
              <a:chOff x="2723760" y="23040"/>
              <a:chExt cx="436320" cy="436320"/>
            </a:xfrm>
          </p:grpSpPr>
          <p:sp>
            <p:nvSpPr>
              <p:cNvPr id="62" name="object 9"/>
              <p:cNvSpPr/>
              <p:nvPr/>
            </p:nvSpPr>
            <p:spPr>
              <a:xfrm>
                <a:off x="2832480" y="230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object 10"/>
              <p:cNvSpPr/>
              <p:nvPr/>
            </p:nvSpPr>
            <p:spPr>
              <a:xfrm>
                <a:off x="2723760" y="230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" name="object 11"/>
            <p:cNvGrpSpPr/>
            <p:nvPr/>
          </p:nvGrpSpPr>
          <p:grpSpPr>
            <a:xfrm>
              <a:off x="2723760" y="3624120"/>
              <a:ext cx="436320" cy="436320"/>
              <a:chOff x="2723760" y="3624120"/>
              <a:chExt cx="436320" cy="436320"/>
            </a:xfrm>
          </p:grpSpPr>
          <p:sp>
            <p:nvSpPr>
              <p:cNvPr id="65" name="object 12"/>
              <p:cNvSpPr/>
              <p:nvPr/>
            </p:nvSpPr>
            <p:spPr>
              <a:xfrm>
                <a:off x="2832480" y="36241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object 13"/>
              <p:cNvSpPr/>
              <p:nvPr/>
            </p:nvSpPr>
            <p:spPr>
              <a:xfrm>
                <a:off x="2723760" y="3732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" name="object 14"/>
            <p:cNvGrpSpPr/>
            <p:nvPr/>
          </p:nvGrpSpPr>
          <p:grpSpPr>
            <a:xfrm>
              <a:off x="0" y="1584360"/>
              <a:ext cx="304560" cy="914400"/>
              <a:chOff x="0" y="1584360"/>
              <a:chExt cx="304560" cy="914400"/>
            </a:xfrm>
          </p:grpSpPr>
          <p:sp>
            <p:nvSpPr>
              <p:cNvPr id="68" name="object 15"/>
              <p:cNvSpPr/>
              <p:nvPr/>
            </p:nvSpPr>
            <p:spPr>
              <a:xfrm>
                <a:off x="0" y="20415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object 16"/>
              <p:cNvSpPr/>
              <p:nvPr/>
            </p:nvSpPr>
            <p:spPr>
              <a:xfrm>
                <a:off x="228600" y="15843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" name="object 17"/>
            <p:cNvGrpSpPr/>
            <p:nvPr/>
          </p:nvGrpSpPr>
          <p:grpSpPr>
            <a:xfrm>
              <a:off x="2878200" y="1584360"/>
              <a:ext cx="304560" cy="914400"/>
              <a:chOff x="2878200" y="1584360"/>
              <a:chExt cx="304560" cy="914400"/>
            </a:xfrm>
          </p:grpSpPr>
          <p:sp>
            <p:nvSpPr>
              <p:cNvPr id="71" name="object 18"/>
              <p:cNvSpPr/>
              <p:nvPr/>
            </p:nvSpPr>
            <p:spPr>
              <a:xfrm>
                <a:off x="2878200" y="20415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bject 19"/>
              <p:cNvSpPr/>
              <p:nvPr/>
            </p:nvSpPr>
            <p:spPr>
              <a:xfrm>
                <a:off x="2954160" y="15843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object 20"/>
            <p:cNvGrpSpPr/>
            <p:nvPr/>
          </p:nvGrpSpPr>
          <p:grpSpPr>
            <a:xfrm>
              <a:off x="1134000" y="0"/>
              <a:ext cx="914400" cy="304560"/>
              <a:chOff x="1134000" y="0"/>
              <a:chExt cx="914400" cy="304560"/>
            </a:xfrm>
          </p:grpSpPr>
          <p:sp>
            <p:nvSpPr>
              <p:cNvPr id="74" name="object 21"/>
              <p:cNvSpPr/>
              <p:nvPr/>
            </p:nvSpPr>
            <p:spPr>
              <a:xfrm>
                <a:off x="1134000" y="2286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object 22"/>
              <p:cNvSpPr/>
              <p:nvPr/>
            </p:nvSpPr>
            <p:spPr>
              <a:xfrm>
                <a:off x="1591200" y="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object 23"/>
            <p:cNvGrpSpPr/>
            <p:nvPr/>
          </p:nvGrpSpPr>
          <p:grpSpPr>
            <a:xfrm>
              <a:off x="1134000" y="3778560"/>
              <a:ext cx="914400" cy="304560"/>
              <a:chOff x="1134000" y="3778560"/>
              <a:chExt cx="914400" cy="304560"/>
            </a:xfrm>
          </p:grpSpPr>
          <p:sp>
            <p:nvSpPr>
              <p:cNvPr id="77" name="object 24"/>
              <p:cNvSpPr/>
              <p:nvPr/>
            </p:nvSpPr>
            <p:spPr>
              <a:xfrm>
                <a:off x="1134000" y="38545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object 25"/>
              <p:cNvSpPr/>
              <p:nvPr/>
            </p:nvSpPr>
            <p:spPr>
              <a:xfrm>
                <a:off x="1591200" y="3778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3796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9672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5548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8840" y="349200"/>
            <a:ext cx="248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2:12:22Z</dcterms:created>
  <dc:creator>Vanfu Inc.</dc:creator>
  <dc:description/>
  <cp:keywords>デザインテンプレート</cp:keywords>
  <dc:language>en-US</dc:language>
  <cp:lastModifiedBy>irodori16</cp:lastModifiedBy>
  <cp:lastPrinted>2016-11-24T08:45:10Z</cp:lastPrinted>
  <dcterms:modified xsi:type="dcterms:W3CDTF">2025-11-11T10:04:56Z</dcterms:modified>
  <cp:revision>78</cp:revision>
  <dc:subject>フリー</dc:subject>
  <dc:title>トランプ_裏面</dc:title>
</cp:coreProperties>
</file>