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182938" cy="4083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2093760" y="685440"/>
            <a:ext cx="2670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10077-9420-4EFE-BF14-5E0F8CA43FD6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093760" y="685800"/>
            <a:ext cx="26704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0" lang="ja-JP" sz="5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CF7AD-4A5D-42BE-892D-112EB9B5FF6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3BC-EAC2-4AFF-9529-125BB842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3E5-817B-4086-B770-DCD54CCF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EB0-7755-4ED6-B6BE-38EEA6B9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1F6-135D-4434-B3B1-58959C3D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BA1-9BB4-48D3-B04D-E0F5CB1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818-85A9-48A8-BD10-C8163AAE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C6B-CDC6-4AA9-AFEC-343835A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D5A-C1AB-4426-8774-16AB0A61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493-9850-472B-B3EC-E7AB661C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552-A5B7-4911-841C-9C793410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20B-8452-4F3E-B55F-34247E12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464-B050-4533-A9AC-BB87EAB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240" y="3784680"/>
            <a:ext cx="7156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53720" y="3784680"/>
            <a:ext cx="107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47480" y="3784680"/>
            <a:ext cx="716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826DD-C82A-4318-9CB8-0EFF71F1E9DE}" type="slidenum"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-7920" y="-781200"/>
            <a:ext cx="7062840" cy="4873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2"/>
          <p:cNvSpPr/>
          <p:nvPr/>
        </p:nvSpPr>
        <p:spPr>
          <a:xfrm>
            <a:off x="7068600" y="-822240"/>
            <a:ext cx="788040" cy="4925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グループ化 6" descr=""/>
          <p:cNvPicPr/>
          <p:nvPr/>
        </p:nvPicPr>
        <p:blipFill>
          <a:blip r:embed="rId2"/>
          <a:stretch/>
        </p:blipFill>
        <p:spPr>
          <a:xfrm>
            <a:off x="-19080" y="-2036880"/>
            <a:ext cx="788364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トンボ説明ol"/>
          <p:cNvPicPr/>
          <p:nvPr/>
        </p:nvPicPr>
        <p:blipFill>
          <a:blip r:embed="rId3"/>
          <a:stretch/>
        </p:blipFill>
        <p:spPr>
          <a:xfrm>
            <a:off x="2579760" y="-717480"/>
            <a:ext cx="1230120" cy="1279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0" y="4103640"/>
            <a:ext cx="7862760" cy="5032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8640" bIns="86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5"/>
          <p:cNvSpPr/>
          <p:nvPr/>
        </p:nvSpPr>
        <p:spPr>
          <a:xfrm>
            <a:off x="0" y="0"/>
            <a:ext cx="3182760" cy="40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グループ化 14"/>
          <p:cNvGrpSpPr/>
          <p:nvPr/>
        </p:nvGrpSpPr>
        <p:grpSpPr>
          <a:xfrm>
            <a:off x="4062240" y="-727200"/>
            <a:ext cx="2718000" cy="1030320"/>
            <a:chOff x="4062240" y="-727200"/>
            <a:chExt cx="2718000" cy="1030320"/>
          </a:xfrm>
        </p:grpSpPr>
        <p:pic>
          <p:nvPicPr>
            <p:cNvPr id="48" name="Picture 2" descr=""/>
            <p:cNvPicPr/>
            <p:nvPr/>
          </p:nvPicPr>
          <p:blipFill>
            <a:blip r:embed="rId4"/>
            <a:stretch/>
          </p:blipFill>
          <p:spPr>
            <a:xfrm>
              <a:off x="5822280" y="-727200"/>
              <a:ext cx="9151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テキスト ボックス 14"/>
            <p:cNvSpPr/>
            <p:nvPr/>
          </p:nvSpPr>
          <p:spPr>
            <a:xfrm>
              <a:off x="4379760" y="-255240"/>
              <a:ext cx="16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部分は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R(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丸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)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になります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円/楕円 46"/>
            <p:cNvSpPr/>
            <p:nvPr/>
          </p:nvSpPr>
          <p:spPr>
            <a:xfrm>
              <a:off x="5769000" y="79200"/>
              <a:ext cx="207720" cy="199800"/>
            </a:xfrm>
            <a:prstGeom prst="ellipse">
              <a:avLst/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角丸四角形 47"/>
            <p:cNvSpPr/>
            <p:nvPr/>
          </p:nvSpPr>
          <p:spPr>
            <a:xfrm>
              <a:off x="4062240" y="-727200"/>
              <a:ext cx="2718000" cy="1030320"/>
            </a:xfrm>
            <a:prstGeom prst="roundRect">
              <a:avLst>
                <a:gd name="adj" fmla="val 7218"/>
              </a:avLst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右カーブ矢印 48"/>
          <p:cNvSpPr/>
          <p:nvPr/>
        </p:nvSpPr>
        <p:spPr>
          <a:xfrm flipH="1" rot="15175200">
            <a:off x="3631320" y="-501840"/>
            <a:ext cx="296640" cy="958680"/>
          </a:xfrm>
          <a:custGeom>
            <a:avLst/>
            <a:gdLst>
              <a:gd name="textAreaLeft" fmla="*/ 39600 w 296640"/>
              <a:gd name="textAreaRight" fmla="*/ 257040 w 296640"/>
              <a:gd name="textAreaTop" fmla="*/ 198720 h 958680"/>
              <a:gd name="textAreaBottom" fmla="*/ 670320 h 95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2" stAng="-5400000" swAng="-5400000"/>
                <a:lnTo>
                  <a:pt x="0" y="10623"/>
                </a:lnTo>
                <a:arcTo wR="21600" hR="8952" stAng="10800000" swAng="-3484539"/>
                <a:lnTo>
                  <a:pt x="16200" y="21316"/>
                </a:lnTo>
                <a:lnTo>
                  <a:pt x="21600" y="18739"/>
                </a:lnTo>
                <a:lnTo>
                  <a:pt x="16200" y="15593"/>
                </a:lnTo>
                <a:lnTo>
                  <a:pt x="16200" y="17619"/>
                </a:lnTo>
                <a:arcTo wR="21600" hR="8952" stAng="7315461" swAng="3351050"/>
                <a:lnTo>
                  <a:pt x="94" y="9787"/>
                </a:lnTo>
                <a:arcTo wR="21600" hR="8952" stAng="-10666510" swAng="5266510"/>
                <a:close/>
              </a:path>
              <a:path fill="darkenLess" w="21600" h="21600">
                <a:moveTo>
                  <a:pt x="21600" y="0"/>
                </a:moveTo>
                <a:arcTo wR="21600" hR="8952" stAng="-5400000" swAng="-5400000"/>
                <a:lnTo>
                  <a:pt x="0" y="8952"/>
                </a:lnTo>
                <a:arcTo wR="21600" hR="8952" stAng="10800000" swAng="-133490"/>
                <a:lnTo>
                  <a:pt x="94" y="9787"/>
                </a:lnTo>
                <a:arcTo wR="21600" hR="8952" stAng="-10666510" swAng="5266510"/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18"/>
          <p:cNvSpPr/>
          <p:nvPr/>
        </p:nvSpPr>
        <p:spPr>
          <a:xfrm>
            <a:off x="349200" y="349200"/>
            <a:ext cx="2484360" cy="338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グループ化 21"/>
          <p:cNvGrpSpPr/>
          <p:nvPr/>
        </p:nvGrpSpPr>
        <p:grpSpPr>
          <a:xfrm>
            <a:off x="0" y="0"/>
            <a:ext cx="3182760" cy="4083120"/>
            <a:chOff x="0" y="0"/>
            <a:chExt cx="3182760" cy="4083120"/>
          </a:xfrm>
        </p:grpSpPr>
        <p:grpSp>
          <p:nvGrpSpPr>
            <p:cNvPr id="55" name="object 2"/>
            <p:cNvGrpSpPr/>
            <p:nvPr/>
          </p:nvGrpSpPr>
          <p:grpSpPr>
            <a:xfrm>
              <a:off x="23040" y="3624120"/>
              <a:ext cx="436320" cy="436320"/>
              <a:chOff x="23040" y="3624120"/>
              <a:chExt cx="436320" cy="436320"/>
            </a:xfrm>
          </p:grpSpPr>
          <p:sp>
            <p:nvSpPr>
              <p:cNvPr id="56" name="object 3"/>
              <p:cNvSpPr/>
              <p:nvPr/>
            </p:nvSpPr>
            <p:spPr>
              <a:xfrm>
                <a:off x="2304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object 4"/>
              <p:cNvSpPr/>
              <p:nvPr/>
            </p:nvSpPr>
            <p:spPr>
              <a:xfrm>
                <a:off x="2304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object 5"/>
            <p:cNvGrpSpPr/>
            <p:nvPr/>
          </p:nvGrpSpPr>
          <p:grpSpPr>
            <a:xfrm>
              <a:off x="23040" y="23040"/>
              <a:ext cx="436320" cy="436320"/>
              <a:chOff x="23040" y="23040"/>
              <a:chExt cx="436320" cy="436320"/>
            </a:xfrm>
          </p:grpSpPr>
          <p:sp>
            <p:nvSpPr>
              <p:cNvPr id="59" name="object 6"/>
              <p:cNvSpPr/>
              <p:nvPr/>
            </p:nvSpPr>
            <p:spPr>
              <a:xfrm>
                <a:off x="2304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object 7"/>
              <p:cNvSpPr/>
              <p:nvPr/>
            </p:nvSpPr>
            <p:spPr>
              <a:xfrm>
                <a:off x="2304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object 8"/>
            <p:cNvGrpSpPr/>
            <p:nvPr/>
          </p:nvGrpSpPr>
          <p:grpSpPr>
            <a:xfrm>
              <a:off x="2723760" y="23040"/>
              <a:ext cx="436320" cy="436320"/>
              <a:chOff x="2723760" y="23040"/>
              <a:chExt cx="436320" cy="436320"/>
            </a:xfrm>
          </p:grpSpPr>
          <p:sp>
            <p:nvSpPr>
              <p:cNvPr id="62" name="object 9"/>
              <p:cNvSpPr/>
              <p:nvPr/>
            </p:nvSpPr>
            <p:spPr>
              <a:xfrm>
                <a:off x="283248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object 10"/>
              <p:cNvSpPr/>
              <p:nvPr/>
            </p:nvSpPr>
            <p:spPr>
              <a:xfrm>
                <a:off x="272376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" name="object 11"/>
            <p:cNvGrpSpPr/>
            <p:nvPr/>
          </p:nvGrpSpPr>
          <p:grpSpPr>
            <a:xfrm>
              <a:off x="2723760" y="3624120"/>
              <a:ext cx="436320" cy="436320"/>
              <a:chOff x="2723760" y="3624120"/>
              <a:chExt cx="436320" cy="436320"/>
            </a:xfrm>
          </p:grpSpPr>
          <p:sp>
            <p:nvSpPr>
              <p:cNvPr id="65" name="object 12"/>
              <p:cNvSpPr/>
              <p:nvPr/>
            </p:nvSpPr>
            <p:spPr>
              <a:xfrm>
                <a:off x="283248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bject 13"/>
              <p:cNvSpPr/>
              <p:nvPr/>
            </p:nvSpPr>
            <p:spPr>
              <a:xfrm>
                <a:off x="272376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object 14"/>
            <p:cNvGrpSpPr/>
            <p:nvPr/>
          </p:nvGrpSpPr>
          <p:grpSpPr>
            <a:xfrm>
              <a:off x="0" y="1584360"/>
              <a:ext cx="304560" cy="914400"/>
              <a:chOff x="0" y="1584360"/>
              <a:chExt cx="304560" cy="914400"/>
            </a:xfrm>
          </p:grpSpPr>
          <p:sp>
            <p:nvSpPr>
              <p:cNvPr id="68" name="object 15"/>
              <p:cNvSpPr/>
              <p:nvPr/>
            </p:nvSpPr>
            <p:spPr>
              <a:xfrm>
                <a:off x="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object 16"/>
              <p:cNvSpPr/>
              <p:nvPr/>
            </p:nvSpPr>
            <p:spPr>
              <a:xfrm>
                <a:off x="22860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object 17"/>
            <p:cNvGrpSpPr/>
            <p:nvPr/>
          </p:nvGrpSpPr>
          <p:grpSpPr>
            <a:xfrm>
              <a:off x="2878200" y="1584360"/>
              <a:ext cx="304560" cy="914400"/>
              <a:chOff x="2878200" y="1584360"/>
              <a:chExt cx="304560" cy="914400"/>
            </a:xfrm>
          </p:grpSpPr>
          <p:sp>
            <p:nvSpPr>
              <p:cNvPr id="71" name="object 18"/>
              <p:cNvSpPr/>
              <p:nvPr/>
            </p:nvSpPr>
            <p:spPr>
              <a:xfrm>
                <a:off x="287820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bject 19"/>
              <p:cNvSpPr/>
              <p:nvPr/>
            </p:nvSpPr>
            <p:spPr>
              <a:xfrm>
                <a:off x="295416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object 20"/>
            <p:cNvGrpSpPr/>
            <p:nvPr/>
          </p:nvGrpSpPr>
          <p:grpSpPr>
            <a:xfrm>
              <a:off x="1134000" y="0"/>
              <a:ext cx="914400" cy="304560"/>
              <a:chOff x="1134000" y="0"/>
              <a:chExt cx="914400" cy="304560"/>
            </a:xfrm>
          </p:grpSpPr>
          <p:sp>
            <p:nvSpPr>
              <p:cNvPr id="74" name="object 21"/>
              <p:cNvSpPr/>
              <p:nvPr/>
            </p:nvSpPr>
            <p:spPr>
              <a:xfrm>
                <a:off x="1134000" y="2286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bject 22"/>
              <p:cNvSpPr/>
              <p:nvPr/>
            </p:nvSpPr>
            <p:spPr>
              <a:xfrm>
                <a:off x="1591200" y="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object 23"/>
            <p:cNvGrpSpPr/>
            <p:nvPr/>
          </p:nvGrpSpPr>
          <p:grpSpPr>
            <a:xfrm>
              <a:off x="1134000" y="3778560"/>
              <a:ext cx="914400" cy="304560"/>
              <a:chOff x="1134000" y="3778560"/>
              <a:chExt cx="914400" cy="304560"/>
            </a:xfrm>
          </p:grpSpPr>
          <p:sp>
            <p:nvSpPr>
              <p:cNvPr id="77" name="object 24"/>
              <p:cNvSpPr/>
              <p:nvPr/>
            </p:nvSpPr>
            <p:spPr>
              <a:xfrm>
                <a:off x="1134000" y="38545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bject 25"/>
              <p:cNvSpPr/>
              <p:nvPr/>
            </p:nvSpPr>
            <p:spPr>
              <a:xfrm>
                <a:off x="1591200" y="3778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8840" y="349200"/>
            <a:ext cx="24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2:12:22Z</dcterms:created>
  <dc:creator>Vanfu Inc.</dc:creator>
  <dc:description/>
  <cp:keywords>デザインテンプレート</cp:keywords>
  <dc:language>en-US</dc:language>
  <cp:lastModifiedBy>irodori16</cp:lastModifiedBy>
  <cp:lastPrinted>2016-11-24T08:45:10Z</cp:lastPrinted>
  <dcterms:modified xsi:type="dcterms:W3CDTF">2025-11-11T10:04:00Z</dcterms:modified>
  <cp:revision>79</cp:revision>
  <dc:subject>フリー</dc:subject>
  <dc:title>トランプ_裏面</dc:title>
</cp:coreProperties>
</file>