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17.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Lst>
  <p:sldSz cx="3182938" cy="408305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19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99"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ja-JP" sz="1200" spc="-1" strike="noStrike">
                <a:solidFill>
                  <a:srgbClr val="000000"/>
                </a:solidFill>
                <a:latin typeface="Times New Roman"/>
                <a:ea typeface="ＭＳ Ｐゴシック"/>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200" spc="-1" strike="noStrike">
                <a:solidFill>
                  <a:srgbClr val="000000"/>
                </a:solidFill>
                <a:latin typeface="Times New Roman"/>
                <a:ea typeface="ＭＳ Ｐゴシック"/>
              </a:rPr>
              <a:t>&lt;date/time&gt;</a:t>
            </a:r>
            <a:endParaRPr b="0" lang="en-US" sz="1200" spc="-1" strike="noStrike">
              <a:solidFill>
                <a:srgbClr val="000000"/>
              </a:solidFill>
              <a:latin typeface="Times New Roman"/>
            </a:endParaRPr>
          </a:p>
        </p:txBody>
      </p:sp>
      <p:sp>
        <p:nvSpPr>
          <p:cNvPr id="200" name="PlaceHolder 3"/>
          <p:cNvSpPr>
            <a:spLocks noGrp="1"/>
          </p:cNvSpPr>
          <p:nvPr>
            <p:ph type="sldImg"/>
          </p:nvPr>
        </p:nvSpPr>
        <p:spPr>
          <a:xfrm>
            <a:off x="2093760" y="685440"/>
            <a:ext cx="2670480" cy="3429000"/>
          </a:xfrm>
          <a:prstGeom prst="rect">
            <a:avLst/>
          </a:prstGeom>
          <a:noFill/>
          <a:ln w="12600">
            <a:solidFill>
              <a:srgbClr val="000000"/>
            </a:solidFill>
            <a:miter/>
          </a:ln>
        </p:spPr>
        <p:txBody>
          <a:bodyPr lIns="90000" rIns="90000" tIns="46800" bIns="46800" anchor="ctr">
            <a:noAutofit/>
          </a:bodyPr>
          <a:p>
            <a:pPr indent="0">
              <a:lnSpc>
                <a:spcPct val="90000"/>
              </a:lnSpc>
              <a:buNone/>
              <a:tabLst>
                <a:tab algn="l" pos="0"/>
                <a:tab algn="l" pos="317520"/>
                <a:tab algn="l" pos="635040"/>
                <a:tab algn="l" pos="952560"/>
                <a:tab algn="l" pos="1270080"/>
                <a:tab algn="l" pos="1587600"/>
                <a:tab algn="l" pos="1905120"/>
                <a:tab algn="l" pos="2222640"/>
                <a:tab algn="l" pos="2540160"/>
                <a:tab algn="l" pos="2857680"/>
                <a:tab algn="l" pos="3174840"/>
                <a:tab algn="l" pos="3492360"/>
                <a:tab algn="l" pos="3809880"/>
                <a:tab algn="l" pos="4127400"/>
                <a:tab algn="l" pos="4444920"/>
                <a:tab algn="l" pos="4762440"/>
                <a:tab algn="l" pos="5079960"/>
                <a:tab algn="l" pos="5397480"/>
                <a:tab algn="l" pos="5715000"/>
                <a:tab algn="l" pos="6032520"/>
                <a:tab algn="l" pos="6350040"/>
              </a:tabLst>
            </a:pPr>
            <a:r>
              <a:rPr b="0" lang="en-US" sz="1500" spc="-1" strike="noStrike">
                <a:solidFill>
                  <a:srgbClr val="000000"/>
                </a:solidFill>
                <a:latin typeface="Calibri Light"/>
              </a:rPr>
              <a:t>Click to move the slide</a:t>
            </a:r>
            <a:endParaRPr b="0" lang="en-US" sz="1500" spc="-1" strike="noStrike">
              <a:solidFill>
                <a:srgbClr val="000000"/>
              </a:solidFill>
              <a:latin typeface="Calibri Light"/>
            </a:endParaRPr>
          </a:p>
        </p:txBody>
      </p:sp>
      <p:sp>
        <p:nvSpPr>
          <p:cNvPr id="20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187"/>
              </a:spcBef>
              <a:buNone/>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0" lang="en-US" sz="500" spc="-1" strike="noStrike">
                <a:solidFill>
                  <a:srgbClr val="000000"/>
                </a:solidFill>
                <a:latin typeface="Calibri"/>
              </a:rPr>
              <a:t>Click to edit the notes format</a:t>
            </a:r>
            <a:endParaRPr b="0" lang="en-US" sz="500" spc="-1" strike="noStrike">
              <a:solidFill>
                <a:srgbClr val="000000"/>
              </a:solidFill>
              <a:latin typeface="Calibri"/>
            </a:endParaRPr>
          </a:p>
        </p:txBody>
      </p:sp>
      <p:sp>
        <p:nvSpPr>
          <p:cNvPr id="202"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03"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ja-JP" sz="1200" spc="-1" strike="noStrike">
                <a:solidFill>
                  <a:srgbClr val="000000"/>
                </a:solidFill>
                <a:latin typeface="Times New Roman"/>
                <a:ea typeface="ＭＳ Ｐゴシック"/>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BDE8428-EFCA-4749-A369-C7C3CD48E8AC}" type="slidenum">
              <a:rPr b="0" lang="ja-JP"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2093760" y="685800"/>
            <a:ext cx="267048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187"/>
              </a:spcBef>
              <a:buNone/>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endParaRPr b="0" lang="ja-JP" sz="500" spc="-1" strike="noStrike">
              <a:solidFill>
                <a:srgbClr val="000000"/>
              </a:solidFill>
              <a:latin typeface="Calibri"/>
              <a:ea typeface="ＭＳ Ｐゴシック"/>
            </a:endParaRPr>
          </a:p>
        </p:txBody>
      </p:sp>
      <p:sp>
        <p:nvSpPr>
          <p:cNvPr id="246"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8EA72CF-4B19-40F4-B3D0-2F2CF4CC7100}" type="slidenum">
              <a:rPr b="0" lang="ja-JP" sz="1200" spc="-1" strike="noStrike">
                <a:solidFill>
                  <a:srgbClr val="000000"/>
                </a:solidFill>
                <a:latin typeface="Calibri"/>
                <a:ea typeface="ＭＳ Ｐゴシック"/>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6F6DDF-1308-41EF-8BD1-3AF8FBA26E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19240" y="217440"/>
            <a:ext cx="2744640" cy="789120"/>
          </a:xfrm>
          <a:prstGeom prst="rect">
            <a:avLst/>
          </a:prstGeom>
          <a:noFill/>
          <a:ln w="0">
            <a:noFill/>
          </a:ln>
        </p:spPr>
        <p:txBody>
          <a:bodyPr lIns="90000" rIns="90000" tIns="46800" bIns="46800" anchor="ctr">
            <a:noAutofit/>
          </a:bodyPr>
          <a:p>
            <a:pPr indent="0">
              <a:lnSpc>
                <a:spcPct val="90000"/>
              </a:lnSpc>
              <a:buNone/>
              <a:tabLst>
                <a:tab algn="l" pos="0"/>
                <a:tab algn="l" pos="317520"/>
                <a:tab algn="l" pos="635040"/>
                <a:tab algn="l" pos="952560"/>
                <a:tab algn="l" pos="1270080"/>
                <a:tab algn="l" pos="1587600"/>
                <a:tab algn="l" pos="1905120"/>
                <a:tab algn="l" pos="2222640"/>
                <a:tab algn="l" pos="2540160"/>
                <a:tab algn="l" pos="2857680"/>
                <a:tab algn="l" pos="3174840"/>
                <a:tab algn="l" pos="3492360"/>
                <a:tab algn="l" pos="3809880"/>
                <a:tab algn="l" pos="4127400"/>
                <a:tab algn="l" pos="4444920"/>
                <a:tab algn="l" pos="4762440"/>
                <a:tab algn="l" pos="5079960"/>
                <a:tab algn="l" pos="5397480"/>
                <a:tab algn="l" pos="5715000"/>
                <a:tab algn="l" pos="6032520"/>
                <a:tab algn="l" pos="6350040"/>
              </a:tabLst>
            </a:pPr>
            <a:endParaRPr b="0" lang="en-US" sz="1500" spc="-1" strike="noStrike">
              <a:solidFill>
                <a:srgbClr val="000000"/>
              </a:solidFill>
              <a:latin typeface="Calibri Light"/>
            </a:endParaRPr>
          </a:p>
        </p:txBody>
      </p:sp>
      <p:sp>
        <p:nvSpPr>
          <p:cNvPr id="27" name="PlaceHolder 2"/>
          <p:cNvSpPr>
            <a:spLocks noGrp="1"/>
          </p:cNvSpPr>
          <p:nvPr>
            <p:ph/>
          </p:nvPr>
        </p:nvSpPr>
        <p:spPr>
          <a:xfrm>
            <a:off x="219240" y="1087560"/>
            <a:ext cx="2744640" cy="1235520"/>
          </a:xfrm>
          <a:prstGeom prst="rect">
            <a:avLst/>
          </a:prstGeom>
          <a:noFill/>
          <a:ln w="0">
            <a:noFill/>
          </a:ln>
        </p:spPr>
        <p:txBody>
          <a:bodyPr lIns="90000" rIns="90000" tIns="46800" bIns="46800" anchor="t">
            <a:normAutofit/>
          </a:bodyPr>
          <a:p>
            <a:pPr indent="0">
              <a:lnSpc>
                <a:spcPct val="90000"/>
              </a:lnSpc>
              <a:spcBef>
                <a:spcPts val="349"/>
              </a:spcBef>
              <a:buNone/>
              <a:tabLst>
                <a:tab algn="l" pos="317520"/>
                <a:tab algn="l" pos="635040"/>
                <a:tab algn="l" pos="952560"/>
                <a:tab algn="l" pos="1270080"/>
                <a:tab algn="l" pos="1587600"/>
                <a:tab algn="l" pos="1905120"/>
                <a:tab algn="l" pos="2222640"/>
                <a:tab algn="l" pos="2540160"/>
                <a:tab algn="l" pos="2857680"/>
                <a:tab algn="l" pos="3174840"/>
                <a:tab algn="l" pos="3492360"/>
                <a:tab algn="l" pos="3809880"/>
                <a:tab algn="l" pos="4127400"/>
                <a:tab algn="l" pos="4444920"/>
                <a:tab algn="l" pos="4762440"/>
                <a:tab algn="l" pos="5079960"/>
                <a:tab algn="l" pos="5397480"/>
                <a:tab algn="l" pos="5715000"/>
                <a:tab algn="l" pos="6032520"/>
                <a:tab algn="l" pos="6350040"/>
              </a:tabLst>
            </a:pPr>
            <a:endParaRPr b="0" lang="en-US" sz="900" spc="-1" strike="noStrike">
              <a:solidFill>
                <a:srgbClr val="000000"/>
              </a:solidFill>
              <a:latin typeface="Calibri"/>
            </a:endParaRPr>
          </a:p>
        </p:txBody>
      </p:sp>
      <p:sp>
        <p:nvSpPr>
          <p:cNvPr id="28" name="PlaceHolder 3"/>
          <p:cNvSpPr>
            <a:spLocks noGrp="1"/>
          </p:cNvSpPr>
          <p:nvPr>
            <p:ph/>
          </p:nvPr>
        </p:nvSpPr>
        <p:spPr>
          <a:xfrm>
            <a:off x="219240" y="2440800"/>
            <a:ext cx="2744640" cy="1235520"/>
          </a:xfrm>
          <a:prstGeom prst="rect">
            <a:avLst/>
          </a:prstGeom>
          <a:noFill/>
          <a:ln w="0">
            <a:noFill/>
          </a:ln>
        </p:spPr>
        <p:txBody>
          <a:bodyPr lIns="90000" rIns="90000" tIns="46800" bIns="46800" anchor="t">
            <a:normAutofit/>
          </a:bodyPr>
          <a:p>
            <a:pPr indent="0">
              <a:lnSpc>
                <a:spcPct val="90000"/>
              </a:lnSpc>
              <a:spcBef>
                <a:spcPts val="349"/>
              </a:spcBef>
              <a:buNone/>
              <a:tabLst>
                <a:tab algn="l" pos="317520"/>
                <a:tab algn="l" pos="635040"/>
                <a:tab algn="l" pos="952560"/>
                <a:tab algn="l" pos="1270080"/>
                <a:tab algn="l" pos="1587600"/>
                <a:tab algn="l" pos="1905120"/>
                <a:tab algn="l" pos="2222640"/>
                <a:tab algn="l" pos="2540160"/>
                <a:tab algn="l" pos="2857680"/>
                <a:tab algn="l" pos="3174840"/>
                <a:tab algn="l" pos="3492360"/>
                <a:tab algn="l" pos="3809880"/>
                <a:tab algn="l" pos="4127400"/>
                <a:tab algn="l" pos="4444920"/>
                <a:tab algn="l" pos="4762440"/>
                <a:tab algn="l" pos="5079960"/>
                <a:tab algn="l" pos="5397480"/>
                <a:tab algn="l" pos="5715000"/>
                <a:tab algn="l" pos="6032520"/>
                <a:tab algn="l" pos="6350040"/>
              </a:tabLst>
            </a:pPr>
            <a:endParaRPr b="0" lang="en-US" sz="9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1DCBDF-EF13-44A5-9F60-05DF74B2A5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19240" y="217440"/>
            <a:ext cx="2744640" cy="789120"/>
          </a:xfrm>
          <a:prstGeom prst="rect">
            <a:avLst/>
          </a:prstGeom>
          <a:noFill/>
          <a:ln w="0">
            <a:noFill/>
          </a:ln>
        </p:spPr>
        <p:txBody>
          <a:bodyPr lIns="90000" rIns="90000" tIns="46800" bIns="46800" anchor="ctr">
            <a:noAutofit/>
          </a:bodyPr>
          <a:p>
            <a:pPr indent="0">
              <a:lnSpc>
                <a:spcPct val="90000"/>
              </a:lnSpc>
              <a:buNone/>
              <a:tabLst>
                <a:tab algn="l" pos="0"/>
                <a:tab algn="l" pos="317520"/>
                <a:tab algn="l" pos="635040"/>
                <a:tab algn="l" pos="952560"/>
                <a:tab algn="l" pos="1270080"/>
                <a:tab algn="l" pos="1587600"/>
                <a:tab algn="l" pos="1905120"/>
                <a:tab algn="l" pos="2222640"/>
                <a:tab algn="l" pos="2540160"/>
                <a:tab algn="l" pos="2857680"/>
                <a:tab algn="l" pos="3174840"/>
                <a:tab algn="l" pos="3492360"/>
                <a:tab algn="l" pos="3809880"/>
                <a:tab algn="l" pos="4127400"/>
                <a:tab algn="l" pos="4444920"/>
                <a:tab algn="l" pos="4762440"/>
                <a:tab algn="l" pos="5079960"/>
                <a:tab algn="l" pos="5397480"/>
                <a:tab algn="l" pos="5715000"/>
                <a:tab algn="l" pos="6032520"/>
                <a:tab algn="l" pos="6350040"/>
              </a:tabLst>
            </a:pPr>
            <a:endParaRPr b="0" lang="en-US" sz="1500" spc="-1" strike="noStrike">
              <a:solidFill>
                <a:srgbClr val="000000"/>
              </a:solidFill>
              <a:latin typeface="Calibri Light"/>
            </a:endParaRPr>
          </a:p>
        </p:txBody>
      </p:sp>
      <p:sp>
        <p:nvSpPr>
          <p:cNvPr id="30" name="PlaceHolder 2"/>
          <p:cNvSpPr>
            <a:spLocks noGrp="1"/>
          </p:cNvSpPr>
          <p:nvPr>
            <p:ph/>
          </p:nvPr>
        </p:nvSpPr>
        <p:spPr>
          <a:xfrm>
            <a:off x="219240" y="1087560"/>
            <a:ext cx="1339200" cy="1235520"/>
          </a:xfrm>
          <a:prstGeom prst="rect">
            <a:avLst/>
          </a:prstGeom>
          <a:noFill/>
          <a:ln w="0">
            <a:noFill/>
          </a:ln>
        </p:spPr>
        <p:txBody>
          <a:bodyPr lIns="90000" rIns="90000" tIns="46800" bIns="46800" anchor="t">
            <a:normAutofit/>
          </a:bodyPr>
          <a:p>
            <a:pPr indent="0">
              <a:lnSpc>
                <a:spcPct val="90000"/>
              </a:lnSpc>
              <a:spcBef>
                <a:spcPts val="349"/>
              </a:spcBef>
              <a:buNone/>
              <a:tabLst>
                <a:tab algn="l" pos="317520"/>
                <a:tab algn="l" pos="635040"/>
                <a:tab algn="l" pos="952560"/>
                <a:tab algn="l" pos="1270080"/>
                <a:tab algn="l" pos="1587600"/>
                <a:tab algn="l" pos="1905120"/>
                <a:tab algn="l" pos="2222640"/>
                <a:tab algn="l" pos="2540160"/>
                <a:tab algn="l" pos="2857680"/>
                <a:tab algn="l" pos="3174840"/>
                <a:tab algn="l" pos="3492360"/>
                <a:tab algn="l" pos="3809880"/>
                <a:tab algn="l" pos="4127400"/>
                <a:tab algn="l" pos="4444920"/>
                <a:tab algn="l" pos="4762440"/>
                <a:tab algn="l" pos="5079960"/>
                <a:tab algn="l" pos="5397480"/>
                <a:tab algn="l" pos="5715000"/>
                <a:tab algn="l" pos="6032520"/>
                <a:tab algn="l" pos="6350040"/>
              </a:tabLst>
            </a:pPr>
            <a:endParaRPr b="0" lang="en-US" sz="900" spc="-1" strike="noStrike">
              <a:solidFill>
                <a:srgbClr val="000000"/>
              </a:solidFill>
              <a:latin typeface="Calibri"/>
            </a:endParaRPr>
          </a:p>
        </p:txBody>
      </p:sp>
      <p:sp>
        <p:nvSpPr>
          <p:cNvPr id="31" name="PlaceHolder 3"/>
          <p:cNvSpPr>
            <a:spLocks noGrp="1"/>
          </p:cNvSpPr>
          <p:nvPr>
            <p:ph/>
          </p:nvPr>
        </p:nvSpPr>
        <p:spPr>
          <a:xfrm>
            <a:off x="1625760" y="1087560"/>
            <a:ext cx="1339200" cy="1235520"/>
          </a:xfrm>
          <a:prstGeom prst="rect">
            <a:avLst/>
          </a:prstGeom>
          <a:noFill/>
          <a:ln w="0">
            <a:noFill/>
          </a:ln>
        </p:spPr>
        <p:txBody>
          <a:bodyPr lIns="90000" rIns="90000" tIns="46800" bIns="46800" anchor="t">
            <a:normAutofit/>
          </a:bodyPr>
          <a:p>
            <a:pPr indent="0">
              <a:lnSpc>
                <a:spcPct val="90000"/>
              </a:lnSpc>
              <a:spcBef>
                <a:spcPts val="349"/>
              </a:spcBef>
              <a:buNone/>
              <a:tabLst>
                <a:tab algn="l" pos="317520"/>
                <a:tab algn="l" pos="635040"/>
                <a:tab algn="l" pos="952560"/>
                <a:tab algn="l" pos="1270080"/>
                <a:tab algn="l" pos="1587600"/>
                <a:tab algn="l" pos="1905120"/>
                <a:tab algn="l" pos="2222640"/>
                <a:tab algn="l" pos="2540160"/>
                <a:tab algn="l" pos="2857680"/>
                <a:tab algn="l" pos="3174840"/>
                <a:tab algn="l" pos="3492360"/>
                <a:tab algn="l" pos="3809880"/>
                <a:tab algn="l" pos="4127400"/>
                <a:tab algn="l" pos="4444920"/>
                <a:tab algn="l" pos="4762440"/>
                <a:tab algn="l" pos="5079960"/>
                <a:tab algn="l" pos="5397480"/>
                <a:tab algn="l" pos="5715000"/>
                <a:tab algn="l" pos="6032520"/>
                <a:tab algn="l" pos="6350040"/>
              </a:tabLst>
            </a:pPr>
            <a:endParaRPr b="0" lang="en-US" sz="900" spc="-1" strike="noStrike">
              <a:solidFill>
                <a:srgbClr val="000000"/>
              </a:solidFill>
              <a:latin typeface="Calibri"/>
            </a:endParaRPr>
          </a:p>
        </p:txBody>
      </p:sp>
      <p:sp>
        <p:nvSpPr>
          <p:cNvPr id="32" name="PlaceHolder 4"/>
          <p:cNvSpPr>
            <a:spLocks noGrp="1"/>
          </p:cNvSpPr>
          <p:nvPr>
            <p:ph/>
          </p:nvPr>
        </p:nvSpPr>
        <p:spPr>
          <a:xfrm>
            <a:off x="219240" y="2440800"/>
            <a:ext cx="1339200" cy="1235520"/>
          </a:xfrm>
          <a:prstGeom prst="rect">
            <a:avLst/>
          </a:prstGeom>
          <a:noFill/>
          <a:ln w="0">
            <a:noFill/>
          </a:ln>
        </p:spPr>
        <p:txBody>
          <a:bodyPr lIns="90000" rIns="90000" tIns="46800" bIns="46800" anchor="t">
            <a:normAutofit/>
          </a:bodyPr>
          <a:p>
            <a:pPr indent="0">
              <a:lnSpc>
                <a:spcPct val="90000"/>
              </a:lnSpc>
              <a:spcBef>
                <a:spcPts val="349"/>
              </a:spcBef>
              <a:buNone/>
              <a:tabLst>
                <a:tab algn="l" pos="317520"/>
                <a:tab algn="l" pos="635040"/>
                <a:tab algn="l" pos="952560"/>
                <a:tab algn="l" pos="1270080"/>
                <a:tab algn="l" pos="1587600"/>
                <a:tab algn="l" pos="1905120"/>
                <a:tab algn="l" pos="2222640"/>
                <a:tab algn="l" pos="2540160"/>
                <a:tab algn="l" pos="2857680"/>
                <a:tab algn="l" pos="3174840"/>
                <a:tab algn="l" pos="3492360"/>
                <a:tab algn="l" pos="3809880"/>
                <a:tab algn="l" pos="4127400"/>
                <a:tab algn="l" pos="4444920"/>
                <a:tab algn="l" pos="4762440"/>
                <a:tab algn="l" pos="5079960"/>
                <a:tab algn="l" pos="5397480"/>
                <a:tab algn="l" pos="5715000"/>
                <a:tab algn="l" pos="6032520"/>
                <a:tab algn="l" pos="6350040"/>
              </a:tabLst>
            </a:pPr>
            <a:endParaRPr b="0" lang="en-US" sz="900" spc="-1" strike="noStrike">
              <a:solidFill>
                <a:srgbClr val="000000"/>
              </a:solidFill>
              <a:latin typeface="Calibri"/>
            </a:endParaRPr>
          </a:p>
        </p:txBody>
      </p:sp>
      <p:sp>
        <p:nvSpPr>
          <p:cNvPr id="33" name="PlaceHolder 5"/>
          <p:cNvSpPr>
            <a:spLocks noGrp="1"/>
          </p:cNvSpPr>
          <p:nvPr>
            <p:ph/>
          </p:nvPr>
        </p:nvSpPr>
        <p:spPr>
          <a:xfrm>
            <a:off x="1625760" y="2440800"/>
            <a:ext cx="1339200" cy="1235520"/>
          </a:xfrm>
          <a:prstGeom prst="rect">
            <a:avLst/>
          </a:prstGeom>
          <a:noFill/>
          <a:ln w="0">
            <a:noFill/>
          </a:ln>
        </p:spPr>
        <p:txBody>
          <a:bodyPr lIns="90000" rIns="90000" tIns="46800" bIns="46800" anchor="t">
            <a:normAutofit/>
          </a:bodyPr>
          <a:p>
            <a:pPr indent="0">
              <a:lnSpc>
                <a:spcPct val="90000"/>
              </a:lnSpc>
              <a:spcBef>
                <a:spcPts val="349"/>
              </a:spcBef>
              <a:buNone/>
              <a:tabLst>
                <a:tab algn="l" pos="317520"/>
                <a:tab algn="l" pos="635040"/>
                <a:tab algn="l" pos="952560"/>
                <a:tab algn="l" pos="1270080"/>
                <a:tab algn="l" pos="1587600"/>
                <a:tab algn="l" pos="1905120"/>
                <a:tab algn="l" pos="2222640"/>
                <a:tab algn="l" pos="2540160"/>
                <a:tab algn="l" pos="2857680"/>
                <a:tab algn="l" pos="3174840"/>
                <a:tab algn="l" pos="3492360"/>
                <a:tab algn="l" pos="3809880"/>
                <a:tab algn="l" pos="4127400"/>
                <a:tab algn="l" pos="4444920"/>
                <a:tab algn="l" pos="4762440"/>
                <a:tab algn="l" pos="5079960"/>
                <a:tab algn="l" pos="5397480"/>
                <a:tab algn="l" pos="5715000"/>
                <a:tab algn="l" pos="6032520"/>
                <a:tab algn="l" pos="6350040"/>
              </a:tabLst>
            </a:pPr>
            <a:endParaRPr b="0" lang="en-US" sz="9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191A11-F0E9-4646-A8EF-0D9ED9D0A4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19240" y="217440"/>
            <a:ext cx="2744640" cy="789120"/>
          </a:xfrm>
          <a:prstGeom prst="rect">
            <a:avLst/>
          </a:prstGeom>
          <a:noFill/>
          <a:ln w="0">
            <a:noFill/>
          </a:ln>
        </p:spPr>
        <p:txBody>
          <a:bodyPr lIns="90000" rIns="90000" tIns="46800" bIns="46800" anchor="ctr">
            <a:noAutofit/>
          </a:bodyPr>
          <a:p>
            <a:pPr indent="0">
              <a:lnSpc>
                <a:spcPct val="90000"/>
              </a:lnSpc>
              <a:buNone/>
              <a:tabLst>
                <a:tab algn="l" pos="0"/>
                <a:tab algn="l" pos="317520"/>
                <a:tab algn="l" pos="635040"/>
                <a:tab algn="l" pos="952560"/>
                <a:tab algn="l" pos="1270080"/>
                <a:tab algn="l" pos="1587600"/>
                <a:tab algn="l" pos="1905120"/>
                <a:tab algn="l" pos="2222640"/>
                <a:tab algn="l" pos="2540160"/>
                <a:tab algn="l" pos="2857680"/>
                <a:tab algn="l" pos="3174840"/>
                <a:tab algn="l" pos="3492360"/>
                <a:tab algn="l" pos="3809880"/>
                <a:tab algn="l" pos="4127400"/>
                <a:tab algn="l" pos="4444920"/>
                <a:tab algn="l" pos="4762440"/>
                <a:tab algn="l" pos="5079960"/>
                <a:tab algn="l" pos="5397480"/>
                <a:tab algn="l" pos="5715000"/>
                <a:tab algn="l" pos="6032520"/>
                <a:tab algn="l" pos="6350040"/>
              </a:tabLst>
            </a:pPr>
            <a:endParaRPr b="0" lang="en-US" sz="1500" spc="-1" strike="noStrike">
              <a:solidFill>
                <a:srgbClr val="000000"/>
              </a:solidFill>
              <a:latin typeface="Calibri Light"/>
            </a:endParaRPr>
          </a:p>
        </p:txBody>
      </p:sp>
      <p:sp>
        <p:nvSpPr>
          <p:cNvPr id="35" name="PlaceHolder 2"/>
          <p:cNvSpPr>
            <a:spLocks noGrp="1"/>
          </p:cNvSpPr>
          <p:nvPr>
            <p:ph/>
          </p:nvPr>
        </p:nvSpPr>
        <p:spPr>
          <a:xfrm>
            <a:off x="219240" y="1087560"/>
            <a:ext cx="883440" cy="1235520"/>
          </a:xfrm>
          <a:prstGeom prst="rect">
            <a:avLst/>
          </a:prstGeom>
          <a:noFill/>
          <a:ln w="0">
            <a:noFill/>
          </a:ln>
        </p:spPr>
        <p:txBody>
          <a:bodyPr lIns="90000" rIns="90000" tIns="46800" bIns="46800" anchor="t">
            <a:normAutofit/>
          </a:bodyPr>
          <a:p>
            <a:pPr indent="0">
              <a:lnSpc>
                <a:spcPct val="90000"/>
              </a:lnSpc>
              <a:spcBef>
                <a:spcPts val="349"/>
              </a:spcBef>
              <a:buNone/>
              <a:tabLst>
                <a:tab algn="l" pos="317520"/>
                <a:tab algn="l" pos="635040"/>
                <a:tab algn="l" pos="952560"/>
                <a:tab algn="l" pos="1270080"/>
                <a:tab algn="l" pos="1587600"/>
                <a:tab algn="l" pos="1905120"/>
                <a:tab algn="l" pos="2222640"/>
                <a:tab algn="l" pos="2540160"/>
                <a:tab algn="l" pos="2857680"/>
                <a:tab algn="l" pos="3174840"/>
                <a:tab algn="l" pos="3492360"/>
                <a:tab algn="l" pos="3809880"/>
                <a:tab algn="l" pos="4127400"/>
                <a:tab algn="l" pos="4444920"/>
                <a:tab algn="l" pos="4762440"/>
                <a:tab algn="l" pos="5079960"/>
                <a:tab algn="l" pos="5397480"/>
                <a:tab algn="l" pos="5715000"/>
                <a:tab algn="l" pos="6032520"/>
                <a:tab algn="l" pos="6350040"/>
              </a:tabLst>
            </a:pPr>
            <a:endParaRPr b="0" lang="en-US" sz="900" spc="-1" strike="noStrike">
              <a:solidFill>
                <a:srgbClr val="000000"/>
              </a:solidFill>
              <a:latin typeface="Calibri"/>
            </a:endParaRPr>
          </a:p>
        </p:txBody>
      </p:sp>
      <p:sp>
        <p:nvSpPr>
          <p:cNvPr id="36" name="PlaceHolder 3"/>
          <p:cNvSpPr>
            <a:spLocks noGrp="1"/>
          </p:cNvSpPr>
          <p:nvPr>
            <p:ph/>
          </p:nvPr>
        </p:nvSpPr>
        <p:spPr>
          <a:xfrm>
            <a:off x="1147320" y="1087560"/>
            <a:ext cx="883440" cy="1235520"/>
          </a:xfrm>
          <a:prstGeom prst="rect">
            <a:avLst/>
          </a:prstGeom>
          <a:noFill/>
          <a:ln w="0">
            <a:noFill/>
          </a:ln>
        </p:spPr>
        <p:txBody>
          <a:bodyPr lIns="90000" rIns="90000" tIns="46800" bIns="46800" anchor="t">
            <a:normAutofit/>
          </a:bodyPr>
          <a:p>
            <a:pPr indent="0">
              <a:lnSpc>
                <a:spcPct val="90000"/>
              </a:lnSpc>
              <a:spcBef>
                <a:spcPts val="349"/>
              </a:spcBef>
              <a:buNone/>
              <a:tabLst>
                <a:tab algn="l" pos="317520"/>
                <a:tab algn="l" pos="635040"/>
                <a:tab algn="l" pos="952560"/>
                <a:tab algn="l" pos="1270080"/>
                <a:tab algn="l" pos="1587600"/>
                <a:tab algn="l" pos="1905120"/>
                <a:tab algn="l" pos="2222640"/>
                <a:tab algn="l" pos="2540160"/>
                <a:tab algn="l" pos="2857680"/>
                <a:tab algn="l" pos="3174840"/>
                <a:tab algn="l" pos="3492360"/>
                <a:tab algn="l" pos="3809880"/>
                <a:tab algn="l" pos="4127400"/>
                <a:tab algn="l" pos="4444920"/>
                <a:tab algn="l" pos="4762440"/>
                <a:tab algn="l" pos="5079960"/>
                <a:tab algn="l" pos="5397480"/>
                <a:tab algn="l" pos="5715000"/>
                <a:tab algn="l" pos="6032520"/>
                <a:tab algn="l" pos="6350040"/>
              </a:tabLst>
            </a:pPr>
            <a:endParaRPr b="0" lang="en-US" sz="900" spc="-1" strike="noStrike">
              <a:solidFill>
                <a:srgbClr val="000000"/>
              </a:solidFill>
              <a:latin typeface="Calibri"/>
            </a:endParaRPr>
          </a:p>
        </p:txBody>
      </p:sp>
      <p:sp>
        <p:nvSpPr>
          <p:cNvPr id="37" name="PlaceHolder 4"/>
          <p:cNvSpPr>
            <a:spLocks noGrp="1"/>
          </p:cNvSpPr>
          <p:nvPr>
            <p:ph/>
          </p:nvPr>
        </p:nvSpPr>
        <p:spPr>
          <a:xfrm>
            <a:off x="2075400" y="1087560"/>
            <a:ext cx="883440" cy="1235520"/>
          </a:xfrm>
          <a:prstGeom prst="rect">
            <a:avLst/>
          </a:prstGeom>
          <a:noFill/>
          <a:ln w="0">
            <a:noFill/>
          </a:ln>
        </p:spPr>
        <p:txBody>
          <a:bodyPr lIns="90000" rIns="90000" tIns="46800" bIns="46800" anchor="t">
            <a:normAutofit/>
          </a:bodyPr>
          <a:p>
            <a:pPr indent="0">
              <a:lnSpc>
                <a:spcPct val="90000"/>
              </a:lnSpc>
              <a:spcBef>
                <a:spcPts val="349"/>
              </a:spcBef>
              <a:buNone/>
              <a:tabLst>
                <a:tab algn="l" pos="317520"/>
                <a:tab algn="l" pos="635040"/>
                <a:tab algn="l" pos="952560"/>
                <a:tab algn="l" pos="1270080"/>
                <a:tab algn="l" pos="1587600"/>
                <a:tab algn="l" pos="1905120"/>
                <a:tab algn="l" pos="2222640"/>
                <a:tab algn="l" pos="2540160"/>
                <a:tab algn="l" pos="2857680"/>
                <a:tab algn="l" pos="3174840"/>
                <a:tab algn="l" pos="3492360"/>
                <a:tab algn="l" pos="3809880"/>
                <a:tab algn="l" pos="4127400"/>
                <a:tab algn="l" pos="4444920"/>
                <a:tab algn="l" pos="4762440"/>
                <a:tab algn="l" pos="5079960"/>
                <a:tab algn="l" pos="5397480"/>
                <a:tab algn="l" pos="5715000"/>
                <a:tab algn="l" pos="6032520"/>
                <a:tab algn="l" pos="6350040"/>
              </a:tabLst>
            </a:pPr>
            <a:endParaRPr b="0" lang="en-US" sz="900" spc="-1" strike="noStrike">
              <a:solidFill>
                <a:srgbClr val="000000"/>
              </a:solidFill>
              <a:latin typeface="Calibri"/>
            </a:endParaRPr>
          </a:p>
        </p:txBody>
      </p:sp>
      <p:sp>
        <p:nvSpPr>
          <p:cNvPr id="38" name="PlaceHolder 5"/>
          <p:cNvSpPr>
            <a:spLocks noGrp="1"/>
          </p:cNvSpPr>
          <p:nvPr>
            <p:ph/>
          </p:nvPr>
        </p:nvSpPr>
        <p:spPr>
          <a:xfrm>
            <a:off x="219240" y="2440800"/>
            <a:ext cx="883440" cy="1235520"/>
          </a:xfrm>
          <a:prstGeom prst="rect">
            <a:avLst/>
          </a:prstGeom>
          <a:noFill/>
          <a:ln w="0">
            <a:noFill/>
          </a:ln>
        </p:spPr>
        <p:txBody>
          <a:bodyPr lIns="90000" rIns="90000" tIns="46800" bIns="46800" anchor="t">
            <a:normAutofit/>
          </a:bodyPr>
          <a:p>
            <a:pPr indent="0">
              <a:lnSpc>
                <a:spcPct val="90000"/>
              </a:lnSpc>
              <a:spcBef>
                <a:spcPts val="349"/>
              </a:spcBef>
              <a:buNone/>
              <a:tabLst>
                <a:tab algn="l" pos="317520"/>
                <a:tab algn="l" pos="635040"/>
                <a:tab algn="l" pos="952560"/>
                <a:tab algn="l" pos="1270080"/>
                <a:tab algn="l" pos="1587600"/>
                <a:tab algn="l" pos="1905120"/>
                <a:tab algn="l" pos="2222640"/>
                <a:tab algn="l" pos="2540160"/>
                <a:tab algn="l" pos="2857680"/>
                <a:tab algn="l" pos="3174840"/>
                <a:tab algn="l" pos="3492360"/>
                <a:tab algn="l" pos="3809880"/>
                <a:tab algn="l" pos="4127400"/>
                <a:tab algn="l" pos="4444920"/>
                <a:tab algn="l" pos="4762440"/>
                <a:tab algn="l" pos="5079960"/>
                <a:tab algn="l" pos="5397480"/>
                <a:tab algn="l" pos="5715000"/>
                <a:tab algn="l" pos="6032520"/>
                <a:tab algn="l" pos="6350040"/>
              </a:tabLst>
            </a:pPr>
            <a:endParaRPr b="0" lang="en-US" sz="900" spc="-1" strike="noStrike">
              <a:solidFill>
                <a:srgbClr val="000000"/>
              </a:solidFill>
              <a:latin typeface="Calibri"/>
            </a:endParaRPr>
          </a:p>
        </p:txBody>
      </p:sp>
      <p:sp>
        <p:nvSpPr>
          <p:cNvPr id="39" name="PlaceHolder 6"/>
          <p:cNvSpPr>
            <a:spLocks noGrp="1"/>
          </p:cNvSpPr>
          <p:nvPr>
            <p:ph/>
          </p:nvPr>
        </p:nvSpPr>
        <p:spPr>
          <a:xfrm>
            <a:off x="1147320" y="2440800"/>
            <a:ext cx="883440" cy="1235520"/>
          </a:xfrm>
          <a:prstGeom prst="rect">
            <a:avLst/>
          </a:prstGeom>
          <a:noFill/>
          <a:ln w="0">
            <a:noFill/>
          </a:ln>
        </p:spPr>
        <p:txBody>
          <a:bodyPr lIns="90000" rIns="90000" tIns="46800" bIns="46800" anchor="t">
            <a:normAutofit/>
          </a:bodyPr>
          <a:p>
            <a:pPr indent="0">
              <a:lnSpc>
                <a:spcPct val="90000"/>
              </a:lnSpc>
              <a:spcBef>
                <a:spcPts val="349"/>
              </a:spcBef>
              <a:buNone/>
              <a:tabLst>
                <a:tab algn="l" pos="317520"/>
                <a:tab algn="l" pos="635040"/>
                <a:tab algn="l" pos="952560"/>
                <a:tab algn="l" pos="1270080"/>
                <a:tab algn="l" pos="1587600"/>
                <a:tab algn="l" pos="1905120"/>
                <a:tab algn="l" pos="2222640"/>
                <a:tab algn="l" pos="2540160"/>
                <a:tab algn="l" pos="2857680"/>
                <a:tab algn="l" pos="3174840"/>
                <a:tab algn="l" pos="3492360"/>
                <a:tab algn="l" pos="3809880"/>
                <a:tab algn="l" pos="4127400"/>
                <a:tab algn="l" pos="4444920"/>
                <a:tab algn="l" pos="4762440"/>
                <a:tab algn="l" pos="5079960"/>
                <a:tab algn="l" pos="5397480"/>
                <a:tab algn="l" pos="5715000"/>
                <a:tab algn="l" pos="6032520"/>
                <a:tab algn="l" pos="6350040"/>
              </a:tabLst>
            </a:pPr>
            <a:endParaRPr b="0" lang="en-US" sz="900" spc="-1" strike="noStrike">
              <a:solidFill>
                <a:srgbClr val="000000"/>
              </a:solidFill>
              <a:latin typeface="Calibri"/>
            </a:endParaRPr>
          </a:p>
        </p:txBody>
      </p:sp>
      <p:sp>
        <p:nvSpPr>
          <p:cNvPr id="40" name="PlaceHolder 7"/>
          <p:cNvSpPr>
            <a:spLocks noGrp="1"/>
          </p:cNvSpPr>
          <p:nvPr>
            <p:ph/>
          </p:nvPr>
        </p:nvSpPr>
        <p:spPr>
          <a:xfrm>
            <a:off x="2075400" y="2440800"/>
            <a:ext cx="883440" cy="1235520"/>
          </a:xfrm>
          <a:prstGeom prst="rect">
            <a:avLst/>
          </a:prstGeom>
          <a:noFill/>
          <a:ln w="0">
            <a:noFill/>
          </a:ln>
        </p:spPr>
        <p:txBody>
          <a:bodyPr lIns="90000" rIns="90000" tIns="46800" bIns="46800" anchor="t">
            <a:normAutofit/>
          </a:bodyPr>
          <a:p>
            <a:pPr indent="0">
              <a:lnSpc>
                <a:spcPct val="90000"/>
              </a:lnSpc>
              <a:spcBef>
                <a:spcPts val="349"/>
              </a:spcBef>
              <a:buNone/>
              <a:tabLst>
                <a:tab algn="l" pos="317520"/>
                <a:tab algn="l" pos="635040"/>
                <a:tab algn="l" pos="952560"/>
                <a:tab algn="l" pos="1270080"/>
                <a:tab algn="l" pos="1587600"/>
                <a:tab algn="l" pos="1905120"/>
                <a:tab algn="l" pos="2222640"/>
                <a:tab algn="l" pos="2540160"/>
                <a:tab algn="l" pos="2857680"/>
                <a:tab algn="l" pos="3174840"/>
                <a:tab algn="l" pos="3492360"/>
                <a:tab algn="l" pos="3809880"/>
                <a:tab algn="l" pos="4127400"/>
                <a:tab algn="l" pos="4444920"/>
                <a:tab algn="l" pos="4762440"/>
                <a:tab algn="l" pos="5079960"/>
                <a:tab algn="l" pos="5397480"/>
                <a:tab algn="l" pos="5715000"/>
                <a:tab algn="l" pos="6032520"/>
                <a:tab algn="l" pos="6350040"/>
              </a:tabLst>
            </a:pPr>
            <a:endParaRPr b="0" lang="en-US" sz="9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9AE52C-E5CC-47E1-A6EE-561FC2ED85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 name="PlaceHolder 1"/>
          <p:cNvSpPr>
            <a:spLocks noGrp="1"/>
          </p:cNvSpPr>
          <p:nvPr>
            <p:ph type="title"/>
          </p:nvPr>
        </p:nvSpPr>
        <p:spPr>
          <a:xfrm>
            <a:off x="219240" y="217440"/>
            <a:ext cx="2744640" cy="789120"/>
          </a:xfrm>
          <a:prstGeom prst="rect">
            <a:avLst/>
          </a:prstGeom>
          <a:noFill/>
          <a:ln w="0">
            <a:noFill/>
          </a:ln>
        </p:spPr>
        <p:txBody>
          <a:bodyPr lIns="90000" rIns="90000" tIns="46800" bIns="46800" anchor="ctr">
            <a:noAutofit/>
          </a:bodyPr>
          <a:p>
            <a:pPr indent="0">
              <a:lnSpc>
                <a:spcPct val="90000"/>
              </a:lnSpc>
              <a:buNone/>
              <a:tabLst>
                <a:tab algn="l" pos="0"/>
                <a:tab algn="l" pos="317520"/>
                <a:tab algn="l" pos="635040"/>
                <a:tab algn="l" pos="952560"/>
                <a:tab algn="l" pos="1270080"/>
                <a:tab algn="l" pos="1587600"/>
                <a:tab algn="l" pos="1905120"/>
                <a:tab algn="l" pos="2222640"/>
                <a:tab algn="l" pos="2540160"/>
                <a:tab algn="l" pos="2857680"/>
                <a:tab algn="l" pos="3174840"/>
                <a:tab algn="l" pos="3492360"/>
                <a:tab algn="l" pos="3809880"/>
                <a:tab algn="l" pos="4127400"/>
                <a:tab algn="l" pos="4444920"/>
                <a:tab algn="l" pos="4762440"/>
                <a:tab algn="l" pos="5079960"/>
                <a:tab algn="l" pos="5397480"/>
                <a:tab algn="l" pos="5715000"/>
                <a:tab algn="l" pos="6032520"/>
                <a:tab algn="l" pos="6350040"/>
              </a:tabLst>
            </a:pPr>
            <a:endParaRPr b="0" lang="en-US" sz="1500" spc="-1" strike="noStrike">
              <a:solidFill>
                <a:srgbClr val="000000"/>
              </a:solidFill>
              <a:latin typeface="Calibri Light"/>
            </a:endParaRPr>
          </a:p>
        </p:txBody>
      </p:sp>
      <p:sp>
        <p:nvSpPr>
          <p:cNvPr id="84" name="PlaceHolder 2"/>
          <p:cNvSpPr>
            <a:spLocks noGrp="1"/>
          </p:cNvSpPr>
          <p:nvPr>
            <p:ph type="subTitle"/>
          </p:nvPr>
        </p:nvSpPr>
        <p:spPr>
          <a:xfrm>
            <a:off x="219240" y="1087560"/>
            <a:ext cx="2744640" cy="2590560"/>
          </a:xfrm>
          <a:prstGeom prst="rect">
            <a:avLst/>
          </a:prstGeom>
          <a:noFill/>
          <a:ln w="0">
            <a:noFill/>
          </a:ln>
        </p:spPr>
        <p:txBody>
          <a:bodyPr lIns="0" rIns="0" tIns="0" bIns="0" anchor="ctr">
            <a:noAutofit/>
          </a:bodyPr>
          <a:p>
            <a:pPr indent="0" algn="ctr">
              <a:lnSpc>
                <a:spcPct val="90000"/>
              </a:lnSpc>
              <a:spcBef>
                <a:spcPts val="349"/>
              </a:spcBef>
              <a:buNone/>
              <a:tabLst>
                <a:tab algn="l" pos="0"/>
                <a:tab algn="l" pos="317520"/>
                <a:tab algn="l" pos="635040"/>
                <a:tab algn="l" pos="952560"/>
                <a:tab algn="l" pos="1270080"/>
                <a:tab algn="l" pos="1587600"/>
                <a:tab algn="l" pos="1905120"/>
                <a:tab algn="l" pos="2222640"/>
                <a:tab algn="l" pos="2540160"/>
                <a:tab algn="l" pos="2857680"/>
                <a:tab algn="l" pos="3174840"/>
                <a:tab algn="l" pos="3492360"/>
                <a:tab algn="l" pos="3809880"/>
                <a:tab algn="l" pos="4127400"/>
                <a:tab algn="l" pos="4444920"/>
                <a:tab algn="l" pos="4762440"/>
                <a:tab algn="l" pos="5079960"/>
                <a:tab algn="l" pos="5397480"/>
                <a:tab algn="l" pos="5715000"/>
                <a:tab algn="l" pos="6032520"/>
                <a:tab algn="l" pos="6350040"/>
              </a:tabLst>
            </a:pPr>
            <a:endParaRPr b="0" lang="en-US" sz="9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219240" y="217440"/>
            <a:ext cx="2744640" cy="789120"/>
          </a:xfrm>
          <a:prstGeom prst="rect">
            <a:avLst/>
          </a:prstGeom>
          <a:noFill/>
          <a:ln w="0">
            <a:noFill/>
          </a:ln>
        </p:spPr>
        <p:txBody>
          <a:bodyPr lIns="90000" rIns="90000" tIns="46800" bIns="46800" anchor="ctr">
            <a:noAutofit/>
          </a:bodyPr>
          <a:p>
            <a:pPr indent="0">
              <a:lnSpc>
                <a:spcPct val="90000"/>
              </a:lnSpc>
              <a:buNone/>
              <a:tabLst>
                <a:tab algn="l" pos="0"/>
                <a:tab algn="l" pos="317520"/>
                <a:tab algn="l" pos="635040"/>
                <a:tab algn="l" pos="952560"/>
                <a:tab algn="l" pos="1270080"/>
                <a:tab algn="l" pos="1587600"/>
                <a:tab algn="l" pos="1905120"/>
                <a:tab algn="l" pos="2222640"/>
                <a:tab algn="l" pos="2540160"/>
                <a:tab algn="l" pos="2857680"/>
                <a:tab algn="l" pos="3174840"/>
                <a:tab algn="l" pos="3492360"/>
                <a:tab algn="l" pos="3809880"/>
                <a:tab algn="l" pos="4127400"/>
                <a:tab algn="l" pos="4444920"/>
                <a:tab algn="l" pos="4762440"/>
                <a:tab algn="l" pos="5079960"/>
                <a:tab algn="l" pos="5397480"/>
                <a:tab algn="l" pos="5715000"/>
                <a:tab algn="l" pos="6032520"/>
                <a:tab algn="l" pos="6350040"/>
              </a:tabLst>
            </a:pPr>
            <a:endParaRPr b="0" lang="en-US" sz="1500" spc="-1" strike="noStrike">
              <a:solidFill>
                <a:srgbClr val="000000"/>
              </a:solidFill>
              <a:latin typeface="Calibri Light"/>
            </a:endParaRPr>
          </a:p>
        </p:txBody>
      </p:sp>
      <p:sp>
        <p:nvSpPr>
          <p:cNvPr id="86" name="PlaceHolder 2"/>
          <p:cNvSpPr>
            <a:spLocks noGrp="1"/>
          </p:cNvSpPr>
          <p:nvPr>
            <p:ph/>
          </p:nvPr>
        </p:nvSpPr>
        <p:spPr>
          <a:xfrm>
            <a:off x="219240" y="1087560"/>
            <a:ext cx="2744640" cy="2590560"/>
          </a:xfrm>
          <a:prstGeom prst="rect">
            <a:avLst/>
          </a:prstGeom>
          <a:noFill/>
          <a:ln w="0">
            <a:noFill/>
          </a:ln>
        </p:spPr>
        <p:txBody>
          <a:bodyPr lIns="90000" rIns="90000" tIns="46800" bIns="46800" anchor="t">
            <a:normAutofit/>
          </a:bodyPr>
          <a:p>
            <a:pPr indent="0">
              <a:lnSpc>
                <a:spcPct val="90000"/>
              </a:lnSpc>
              <a:spcBef>
                <a:spcPts val="349"/>
              </a:spcBef>
              <a:buNone/>
              <a:tabLst>
                <a:tab algn="l" pos="317520"/>
                <a:tab algn="l" pos="635040"/>
                <a:tab algn="l" pos="952560"/>
                <a:tab algn="l" pos="1270080"/>
                <a:tab algn="l" pos="1587600"/>
                <a:tab algn="l" pos="1905120"/>
                <a:tab algn="l" pos="2222640"/>
                <a:tab algn="l" pos="2540160"/>
                <a:tab algn="l" pos="2857680"/>
                <a:tab algn="l" pos="3174840"/>
                <a:tab algn="l" pos="3492360"/>
                <a:tab algn="l" pos="3809880"/>
                <a:tab algn="l" pos="4127400"/>
                <a:tab algn="l" pos="4444920"/>
                <a:tab algn="l" pos="4762440"/>
                <a:tab algn="l" pos="5079960"/>
                <a:tab algn="l" pos="5397480"/>
                <a:tab algn="l" pos="5715000"/>
                <a:tab algn="l" pos="6032520"/>
                <a:tab algn="l" pos="6350040"/>
              </a:tabLst>
            </a:pPr>
            <a:endParaRPr b="0" lang="en-US" sz="9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219240" y="217440"/>
            <a:ext cx="2744640" cy="789120"/>
          </a:xfrm>
          <a:prstGeom prst="rect">
            <a:avLst/>
          </a:prstGeom>
          <a:noFill/>
          <a:ln w="0">
            <a:noFill/>
          </a:ln>
        </p:spPr>
        <p:txBody>
          <a:bodyPr lIns="90000" rIns="90000" tIns="46800" bIns="46800" anchor="ctr">
            <a:noAutofit/>
          </a:bodyPr>
          <a:p>
            <a:pPr indent="0">
              <a:lnSpc>
                <a:spcPct val="90000"/>
              </a:lnSpc>
              <a:buNone/>
              <a:tabLst>
                <a:tab algn="l" pos="0"/>
                <a:tab algn="l" pos="317520"/>
                <a:tab algn="l" pos="635040"/>
                <a:tab algn="l" pos="952560"/>
                <a:tab algn="l" pos="1270080"/>
                <a:tab algn="l" pos="1587600"/>
                <a:tab algn="l" pos="1905120"/>
                <a:tab algn="l" pos="2222640"/>
                <a:tab algn="l" pos="2540160"/>
                <a:tab algn="l" pos="2857680"/>
                <a:tab algn="l" pos="3174840"/>
                <a:tab algn="l" pos="3492360"/>
                <a:tab algn="l" pos="3809880"/>
                <a:tab algn="l" pos="4127400"/>
                <a:tab algn="l" pos="4444920"/>
                <a:tab algn="l" pos="4762440"/>
                <a:tab algn="l" pos="5079960"/>
                <a:tab algn="l" pos="5397480"/>
                <a:tab algn="l" pos="5715000"/>
                <a:tab algn="l" pos="6032520"/>
                <a:tab algn="l" pos="6350040"/>
              </a:tabLst>
            </a:pPr>
            <a:endParaRPr b="0" lang="en-US" sz="1500" spc="-1" strike="noStrike">
              <a:solidFill>
                <a:srgbClr val="000000"/>
              </a:solidFill>
              <a:latin typeface="Calibri Light"/>
            </a:endParaRPr>
          </a:p>
        </p:txBody>
      </p:sp>
      <p:sp>
        <p:nvSpPr>
          <p:cNvPr id="88" name="PlaceHolder 2"/>
          <p:cNvSpPr>
            <a:spLocks noGrp="1"/>
          </p:cNvSpPr>
          <p:nvPr>
            <p:ph/>
          </p:nvPr>
        </p:nvSpPr>
        <p:spPr>
          <a:xfrm>
            <a:off x="219240" y="1087560"/>
            <a:ext cx="1339200" cy="2590560"/>
          </a:xfrm>
          <a:prstGeom prst="rect">
            <a:avLst/>
          </a:prstGeom>
          <a:noFill/>
          <a:ln w="0">
            <a:noFill/>
          </a:ln>
        </p:spPr>
        <p:txBody>
          <a:bodyPr lIns="90000" rIns="90000" tIns="46800" bIns="46800" anchor="t">
            <a:normAutofit/>
          </a:bodyPr>
          <a:p>
            <a:pPr indent="0">
              <a:lnSpc>
                <a:spcPct val="90000"/>
              </a:lnSpc>
              <a:spcBef>
                <a:spcPts val="349"/>
              </a:spcBef>
              <a:buNone/>
              <a:tabLst>
                <a:tab algn="l" pos="317520"/>
                <a:tab algn="l" pos="635040"/>
                <a:tab algn="l" pos="952560"/>
                <a:tab algn="l" pos="1270080"/>
                <a:tab algn="l" pos="1587600"/>
                <a:tab algn="l" pos="1905120"/>
                <a:tab algn="l" pos="2222640"/>
                <a:tab algn="l" pos="2540160"/>
                <a:tab algn="l" pos="2857680"/>
                <a:tab algn="l" pos="3174840"/>
                <a:tab algn="l" pos="3492360"/>
                <a:tab algn="l" pos="3809880"/>
                <a:tab algn="l" pos="4127400"/>
                <a:tab algn="l" pos="4444920"/>
                <a:tab algn="l" pos="4762440"/>
                <a:tab algn="l" pos="5079960"/>
                <a:tab algn="l" pos="5397480"/>
                <a:tab algn="l" pos="5715000"/>
                <a:tab algn="l" pos="6032520"/>
                <a:tab algn="l" pos="6350040"/>
              </a:tabLst>
            </a:pPr>
            <a:endParaRPr b="0" lang="en-US" sz="900" spc="-1" strike="noStrike">
              <a:solidFill>
                <a:srgbClr val="000000"/>
              </a:solidFill>
              <a:latin typeface="Calibri"/>
            </a:endParaRPr>
          </a:p>
        </p:txBody>
      </p:sp>
      <p:sp>
        <p:nvSpPr>
          <p:cNvPr id="89" name="PlaceHolder 3"/>
          <p:cNvSpPr>
            <a:spLocks noGrp="1"/>
          </p:cNvSpPr>
          <p:nvPr>
            <p:ph/>
          </p:nvPr>
        </p:nvSpPr>
        <p:spPr>
          <a:xfrm>
            <a:off x="1625760" y="1087560"/>
            <a:ext cx="1339200" cy="2590560"/>
          </a:xfrm>
          <a:prstGeom prst="rect">
            <a:avLst/>
          </a:prstGeom>
          <a:noFill/>
          <a:ln w="0">
            <a:noFill/>
          </a:ln>
        </p:spPr>
        <p:txBody>
          <a:bodyPr lIns="90000" rIns="90000" tIns="46800" bIns="46800" anchor="t">
            <a:normAutofit/>
          </a:bodyPr>
          <a:p>
            <a:pPr indent="0">
              <a:lnSpc>
                <a:spcPct val="90000"/>
              </a:lnSpc>
              <a:spcBef>
                <a:spcPts val="349"/>
              </a:spcBef>
              <a:buNone/>
              <a:tabLst>
                <a:tab algn="l" pos="317520"/>
                <a:tab algn="l" pos="635040"/>
                <a:tab algn="l" pos="952560"/>
                <a:tab algn="l" pos="1270080"/>
                <a:tab algn="l" pos="1587600"/>
                <a:tab algn="l" pos="1905120"/>
                <a:tab algn="l" pos="2222640"/>
                <a:tab algn="l" pos="2540160"/>
                <a:tab algn="l" pos="2857680"/>
                <a:tab algn="l" pos="3174840"/>
                <a:tab algn="l" pos="3492360"/>
                <a:tab algn="l" pos="3809880"/>
                <a:tab algn="l" pos="4127400"/>
                <a:tab algn="l" pos="4444920"/>
                <a:tab algn="l" pos="4762440"/>
                <a:tab algn="l" pos="5079960"/>
                <a:tab algn="l" pos="5397480"/>
                <a:tab algn="l" pos="5715000"/>
                <a:tab algn="l" pos="6032520"/>
                <a:tab algn="l" pos="6350040"/>
              </a:tabLst>
            </a:pPr>
            <a:endParaRPr b="0" lang="en-US" sz="9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 name="PlaceHolder 1"/>
          <p:cNvSpPr>
            <a:spLocks noGrp="1"/>
          </p:cNvSpPr>
          <p:nvPr>
            <p:ph type="title"/>
          </p:nvPr>
        </p:nvSpPr>
        <p:spPr>
          <a:xfrm>
            <a:off x="219240" y="217440"/>
            <a:ext cx="2744640" cy="789120"/>
          </a:xfrm>
          <a:prstGeom prst="rect">
            <a:avLst/>
          </a:prstGeom>
          <a:noFill/>
          <a:ln w="0">
            <a:noFill/>
          </a:ln>
        </p:spPr>
        <p:txBody>
          <a:bodyPr lIns="90000" rIns="90000" tIns="46800" bIns="46800" anchor="ctr">
            <a:noAutofit/>
          </a:bodyPr>
          <a:p>
            <a:pPr indent="0">
              <a:lnSpc>
                <a:spcPct val="90000"/>
              </a:lnSpc>
              <a:buNone/>
              <a:tabLst>
                <a:tab algn="l" pos="0"/>
                <a:tab algn="l" pos="317520"/>
                <a:tab algn="l" pos="635040"/>
                <a:tab algn="l" pos="952560"/>
                <a:tab algn="l" pos="1270080"/>
                <a:tab algn="l" pos="1587600"/>
                <a:tab algn="l" pos="1905120"/>
                <a:tab algn="l" pos="2222640"/>
                <a:tab algn="l" pos="2540160"/>
                <a:tab algn="l" pos="2857680"/>
                <a:tab algn="l" pos="3174840"/>
                <a:tab algn="l" pos="3492360"/>
                <a:tab algn="l" pos="3809880"/>
                <a:tab algn="l" pos="4127400"/>
                <a:tab algn="l" pos="4444920"/>
                <a:tab algn="l" pos="4762440"/>
                <a:tab algn="l" pos="5079960"/>
                <a:tab algn="l" pos="5397480"/>
                <a:tab algn="l" pos="5715000"/>
                <a:tab algn="l" pos="6032520"/>
                <a:tab algn="l" pos="6350040"/>
              </a:tabLst>
            </a:pPr>
            <a:endParaRPr b="0" lang="en-US" sz="1500" spc="-1" strike="noStrike">
              <a:solidFill>
                <a:srgbClr val="000000"/>
              </a:solidFill>
              <a:latin typeface="Calibri Ligh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 name="PlaceHolder 1"/>
          <p:cNvSpPr>
            <a:spLocks noGrp="1"/>
          </p:cNvSpPr>
          <p:nvPr>
            <p:ph type="subTitle"/>
          </p:nvPr>
        </p:nvSpPr>
        <p:spPr>
          <a:xfrm>
            <a:off x="219240" y="217440"/>
            <a:ext cx="2744640" cy="3659040"/>
          </a:xfrm>
          <a:prstGeom prst="rect">
            <a:avLst/>
          </a:prstGeom>
          <a:noFill/>
          <a:ln w="0">
            <a:noFill/>
          </a:ln>
        </p:spPr>
        <p:txBody>
          <a:bodyPr lIns="0" rIns="0" tIns="0" bIns="0" anchor="ctr">
            <a:noAutofit/>
          </a:bodyPr>
          <a:p>
            <a:pPr algn="ctr">
              <a:lnSpc>
                <a:spcPct val="90000"/>
              </a:lnSpc>
              <a:spcBef>
                <a:spcPts val="349"/>
              </a:spcBef>
              <a:tabLst>
                <a:tab algn="l" pos="0"/>
                <a:tab algn="l" pos="317520"/>
                <a:tab algn="l" pos="635040"/>
                <a:tab algn="l" pos="952560"/>
                <a:tab algn="l" pos="1270080"/>
                <a:tab algn="l" pos="1587600"/>
                <a:tab algn="l" pos="1905120"/>
                <a:tab algn="l" pos="2222640"/>
                <a:tab algn="l" pos="2540160"/>
                <a:tab algn="l" pos="2857680"/>
                <a:tab algn="l" pos="3174840"/>
                <a:tab algn="l" pos="3492360"/>
                <a:tab algn="l" pos="3809880"/>
                <a:tab algn="l" pos="4127400"/>
                <a:tab algn="l" pos="4444920"/>
                <a:tab algn="l" pos="4762440"/>
                <a:tab algn="l" pos="5079960"/>
                <a:tab algn="l" pos="5397480"/>
                <a:tab algn="l" pos="5715000"/>
                <a:tab algn="l" pos="6032520"/>
                <a:tab algn="l" pos="6350040"/>
              </a:tabLst>
            </a:pPr>
            <a:endParaRPr b="0" lang="en-US" sz="9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219240" y="217440"/>
            <a:ext cx="2744640" cy="789120"/>
          </a:xfrm>
          <a:prstGeom prst="rect">
            <a:avLst/>
          </a:prstGeom>
          <a:noFill/>
          <a:ln w="0">
            <a:noFill/>
          </a:ln>
        </p:spPr>
        <p:txBody>
          <a:bodyPr lIns="90000" rIns="90000" tIns="46800" bIns="46800" anchor="ctr">
            <a:noAutofit/>
          </a:bodyPr>
          <a:p>
            <a:pPr indent="0">
              <a:lnSpc>
                <a:spcPct val="90000"/>
              </a:lnSpc>
              <a:buNone/>
              <a:tabLst>
                <a:tab algn="l" pos="0"/>
                <a:tab algn="l" pos="317520"/>
                <a:tab algn="l" pos="635040"/>
                <a:tab algn="l" pos="952560"/>
                <a:tab algn="l" pos="1270080"/>
                <a:tab algn="l" pos="1587600"/>
                <a:tab algn="l" pos="1905120"/>
                <a:tab algn="l" pos="2222640"/>
                <a:tab algn="l" pos="2540160"/>
                <a:tab algn="l" pos="2857680"/>
                <a:tab algn="l" pos="3174840"/>
                <a:tab algn="l" pos="3492360"/>
                <a:tab algn="l" pos="3809880"/>
                <a:tab algn="l" pos="4127400"/>
                <a:tab algn="l" pos="4444920"/>
                <a:tab algn="l" pos="4762440"/>
                <a:tab algn="l" pos="5079960"/>
                <a:tab algn="l" pos="5397480"/>
                <a:tab algn="l" pos="5715000"/>
                <a:tab algn="l" pos="6032520"/>
                <a:tab algn="l" pos="6350040"/>
              </a:tabLst>
            </a:pPr>
            <a:endParaRPr b="0" lang="en-US" sz="1500" spc="-1" strike="noStrike">
              <a:solidFill>
                <a:srgbClr val="000000"/>
              </a:solidFill>
              <a:latin typeface="Calibri Light"/>
            </a:endParaRPr>
          </a:p>
        </p:txBody>
      </p:sp>
      <p:sp>
        <p:nvSpPr>
          <p:cNvPr id="93" name="PlaceHolder 2"/>
          <p:cNvSpPr>
            <a:spLocks noGrp="1"/>
          </p:cNvSpPr>
          <p:nvPr>
            <p:ph/>
          </p:nvPr>
        </p:nvSpPr>
        <p:spPr>
          <a:xfrm>
            <a:off x="219240" y="1087560"/>
            <a:ext cx="1339200" cy="1235520"/>
          </a:xfrm>
          <a:prstGeom prst="rect">
            <a:avLst/>
          </a:prstGeom>
          <a:noFill/>
          <a:ln w="0">
            <a:noFill/>
          </a:ln>
        </p:spPr>
        <p:txBody>
          <a:bodyPr lIns="90000" rIns="90000" tIns="46800" bIns="46800" anchor="t">
            <a:normAutofit/>
          </a:bodyPr>
          <a:p>
            <a:pPr indent="0">
              <a:lnSpc>
                <a:spcPct val="90000"/>
              </a:lnSpc>
              <a:spcBef>
                <a:spcPts val="349"/>
              </a:spcBef>
              <a:buNone/>
              <a:tabLst>
                <a:tab algn="l" pos="317520"/>
                <a:tab algn="l" pos="635040"/>
                <a:tab algn="l" pos="952560"/>
                <a:tab algn="l" pos="1270080"/>
                <a:tab algn="l" pos="1587600"/>
                <a:tab algn="l" pos="1905120"/>
                <a:tab algn="l" pos="2222640"/>
                <a:tab algn="l" pos="2540160"/>
                <a:tab algn="l" pos="2857680"/>
                <a:tab algn="l" pos="3174840"/>
                <a:tab algn="l" pos="3492360"/>
                <a:tab algn="l" pos="3809880"/>
                <a:tab algn="l" pos="4127400"/>
                <a:tab algn="l" pos="4444920"/>
                <a:tab algn="l" pos="4762440"/>
                <a:tab algn="l" pos="5079960"/>
                <a:tab algn="l" pos="5397480"/>
                <a:tab algn="l" pos="5715000"/>
                <a:tab algn="l" pos="6032520"/>
                <a:tab algn="l" pos="6350040"/>
              </a:tabLst>
            </a:pPr>
            <a:endParaRPr b="0" lang="en-US" sz="900" spc="-1" strike="noStrike">
              <a:solidFill>
                <a:srgbClr val="000000"/>
              </a:solidFill>
              <a:latin typeface="Calibri"/>
            </a:endParaRPr>
          </a:p>
        </p:txBody>
      </p:sp>
      <p:sp>
        <p:nvSpPr>
          <p:cNvPr id="94" name="PlaceHolder 3"/>
          <p:cNvSpPr>
            <a:spLocks noGrp="1"/>
          </p:cNvSpPr>
          <p:nvPr>
            <p:ph/>
          </p:nvPr>
        </p:nvSpPr>
        <p:spPr>
          <a:xfrm>
            <a:off x="1625760" y="1087560"/>
            <a:ext cx="1339200" cy="2590560"/>
          </a:xfrm>
          <a:prstGeom prst="rect">
            <a:avLst/>
          </a:prstGeom>
          <a:noFill/>
          <a:ln w="0">
            <a:noFill/>
          </a:ln>
        </p:spPr>
        <p:txBody>
          <a:bodyPr lIns="90000" rIns="90000" tIns="46800" bIns="46800" anchor="t">
            <a:normAutofit/>
          </a:bodyPr>
          <a:p>
            <a:pPr indent="0">
              <a:lnSpc>
                <a:spcPct val="90000"/>
              </a:lnSpc>
              <a:spcBef>
                <a:spcPts val="349"/>
              </a:spcBef>
              <a:buNone/>
              <a:tabLst>
                <a:tab algn="l" pos="317520"/>
                <a:tab algn="l" pos="635040"/>
                <a:tab algn="l" pos="952560"/>
                <a:tab algn="l" pos="1270080"/>
                <a:tab algn="l" pos="1587600"/>
                <a:tab algn="l" pos="1905120"/>
                <a:tab algn="l" pos="2222640"/>
                <a:tab algn="l" pos="2540160"/>
                <a:tab algn="l" pos="2857680"/>
                <a:tab algn="l" pos="3174840"/>
                <a:tab algn="l" pos="3492360"/>
                <a:tab algn="l" pos="3809880"/>
                <a:tab algn="l" pos="4127400"/>
                <a:tab algn="l" pos="4444920"/>
                <a:tab algn="l" pos="4762440"/>
                <a:tab algn="l" pos="5079960"/>
                <a:tab algn="l" pos="5397480"/>
                <a:tab algn="l" pos="5715000"/>
                <a:tab algn="l" pos="6032520"/>
                <a:tab algn="l" pos="6350040"/>
              </a:tabLst>
            </a:pPr>
            <a:endParaRPr b="0" lang="en-US" sz="900" spc="-1" strike="noStrike">
              <a:solidFill>
                <a:srgbClr val="000000"/>
              </a:solidFill>
              <a:latin typeface="Calibri"/>
            </a:endParaRPr>
          </a:p>
        </p:txBody>
      </p:sp>
      <p:sp>
        <p:nvSpPr>
          <p:cNvPr id="95" name="PlaceHolder 4"/>
          <p:cNvSpPr>
            <a:spLocks noGrp="1"/>
          </p:cNvSpPr>
          <p:nvPr>
            <p:ph/>
          </p:nvPr>
        </p:nvSpPr>
        <p:spPr>
          <a:xfrm>
            <a:off x="219240" y="2440800"/>
            <a:ext cx="1339200" cy="1235520"/>
          </a:xfrm>
          <a:prstGeom prst="rect">
            <a:avLst/>
          </a:prstGeom>
          <a:noFill/>
          <a:ln w="0">
            <a:noFill/>
          </a:ln>
        </p:spPr>
        <p:txBody>
          <a:bodyPr lIns="90000" rIns="90000" tIns="46800" bIns="46800" anchor="t">
            <a:normAutofit/>
          </a:bodyPr>
          <a:p>
            <a:pPr indent="0">
              <a:lnSpc>
                <a:spcPct val="90000"/>
              </a:lnSpc>
              <a:spcBef>
                <a:spcPts val="349"/>
              </a:spcBef>
              <a:buNone/>
              <a:tabLst>
                <a:tab algn="l" pos="317520"/>
                <a:tab algn="l" pos="635040"/>
                <a:tab algn="l" pos="952560"/>
                <a:tab algn="l" pos="1270080"/>
                <a:tab algn="l" pos="1587600"/>
                <a:tab algn="l" pos="1905120"/>
                <a:tab algn="l" pos="2222640"/>
                <a:tab algn="l" pos="2540160"/>
                <a:tab algn="l" pos="2857680"/>
                <a:tab algn="l" pos="3174840"/>
                <a:tab algn="l" pos="3492360"/>
                <a:tab algn="l" pos="3809880"/>
                <a:tab algn="l" pos="4127400"/>
                <a:tab algn="l" pos="4444920"/>
                <a:tab algn="l" pos="4762440"/>
                <a:tab algn="l" pos="5079960"/>
                <a:tab algn="l" pos="5397480"/>
                <a:tab algn="l" pos="5715000"/>
                <a:tab algn="l" pos="6032520"/>
                <a:tab algn="l" pos="6350040"/>
              </a:tabLst>
            </a:pPr>
            <a:endParaRPr b="0" lang="en-US" sz="9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19240" y="217440"/>
            <a:ext cx="2744640" cy="789120"/>
          </a:xfrm>
          <a:prstGeom prst="rect">
            <a:avLst/>
          </a:prstGeom>
          <a:noFill/>
          <a:ln w="0">
            <a:noFill/>
          </a:ln>
        </p:spPr>
        <p:txBody>
          <a:bodyPr lIns="90000" rIns="90000" tIns="46800" bIns="46800" anchor="ctr">
            <a:noAutofit/>
          </a:bodyPr>
          <a:p>
            <a:pPr indent="0">
              <a:lnSpc>
                <a:spcPct val="90000"/>
              </a:lnSpc>
              <a:buNone/>
              <a:tabLst>
                <a:tab algn="l" pos="0"/>
                <a:tab algn="l" pos="317520"/>
                <a:tab algn="l" pos="635040"/>
                <a:tab algn="l" pos="952560"/>
                <a:tab algn="l" pos="1270080"/>
                <a:tab algn="l" pos="1587600"/>
                <a:tab algn="l" pos="1905120"/>
                <a:tab algn="l" pos="2222640"/>
                <a:tab algn="l" pos="2540160"/>
                <a:tab algn="l" pos="2857680"/>
                <a:tab algn="l" pos="3174840"/>
                <a:tab algn="l" pos="3492360"/>
                <a:tab algn="l" pos="3809880"/>
                <a:tab algn="l" pos="4127400"/>
                <a:tab algn="l" pos="4444920"/>
                <a:tab algn="l" pos="4762440"/>
                <a:tab algn="l" pos="5079960"/>
                <a:tab algn="l" pos="5397480"/>
                <a:tab algn="l" pos="5715000"/>
                <a:tab algn="l" pos="6032520"/>
                <a:tab algn="l" pos="6350040"/>
              </a:tabLst>
            </a:pPr>
            <a:endParaRPr b="0" lang="en-US" sz="1500" spc="-1" strike="noStrike">
              <a:solidFill>
                <a:srgbClr val="000000"/>
              </a:solidFill>
              <a:latin typeface="Calibri Light"/>
            </a:endParaRPr>
          </a:p>
        </p:txBody>
      </p:sp>
      <p:sp>
        <p:nvSpPr>
          <p:cNvPr id="6" name="PlaceHolder 2"/>
          <p:cNvSpPr>
            <a:spLocks noGrp="1"/>
          </p:cNvSpPr>
          <p:nvPr>
            <p:ph type="subTitle"/>
          </p:nvPr>
        </p:nvSpPr>
        <p:spPr>
          <a:xfrm>
            <a:off x="219240" y="1087560"/>
            <a:ext cx="2744640" cy="2590560"/>
          </a:xfrm>
          <a:prstGeom prst="rect">
            <a:avLst/>
          </a:prstGeom>
          <a:noFill/>
          <a:ln w="0">
            <a:noFill/>
          </a:ln>
        </p:spPr>
        <p:txBody>
          <a:bodyPr lIns="0" rIns="0" tIns="0" bIns="0" anchor="ctr">
            <a:noAutofit/>
          </a:bodyPr>
          <a:p>
            <a:pPr indent="0" algn="ctr">
              <a:lnSpc>
                <a:spcPct val="90000"/>
              </a:lnSpc>
              <a:spcBef>
                <a:spcPts val="349"/>
              </a:spcBef>
              <a:buNone/>
              <a:tabLst>
                <a:tab algn="l" pos="0"/>
                <a:tab algn="l" pos="317520"/>
                <a:tab algn="l" pos="635040"/>
                <a:tab algn="l" pos="952560"/>
                <a:tab algn="l" pos="1270080"/>
                <a:tab algn="l" pos="1587600"/>
                <a:tab algn="l" pos="1905120"/>
                <a:tab algn="l" pos="2222640"/>
                <a:tab algn="l" pos="2540160"/>
                <a:tab algn="l" pos="2857680"/>
                <a:tab algn="l" pos="3174840"/>
                <a:tab algn="l" pos="3492360"/>
                <a:tab algn="l" pos="3809880"/>
                <a:tab algn="l" pos="4127400"/>
                <a:tab algn="l" pos="4444920"/>
                <a:tab algn="l" pos="4762440"/>
                <a:tab algn="l" pos="5079960"/>
                <a:tab algn="l" pos="5397480"/>
                <a:tab algn="l" pos="5715000"/>
                <a:tab algn="l" pos="6032520"/>
                <a:tab algn="l" pos="6350040"/>
              </a:tabLst>
            </a:pPr>
            <a:endParaRPr b="0" lang="en-US" sz="9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607623-0D04-4F21-AA01-B7F42CC490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219240" y="217440"/>
            <a:ext cx="2744640" cy="789120"/>
          </a:xfrm>
          <a:prstGeom prst="rect">
            <a:avLst/>
          </a:prstGeom>
          <a:noFill/>
          <a:ln w="0">
            <a:noFill/>
          </a:ln>
        </p:spPr>
        <p:txBody>
          <a:bodyPr lIns="90000" rIns="90000" tIns="46800" bIns="46800" anchor="ctr">
            <a:noAutofit/>
          </a:bodyPr>
          <a:p>
            <a:pPr indent="0">
              <a:lnSpc>
                <a:spcPct val="90000"/>
              </a:lnSpc>
              <a:buNone/>
              <a:tabLst>
                <a:tab algn="l" pos="0"/>
                <a:tab algn="l" pos="317520"/>
                <a:tab algn="l" pos="635040"/>
                <a:tab algn="l" pos="952560"/>
                <a:tab algn="l" pos="1270080"/>
                <a:tab algn="l" pos="1587600"/>
                <a:tab algn="l" pos="1905120"/>
                <a:tab algn="l" pos="2222640"/>
                <a:tab algn="l" pos="2540160"/>
                <a:tab algn="l" pos="2857680"/>
                <a:tab algn="l" pos="3174840"/>
                <a:tab algn="l" pos="3492360"/>
                <a:tab algn="l" pos="3809880"/>
                <a:tab algn="l" pos="4127400"/>
                <a:tab algn="l" pos="4444920"/>
                <a:tab algn="l" pos="4762440"/>
                <a:tab algn="l" pos="5079960"/>
                <a:tab algn="l" pos="5397480"/>
                <a:tab algn="l" pos="5715000"/>
                <a:tab algn="l" pos="6032520"/>
                <a:tab algn="l" pos="6350040"/>
              </a:tabLst>
            </a:pPr>
            <a:endParaRPr b="0" lang="en-US" sz="1500" spc="-1" strike="noStrike">
              <a:solidFill>
                <a:srgbClr val="000000"/>
              </a:solidFill>
              <a:latin typeface="Calibri Light"/>
            </a:endParaRPr>
          </a:p>
        </p:txBody>
      </p:sp>
      <p:sp>
        <p:nvSpPr>
          <p:cNvPr id="97" name="PlaceHolder 2"/>
          <p:cNvSpPr>
            <a:spLocks noGrp="1"/>
          </p:cNvSpPr>
          <p:nvPr>
            <p:ph/>
          </p:nvPr>
        </p:nvSpPr>
        <p:spPr>
          <a:xfrm>
            <a:off x="219240" y="1087560"/>
            <a:ext cx="1339200" cy="2590560"/>
          </a:xfrm>
          <a:prstGeom prst="rect">
            <a:avLst/>
          </a:prstGeom>
          <a:noFill/>
          <a:ln w="0">
            <a:noFill/>
          </a:ln>
        </p:spPr>
        <p:txBody>
          <a:bodyPr lIns="90000" rIns="90000" tIns="46800" bIns="46800" anchor="t">
            <a:normAutofit/>
          </a:bodyPr>
          <a:p>
            <a:pPr indent="0">
              <a:lnSpc>
                <a:spcPct val="90000"/>
              </a:lnSpc>
              <a:spcBef>
                <a:spcPts val="349"/>
              </a:spcBef>
              <a:buNone/>
              <a:tabLst>
                <a:tab algn="l" pos="317520"/>
                <a:tab algn="l" pos="635040"/>
                <a:tab algn="l" pos="952560"/>
                <a:tab algn="l" pos="1270080"/>
                <a:tab algn="l" pos="1587600"/>
                <a:tab algn="l" pos="1905120"/>
                <a:tab algn="l" pos="2222640"/>
                <a:tab algn="l" pos="2540160"/>
                <a:tab algn="l" pos="2857680"/>
                <a:tab algn="l" pos="3174840"/>
                <a:tab algn="l" pos="3492360"/>
                <a:tab algn="l" pos="3809880"/>
                <a:tab algn="l" pos="4127400"/>
                <a:tab algn="l" pos="4444920"/>
                <a:tab algn="l" pos="4762440"/>
                <a:tab algn="l" pos="5079960"/>
                <a:tab algn="l" pos="5397480"/>
                <a:tab algn="l" pos="5715000"/>
                <a:tab algn="l" pos="6032520"/>
                <a:tab algn="l" pos="6350040"/>
              </a:tabLst>
            </a:pPr>
            <a:endParaRPr b="0" lang="en-US" sz="900" spc="-1" strike="noStrike">
              <a:solidFill>
                <a:srgbClr val="000000"/>
              </a:solidFill>
              <a:latin typeface="Calibri"/>
            </a:endParaRPr>
          </a:p>
        </p:txBody>
      </p:sp>
      <p:sp>
        <p:nvSpPr>
          <p:cNvPr id="98" name="PlaceHolder 3"/>
          <p:cNvSpPr>
            <a:spLocks noGrp="1"/>
          </p:cNvSpPr>
          <p:nvPr>
            <p:ph/>
          </p:nvPr>
        </p:nvSpPr>
        <p:spPr>
          <a:xfrm>
            <a:off x="1625760" y="1087560"/>
            <a:ext cx="1339200" cy="1235520"/>
          </a:xfrm>
          <a:prstGeom prst="rect">
            <a:avLst/>
          </a:prstGeom>
          <a:noFill/>
          <a:ln w="0">
            <a:noFill/>
          </a:ln>
        </p:spPr>
        <p:txBody>
          <a:bodyPr lIns="90000" rIns="90000" tIns="46800" bIns="46800" anchor="t">
            <a:normAutofit/>
          </a:bodyPr>
          <a:p>
            <a:pPr indent="0">
              <a:lnSpc>
                <a:spcPct val="90000"/>
              </a:lnSpc>
              <a:spcBef>
                <a:spcPts val="349"/>
              </a:spcBef>
              <a:buNone/>
              <a:tabLst>
                <a:tab algn="l" pos="317520"/>
                <a:tab algn="l" pos="635040"/>
                <a:tab algn="l" pos="952560"/>
                <a:tab algn="l" pos="1270080"/>
                <a:tab algn="l" pos="1587600"/>
                <a:tab algn="l" pos="1905120"/>
                <a:tab algn="l" pos="2222640"/>
                <a:tab algn="l" pos="2540160"/>
                <a:tab algn="l" pos="2857680"/>
                <a:tab algn="l" pos="3174840"/>
                <a:tab algn="l" pos="3492360"/>
                <a:tab algn="l" pos="3809880"/>
                <a:tab algn="l" pos="4127400"/>
                <a:tab algn="l" pos="4444920"/>
                <a:tab algn="l" pos="4762440"/>
                <a:tab algn="l" pos="5079960"/>
                <a:tab algn="l" pos="5397480"/>
                <a:tab algn="l" pos="5715000"/>
                <a:tab algn="l" pos="6032520"/>
                <a:tab algn="l" pos="6350040"/>
              </a:tabLst>
            </a:pPr>
            <a:endParaRPr b="0" lang="en-US" sz="900" spc="-1" strike="noStrike">
              <a:solidFill>
                <a:srgbClr val="000000"/>
              </a:solidFill>
              <a:latin typeface="Calibri"/>
            </a:endParaRPr>
          </a:p>
        </p:txBody>
      </p:sp>
      <p:sp>
        <p:nvSpPr>
          <p:cNvPr id="99" name="PlaceHolder 4"/>
          <p:cNvSpPr>
            <a:spLocks noGrp="1"/>
          </p:cNvSpPr>
          <p:nvPr>
            <p:ph/>
          </p:nvPr>
        </p:nvSpPr>
        <p:spPr>
          <a:xfrm>
            <a:off x="1625760" y="2440800"/>
            <a:ext cx="1339200" cy="1235520"/>
          </a:xfrm>
          <a:prstGeom prst="rect">
            <a:avLst/>
          </a:prstGeom>
          <a:noFill/>
          <a:ln w="0">
            <a:noFill/>
          </a:ln>
        </p:spPr>
        <p:txBody>
          <a:bodyPr lIns="90000" rIns="90000" tIns="46800" bIns="46800" anchor="t">
            <a:normAutofit/>
          </a:bodyPr>
          <a:p>
            <a:pPr indent="0">
              <a:lnSpc>
                <a:spcPct val="90000"/>
              </a:lnSpc>
              <a:spcBef>
                <a:spcPts val="349"/>
              </a:spcBef>
              <a:buNone/>
              <a:tabLst>
                <a:tab algn="l" pos="317520"/>
                <a:tab algn="l" pos="635040"/>
                <a:tab algn="l" pos="952560"/>
                <a:tab algn="l" pos="1270080"/>
                <a:tab algn="l" pos="1587600"/>
                <a:tab algn="l" pos="1905120"/>
                <a:tab algn="l" pos="2222640"/>
                <a:tab algn="l" pos="2540160"/>
                <a:tab algn="l" pos="2857680"/>
                <a:tab algn="l" pos="3174840"/>
                <a:tab algn="l" pos="3492360"/>
                <a:tab algn="l" pos="3809880"/>
                <a:tab algn="l" pos="4127400"/>
                <a:tab algn="l" pos="4444920"/>
                <a:tab algn="l" pos="4762440"/>
                <a:tab algn="l" pos="5079960"/>
                <a:tab algn="l" pos="5397480"/>
                <a:tab algn="l" pos="5715000"/>
                <a:tab algn="l" pos="6032520"/>
                <a:tab algn="l" pos="6350040"/>
              </a:tabLst>
            </a:pPr>
            <a:endParaRPr b="0" lang="en-US" sz="9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219240" y="217440"/>
            <a:ext cx="2744640" cy="789120"/>
          </a:xfrm>
          <a:prstGeom prst="rect">
            <a:avLst/>
          </a:prstGeom>
          <a:noFill/>
          <a:ln w="0">
            <a:noFill/>
          </a:ln>
        </p:spPr>
        <p:txBody>
          <a:bodyPr lIns="90000" rIns="90000" tIns="46800" bIns="46800" anchor="ctr">
            <a:noAutofit/>
          </a:bodyPr>
          <a:p>
            <a:pPr indent="0">
              <a:lnSpc>
                <a:spcPct val="90000"/>
              </a:lnSpc>
              <a:buNone/>
              <a:tabLst>
                <a:tab algn="l" pos="0"/>
                <a:tab algn="l" pos="317520"/>
                <a:tab algn="l" pos="635040"/>
                <a:tab algn="l" pos="952560"/>
                <a:tab algn="l" pos="1270080"/>
                <a:tab algn="l" pos="1587600"/>
                <a:tab algn="l" pos="1905120"/>
                <a:tab algn="l" pos="2222640"/>
                <a:tab algn="l" pos="2540160"/>
                <a:tab algn="l" pos="2857680"/>
                <a:tab algn="l" pos="3174840"/>
                <a:tab algn="l" pos="3492360"/>
                <a:tab algn="l" pos="3809880"/>
                <a:tab algn="l" pos="4127400"/>
                <a:tab algn="l" pos="4444920"/>
                <a:tab algn="l" pos="4762440"/>
                <a:tab algn="l" pos="5079960"/>
                <a:tab algn="l" pos="5397480"/>
                <a:tab algn="l" pos="5715000"/>
                <a:tab algn="l" pos="6032520"/>
                <a:tab algn="l" pos="6350040"/>
              </a:tabLst>
            </a:pPr>
            <a:endParaRPr b="0" lang="en-US" sz="1500" spc="-1" strike="noStrike">
              <a:solidFill>
                <a:srgbClr val="000000"/>
              </a:solidFill>
              <a:latin typeface="Calibri Light"/>
            </a:endParaRPr>
          </a:p>
        </p:txBody>
      </p:sp>
      <p:sp>
        <p:nvSpPr>
          <p:cNvPr id="101" name="PlaceHolder 2"/>
          <p:cNvSpPr>
            <a:spLocks noGrp="1"/>
          </p:cNvSpPr>
          <p:nvPr>
            <p:ph/>
          </p:nvPr>
        </p:nvSpPr>
        <p:spPr>
          <a:xfrm>
            <a:off x="219240" y="1087560"/>
            <a:ext cx="1339200" cy="1235520"/>
          </a:xfrm>
          <a:prstGeom prst="rect">
            <a:avLst/>
          </a:prstGeom>
          <a:noFill/>
          <a:ln w="0">
            <a:noFill/>
          </a:ln>
        </p:spPr>
        <p:txBody>
          <a:bodyPr lIns="90000" rIns="90000" tIns="46800" bIns="46800" anchor="t">
            <a:normAutofit/>
          </a:bodyPr>
          <a:p>
            <a:pPr indent="0">
              <a:lnSpc>
                <a:spcPct val="90000"/>
              </a:lnSpc>
              <a:spcBef>
                <a:spcPts val="349"/>
              </a:spcBef>
              <a:buNone/>
              <a:tabLst>
                <a:tab algn="l" pos="317520"/>
                <a:tab algn="l" pos="635040"/>
                <a:tab algn="l" pos="952560"/>
                <a:tab algn="l" pos="1270080"/>
                <a:tab algn="l" pos="1587600"/>
                <a:tab algn="l" pos="1905120"/>
                <a:tab algn="l" pos="2222640"/>
                <a:tab algn="l" pos="2540160"/>
                <a:tab algn="l" pos="2857680"/>
                <a:tab algn="l" pos="3174840"/>
                <a:tab algn="l" pos="3492360"/>
                <a:tab algn="l" pos="3809880"/>
                <a:tab algn="l" pos="4127400"/>
                <a:tab algn="l" pos="4444920"/>
                <a:tab algn="l" pos="4762440"/>
                <a:tab algn="l" pos="5079960"/>
                <a:tab algn="l" pos="5397480"/>
                <a:tab algn="l" pos="5715000"/>
                <a:tab algn="l" pos="6032520"/>
                <a:tab algn="l" pos="6350040"/>
              </a:tabLst>
            </a:pPr>
            <a:endParaRPr b="0" lang="en-US" sz="900" spc="-1" strike="noStrike">
              <a:solidFill>
                <a:srgbClr val="000000"/>
              </a:solidFill>
              <a:latin typeface="Calibri"/>
            </a:endParaRPr>
          </a:p>
        </p:txBody>
      </p:sp>
      <p:sp>
        <p:nvSpPr>
          <p:cNvPr id="102" name="PlaceHolder 3"/>
          <p:cNvSpPr>
            <a:spLocks noGrp="1"/>
          </p:cNvSpPr>
          <p:nvPr>
            <p:ph/>
          </p:nvPr>
        </p:nvSpPr>
        <p:spPr>
          <a:xfrm>
            <a:off x="1625760" y="1087560"/>
            <a:ext cx="1339200" cy="1235520"/>
          </a:xfrm>
          <a:prstGeom prst="rect">
            <a:avLst/>
          </a:prstGeom>
          <a:noFill/>
          <a:ln w="0">
            <a:noFill/>
          </a:ln>
        </p:spPr>
        <p:txBody>
          <a:bodyPr lIns="90000" rIns="90000" tIns="46800" bIns="46800" anchor="t">
            <a:normAutofit/>
          </a:bodyPr>
          <a:p>
            <a:pPr indent="0">
              <a:lnSpc>
                <a:spcPct val="90000"/>
              </a:lnSpc>
              <a:spcBef>
                <a:spcPts val="349"/>
              </a:spcBef>
              <a:buNone/>
              <a:tabLst>
                <a:tab algn="l" pos="317520"/>
                <a:tab algn="l" pos="635040"/>
                <a:tab algn="l" pos="952560"/>
                <a:tab algn="l" pos="1270080"/>
                <a:tab algn="l" pos="1587600"/>
                <a:tab algn="l" pos="1905120"/>
                <a:tab algn="l" pos="2222640"/>
                <a:tab algn="l" pos="2540160"/>
                <a:tab algn="l" pos="2857680"/>
                <a:tab algn="l" pos="3174840"/>
                <a:tab algn="l" pos="3492360"/>
                <a:tab algn="l" pos="3809880"/>
                <a:tab algn="l" pos="4127400"/>
                <a:tab algn="l" pos="4444920"/>
                <a:tab algn="l" pos="4762440"/>
                <a:tab algn="l" pos="5079960"/>
                <a:tab algn="l" pos="5397480"/>
                <a:tab algn="l" pos="5715000"/>
                <a:tab algn="l" pos="6032520"/>
                <a:tab algn="l" pos="6350040"/>
              </a:tabLst>
            </a:pPr>
            <a:endParaRPr b="0" lang="en-US" sz="900" spc="-1" strike="noStrike">
              <a:solidFill>
                <a:srgbClr val="000000"/>
              </a:solidFill>
              <a:latin typeface="Calibri"/>
            </a:endParaRPr>
          </a:p>
        </p:txBody>
      </p:sp>
      <p:sp>
        <p:nvSpPr>
          <p:cNvPr id="103" name="PlaceHolder 4"/>
          <p:cNvSpPr>
            <a:spLocks noGrp="1"/>
          </p:cNvSpPr>
          <p:nvPr>
            <p:ph/>
          </p:nvPr>
        </p:nvSpPr>
        <p:spPr>
          <a:xfrm>
            <a:off x="219240" y="2440800"/>
            <a:ext cx="2744640" cy="1235520"/>
          </a:xfrm>
          <a:prstGeom prst="rect">
            <a:avLst/>
          </a:prstGeom>
          <a:noFill/>
          <a:ln w="0">
            <a:noFill/>
          </a:ln>
        </p:spPr>
        <p:txBody>
          <a:bodyPr lIns="90000" rIns="90000" tIns="46800" bIns="46800" anchor="t">
            <a:normAutofit/>
          </a:bodyPr>
          <a:p>
            <a:pPr indent="0">
              <a:lnSpc>
                <a:spcPct val="90000"/>
              </a:lnSpc>
              <a:spcBef>
                <a:spcPts val="349"/>
              </a:spcBef>
              <a:buNone/>
              <a:tabLst>
                <a:tab algn="l" pos="317520"/>
                <a:tab algn="l" pos="635040"/>
                <a:tab algn="l" pos="952560"/>
                <a:tab algn="l" pos="1270080"/>
                <a:tab algn="l" pos="1587600"/>
                <a:tab algn="l" pos="1905120"/>
                <a:tab algn="l" pos="2222640"/>
                <a:tab algn="l" pos="2540160"/>
                <a:tab algn="l" pos="2857680"/>
                <a:tab algn="l" pos="3174840"/>
                <a:tab algn="l" pos="3492360"/>
                <a:tab algn="l" pos="3809880"/>
                <a:tab algn="l" pos="4127400"/>
                <a:tab algn="l" pos="4444920"/>
                <a:tab algn="l" pos="4762440"/>
                <a:tab algn="l" pos="5079960"/>
                <a:tab algn="l" pos="5397480"/>
                <a:tab algn="l" pos="5715000"/>
                <a:tab algn="l" pos="6032520"/>
                <a:tab algn="l" pos="6350040"/>
              </a:tabLst>
            </a:pPr>
            <a:endParaRPr b="0" lang="en-US" sz="9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219240" y="217440"/>
            <a:ext cx="2744640" cy="789120"/>
          </a:xfrm>
          <a:prstGeom prst="rect">
            <a:avLst/>
          </a:prstGeom>
          <a:noFill/>
          <a:ln w="0">
            <a:noFill/>
          </a:ln>
        </p:spPr>
        <p:txBody>
          <a:bodyPr lIns="90000" rIns="90000" tIns="46800" bIns="46800" anchor="ctr">
            <a:noAutofit/>
          </a:bodyPr>
          <a:p>
            <a:pPr indent="0">
              <a:lnSpc>
                <a:spcPct val="90000"/>
              </a:lnSpc>
              <a:buNone/>
              <a:tabLst>
                <a:tab algn="l" pos="0"/>
                <a:tab algn="l" pos="317520"/>
                <a:tab algn="l" pos="635040"/>
                <a:tab algn="l" pos="952560"/>
                <a:tab algn="l" pos="1270080"/>
                <a:tab algn="l" pos="1587600"/>
                <a:tab algn="l" pos="1905120"/>
                <a:tab algn="l" pos="2222640"/>
                <a:tab algn="l" pos="2540160"/>
                <a:tab algn="l" pos="2857680"/>
                <a:tab algn="l" pos="3174840"/>
                <a:tab algn="l" pos="3492360"/>
                <a:tab algn="l" pos="3809880"/>
                <a:tab algn="l" pos="4127400"/>
                <a:tab algn="l" pos="4444920"/>
                <a:tab algn="l" pos="4762440"/>
                <a:tab algn="l" pos="5079960"/>
                <a:tab algn="l" pos="5397480"/>
                <a:tab algn="l" pos="5715000"/>
                <a:tab algn="l" pos="6032520"/>
                <a:tab algn="l" pos="6350040"/>
              </a:tabLst>
            </a:pPr>
            <a:endParaRPr b="0" lang="en-US" sz="1500" spc="-1" strike="noStrike">
              <a:solidFill>
                <a:srgbClr val="000000"/>
              </a:solidFill>
              <a:latin typeface="Calibri Light"/>
            </a:endParaRPr>
          </a:p>
        </p:txBody>
      </p:sp>
      <p:sp>
        <p:nvSpPr>
          <p:cNvPr id="105" name="PlaceHolder 2"/>
          <p:cNvSpPr>
            <a:spLocks noGrp="1"/>
          </p:cNvSpPr>
          <p:nvPr>
            <p:ph/>
          </p:nvPr>
        </p:nvSpPr>
        <p:spPr>
          <a:xfrm>
            <a:off x="219240" y="1087560"/>
            <a:ext cx="2744640" cy="1235520"/>
          </a:xfrm>
          <a:prstGeom prst="rect">
            <a:avLst/>
          </a:prstGeom>
          <a:noFill/>
          <a:ln w="0">
            <a:noFill/>
          </a:ln>
        </p:spPr>
        <p:txBody>
          <a:bodyPr lIns="90000" rIns="90000" tIns="46800" bIns="46800" anchor="t">
            <a:normAutofit/>
          </a:bodyPr>
          <a:p>
            <a:pPr indent="0">
              <a:lnSpc>
                <a:spcPct val="90000"/>
              </a:lnSpc>
              <a:spcBef>
                <a:spcPts val="349"/>
              </a:spcBef>
              <a:buNone/>
              <a:tabLst>
                <a:tab algn="l" pos="317520"/>
                <a:tab algn="l" pos="635040"/>
                <a:tab algn="l" pos="952560"/>
                <a:tab algn="l" pos="1270080"/>
                <a:tab algn="l" pos="1587600"/>
                <a:tab algn="l" pos="1905120"/>
                <a:tab algn="l" pos="2222640"/>
                <a:tab algn="l" pos="2540160"/>
                <a:tab algn="l" pos="2857680"/>
                <a:tab algn="l" pos="3174840"/>
                <a:tab algn="l" pos="3492360"/>
                <a:tab algn="l" pos="3809880"/>
                <a:tab algn="l" pos="4127400"/>
                <a:tab algn="l" pos="4444920"/>
                <a:tab algn="l" pos="4762440"/>
                <a:tab algn="l" pos="5079960"/>
                <a:tab algn="l" pos="5397480"/>
                <a:tab algn="l" pos="5715000"/>
                <a:tab algn="l" pos="6032520"/>
                <a:tab algn="l" pos="6350040"/>
              </a:tabLst>
            </a:pPr>
            <a:endParaRPr b="0" lang="en-US" sz="900" spc="-1" strike="noStrike">
              <a:solidFill>
                <a:srgbClr val="000000"/>
              </a:solidFill>
              <a:latin typeface="Calibri"/>
            </a:endParaRPr>
          </a:p>
        </p:txBody>
      </p:sp>
      <p:sp>
        <p:nvSpPr>
          <p:cNvPr id="106" name="PlaceHolder 3"/>
          <p:cNvSpPr>
            <a:spLocks noGrp="1"/>
          </p:cNvSpPr>
          <p:nvPr>
            <p:ph/>
          </p:nvPr>
        </p:nvSpPr>
        <p:spPr>
          <a:xfrm>
            <a:off x="219240" y="2440800"/>
            <a:ext cx="2744640" cy="1235520"/>
          </a:xfrm>
          <a:prstGeom prst="rect">
            <a:avLst/>
          </a:prstGeom>
          <a:noFill/>
          <a:ln w="0">
            <a:noFill/>
          </a:ln>
        </p:spPr>
        <p:txBody>
          <a:bodyPr lIns="90000" rIns="90000" tIns="46800" bIns="46800" anchor="t">
            <a:normAutofit/>
          </a:bodyPr>
          <a:p>
            <a:pPr indent="0">
              <a:lnSpc>
                <a:spcPct val="90000"/>
              </a:lnSpc>
              <a:spcBef>
                <a:spcPts val="349"/>
              </a:spcBef>
              <a:buNone/>
              <a:tabLst>
                <a:tab algn="l" pos="317520"/>
                <a:tab algn="l" pos="635040"/>
                <a:tab algn="l" pos="952560"/>
                <a:tab algn="l" pos="1270080"/>
                <a:tab algn="l" pos="1587600"/>
                <a:tab algn="l" pos="1905120"/>
                <a:tab algn="l" pos="2222640"/>
                <a:tab algn="l" pos="2540160"/>
                <a:tab algn="l" pos="2857680"/>
                <a:tab algn="l" pos="3174840"/>
                <a:tab algn="l" pos="3492360"/>
                <a:tab algn="l" pos="3809880"/>
                <a:tab algn="l" pos="4127400"/>
                <a:tab algn="l" pos="4444920"/>
                <a:tab algn="l" pos="4762440"/>
                <a:tab algn="l" pos="5079960"/>
                <a:tab algn="l" pos="5397480"/>
                <a:tab algn="l" pos="5715000"/>
                <a:tab algn="l" pos="6032520"/>
                <a:tab algn="l" pos="6350040"/>
              </a:tabLst>
            </a:pPr>
            <a:endParaRPr b="0" lang="en-US" sz="9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219240" y="217440"/>
            <a:ext cx="2744640" cy="789120"/>
          </a:xfrm>
          <a:prstGeom prst="rect">
            <a:avLst/>
          </a:prstGeom>
          <a:noFill/>
          <a:ln w="0">
            <a:noFill/>
          </a:ln>
        </p:spPr>
        <p:txBody>
          <a:bodyPr lIns="90000" rIns="90000" tIns="46800" bIns="46800" anchor="ctr">
            <a:noAutofit/>
          </a:bodyPr>
          <a:p>
            <a:pPr indent="0">
              <a:lnSpc>
                <a:spcPct val="90000"/>
              </a:lnSpc>
              <a:buNone/>
              <a:tabLst>
                <a:tab algn="l" pos="0"/>
                <a:tab algn="l" pos="317520"/>
                <a:tab algn="l" pos="635040"/>
                <a:tab algn="l" pos="952560"/>
                <a:tab algn="l" pos="1270080"/>
                <a:tab algn="l" pos="1587600"/>
                <a:tab algn="l" pos="1905120"/>
                <a:tab algn="l" pos="2222640"/>
                <a:tab algn="l" pos="2540160"/>
                <a:tab algn="l" pos="2857680"/>
                <a:tab algn="l" pos="3174840"/>
                <a:tab algn="l" pos="3492360"/>
                <a:tab algn="l" pos="3809880"/>
                <a:tab algn="l" pos="4127400"/>
                <a:tab algn="l" pos="4444920"/>
                <a:tab algn="l" pos="4762440"/>
                <a:tab algn="l" pos="5079960"/>
                <a:tab algn="l" pos="5397480"/>
                <a:tab algn="l" pos="5715000"/>
                <a:tab algn="l" pos="6032520"/>
                <a:tab algn="l" pos="6350040"/>
              </a:tabLst>
            </a:pPr>
            <a:endParaRPr b="0" lang="en-US" sz="1500" spc="-1" strike="noStrike">
              <a:solidFill>
                <a:srgbClr val="000000"/>
              </a:solidFill>
              <a:latin typeface="Calibri Light"/>
            </a:endParaRPr>
          </a:p>
        </p:txBody>
      </p:sp>
      <p:sp>
        <p:nvSpPr>
          <p:cNvPr id="108" name="PlaceHolder 2"/>
          <p:cNvSpPr>
            <a:spLocks noGrp="1"/>
          </p:cNvSpPr>
          <p:nvPr>
            <p:ph/>
          </p:nvPr>
        </p:nvSpPr>
        <p:spPr>
          <a:xfrm>
            <a:off x="219240" y="1087560"/>
            <a:ext cx="1339200" cy="1235520"/>
          </a:xfrm>
          <a:prstGeom prst="rect">
            <a:avLst/>
          </a:prstGeom>
          <a:noFill/>
          <a:ln w="0">
            <a:noFill/>
          </a:ln>
        </p:spPr>
        <p:txBody>
          <a:bodyPr lIns="90000" rIns="90000" tIns="46800" bIns="46800" anchor="t">
            <a:normAutofit/>
          </a:bodyPr>
          <a:p>
            <a:pPr indent="0">
              <a:lnSpc>
                <a:spcPct val="90000"/>
              </a:lnSpc>
              <a:spcBef>
                <a:spcPts val="349"/>
              </a:spcBef>
              <a:buNone/>
              <a:tabLst>
                <a:tab algn="l" pos="317520"/>
                <a:tab algn="l" pos="635040"/>
                <a:tab algn="l" pos="952560"/>
                <a:tab algn="l" pos="1270080"/>
                <a:tab algn="l" pos="1587600"/>
                <a:tab algn="l" pos="1905120"/>
                <a:tab algn="l" pos="2222640"/>
                <a:tab algn="l" pos="2540160"/>
                <a:tab algn="l" pos="2857680"/>
                <a:tab algn="l" pos="3174840"/>
                <a:tab algn="l" pos="3492360"/>
                <a:tab algn="l" pos="3809880"/>
                <a:tab algn="l" pos="4127400"/>
                <a:tab algn="l" pos="4444920"/>
                <a:tab algn="l" pos="4762440"/>
                <a:tab algn="l" pos="5079960"/>
                <a:tab algn="l" pos="5397480"/>
                <a:tab algn="l" pos="5715000"/>
                <a:tab algn="l" pos="6032520"/>
                <a:tab algn="l" pos="6350040"/>
              </a:tabLst>
            </a:pPr>
            <a:endParaRPr b="0" lang="en-US" sz="900" spc="-1" strike="noStrike">
              <a:solidFill>
                <a:srgbClr val="000000"/>
              </a:solidFill>
              <a:latin typeface="Calibri"/>
            </a:endParaRPr>
          </a:p>
        </p:txBody>
      </p:sp>
      <p:sp>
        <p:nvSpPr>
          <p:cNvPr id="109" name="PlaceHolder 3"/>
          <p:cNvSpPr>
            <a:spLocks noGrp="1"/>
          </p:cNvSpPr>
          <p:nvPr>
            <p:ph/>
          </p:nvPr>
        </p:nvSpPr>
        <p:spPr>
          <a:xfrm>
            <a:off x="1625760" y="1087560"/>
            <a:ext cx="1339200" cy="1235520"/>
          </a:xfrm>
          <a:prstGeom prst="rect">
            <a:avLst/>
          </a:prstGeom>
          <a:noFill/>
          <a:ln w="0">
            <a:noFill/>
          </a:ln>
        </p:spPr>
        <p:txBody>
          <a:bodyPr lIns="90000" rIns="90000" tIns="46800" bIns="46800" anchor="t">
            <a:normAutofit/>
          </a:bodyPr>
          <a:p>
            <a:pPr indent="0">
              <a:lnSpc>
                <a:spcPct val="90000"/>
              </a:lnSpc>
              <a:spcBef>
                <a:spcPts val="349"/>
              </a:spcBef>
              <a:buNone/>
              <a:tabLst>
                <a:tab algn="l" pos="317520"/>
                <a:tab algn="l" pos="635040"/>
                <a:tab algn="l" pos="952560"/>
                <a:tab algn="l" pos="1270080"/>
                <a:tab algn="l" pos="1587600"/>
                <a:tab algn="l" pos="1905120"/>
                <a:tab algn="l" pos="2222640"/>
                <a:tab algn="l" pos="2540160"/>
                <a:tab algn="l" pos="2857680"/>
                <a:tab algn="l" pos="3174840"/>
                <a:tab algn="l" pos="3492360"/>
                <a:tab algn="l" pos="3809880"/>
                <a:tab algn="l" pos="4127400"/>
                <a:tab algn="l" pos="4444920"/>
                <a:tab algn="l" pos="4762440"/>
                <a:tab algn="l" pos="5079960"/>
                <a:tab algn="l" pos="5397480"/>
                <a:tab algn="l" pos="5715000"/>
                <a:tab algn="l" pos="6032520"/>
                <a:tab algn="l" pos="6350040"/>
              </a:tabLst>
            </a:pPr>
            <a:endParaRPr b="0" lang="en-US" sz="900" spc="-1" strike="noStrike">
              <a:solidFill>
                <a:srgbClr val="000000"/>
              </a:solidFill>
              <a:latin typeface="Calibri"/>
            </a:endParaRPr>
          </a:p>
        </p:txBody>
      </p:sp>
      <p:sp>
        <p:nvSpPr>
          <p:cNvPr id="110" name="PlaceHolder 4"/>
          <p:cNvSpPr>
            <a:spLocks noGrp="1"/>
          </p:cNvSpPr>
          <p:nvPr>
            <p:ph/>
          </p:nvPr>
        </p:nvSpPr>
        <p:spPr>
          <a:xfrm>
            <a:off x="219240" y="2440800"/>
            <a:ext cx="1339200" cy="1235520"/>
          </a:xfrm>
          <a:prstGeom prst="rect">
            <a:avLst/>
          </a:prstGeom>
          <a:noFill/>
          <a:ln w="0">
            <a:noFill/>
          </a:ln>
        </p:spPr>
        <p:txBody>
          <a:bodyPr lIns="90000" rIns="90000" tIns="46800" bIns="46800" anchor="t">
            <a:normAutofit/>
          </a:bodyPr>
          <a:p>
            <a:pPr indent="0">
              <a:lnSpc>
                <a:spcPct val="90000"/>
              </a:lnSpc>
              <a:spcBef>
                <a:spcPts val="349"/>
              </a:spcBef>
              <a:buNone/>
              <a:tabLst>
                <a:tab algn="l" pos="317520"/>
                <a:tab algn="l" pos="635040"/>
                <a:tab algn="l" pos="952560"/>
                <a:tab algn="l" pos="1270080"/>
                <a:tab algn="l" pos="1587600"/>
                <a:tab algn="l" pos="1905120"/>
                <a:tab algn="l" pos="2222640"/>
                <a:tab algn="l" pos="2540160"/>
                <a:tab algn="l" pos="2857680"/>
                <a:tab algn="l" pos="3174840"/>
                <a:tab algn="l" pos="3492360"/>
                <a:tab algn="l" pos="3809880"/>
                <a:tab algn="l" pos="4127400"/>
                <a:tab algn="l" pos="4444920"/>
                <a:tab algn="l" pos="4762440"/>
                <a:tab algn="l" pos="5079960"/>
                <a:tab algn="l" pos="5397480"/>
                <a:tab algn="l" pos="5715000"/>
                <a:tab algn="l" pos="6032520"/>
                <a:tab algn="l" pos="6350040"/>
              </a:tabLst>
            </a:pPr>
            <a:endParaRPr b="0" lang="en-US" sz="900" spc="-1" strike="noStrike">
              <a:solidFill>
                <a:srgbClr val="000000"/>
              </a:solidFill>
              <a:latin typeface="Calibri"/>
            </a:endParaRPr>
          </a:p>
        </p:txBody>
      </p:sp>
      <p:sp>
        <p:nvSpPr>
          <p:cNvPr id="111" name="PlaceHolder 5"/>
          <p:cNvSpPr>
            <a:spLocks noGrp="1"/>
          </p:cNvSpPr>
          <p:nvPr>
            <p:ph/>
          </p:nvPr>
        </p:nvSpPr>
        <p:spPr>
          <a:xfrm>
            <a:off x="1625760" y="2440800"/>
            <a:ext cx="1339200" cy="1235520"/>
          </a:xfrm>
          <a:prstGeom prst="rect">
            <a:avLst/>
          </a:prstGeom>
          <a:noFill/>
          <a:ln w="0">
            <a:noFill/>
          </a:ln>
        </p:spPr>
        <p:txBody>
          <a:bodyPr lIns="90000" rIns="90000" tIns="46800" bIns="46800" anchor="t">
            <a:normAutofit/>
          </a:bodyPr>
          <a:p>
            <a:pPr indent="0">
              <a:lnSpc>
                <a:spcPct val="90000"/>
              </a:lnSpc>
              <a:spcBef>
                <a:spcPts val="349"/>
              </a:spcBef>
              <a:buNone/>
              <a:tabLst>
                <a:tab algn="l" pos="317520"/>
                <a:tab algn="l" pos="635040"/>
                <a:tab algn="l" pos="952560"/>
                <a:tab algn="l" pos="1270080"/>
                <a:tab algn="l" pos="1587600"/>
                <a:tab algn="l" pos="1905120"/>
                <a:tab algn="l" pos="2222640"/>
                <a:tab algn="l" pos="2540160"/>
                <a:tab algn="l" pos="2857680"/>
                <a:tab algn="l" pos="3174840"/>
                <a:tab algn="l" pos="3492360"/>
                <a:tab algn="l" pos="3809880"/>
                <a:tab algn="l" pos="4127400"/>
                <a:tab algn="l" pos="4444920"/>
                <a:tab algn="l" pos="4762440"/>
                <a:tab algn="l" pos="5079960"/>
                <a:tab algn="l" pos="5397480"/>
                <a:tab algn="l" pos="5715000"/>
                <a:tab algn="l" pos="6032520"/>
                <a:tab algn="l" pos="6350040"/>
              </a:tabLst>
            </a:pPr>
            <a:endParaRPr b="0" lang="en-US" sz="9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219240" y="217440"/>
            <a:ext cx="2744640" cy="789120"/>
          </a:xfrm>
          <a:prstGeom prst="rect">
            <a:avLst/>
          </a:prstGeom>
          <a:noFill/>
          <a:ln w="0">
            <a:noFill/>
          </a:ln>
        </p:spPr>
        <p:txBody>
          <a:bodyPr lIns="90000" rIns="90000" tIns="46800" bIns="46800" anchor="ctr">
            <a:noAutofit/>
          </a:bodyPr>
          <a:p>
            <a:pPr indent="0">
              <a:lnSpc>
                <a:spcPct val="90000"/>
              </a:lnSpc>
              <a:buNone/>
              <a:tabLst>
                <a:tab algn="l" pos="0"/>
                <a:tab algn="l" pos="317520"/>
                <a:tab algn="l" pos="635040"/>
                <a:tab algn="l" pos="952560"/>
                <a:tab algn="l" pos="1270080"/>
                <a:tab algn="l" pos="1587600"/>
                <a:tab algn="l" pos="1905120"/>
                <a:tab algn="l" pos="2222640"/>
                <a:tab algn="l" pos="2540160"/>
                <a:tab algn="l" pos="2857680"/>
                <a:tab algn="l" pos="3174840"/>
                <a:tab algn="l" pos="3492360"/>
                <a:tab algn="l" pos="3809880"/>
                <a:tab algn="l" pos="4127400"/>
                <a:tab algn="l" pos="4444920"/>
                <a:tab algn="l" pos="4762440"/>
                <a:tab algn="l" pos="5079960"/>
                <a:tab algn="l" pos="5397480"/>
                <a:tab algn="l" pos="5715000"/>
                <a:tab algn="l" pos="6032520"/>
                <a:tab algn="l" pos="6350040"/>
              </a:tabLst>
            </a:pPr>
            <a:endParaRPr b="0" lang="en-US" sz="1500" spc="-1" strike="noStrike">
              <a:solidFill>
                <a:srgbClr val="000000"/>
              </a:solidFill>
              <a:latin typeface="Calibri Light"/>
            </a:endParaRPr>
          </a:p>
        </p:txBody>
      </p:sp>
      <p:sp>
        <p:nvSpPr>
          <p:cNvPr id="113" name="PlaceHolder 2"/>
          <p:cNvSpPr>
            <a:spLocks noGrp="1"/>
          </p:cNvSpPr>
          <p:nvPr>
            <p:ph/>
          </p:nvPr>
        </p:nvSpPr>
        <p:spPr>
          <a:xfrm>
            <a:off x="219240" y="1087560"/>
            <a:ext cx="883440" cy="1235520"/>
          </a:xfrm>
          <a:prstGeom prst="rect">
            <a:avLst/>
          </a:prstGeom>
          <a:noFill/>
          <a:ln w="0">
            <a:noFill/>
          </a:ln>
        </p:spPr>
        <p:txBody>
          <a:bodyPr lIns="90000" rIns="90000" tIns="46800" bIns="46800" anchor="t">
            <a:normAutofit/>
          </a:bodyPr>
          <a:p>
            <a:pPr indent="0">
              <a:lnSpc>
                <a:spcPct val="90000"/>
              </a:lnSpc>
              <a:spcBef>
                <a:spcPts val="349"/>
              </a:spcBef>
              <a:buNone/>
              <a:tabLst>
                <a:tab algn="l" pos="317520"/>
                <a:tab algn="l" pos="635040"/>
                <a:tab algn="l" pos="952560"/>
                <a:tab algn="l" pos="1270080"/>
                <a:tab algn="l" pos="1587600"/>
                <a:tab algn="l" pos="1905120"/>
                <a:tab algn="l" pos="2222640"/>
                <a:tab algn="l" pos="2540160"/>
                <a:tab algn="l" pos="2857680"/>
                <a:tab algn="l" pos="3174840"/>
                <a:tab algn="l" pos="3492360"/>
                <a:tab algn="l" pos="3809880"/>
                <a:tab algn="l" pos="4127400"/>
                <a:tab algn="l" pos="4444920"/>
                <a:tab algn="l" pos="4762440"/>
                <a:tab algn="l" pos="5079960"/>
                <a:tab algn="l" pos="5397480"/>
                <a:tab algn="l" pos="5715000"/>
                <a:tab algn="l" pos="6032520"/>
                <a:tab algn="l" pos="6350040"/>
              </a:tabLst>
            </a:pPr>
            <a:endParaRPr b="0" lang="en-US" sz="900" spc="-1" strike="noStrike">
              <a:solidFill>
                <a:srgbClr val="000000"/>
              </a:solidFill>
              <a:latin typeface="Calibri"/>
            </a:endParaRPr>
          </a:p>
        </p:txBody>
      </p:sp>
      <p:sp>
        <p:nvSpPr>
          <p:cNvPr id="114" name="PlaceHolder 3"/>
          <p:cNvSpPr>
            <a:spLocks noGrp="1"/>
          </p:cNvSpPr>
          <p:nvPr>
            <p:ph/>
          </p:nvPr>
        </p:nvSpPr>
        <p:spPr>
          <a:xfrm>
            <a:off x="1147320" y="1087560"/>
            <a:ext cx="883440" cy="1235520"/>
          </a:xfrm>
          <a:prstGeom prst="rect">
            <a:avLst/>
          </a:prstGeom>
          <a:noFill/>
          <a:ln w="0">
            <a:noFill/>
          </a:ln>
        </p:spPr>
        <p:txBody>
          <a:bodyPr lIns="90000" rIns="90000" tIns="46800" bIns="46800" anchor="t">
            <a:normAutofit/>
          </a:bodyPr>
          <a:p>
            <a:pPr indent="0">
              <a:lnSpc>
                <a:spcPct val="90000"/>
              </a:lnSpc>
              <a:spcBef>
                <a:spcPts val="349"/>
              </a:spcBef>
              <a:buNone/>
              <a:tabLst>
                <a:tab algn="l" pos="317520"/>
                <a:tab algn="l" pos="635040"/>
                <a:tab algn="l" pos="952560"/>
                <a:tab algn="l" pos="1270080"/>
                <a:tab algn="l" pos="1587600"/>
                <a:tab algn="l" pos="1905120"/>
                <a:tab algn="l" pos="2222640"/>
                <a:tab algn="l" pos="2540160"/>
                <a:tab algn="l" pos="2857680"/>
                <a:tab algn="l" pos="3174840"/>
                <a:tab algn="l" pos="3492360"/>
                <a:tab algn="l" pos="3809880"/>
                <a:tab algn="l" pos="4127400"/>
                <a:tab algn="l" pos="4444920"/>
                <a:tab algn="l" pos="4762440"/>
                <a:tab algn="l" pos="5079960"/>
                <a:tab algn="l" pos="5397480"/>
                <a:tab algn="l" pos="5715000"/>
                <a:tab algn="l" pos="6032520"/>
                <a:tab algn="l" pos="6350040"/>
              </a:tabLst>
            </a:pPr>
            <a:endParaRPr b="0" lang="en-US" sz="900" spc="-1" strike="noStrike">
              <a:solidFill>
                <a:srgbClr val="000000"/>
              </a:solidFill>
              <a:latin typeface="Calibri"/>
            </a:endParaRPr>
          </a:p>
        </p:txBody>
      </p:sp>
      <p:sp>
        <p:nvSpPr>
          <p:cNvPr id="115" name="PlaceHolder 4"/>
          <p:cNvSpPr>
            <a:spLocks noGrp="1"/>
          </p:cNvSpPr>
          <p:nvPr>
            <p:ph/>
          </p:nvPr>
        </p:nvSpPr>
        <p:spPr>
          <a:xfrm>
            <a:off x="2075400" y="1087560"/>
            <a:ext cx="883440" cy="1235520"/>
          </a:xfrm>
          <a:prstGeom prst="rect">
            <a:avLst/>
          </a:prstGeom>
          <a:noFill/>
          <a:ln w="0">
            <a:noFill/>
          </a:ln>
        </p:spPr>
        <p:txBody>
          <a:bodyPr lIns="90000" rIns="90000" tIns="46800" bIns="46800" anchor="t">
            <a:normAutofit/>
          </a:bodyPr>
          <a:p>
            <a:pPr indent="0">
              <a:lnSpc>
                <a:spcPct val="90000"/>
              </a:lnSpc>
              <a:spcBef>
                <a:spcPts val="349"/>
              </a:spcBef>
              <a:buNone/>
              <a:tabLst>
                <a:tab algn="l" pos="317520"/>
                <a:tab algn="l" pos="635040"/>
                <a:tab algn="l" pos="952560"/>
                <a:tab algn="l" pos="1270080"/>
                <a:tab algn="l" pos="1587600"/>
                <a:tab algn="l" pos="1905120"/>
                <a:tab algn="l" pos="2222640"/>
                <a:tab algn="l" pos="2540160"/>
                <a:tab algn="l" pos="2857680"/>
                <a:tab algn="l" pos="3174840"/>
                <a:tab algn="l" pos="3492360"/>
                <a:tab algn="l" pos="3809880"/>
                <a:tab algn="l" pos="4127400"/>
                <a:tab algn="l" pos="4444920"/>
                <a:tab algn="l" pos="4762440"/>
                <a:tab algn="l" pos="5079960"/>
                <a:tab algn="l" pos="5397480"/>
                <a:tab algn="l" pos="5715000"/>
                <a:tab algn="l" pos="6032520"/>
                <a:tab algn="l" pos="6350040"/>
              </a:tabLst>
            </a:pPr>
            <a:endParaRPr b="0" lang="en-US" sz="900" spc="-1" strike="noStrike">
              <a:solidFill>
                <a:srgbClr val="000000"/>
              </a:solidFill>
              <a:latin typeface="Calibri"/>
            </a:endParaRPr>
          </a:p>
        </p:txBody>
      </p:sp>
      <p:sp>
        <p:nvSpPr>
          <p:cNvPr id="116" name="PlaceHolder 5"/>
          <p:cNvSpPr>
            <a:spLocks noGrp="1"/>
          </p:cNvSpPr>
          <p:nvPr>
            <p:ph/>
          </p:nvPr>
        </p:nvSpPr>
        <p:spPr>
          <a:xfrm>
            <a:off x="219240" y="2440800"/>
            <a:ext cx="883440" cy="1235520"/>
          </a:xfrm>
          <a:prstGeom prst="rect">
            <a:avLst/>
          </a:prstGeom>
          <a:noFill/>
          <a:ln w="0">
            <a:noFill/>
          </a:ln>
        </p:spPr>
        <p:txBody>
          <a:bodyPr lIns="90000" rIns="90000" tIns="46800" bIns="46800" anchor="t">
            <a:normAutofit/>
          </a:bodyPr>
          <a:p>
            <a:pPr indent="0">
              <a:lnSpc>
                <a:spcPct val="90000"/>
              </a:lnSpc>
              <a:spcBef>
                <a:spcPts val="349"/>
              </a:spcBef>
              <a:buNone/>
              <a:tabLst>
                <a:tab algn="l" pos="317520"/>
                <a:tab algn="l" pos="635040"/>
                <a:tab algn="l" pos="952560"/>
                <a:tab algn="l" pos="1270080"/>
                <a:tab algn="l" pos="1587600"/>
                <a:tab algn="l" pos="1905120"/>
                <a:tab algn="l" pos="2222640"/>
                <a:tab algn="l" pos="2540160"/>
                <a:tab algn="l" pos="2857680"/>
                <a:tab algn="l" pos="3174840"/>
                <a:tab algn="l" pos="3492360"/>
                <a:tab algn="l" pos="3809880"/>
                <a:tab algn="l" pos="4127400"/>
                <a:tab algn="l" pos="4444920"/>
                <a:tab algn="l" pos="4762440"/>
                <a:tab algn="l" pos="5079960"/>
                <a:tab algn="l" pos="5397480"/>
                <a:tab algn="l" pos="5715000"/>
                <a:tab algn="l" pos="6032520"/>
                <a:tab algn="l" pos="6350040"/>
              </a:tabLst>
            </a:pPr>
            <a:endParaRPr b="0" lang="en-US" sz="900" spc="-1" strike="noStrike">
              <a:solidFill>
                <a:srgbClr val="000000"/>
              </a:solidFill>
              <a:latin typeface="Calibri"/>
            </a:endParaRPr>
          </a:p>
        </p:txBody>
      </p:sp>
      <p:sp>
        <p:nvSpPr>
          <p:cNvPr id="117" name="PlaceHolder 6"/>
          <p:cNvSpPr>
            <a:spLocks noGrp="1"/>
          </p:cNvSpPr>
          <p:nvPr>
            <p:ph/>
          </p:nvPr>
        </p:nvSpPr>
        <p:spPr>
          <a:xfrm>
            <a:off x="1147320" y="2440800"/>
            <a:ext cx="883440" cy="1235520"/>
          </a:xfrm>
          <a:prstGeom prst="rect">
            <a:avLst/>
          </a:prstGeom>
          <a:noFill/>
          <a:ln w="0">
            <a:noFill/>
          </a:ln>
        </p:spPr>
        <p:txBody>
          <a:bodyPr lIns="90000" rIns="90000" tIns="46800" bIns="46800" anchor="t">
            <a:normAutofit/>
          </a:bodyPr>
          <a:p>
            <a:pPr indent="0">
              <a:lnSpc>
                <a:spcPct val="90000"/>
              </a:lnSpc>
              <a:spcBef>
                <a:spcPts val="349"/>
              </a:spcBef>
              <a:buNone/>
              <a:tabLst>
                <a:tab algn="l" pos="317520"/>
                <a:tab algn="l" pos="635040"/>
                <a:tab algn="l" pos="952560"/>
                <a:tab algn="l" pos="1270080"/>
                <a:tab algn="l" pos="1587600"/>
                <a:tab algn="l" pos="1905120"/>
                <a:tab algn="l" pos="2222640"/>
                <a:tab algn="l" pos="2540160"/>
                <a:tab algn="l" pos="2857680"/>
                <a:tab algn="l" pos="3174840"/>
                <a:tab algn="l" pos="3492360"/>
                <a:tab algn="l" pos="3809880"/>
                <a:tab algn="l" pos="4127400"/>
                <a:tab algn="l" pos="4444920"/>
                <a:tab algn="l" pos="4762440"/>
                <a:tab algn="l" pos="5079960"/>
                <a:tab algn="l" pos="5397480"/>
                <a:tab algn="l" pos="5715000"/>
                <a:tab algn="l" pos="6032520"/>
                <a:tab algn="l" pos="6350040"/>
              </a:tabLst>
            </a:pPr>
            <a:endParaRPr b="0" lang="en-US" sz="900" spc="-1" strike="noStrike">
              <a:solidFill>
                <a:srgbClr val="000000"/>
              </a:solidFill>
              <a:latin typeface="Calibri"/>
            </a:endParaRPr>
          </a:p>
        </p:txBody>
      </p:sp>
      <p:sp>
        <p:nvSpPr>
          <p:cNvPr id="118" name="PlaceHolder 7"/>
          <p:cNvSpPr>
            <a:spLocks noGrp="1"/>
          </p:cNvSpPr>
          <p:nvPr>
            <p:ph/>
          </p:nvPr>
        </p:nvSpPr>
        <p:spPr>
          <a:xfrm>
            <a:off x="2075400" y="2440800"/>
            <a:ext cx="883440" cy="1235520"/>
          </a:xfrm>
          <a:prstGeom prst="rect">
            <a:avLst/>
          </a:prstGeom>
          <a:noFill/>
          <a:ln w="0">
            <a:noFill/>
          </a:ln>
        </p:spPr>
        <p:txBody>
          <a:bodyPr lIns="90000" rIns="90000" tIns="46800" bIns="46800" anchor="t">
            <a:normAutofit/>
          </a:bodyPr>
          <a:p>
            <a:pPr indent="0">
              <a:lnSpc>
                <a:spcPct val="90000"/>
              </a:lnSpc>
              <a:spcBef>
                <a:spcPts val="349"/>
              </a:spcBef>
              <a:buNone/>
              <a:tabLst>
                <a:tab algn="l" pos="317520"/>
                <a:tab algn="l" pos="635040"/>
                <a:tab algn="l" pos="952560"/>
                <a:tab algn="l" pos="1270080"/>
                <a:tab algn="l" pos="1587600"/>
                <a:tab algn="l" pos="1905120"/>
                <a:tab algn="l" pos="2222640"/>
                <a:tab algn="l" pos="2540160"/>
                <a:tab algn="l" pos="2857680"/>
                <a:tab algn="l" pos="3174840"/>
                <a:tab algn="l" pos="3492360"/>
                <a:tab algn="l" pos="3809880"/>
                <a:tab algn="l" pos="4127400"/>
                <a:tab algn="l" pos="4444920"/>
                <a:tab algn="l" pos="4762440"/>
                <a:tab algn="l" pos="5079960"/>
                <a:tab algn="l" pos="5397480"/>
                <a:tab algn="l" pos="5715000"/>
                <a:tab algn="l" pos="6032520"/>
                <a:tab algn="l" pos="6350040"/>
              </a:tabLst>
            </a:pPr>
            <a:endParaRPr b="0" lang="en-US" sz="9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1" name="PlaceHolder 1"/>
          <p:cNvSpPr>
            <a:spLocks noGrp="1"/>
          </p:cNvSpPr>
          <p:nvPr>
            <p:ph type="title"/>
          </p:nvPr>
        </p:nvSpPr>
        <p:spPr>
          <a:xfrm>
            <a:off x="219240" y="217440"/>
            <a:ext cx="2744640" cy="789120"/>
          </a:xfrm>
          <a:prstGeom prst="rect">
            <a:avLst/>
          </a:prstGeom>
          <a:noFill/>
          <a:ln w="0">
            <a:noFill/>
          </a:ln>
        </p:spPr>
        <p:txBody>
          <a:bodyPr lIns="90000" rIns="90000" tIns="46800" bIns="46800" anchor="ctr">
            <a:noAutofit/>
          </a:bodyPr>
          <a:p>
            <a:pPr indent="0">
              <a:lnSpc>
                <a:spcPct val="90000"/>
              </a:lnSpc>
              <a:buNone/>
              <a:tabLst>
                <a:tab algn="l" pos="0"/>
                <a:tab algn="l" pos="317520"/>
                <a:tab algn="l" pos="635040"/>
                <a:tab algn="l" pos="952560"/>
                <a:tab algn="l" pos="1270080"/>
                <a:tab algn="l" pos="1587600"/>
                <a:tab algn="l" pos="1905120"/>
                <a:tab algn="l" pos="2222640"/>
                <a:tab algn="l" pos="2540160"/>
                <a:tab algn="l" pos="2857680"/>
                <a:tab algn="l" pos="3174840"/>
                <a:tab algn="l" pos="3492360"/>
                <a:tab algn="l" pos="3809880"/>
                <a:tab algn="l" pos="4127400"/>
                <a:tab algn="l" pos="4444920"/>
                <a:tab algn="l" pos="4762440"/>
                <a:tab algn="l" pos="5079960"/>
                <a:tab algn="l" pos="5397480"/>
                <a:tab algn="l" pos="5715000"/>
                <a:tab algn="l" pos="6032520"/>
                <a:tab algn="l" pos="6350040"/>
              </a:tabLst>
            </a:pPr>
            <a:endParaRPr b="0" lang="en-US" sz="1500" spc="-1" strike="noStrike">
              <a:solidFill>
                <a:srgbClr val="000000"/>
              </a:solidFill>
              <a:latin typeface="Calibri Light"/>
            </a:endParaRPr>
          </a:p>
        </p:txBody>
      </p:sp>
      <p:sp>
        <p:nvSpPr>
          <p:cNvPr id="162" name="PlaceHolder 2"/>
          <p:cNvSpPr>
            <a:spLocks noGrp="1"/>
          </p:cNvSpPr>
          <p:nvPr>
            <p:ph type="subTitle"/>
          </p:nvPr>
        </p:nvSpPr>
        <p:spPr>
          <a:xfrm>
            <a:off x="219240" y="1087560"/>
            <a:ext cx="2744640" cy="2590560"/>
          </a:xfrm>
          <a:prstGeom prst="rect">
            <a:avLst/>
          </a:prstGeom>
          <a:noFill/>
          <a:ln w="0">
            <a:noFill/>
          </a:ln>
        </p:spPr>
        <p:txBody>
          <a:bodyPr lIns="0" rIns="0" tIns="0" bIns="0" anchor="ctr">
            <a:noAutofit/>
          </a:bodyPr>
          <a:p>
            <a:pPr indent="0" algn="ctr">
              <a:lnSpc>
                <a:spcPct val="90000"/>
              </a:lnSpc>
              <a:spcBef>
                <a:spcPts val="349"/>
              </a:spcBef>
              <a:buNone/>
              <a:tabLst>
                <a:tab algn="l" pos="0"/>
                <a:tab algn="l" pos="317520"/>
                <a:tab algn="l" pos="635040"/>
                <a:tab algn="l" pos="952560"/>
                <a:tab algn="l" pos="1270080"/>
                <a:tab algn="l" pos="1587600"/>
                <a:tab algn="l" pos="1905120"/>
                <a:tab algn="l" pos="2222640"/>
                <a:tab algn="l" pos="2540160"/>
                <a:tab algn="l" pos="2857680"/>
                <a:tab algn="l" pos="3174840"/>
                <a:tab algn="l" pos="3492360"/>
                <a:tab algn="l" pos="3809880"/>
                <a:tab algn="l" pos="4127400"/>
                <a:tab algn="l" pos="4444920"/>
                <a:tab algn="l" pos="4762440"/>
                <a:tab algn="l" pos="5079960"/>
                <a:tab algn="l" pos="5397480"/>
                <a:tab algn="l" pos="5715000"/>
                <a:tab algn="l" pos="6032520"/>
                <a:tab algn="l" pos="6350040"/>
              </a:tabLst>
            </a:pPr>
            <a:endParaRPr b="0" lang="en-US" sz="9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219240" y="217440"/>
            <a:ext cx="2744640" cy="789120"/>
          </a:xfrm>
          <a:prstGeom prst="rect">
            <a:avLst/>
          </a:prstGeom>
          <a:noFill/>
          <a:ln w="0">
            <a:noFill/>
          </a:ln>
        </p:spPr>
        <p:txBody>
          <a:bodyPr lIns="90000" rIns="90000" tIns="46800" bIns="46800" anchor="ctr">
            <a:noAutofit/>
          </a:bodyPr>
          <a:p>
            <a:pPr indent="0">
              <a:lnSpc>
                <a:spcPct val="90000"/>
              </a:lnSpc>
              <a:buNone/>
              <a:tabLst>
                <a:tab algn="l" pos="0"/>
                <a:tab algn="l" pos="317520"/>
                <a:tab algn="l" pos="635040"/>
                <a:tab algn="l" pos="952560"/>
                <a:tab algn="l" pos="1270080"/>
                <a:tab algn="l" pos="1587600"/>
                <a:tab algn="l" pos="1905120"/>
                <a:tab algn="l" pos="2222640"/>
                <a:tab algn="l" pos="2540160"/>
                <a:tab algn="l" pos="2857680"/>
                <a:tab algn="l" pos="3174840"/>
                <a:tab algn="l" pos="3492360"/>
                <a:tab algn="l" pos="3809880"/>
                <a:tab algn="l" pos="4127400"/>
                <a:tab algn="l" pos="4444920"/>
                <a:tab algn="l" pos="4762440"/>
                <a:tab algn="l" pos="5079960"/>
                <a:tab algn="l" pos="5397480"/>
                <a:tab algn="l" pos="5715000"/>
                <a:tab algn="l" pos="6032520"/>
                <a:tab algn="l" pos="6350040"/>
              </a:tabLst>
            </a:pPr>
            <a:endParaRPr b="0" lang="en-US" sz="1500" spc="-1" strike="noStrike">
              <a:solidFill>
                <a:srgbClr val="000000"/>
              </a:solidFill>
              <a:latin typeface="Calibri Light"/>
            </a:endParaRPr>
          </a:p>
        </p:txBody>
      </p:sp>
      <p:sp>
        <p:nvSpPr>
          <p:cNvPr id="164" name="PlaceHolder 2"/>
          <p:cNvSpPr>
            <a:spLocks noGrp="1"/>
          </p:cNvSpPr>
          <p:nvPr>
            <p:ph/>
          </p:nvPr>
        </p:nvSpPr>
        <p:spPr>
          <a:xfrm>
            <a:off x="219240" y="1087560"/>
            <a:ext cx="2744640" cy="2590560"/>
          </a:xfrm>
          <a:prstGeom prst="rect">
            <a:avLst/>
          </a:prstGeom>
          <a:noFill/>
          <a:ln w="0">
            <a:noFill/>
          </a:ln>
        </p:spPr>
        <p:txBody>
          <a:bodyPr lIns="90000" rIns="90000" tIns="46800" bIns="46800" anchor="t">
            <a:normAutofit/>
          </a:bodyPr>
          <a:p>
            <a:pPr indent="0">
              <a:lnSpc>
                <a:spcPct val="90000"/>
              </a:lnSpc>
              <a:spcBef>
                <a:spcPts val="349"/>
              </a:spcBef>
              <a:buNone/>
              <a:tabLst>
                <a:tab algn="l" pos="317520"/>
                <a:tab algn="l" pos="635040"/>
                <a:tab algn="l" pos="952560"/>
                <a:tab algn="l" pos="1270080"/>
                <a:tab algn="l" pos="1587600"/>
                <a:tab algn="l" pos="1905120"/>
                <a:tab algn="l" pos="2222640"/>
                <a:tab algn="l" pos="2540160"/>
                <a:tab algn="l" pos="2857680"/>
                <a:tab algn="l" pos="3174840"/>
                <a:tab algn="l" pos="3492360"/>
                <a:tab algn="l" pos="3809880"/>
                <a:tab algn="l" pos="4127400"/>
                <a:tab algn="l" pos="4444920"/>
                <a:tab algn="l" pos="4762440"/>
                <a:tab algn="l" pos="5079960"/>
                <a:tab algn="l" pos="5397480"/>
                <a:tab algn="l" pos="5715000"/>
                <a:tab algn="l" pos="6032520"/>
                <a:tab algn="l" pos="6350040"/>
              </a:tabLst>
            </a:pPr>
            <a:endParaRPr b="0" lang="en-US" sz="9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9240" y="217440"/>
            <a:ext cx="2744640" cy="789120"/>
          </a:xfrm>
          <a:prstGeom prst="rect">
            <a:avLst/>
          </a:prstGeom>
          <a:noFill/>
          <a:ln w="0">
            <a:noFill/>
          </a:ln>
        </p:spPr>
        <p:txBody>
          <a:bodyPr lIns="90000" rIns="90000" tIns="46800" bIns="46800" anchor="ctr">
            <a:noAutofit/>
          </a:bodyPr>
          <a:p>
            <a:pPr indent="0">
              <a:lnSpc>
                <a:spcPct val="90000"/>
              </a:lnSpc>
              <a:buNone/>
              <a:tabLst>
                <a:tab algn="l" pos="0"/>
                <a:tab algn="l" pos="317520"/>
                <a:tab algn="l" pos="635040"/>
                <a:tab algn="l" pos="952560"/>
                <a:tab algn="l" pos="1270080"/>
                <a:tab algn="l" pos="1587600"/>
                <a:tab algn="l" pos="1905120"/>
                <a:tab algn="l" pos="2222640"/>
                <a:tab algn="l" pos="2540160"/>
                <a:tab algn="l" pos="2857680"/>
                <a:tab algn="l" pos="3174840"/>
                <a:tab algn="l" pos="3492360"/>
                <a:tab algn="l" pos="3809880"/>
                <a:tab algn="l" pos="4127400"/>
                <a:tab algn="l" pos="4444920"/>
                <a:tab algn="l" pos="4762440"/>
                <a:tab algn="l" pos="5079960"/>
                <a:tab algn="l" pos="5397480"/>
                <a:tab algn="l" pos="5715000"/>
                <a:tab algn="l" pos="6032520"/>
                <a:tab algn="l" pos="6350040"/>
              </a:tabLst>
            </a:pPr>
            <a:endParaRPr b="0" lang="en-US" sz="1500" spc="-1" strike="noStrike">
              <a:solidFill>
                <a:srgbClr val="000000"/>
              </a:solidFill>
              <a:latin typeface="Calibri Light"/>
            </a:endParaRPr>
          </a:p>
        </p:txBody>
      </p:sp>
      <p:sp>
        <p:nvSpPr>
          <p:cNvPr id="166" name="PlaceHolder 2"/>
          <p:cNvSpPr>
            <a:spLocks noGrp="1"/>
          </p:cNvSpPr>
          <p:nvPr>
            <p:ph/>
          </p:nvPr>
        </p:nvSpPr>
        <p:spPr>
          <a:xfrm>
            <a:off x="219240" y="1087560"/>
            <a:ext cx="1339200" cy="2590560"/>
          </a:xfrm>
          <a:prstGeom prst="rect">
            <a:avLst/>
          </a:prstGeom>
          <a:noFill/>
          <a:ln w="0">
            <a:noFill/>
          </a:ln>
        </p:spPr>
        <p:txBody>
          <a:bodyPr lIns="90000" rIns="90000" tIns="46800" bIns="46800" anchor="t">
            <a:normAutofit/>
          </a:bodyPr>
          <a:p>
            <a:pPr indent="0">
              <a:lnSpc>
                <a:spcPct val="90000"/>
              </a:lnSpc>
              <a:spcBef>
                <a:spcPts val="349"/>
              </a:spcBef>
              <a:buNone/>
              <a:tabLst>
                <a:tab algn="l" pos="317520"/>
                <a:tab algn="l" pos="635040"/>
                <a:tab algn="l" pos="952560"/>
                <a:tab algn="l" pos="1270080"/>
                <a:tab algn="l" pos="1587600"/>
                <a:tab algn="l" pos="1905120"/>
                <a:tab algn="l" pos="2222640"/>
                <a:tab algn="l" pos="2540160"/>
                <a:tab algn="l" pos="2857680"/>
                <a:tab algn="l" pos="3174840"/>
                <a:tab algn="l" pos="3492360"/>
                <a:tab algn="l" pos="3809880"/>
                <a:tab algn="l" pos="4127400"/>
                <a:tab algn="l" pos="4444920"/>
                <a:tab algn="l" pos="4762440"/>
                <a:tab algn="l" pos="5079960"/>
                <a:tab algn="l" pos="5397480"/>
                <a:tab algn="l" pos="5715000"/>
                <a:tab algn="l" pos="6032520"/>
                <a:tab algn="l" pos="6350040"/>
              </a:tabLst>
            </a:pPr>
            <a:endParaRPr b="0" lang="en-US" sz="900" spc="-1" strike="noStrike">
              <a:solidFill>
                <a:srgbClr val="000000"/>
              </a:solidFill>
              <a:latin typeface="Calibri"/>
            </a:endParaRPr>
          </a:p>
        </p:txBody>
      </p:sp>
      <p:sp>
        <p:nvSpPr>
          <p:cNvPr id="167" name="PlaceHolder 3"/>
          <p:cNvSpPr>
            <a:spLocks noGrp="1"/>
          </p:cNvSpPr>
          <p:nvPr>
            <p:ph/>
          </p:nvPr>
        </p:nvSpPr>
        <p:spPr>
          <a:xfrm>
            <a:off x="1625760" y="1087560"/>
            <a:ext cx="1339200" cy="2590560"/>
          </a:xfrm>
          <a:prstGeom prst="rect">
            <a:avLst/>
          </a:prstGeom>
          <a:noFill/>
          <a:ln w="0">
            <a:noFill/>
          </a:ln>
        </p:spPr>
        <p:txBody>
          <a:bodyPr lIns="90000" rIns="90000" tIns="46800" bIns="46800" anchor="t">
            <a:normAutofit/>
          </a:bodyPr>
          <a:p>
            <a:pPr indent="0">
              <a:lnSpc>
                <a:spcPct val="90000"/>
              </a:lnSpc>
              <a:spcBef>
                <a:spcPts val="349"/>
              </a:spcBef>
              <a:buNone/>
              <a:tabLst>
                <a:tab algn="l" pos="317520"/>
                <a:tab algn="l" pos="635040"/>
                <a:tab algn="l" pos="952560"/>
                <a:tab algn="l" pos="1270080"/>
                <a:tab algn="l" pos="1587600"/>
                <a:tab algn="l" pos="1905120"/>
                <a:tab algn="l" pos="2222640"/>
                <a:tab algn="l" pos="2540160"/>
                <a:tab algn="l" pos="2857680"/>
                <a:tab algn="l" pos="3174840"/>
                <a:tab algn="l" pos="3492360"/>
                <a:tab algn="l" pos="3809880"/>
                <a:tab algn="l" pos="4127400"/>
                <a:tab algn="l" pos="4444920"/>
                <a:tab algn="l" pos="4762440"/>
                <a:tab algn="l" pos="5079960"/>
                <a:tab algn="l" pos="5397480"/>
                <a:tab algn="l" pos="5715000"/>
                <a:tab algn="l" pos="6032520"/>
                <a:tab algn="l" pos="6350040"/>
              </a:tabLst>
            </a:pPr>
            <a:endParaRPr b="0" lang="en-US" sz="9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8" name="PlaceHolder 1"/>
          <p:cNvSpPr>
            <a:spLocks noGrp="1"/>
          </p:cNvSpPr>
          <p:nvPr>
            <p:ph type="title"/>
          </p:nvPr>
        </p:nvSpPr>
        <p:spPr>
          <a:xfrm>
            <a:off x="219240" y="217440"/>
            <a:ext cx="2744640" cy="789120"/>
          </a:xfrm>
          <a:prstGeom prst="rect">
            <a:avLst/>
          </a:prstGeom>
          <a:noFill/>
          <a:ln w="0">
            <a:noFill/>
          </a:ln>
        </p:spPr>
        <p:txBody>
          <a:bodyPr lIns="90000" rIns="90000" tIns="46800" bIns="46800" anchor="ctr">
            <a:noAutofit/>
          </a:bodyPr>
          <a:p>
            <a:pPr indent="0">
              <a:lnSpc>
                <a:spcPct val="90000"/>
              </a:lnSpc>
              <a:buNone/>
              <a:tabLst>
                <a:tab algn="l" pos="0"/>
                <a:tab algn="l" pos="317520"/>
                <a:tab algn="l" pos="635040"/>
                <a:tab algn="l" pos="952560"/>
                <a:tab algn="l" pos="1270080"/>
                <a:tab algn="l" pos="1587600"/>
                <a:tab algn="l" pos="1905120"/>
                <a:tab algn="l" pos="2222640"/>
                <a:tab algn="l" pos="2540160"/>
                <a:tab algn="l" pos="2857680"/>
                <a:tab algn="l" pos="3174840"/>
                <a:tab algn="l" pos="3492360"/>
                <a:tab algn="l" pos="3809880"/>
                <a:tab algn="l" pos="4127400"/>
                <a:tab algn="l" pos="4444920"/>
                <a:tab algn="l" pos="4762440"/>
                <a:tab algn="l" pos="5079960"/>
                <a:tab algn="l" pos="5397480"/>
                <a:tab algn="l" pos="5715000"/>
                <a:tab algn="l" pos="6032520"/>
                <a:tab algn="l" pos="6350040"/>
              </a:tabLst>
            </a:pPr>
            <a:endParaRPr b="0" lang="en-US" sz="1500" spc="-1" strike="noStrike">
              <a:solidFill>
                <a:srgbClr val="000000"/>
              </a:solidFill>
              <a:latin typeface="Calibri Ligh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19240" y="217440"/>
            <a:ext cx="2744640" cy="789120"/>
          </a:xfrm>
          <a:prstGeom prst="rect">
            <a:avLst/>
          </a:prstGeom>
          <a:noFill/>
          <a:ln w="0">
            <a:noFill/>
          </a:ln>
        </p:spPr>
        <p:txBody>
          <a:bodyPr lIns="90000" rIns="90000" tIns="46800" bIns="46800" anchor="ctr">
            <a:noAutofit/>
          </a:bodyPr>
          <a:p>
            <a:pPr indent="0">
              <a:lnSpc>
                <a:spcPct val="90000"/>
              </a:lnSpc>
              <a:buNone/>
              <a:tabLst>
                <a:tab algn="l" pos="0"/>
                <a:tab algn="l" pos="317520"/>
                <a:tab algn="l" pos="635040"/>
                <a:tab algn="l" pos="952560"/>
                <a:tab algn="l" pos="1270080"/>
                <a:tab algn="l" pos="1587600"/>
                <a:tab algn="l" pos="1905120"/>
                <a:tab algn="l" pos="2222640"/>
                <a:tab algn="l" pos="2540160"/>
                <a:tab algn="l" pos="2857680"/>
                <a:tab algn="l" pos="3174840"/>
                <a:tab algn="l" pos="3492360"/>
                <a:tab algn="l" pos="3809880"/>
                <a:tab algn="l" pos="4127400"/>
                <a:tab algn="l" pos="4444920"/>
                <a:tab algn="l" pos="4762440"/>
                <a:tab algn="l" pos="5079960"/>
                <a:tab algn="l" pos="5397480"/>
                <a:tab algn="l" pos="5715000"/>
                <a:tab algn="l" pos="6032520"/>
                <a:tab algn="l" pos="6350040"/>
              </a:tabLst>
            </a:pPr>
            <a:endParaRPr b="0" lang="en-US" sz="1500" spc="-1" strike="noStrike">
              <a:solidFill>
                <a:srgbClr val="000000"/>
              </a:solidFill>
              <a:latin typeface="Calibri Light"/>
            </a:endParaRPr>
          </a:p>
        </p:txBody>
      </p:sp>
      <p:sp>
        <p:nvSpPr>
          <p:cNvPr id="8" name="PlaceHolder 2"/>
          <p:cNvSpPr>
            <a:spLocks noGrp="1"/>
          </p:cNvSpPr>
          <p:nvPr>
            <p:ph/>
          </p:nvPr>
        </p:nvSpPr>
        <p:spPr>
          <a:xfrm>
            <a:off x="219240" y="1087560"/>
            <a:ext cx="2744640" cy="2590560"/>
          </a:xfrm>
          <a:prstGeom prst="rect">
            <a:avLst/>
          </a:prstGeom>
          <a:noFill/>
          <a:ln w="0">
            <a:noFill/>
          </a:ln>
        </p:spPr>
        <p:txBody>
          <a:bodyPr lIns="90000" rIns="90000" tIns="46800" bIns="46800" anchor="t">
            <a:normAutofit/>
          </a:bodyPr>
          <a:p>
            <a:pPr indent="0">
              <a:lnSpc>
                <a:spcPct val="90000"/>
              </a:lnSpc>
              <a:spcBef>
                <a:spcPts val="349"/>
              </a:spcBef>
              <a:buNone/>
              <a:tabLst>
                <a:tab algn="l" pos="317520"/>
                <a:tab algn="l" pos="635040"/>
                <a:tab algn="l" pos="952560"/>
                <a:tab algn="l" pos="1270080"/>
                <a:tab algn="l" pos="1587600"/>
                <a:tab algn="l" pos="1905120"/>
                <a:tab algn="l" pos="2222640"/>
                <a:tab algn="l" pos="2540160"/>
                <a:tab algn="l" pos="2857680"/>
                <a:tab algn="l" pos="3174840"/>
                <a:tab algn="l" pos="3492360"/>
                <a:tab algn="l" pos="3809880"/>
                <a:tab algn="l" pos="4127400"/>
                <a:tab algn="l" pos="4444920"/>
                <a:tab algn="l" pos="4762440"/>
                <a:tab algn="l" pos="5079960"/>
                <a:tab algn="l" pos="5397480"/>
                <a:tab algn="l" pos="5715000"/>
                <a:tab algn="l" pos="6032520"/>
                <a:tab algn="l" pos="6350040"/>
              </a:tabLst>
            </a:pPr>
            <a:endParaRPr b="0" lang="en-US" sz="9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765CE5-E95A-49E4-9125-33F324C66A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9" name="PlaceHolder 1"/>
          <p:cNvSpPr>
            <a:spLocks noGrp="1"/>
          </p:cNvSpPr>
          <p:nvPr>
            <p:ph type="subTitle"/>
          </p:nvPr>
        </p:nvSpPr>
        <p:spPr>
          <a:xfrm>
            <a:off x="219240" y="217440"/>
            <a:ext cx="2744640" cy="3659040"/>
          </a:xfrm>
          <a:prstGeom prst="rect">
            <a:avLst/>
          </a:prstGeom>
          <a:noFill/>
          <a:ln w="0">
            <a:noFill/>
          </a:ln>
        </p:spPr>
        <p:txBody>
          <a:bodyPr lIns="0" rIns="0" tIns="0" bIns="0" anchor="ctr">
            <a:noAutofit/>
          </a:bodyPr>
          <a:p>
            <a:pPr algn="ctr">
              <a:lnSpc>
                <a:spcPct val="90000"/>
              </a:lnSpc>
              <a:spcBef>
                <a:spcPts val="349"/>
              </a:spcBef>
              <a:tabLst>
                <a:tab algn="l" pos="0"/>
                <a:tab algn="l" pos="317520"/>
                <a:tab algn="l" pos="635040"/>
                <a:tab algn="l" pos="952560"/>
                <a:tab algn="l" pos="1270080"/>
                <a:tab algn="l" pos="1587600"/>
                <a:tab algn="l" pos="1905120"/>
                <a:tab algn="l" pos="2222640"/>
                <a:tab algn="l" pos="2540160"/>
                <a:tab algn="l" pos="2857680"/>
                <a:tab algn="l" pos="3174840"/>
                <a:tab algn="l" pos="3492360"/>
                <a:tab algn="l" pos="3809880"/>
                <a:tab algn="l" pos="4127400"/>
                <a:tab algn="l" pos="4444920"/>
                <a:tab algn="l" pos="4762440"/>
                <a:tab algn="l" pos="5079960"/>
                <a:tab algn="l" pos="5397480"/>
                <a:tab algn="l" pos="5715000"/>
                <a:tab algn="l" pos="6032520"/>
                <a:tab algn="l" pos="6350040"/>
              </a:tabLst>
            </a:pPr>
            <a:endParaRPr b="0" lang="en-US" sz="9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219240" y="217440"/>
            <a:ext cx="2744640" cy="789120"/>
          </a:xfrm>
          <a:prstGeom prst="rect">
            <a:avLst/>
          </a:prstGeom>
          <a:noFill/>
          <a:ln w="0">
            <a:noFill/>
          </a:ln>
        </p:spPr>
        <p:txBody>
          <a:bodyPr lIns="90000" rIns="90000" tIns="46800" bIns="46800" anchor="ctr">
            <a:noAutofit/>
          </a:bodyPr>
          <a:p>
            <a:pPr indent="0">
              <a:lnSpc>
                <a:spcPct val="90000"/>
              </a:lnSpc>
              <a:buNone/>
              <a:tabLst>
                <a:tab algn="l" pos="0"/>
                <a:tab algn="l" pos="317520"/>
                <a:tab algn="l" pos="635040"/>
                <a:tab algn="l" pos="952560"/>
                <a:tab algn="l" pos="1270080"/>
                <a:tab algn="l" pos="1587600"/>
                <a:tab algn="l" pos="1905120"/>
                <a:tab algn="l" pos="2222640"/>
                <a:tab algn="l" pos="2540160"/>
                <a:tab algn="l" pos="2857680"/>
                <a:tab algn="l" pos="3174840"/>
                <a:tab algn="l" pos="3492360"/>
                <a:tab algn="l" pos="3809880"/>
                <a:tab algn="l" pos="4127400"/>
                <a:tab algn="l" pos="4444920"/>
                <a:tab algn="l" pos="4762440"/>
                <a:tab algn="l" pos="5079960"/>
                <a:tab algn="l" pos="5397480"/>
                <a:tab algn="l" pos="5715000"/>
                <a:tab algn="l" pos="6032520"/>
                <a:tab algn="l" pos="6350040"/>
              </a:tabLst>
            </a:pPr>
            <a:endParaRPr b="0" lang="en-US" sz="1500" spc="-1" strike="noStrike">
              <a:solidFill>
                <a:srgbClr val="000000"/>
              </a:solidFill>
              <a:latin typeface="Calibri Light"/>
            </a:endParaRPr>
          </a:p>
        </p:txBody>
      </p:sp>
      <p:sp>
        <p:nvSpPr>
          <p:cNvPr id="171" name="PlaceHolder 2"/>
          <p:cNvSpPr>
            <a:spLocks noGrp="1"/>
          </p:cNvSpPr>
          <p:nvPr>
            <p:ph/>
          </p:nvPr>
        </p:nvSpPr>
        <p:spPr>
          <a:xfrm>
            <a:off x="219240" y="1087560"/>
            <a:ext cx="1339200" cy="1235520"/>
          </a:xfrm>
          <a:prstGeom prst="rect">
            <a:avLst/>
          </a:prstGeom>
          <a:noFill/>
          <a:ln w="0">
            <a:noFill/>
          </a:ln>
        </p:spPr>
        <p:txBody>
          <a:bodyPr lIns="90000" rIns="90000" tIns="46800" bIns="46800" anchor="t">
            <a:normAutofit/>
          </a:bodyPr>
          <a:p>
            <a:pPr indent="0">
              <a:lnSpc>
                <a:spcPct val="90000"/>
              </a:lnSpc>
              <a:spcBef>
                <a:spcPts val="349"/>
              </a:spcBef>
              <a:buNone/>
              <a:tabLst>
                <a:tab algn="l" pos="317520"/>
                <a:tab algn="l" pos="635040"/>
                <a:tab algn="l" pos="952560"/>
                <a:tab algn="l" pos="1270080"/>
                <a:tab algn="l" pos="1587600"/>
                <a:tab algn="l" pos="1905120"/>
                <a:tab algn="l" pos="2222640"/>
                <a:tab algn="l" pos="2540160"/>
                <a:tab algn="l" pos="2857680"/>
                <a:tab algn="l" pos="3174840"/>
                <a:tab algn="l" pos="3492360"/>
                <a:tab algn="l" pos="3809880"/>
                <a:tab algn="l" pos="4127400"/>
                <a:tab algn="l" pos="4444920"/>
                <a:tab algn="l" pos="4762440"/>
                <a:tab algn="l" pos="5079960"/>
                <a:tab algn="l" pos="5397480"/>
                <a:tab algn="l" pos="5715000"/>
                <a:tab algn="l" pos="6032520"/>
                <a:tab algn="l" pos="6350040"/>
              </a:tabLst>
            </a:pPr>
            <a:endParaRPr b="0" lang="en-US" sz="900" spc="-1" strike="noStrike">
              <a:solidFill>
                <a:srgbClr val="000000"/>
              </a:solidFill>
              <a:latin typeface="Calibri"/>
            </a:endParaRPr>
          </a:p>
        </p:txBody>
      </p:sp>
      <p:sp>
        <p:nvSpPr>
          <p:cNvPr id="172" name="PlaceHolder 3"/>
          <p:cNvSpPr>
            <a:spLocks noGrp="1"/>
          </p:cNvSpPr>
          <p:nvPr>
            <p:ph/>
          </p:nvPr>
        </p:nvSpPr>
        <p:spPr>
          <a:xfrm>
            <a:off x="1625760" y="1087560"/>
            <a:ext cx="1339200" cy="2590560"/>
          </a:xfrm>
          <a:prstGeom prst="rect">
            <a:avLst/>
          </a:prstGeom>
          <a:noFill/>
          <a:ln w="0">
            <a:noFill/>
          </a:ln>
        </p:spPr>
        <p:txBody>
          <a:bodyPr lIns="90000" rIns="90000" tIns="46800" bIns="46800" anchor="t">
            <a:normAutofit/>
          </a:bodyPr>
          <a:p>
            <a:pPr indent="0">
              <a:lnSpc>
                <a:spcPct val="90000"/>
              </a:lnSpc>
              <a:spcBef>
                <a:spcPts val="349"/>
              </a:spcBef>
              <a:buNone/>
              <a:tabLst>
                <a:tab algn="l" pos="317520"/>
                <a:tab algn="l" pos="635040"/>
                <a:tab algn="l" pos="952560"/>
                <a:tab algn="l" pos="1270080"/>
                <a:tab algn="l" pos="1587600"/>
                <a:tab algn="l" pos="1905120"/>
                <a:tab algn="l" pos="2222640"/>
                <a:tab algn="l" pos="2540160"/>
                <a:tab algn="l" pos="2857680"/>
                <a:tab algn="l" pos="3174840"/>
                <a:tab algn="l" pos="3492360"/>
                <a:tab algn="l" pos="3809880"/>
                <a:tab algn="l" pos="4127400"/>
                <a:tab algn="l" pos="4444920"/>
                <a:tab algn="l" pos="4762440"/>
                <a:tab algn="l" pos="5079960"/>
                <a:tab algn="l" pos="5397480"/>
                <a:tab algn="l" pos="5715000"/>
                <a:tab algn="l" pos="6032520"/>
                <a:tab algn="l" pos="6350040"/>
              </a:tabLst>
            </a:pPr>
            <a:endParaRPr b="0" lang="en-US" sz="900" spc="-1" strike="noStrike">
              <a:solidFill>
                <a:srgbClr val="000000"/>
              </a:solidFill>
              <a:latin typeface="Calibri"/>
            </a:endParaRPr>
          </a:p>
        </p:txBody>
      </p:sp>
      <p:sp>
        <p:nvSpPr>
          <p:cNvPr id="173" name="PlaceHolder 4"/>
          <p:cNvSpPr>
            <a:spLocks noGrp="1"/>
          </p:cNvSpPr>
          <p:nvPr>
            <p:ph/>
          </p:nvPr>
        </p:nvSpPr>
        <p:spPr>
          <a:xfrm>
            <a:off x="219240" y="2440800"/>
            <a:ext cx="1339200" cy="1235520"/>
          </a:xfrm>
          <a:prstGeom prst="rect">
            <a:avLst/>
          </a:prstGeom>
          <a:noFill/>
          <a:ln w="0">
            <a:noFill/>
          </a:ln>
        </p:spPr>
        <p:txBody>
          <a:bodyPr lIns="90000" rIns="90000" tIns="46800" bIns="46800" anchor="t">
            <a:normAutofit/>
          </a:bodyPr>
          <a:p>
            <a:pPr indent="0">
              <a:lnSpc>
                <a:spcPct val="90000"/>
              </a:lnSpc>
              <a:spcBef>
                <a:spcPts val="349"/>
              </a:spcBef>
              <a:buNone/>
              <a:tabLst>
                <a:tab algn="l" pos="317520"/>
                <a:tab algn="l" pos="635040"/>
                <a:tab algn="l" pos="952560"/>
                <a:tab algn="l" pos="1270080"/>
                <a:tab algn="l" pos="1587600"/>
                <a:tab algn="l" pos="1905120"/>
                <a:tab algn="l" pos="2222640"/>
                <a:tab algn="l" pos="2540160"/>
                <a:tab algn="l" pos="2857680"/>
                <a:tab algn="l" pos="3174840"/>
                <a:tab algn="l" pos="3492360"/>
                <a:tab algn="l" pos="3809880"/>
                <a:tab algn="l" pos="4127400"/>
                <a:tab algn="l" pos="4444920"/>
                <a:tab algn="l" pos="4762440"/>
                <a:tab algn="l" pos="5079960"/>
                <a:tab algn="l" pos="5397480"/>
                <a:tab algn="l" pos="5715000"/>
                <a:tab algn="l" pos="6032520"/>
                <a:tab algn="l" pos="6350040"/>
              </a:tabLst>
            </a:pPr>
            <a:endParaRPr b="0" lang="en-US" sz="9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219240" y="217440"/>
            <a:ext cx="2744640" cy="789120"/>
          </a:xfrm>
          <a:prstGeom prst="rect">
            <a:avLst/>
          </a:prstGeom>
          <a:noFill/>
          <a:ln w="0">
            <a:noFill/>
          </a:ln>
        </p:spPr>
        <p:txBody>
          <a:bodyPr lIns="90000" rIns="90000" tIns="46800" bIns="46800" anchor="ctr">
            <a:noAutofit/>
          </a:bodyPr>
          <a:p>
            <a:pPr indent="0">
              <a:lnSpc>
                <a:spcPct val="90000"/>
              </a:lnSpc>
              <a:buNone/>
              <a:tabLst>
                <a:tab algn="l" pos="0"/>
                <a:tab algn="l" pos="317520"/>
                <a:tab algn="l" pos="635040"/>
                <a:tab algn="l" pos="952560"/>
                <a:tab algn="l" pos="1270080"/>
                <a:tab algn="l" pos="1587600"/>
                <a:tab algn="l" pos="1905120"/>
                <a:tab algn="l" pos="2222640"/>
                <a:tab algn="l" pos="2540160"/>
                <a:tab algn="l" pos="2857680"/>
                <a:tab algn="l" pos="3174840"/>
                <a:tab algn="l" pos="3492360"/>
                <a:tab algn="l" pos="3809880"/>
                <a:tab algn="l" pos="4127400"/>
                <a:tab algn="l" pos="4444920"/>
                <a:tab algn="l" pos="4762440"/>
                <a:tab algn="l" pos="5079960"/>
                <a:tab algn="l" pos="5397480"/>
                <a:tab algn="l" pos="5715000"/>
                <a:tab algn="l" pos="6032520"/>
                <a:tab algn="l" pos="6350040"/>
              </a:tabLst>
            </a:pPr>
            <a:endParaRPr b="0" lang="en-US" sz="1500" spc="-1" strike="noStrike">
              <a:solidFill>
                <a:srgbClr val="000000"/>
              </a:solidFill>
              <a:latin typeface="Calibri Light"/>
            </a:endParaRPr>
          </a:p>
        </p:txBody>
      </p:sp>
      <p:sp>
        <p:nvSpPr>
          <p:cNvPr id="175" name="PlaceHolder 2"/>
          <p:cNvSpPr>
            <a:spLocks noGrp="1"/>
          </p:cNvSpPr>
          <p:nvPr>
            <p:ph/>
          </p:nvPr>
        </p:nvSpPr>
        <p:spPr>
          <a:xfrm>
            <a:off x="219240" y="1087560"/>
            <a:ext cx="1339200" cy="2590560"/>
          </a:xfrm>
          <a:prstGeom prst="rect">
            <a:avLst/>
          </a:prstGeom>
          <a:noFill/>
          <a:ln w="0">
            <a:noFill/>
          </a:ln>
        </p:spPr>
        <p:txBody>
          <a:bodyPr lIns="90000" rIns="90000" tIns="46800" bIns="46800" anchor="t">
            <a:normAutofit/>
          </a:bodyPr>
          <a:p>
            <a:pPr indent="0">
              <a:lnSpc>
                <a:spcPct val="90000"/>
              </a:lnSpc>
              <a:spcBef>
                <a:spcPts val="349"/>
              </a:spcBef>
              <a:buNone/>
              <a:tabLst>
                <a:tab algn="l" pos="317520"/>
                <a:tab algn="l" pos="635040"/>
                <a:tab algn="l" pos="952560"/>
                <a:tab algn="l" pos="1270080"/>
                <a:tab algn="l" pos="1587600"/>
                <a:tab algn="l" pos="1905120"/>
                <a:tab algn="l" pos="2222640"/>
                <a:tab algn="l" pos="2540160"/>
                <a:tab algn="l" pos="2857680"/>
                <a:tab algn="l" pos="3174840"/>
                <a:tab algn="l" pos="3492360"/>
                <a:tab algn="l" pos="3809880"/>
                <a:tab algn="l" pos="4127400"/>
                <a:tab algn="l" pos="4444920"/>
                <a:tab algn="l" pos="4762440"/>
                <a:tab algn="l" pos="5079960"/>
                <a:tab algn="l" pos="5397480"/>
                <a:tab algn="l" pos="5715000"/>
                <a:tab algn="l" pos="6032520"/>
                <a:tab algn="l" pos="6350040"/>
              </a:tabLst>
            </a:pPr>
            <a:endParaRPr b="0" lang="en-US" sz="900" spc="-1" strike="noStrike">
              <a:solidFill>
                <a:srgbClr val="000000"/>
              </a:solidFill>
              <a:latin typeface="Calibri"/>
            </a:endParaRPr>
          </a:p>
        </p:txBody>
      </p:sp>
      <p:sp>
        <p:nvSpPr>
          <p:cNvPr id="176" name="PlaceHolder 3"/>
          <p:cNvSpPr>
            <a:spLocks noGrp="1"/>
          </p:cNvSpPr>
          <p:nvPr>
            <p:ph/>
          </p:nvPr>
        </p:nvSpPr>
        <p:spPr>
          <a:xfrm>
            <a:off x="1625760" y="1087560"/>
            <a:ext cx="1339200" cy="1235520"/>
          </a:xfrm>
          <a:prstGeom prst="rect">
            <a:avLst/>
          </a:prstGeom>
          <a:noFill/>
          <a:ln w="0">
            <a:noFill/>
          </a:ln>
        </p:spPr>
        <p:txBody>
          <a:bodyPr lIns="90000" rIns="90000" tIns="46800" bIns="46800" anchor="t">
            <a:normAutofit/>
          </a:bodyPr>
          <a:p>
            <a:pPr indent="0">
              <a:lnSpc>
                <a:spcPct val="90000"/>
              </a:lnSpc>
              <a:spcBef>
                <a:spcPts val="349"/>
              </a:spcBef>
              <a:buNone/>
              <a:tabLst>
                <a:tab algn="l" pos="317520"/>
                <a:tab algn="l" pos="635040"/>
                <a:tab algn="l" pos="952560"/>
                <a:tab algn="l" pos="1270080"/>
                <a:tab algn="l" pos="1587600"/>
                <a:tab algn="l" pos="1905120"/>
                <a:tab algn="l" pos="2222640"/>
                <a:tab algn="l" pos="2540160"/>
                <a:tab algn="l" pos="2857680"/>
                <a:tab algn="l" pos="3174840"/>
                <a:tab algn="l" pos="3492360"/>
                <a:tab algn="l" pos="3809880"/>
                <a:tab algn="l" pos="4127400"/>
                <a:tab algn="l" pos="4444920"/>
                <a:tab algn="l" pos="4762440"/>
                <a:tab algn="l" pos="5079960"/>
                <a:tab algn="l" pos="5397480"/>
                <a:tab algn="l" pos="5715000"/>
                <a:tab algn="l" pos="6032520"/>
                <a:tab algn="l" pos="6350040"/>
              </a:tabLst>
            </a:pPr>
            <a:endParaRPr b="0" lang="en-US" sz="900" spc="-1" strike="noStrike">
              <a:solidFill>
                <a:srgbClr val="000000"/>
              </a:solidFill>
              <a:latin typeface="Calibri"/>
            </a:endParaRPr>
          </a:p>
        </p:txBody>
      </p:sp>
      <p:sp>
        <p:nvSpPr>
          <p:cNvPr id="177" name="PlaceHolder 4"/>
          <p:cNvSpPr>
            <a:spLocks noGrp="1"/>
          </p:cNvSpPr>
          <p:nvPr>
            <p:ph/>
          </p:nvPr>
        </p:nvSpPr>
        <p:spPr>
          <a:xfrm>
            <a:off x="1625760" y="2440800"/>
            <a:ext cx="1339200" cy="1235520"/>
          </a:xfrm>
          <a:prstGeom prst="rect">
            <a:avLst/>
          </a:prstGeom>
          <a:noFill/>
          <a:ln w="0">
            <a:noFill/>
          </a:ln>
        </p:spPr>
        <p:txBody>
          <a:bodyPr lIns="90000" rIns="90000" tIns="46800" bIns="46800" anchor="t">
            <a:normAutofit/>
          </a:bodyPr>
          <a:p>
            <a:pPr indent="0">
              <a:lnSpc>
                <a:spcPct val="90000"/>
              </a:lnSpc>
              <a:spcBef>
                <a:spcPts val="349"/>
              </a:spcBef>
              <a:buNone/>
              <a:tabLst>
                <a:tab algn="l" pos="317520"/>
                <a:tab algn="l" pos="635040"/>
                <a:tab algn="l" pos="952560"/>
                <a:tab algn="l" pos="1270080"/>
                <a:tab algn="l" pos="1587600"/>
                <a:tab algn="l" pos="1905120"/>
                <a:tab algn="l" pos="2222640"/>
                <a:tab algn="l" pos="2540160"/>
                <a:tab algn="l" pos="2857680"/>
                <a:tab algn="l" pos="3174840"/>
                <a:tab algn="l" pos="3492360"/>
                <a:tab algn="l" pos="3809880"/>
                <a:tab algn="l" pos="4127400"/>
                <a:tab algn="l" pos="4444920"/>
                <a:tab algn="l" pos="4762440"/>
                <a:tab algn="l" pos="5079960"/>
                <a:tab algn="l" pos="5397480"/>
                <a:tab algn="l" pos="5715000"/>
                <a:tab algn="l" pos="6032520"/>
                <a:tab algn="l" pos="6350040"/>
              </a:tabLst>
            </a:pPr>
            <a:endParaRPr b="0" lang="en-US" sz="9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219240" y="217440"/>
            <a:ext cx="2744640" cy="789120"/>
          </a:xfrm>
          <a:prstGeom prst="rect">
            <a:avLst/>
          </a:prstGeom>
          <a:noFill/>
          <a:ln w="0">
            <a:noFill/>
          </a:ln>
        </p:spPr>
        <p:txBody>
          <a:bodyPr lIns="90000" rIns="90000" tIns="46800" bIns="46800" anchor="ctr">
            <a:noAutofit/>
          </a:bodyPr>
          <a:p>
            <a:pPr indent="0">
              <a:lnSpc>
                <a:spcPct val="90000"/>
              </a:lnSpc>
              <a:buNone/>
              <a:tabLst>
                <a:tab algn="l" pos="0"/>
                <a:tab algn="l" pos="317520"/>
                <a:tab algn="l" pos="635040"/>
                <a:tab algn="l" pos="952560"/>
                <a:tab algn="l" pos="1270080"/>
                <a:tab algn="l" pos="1587600"/>
                <a:tab algn="l" pos="1905120"/>
                <a:tab algn="l" pos="2222640"/>
                <a:tab algn="l" pos="2540160"/>
                <a:tab algn="l" pos="2857680"/>
                <a:tab algn="l" pos="3174840"/>
                <a:tab algn="l" pos="3492360"/>
                <a:tab algn="l" pos="3809880"/>
                <a:tab algn="l" pos="4127400"/>
                <a:tab algn="l" pos="4444920"/>
                <a:tab algn="l" pos="4762440"/>
                <a:tab algn="l" pos="5079960"/>
                <a:tab algn="l" pos="5397480"/>
                <a:tab algn="l" pos="5715000"/>
                <a:tab algn="l" pos="6032520"/>
                <a:tab algn="l" pos="6350040"/>
              </a:tabLst>
            </a:pPr>
            <a:endParaRPr b="0" lang="en-US" sz="1500" spc="-1" strike="noStrike">
              <a:solidFill>
                <a:srgbClr val="000000"/>
              </a:solidFill>
              <a:latin typeface="Calibri Light"/>
            </a:endParaRPr>
          </a:p>
        </p:txBody>
      </p:sp>
      <p:sp>
        <p:nvSpPr>
          <p:cNvPr id="179" name="PlaceHolder 2"/>
          <p:cNvSpPr>
            <a:spLocks noGrp="1"/>
          </p:cNvSpPr>
          <p:nvPr>
            <p:ph/>
          </p:nvPr>
        </p:nvSpPr>
        <p:spPr>
          <a:xfrm>
            <a:off x="219240" y="1087560"/>
            <a:ext cx="1339200" cy="1235520"/>
          </a:xfrm>
          <a:prstGeom prst="rect">
            <a:avLst/>
          </a:prstGeom>
          <a:noFill/>
          <a:ln w="0">
            <a:noFill/>
          </a:ln>
        </p:spPr>
        <p:txBody>
          <a:bodyPr lIns="90000" rIns="90000" tIns="46800" bIns="46800" anchor="t">
            <a:normAutofit/>
          </a:bodyPr>
          <a:p>
            <a:pPr indent="0">
              <a:lnSpc>
                <a:spcPct val="90000"/>
              </a:lnSpc>
              <a:spcBef>
                <a:spcPts val="349"/>
              </a:spcBef>
              <a:buNone/>
              <a:tabLst>
                <a:tab algn="l" pos="317520"/>
                <a:tab algn="l" pos="635040"/>
                <a:tab algn="l" pos="952560"/>
                <a:tab algn="l" pos="1270080"/>
                <a:tab algn="l" pos="1587600"/>
                <a:tab algn="l" pos="1905120"/>
                <a:tab algn="l" pos="2222640"/>
                <a:tab algn="l" pos="2540160"/>
                <a:tab algn="l" pos="2857680"/>
                <a:tab algn="l" pos="3174840"/>
                <a:tab algn="l" pos="3492360"/>
                <a:tab algn="l" pos="3809880"/>
                <a:tab algn="l" pos="4127400"/>
                <a:tab algn="l" pos="4444920"/>
                <a:tab algn="l" pos="4762440"/>
                <a:tab algn="l" pos="5079960"/>
                <a:tab algn="l" pos="5397480"/>
                <a:tab algn="l" pos="5715000"/>
                <a:tab algn="l" pos="6032520"/>
                <a:tab algn="l" pos="6350040"/>
              </a:tabLst>
            </a:pPr>
            <a:endParaRPr b="0" lang="en-US" sz="900" spc="-1" strike="noStrike">
              <a:solidFill>
                <a:srgbClr val="000000"/>
              </a:solidFill>
              <a:latin typeface="Calibri"/>
            </a:endParaRPr>
          </a:p>
        </p:txBody>
      </p:sp>
      <p:sp>
        <p:nvSpPr>
          <p:cNvPr id="180" name="PlaceHolder 3"/>
          <p:cNvSpPr>
            <a:spLocks noGrp="1"/>
          </p:cNvSpPr>
          <p:nvPr>
            <p:ph/>
          </p:nvPr>
        </p:nvSpPr>
        <p:spPr>
          <a:xfrm>
            <a:off x="1625760" y="1087560"/>
            <a:ext cx="1339200" cy="1235520"/>
          </a:xfrm>
          <a:prstGeom prst="rect">
            <a:avLst/>
          </a:prstGeom>
          <a:noFill/>
          <a:ln w="0">
            <a:noFill/>
          </a:ln>
        </p:spPr>
        <p:txBody>
          <a:bodyPr lIns="90000" rIns="90000" tIns="46800" bIns="46800" anchor="t">
            <a:normAutofit/>
          </a:bodyPr>
          <a:p>
            <a:pPr indent="0">
              <a:lnSpc>
                <a:spcPct val="90000"/>
              </a:lnSpc>
              <a:spcBef>
                <a:spcPts val="349"/>
              </a:spcBef>
              <a:buNone/>
              <a:tabLst>
                <a:tab algn="l" pos="317520"/>
                <a:tab algn="l" pos="635040"/>
                <a:tab algn="l" pos="952560"/>
                <a:tab algn="l" pos="1270080"/>
                <a:tab algn="l" pos="1587600"/>
                <a:tab algn="l" pos="1905120"/>
                <a:tab algn="l" pos="2222640"/>
                <a:tab algn="l" pos="2540160"/>
                <a:tab algn="l" pos="2857680"/>
                <a:tab algn="l" pos="3174840"/>
                <a:tab algn="l" pos="3492360"/>
                <a:tab algn="l" pos="3809880"/>
                <a:tab algn="l" pos="4127400"/>
                <a:tab algn="l" pos="4444920"/>
                <a:tab algn="l" pos="4762440"/>
                <a:tab algn="l" pos="5079960"/>
                <a:tab algn="l" pos="5397480"/>
                <a:tab algn="l" pos="5715000"/>
                <a:tab algn="l" pos="6032520"/>
                <a:tab algn="l" pos="6350040"/>
              </a:tabLst>
            </a:pPr>
            <a:endParaRPr b="0" lang="en-US" sz="900" spc="-1" strike="noStrike">
              <a:solidFill>
                <a:srgbClr val="000000"/>
              </a:solidFill>
              <a:latin typeface="Calibri"/>
            </a:endParaRPr>
          </a:p>
        </p:txBody>
      </p:sp>
      <p:sp>
        <p:nvSpPr>
          <p:cNvPr id="181" name="PlaceHolder 4"/>
          <p:cNvSpPr>
            <a:spLocks noGrp="1"/>
          </p:cNvSpPr>
          <p:nvPr>
            <p:ph/>
          </p:nvPr>
        </p:nvSpPr>
        <p:spPr>
          <a:xfrm>
            <a:off x="219240" y="2440800"/>
            <a:ext cx="2744640" cy="1235520"/>
          </a:xfrm>
          <a:prstGeom prst="rect">
            <a:avLst/>
          </a:prstGeom>
          <a:noFill/>
          <a:ln w="0">
            <a:noFill/>
          </a:ln>
        </p:spPr>
        <p:txBody>
          <a:bodyPr lIns="90000" rIns="90000" tIns="46800" bIns="46800" anchor="t">
            <a:normAutofit/>
          </a:bodyPr>
          <a:p>
            <a:pPr indent="0">
              <a:lnSpc>
                <a:spcPct val="90000"/>
              </a:lnSpc>
              <a:spcBef>
                <a:spcPts val="349"/>
              </a:spcBef>
              <a:buNone/>
              <a:tabLst>
                <a:tab algn="l" pos="317520"/>
                <a:tab algn="l" pos="635040"/>
                <a:tab algn="l" pos="952560"/>
                <a:tab algn="l" pos="1270080"/>
                <a:tab algn="l" pos="1587600"/>
                <a:tab algn="l" pos="1905120"/>
                <a:tab algn="l" pos="2222640"/>
                <a:tab algn="l" pos="2540160"/>
                <a:tab algn="l" pos="2857680"/>
                <a:tab algn="l" pos="3174840"/>
                <a:tab algn="l" pos="3492360"/>
                <a:tab algn="l" pos="3809880"/>
                <a:tab algn="l" pos="4127400"/>
                <a:tab algn="l" pos="4444920"/>
                <a:tab algn="l" pos="4762440"/>
                <a:tab algn="l" pos="5079960"/>
                <a:tab algn="l" pos="5397480"/>
                <a:tab algn="l" pos="5715000"/>
                <a:tab algn="l" pos="6032520"/>
                <a:tab algn="l" pos="6350040"/>
              </a:tabLst>
            </a:pPr>
            <a:endParaRPr b="0" lang="en-US" sz="9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219240" y="217440"/>
            <a:ext cx="2744640" cy="789120"/>
          </a:xfrm>
          <a:prstGeom prst="rect">
            <a:avLst/>
          </a:prstGeom>
          <a:noFill/>
          <a:ln w="0">
            <a:noFill/>
          </a:ln>
        </p:spPr>
        <p:txBody>
          <a:bodyPr lIns="90000" rIns="90000" tIns="46800" bIns="46800" anchor="ctr">
            <a:noAutofit/>
          </a:bodyPr>
          <a:p>
            <a:pPr indent="0">
              <a:lnSpc>
                <a:spcPct val="90000"/>
              </a:lnSpc>
              <a:buNone/>
              <a:tabLst>
                <a:tab algn="l" pos="0"/>
                <a:tab algn="l" pos="317520"/>
                <a:tab algn="l" pos="635040"/>
                <a:tab algn="l" pos="952560"/>
                <a:tab algn="l" pos="1270080"/>
                <a:tab algn="l" pos="1587600"/>
                <a:tab algn="l" pos="1905120"/>
                <a:tab algn="l" pos="2222640"/>
                <a:tab algn="l" pos="2540160"/>
                <a:tab algn="l" pos="2857680"/>
                <a:tab algn="l" pos="3174840"/>
                <a:tab algn="l" pos="3492360"/>
                <a:tab algn="l" pos="3809880"/>
                <a:tab algn="l" pos="4127400"/>
                <a:tab algn="l" pos="4444920"/>
                <a:tab algn="l" pos="4762440"/>
                <a:tab algn="l" pos="5079960"/>
                <a:tab algn="l" pos="5397480"/>
                <a:tab algn="l" pos="5715000"/>
                <a:tab algn="l" pos="6032520"/>
                <a:tab algn="l" pos="6350040"/>
              </a:tabLst>
            </a:pPr>
            <a:endParaRPr b="0" lang="en-US" sz="1500" spc="-1" strike="noStrike">
              <a:solidFill>
                <a:srgbClr val="000000"/>
              </a:solidFill>
              <a:latin typeface="Calibri Light"/>
            </a:endParaRPr>
          </a:p>
        </p:txBody>
      </p:sp>
      <p:sp>
        <p:nvSpPr>
          <p:cNvPr id="183" name="PlaceHolder 2"/>
          <p:cNvSpPr>
            <a:spLocks noGrp="1"/>
          </p:cNvSpPr>
          <p:nvPr>
            <p:ph/>
          </p:nvPr>
        </p:nvSpPr>
        <p:spPr>
          <a:xfrm>
            <a:off x="219240" y="1087560"/>
            <a:ext cx="2744640" cy="1235520"/>
          </a:xfrm>
          <a:prstGeom prst="rect">
            <a:avLst/>
          </a:prstGeom>
          <a:noFill/>
          <a:ln w="0">
            <a:noFill/>
          </a:ln>
        </p:spPr>
        <p:txBody>
          <a:bodyPr lIns="90000" rIns="90000" tIns="46800" bIns="46800" anchor="t">
            <a:normAutofit/>
          </a:bodyPr>
          <a:p>
            <a:pPr indent="0">
              <a:lnSpc>
                <a:spcPct val="90000"/>
              </a:lnSpc>
              <a:spcBef>
                <a:spcPts val="349"/>
              </a:spcBef>
              <a:buNone/>
              <a:tabLst>
                <a:tab algn="l" pos="317520"/>
                <a:tab algn="l" pos="635040"/>
                <a:tab algn="l" pos="952560"/>
                <a:tab algn="l" pos="1270080"/>
                <a:tab algn="l" pos="1587600"/>
                <a:tab algn="l" pos="1905120"/>
                <a:tab algn="l" pos="2222640"/>
                <a:tab algn="l" pos="2540160"/>
                <a:tab algn="l" pos="2857680"/>
                <a:tab algn="l" pos="3174840"/>
                <a:tab algn="l" pos="3492360"/>
                <a:tab algn="l" pos="3809880"/>
                <a:tab algn="l" pos="4127400"/>
                <a:tab algn="l" pos="4444920"/>
                <a:tab algn="l" pos="4762440"/>
                <a:tab algn="l" pos="5079960"/>
                <a:tab algn="l" pos="5397480"/>
                <a:tab algn="l" pos="5715000"/>
                <a:tab algn="l" pos="6032520"/>
                <a:tab algn="l" pos="6350040"/>
              </a:tabLst>
            </a:pPr>
            <a:endParaRPr b="0" lang="en-US" sz="900" spc="-1" strike="noStrike">
              <a:solidFill>
                <a:srgbClr val="000000"/>
              </a:solidFill>
              <a:latin typeface="Calibri"/>
            </a:endParaRPr>
          </a:p>
        </p:txBody>
      </p:sp>
      <p:sp>
        <p:nvSpPr>
          <p:cNvPr id="184" name="PlaceHolder 3"/>
          <p:cNvSpPr>
            <a:spLocks noGrp="1"/>
          </p:cNvSpPr>
          <p:nvPr>
            <p:ph/>
          </p:nvPr>
        </p:nvSpPr>
        <p:spPr>
          <a:xfrm>
            <a:off x="219240" y="2440800"/>
            <a:ext cx="2744640" cy="1235520"/>
          </a:xfrm>
          <a:prstGeom prst="rect">
            <a:avLst/>
          </a:prstGeom>
          <a:noFill/>
          <a:ln w="0">
            <a:noFill/>
          </a:ln>
        </p:spPr>
        <p:txBody>
          <a:bodyPr lIns="90000" rIns="90000" tIns="46800" bIns="46800" anchor="t">
            <a:normAutofit/>
          </a:bodyPr>
          <a:p>
            <a:pPr indent="0">
              <a:lnSpc>
                <a:spcPct val="90000"/>
              </a:lnSpc>
              <a:spcBef>
                <a:spcPts val="349"/>
              </a:spcBef>
              <a:buNone/>
              <a:tabLst>
                <a:tab algn="l" pos="317520"/>
                <a:tab algn="l" pos="635040"/>
                <a:tab algn="l" pos="952560"/>
                <a:tab algn="l" pos="1270080"/>
                <a:tab algn="l" pos="1587600"/>
                <a:tab algn="l" pos="1905120"/>
                <a:tab algn="l" pos="2222640"/>
                <a:tab algn="l" pos="2540160"/>
                <a:tab algn="l" pos="2857680"/>
                <a:tab algn="l" pos="3174840"/>
                <a:tab algn="l" pos="3492360"/>
                <a:tab algn="l" pos="3809880"/>
                <a:tab algn="l" pos="4127400"/>
                <a:tab algn="l" pos="4444920"/>
                <a:tab algn="l" pos="4762440"/>
                <a:tab algn="l" pos="5079960"/>
                <a:tab algn="l" pos="5397480"/>
                <a:tab algn="l" pos="5715000"/>
                <a:tab algn="l" pos="6032520"/>
                <a:tab algn="l" pos="6350040"/>
              </a:tabLst>
            </a:pPr>
            <a:endParaRPr b="0" lang="en-US" sz="9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9240" y="217440"/>
            <a:ext cx="2744640" cy="789120"/>
          </a:xfrm>
          <a:prstGeom prst="rect">
            <a:avLst/>
          </a:prstGeom>
          <a:noFill/>
          <a:ln w="0">
            <a:noFill/>
          </a:ln>
        </p:spPr>
        <p:txBody>
          <a:bodyPr lIns="90000" rIns="90000" tIns="46800" bIns="46800" anchor="ctr">
            <a:noAutofit/>
          </a:bodyPr>
          <a:p>
            <a:pPr indent="0">
              <a:lnSpc>
                <a:spcPct val="90000"/>
              </a:lnSpc>
              <a:buNone/>
              <a:tabLst>
                <a:tab algn="l" pos="0"/>
                <a:tab algn="l" pos="317520"/>
                <a:tab algn="l" pos="635040"/>
                <a:tab algn="l" pos="952560"/>
                <a:tab algn="l" pos="1270080"/>
                <a:tab algn="l" pos="1587600"/>
                <a:tab algn="l" pos="1905120"/>
                <a:tab algn="l" pos="2222640"/>
                <a:tab algn="l" pos="2540160"/>
                <a:tab algn="l" pos="2857680"/>
                <a:tab algn="l" pos="3174840"/>
                <a:tab algn="l" pos="3492360"/>
                <a:tab algn="l" pos="3809880"/>
                <a:tab algn="l" pos="4127400"/>
                <a:tab algn="l" pos="4444920"/>
                <a:tab algn="l" pos="4762440"/>
                <a:tab algn="l" pos="5079960"/>
                <a:tab algn="l" pos="5397480"/>
                <a:tab algn="l" pos="5715000"/>
                <a:tab algn="l" pos="6032520"/>
                <a:tab algn="l" pos="6350040"/>
              </a:tabLst>
            </a:pPr>
            <a:endParaRPr b="0" lang="en-US" sz="1500" spc="-1" strike="noStrike">
              <a:solidFill>
                <a:srgbClr val="000000"/>
              </a:solidFill>
              <a:latin typeface="Calibri Light"/>
            </a:endParaRPr>
          </a:p>
        </p:txBody>
      </p:sp>
      <p:sp>
        <p:nvSpPr>
          <p:cNvPr id="186" name="PlaceHolder 2"/>
          <p:cNvSpPr>
            <a:spLocks noGrp="1"/>
          </p:cNvSpPr>
          <p:nvPr>
            <p:ph/>
          </p:nvPr>
        </p:nvSpPr>
        <p:spPr>
          <a:xfrm>
            <a:off x="219240" y="1087560"/>
            <a:ext cx="1339200" cy="1235520"/>
          </a:xfrm>
          <a:prstGeom prst="rect">
            <a:avLst/>
          </a:prstGeom>
          <a:noFill/>
          <a:ln w="0">
            <a:noFill/>
          </a:ln>
        </p:spPr>
        <p:txBody>
          <a:bodyPr lIns="90000" rIns="90000" tIns="46800" bIns="46800" anchor="t">
            <a:normAutofit/>
          </a:bodyPr>
          <a:p>
            <a:pPr indent="0">
              <a:lnSpc>
                <a:spcPct val="90000"/>
              </a:lnSpc>
              <a:spcBef>
                <a:spcPts val="349"/>
              </a:spcBef>
              <a:buNone/>
              <a:tabLst>
                <a:tab algn="l" pos="317520"/>
                <a:tab algn="l" pos="635040"/>
                <a:tab algn="l" pos="952560"/>
                <a:tab algn="l" pos="1270080"/>
                <a:tab algn="l" pos="1587600"/>
                <a:tab algn="l" pos="1905120"/>
                <a:tab algn="l" pos="2222640"/>
                <a:tab algn="l" pos="2540160"/>
                <a:tab algn="l" pos="2857680"/>
                <a:tab algn="l" pos="3174840"/>
                <a:tab algn="l" pos="3492360"/>
                <a:tab algn="l" pos="3809880"/>
                <a:tab algn="l" pos="4127400"/>
                <a:tab algn="l" pos="4444920"/>
                <a:tab algn="l" pos="4762440"/>
                <a:tab algn="l" pos="5079960"/>
                <a:tab algn="l" pos="5397480"/>
                <a:tab algn="l" pos="5715000"/>
                <a:tab algn="l" pos="6032520"/>
                <a:tab algn="l" pos="6350040"/>
              </a:tabLst>
            </a:pPr>
            <a:endParaRPr b="0" lang="en-US" sz="900" spc="-1" strike="noStrike">
              <a:solidFill>
                <a:srgbClr val="000000"/>
              </a:solidFill>
              <a:latin typeface="Calibri"/>
            </a:endParaRPr>
          </a:p>
        </p:txBody>
      </p:sp>
      <p:sp>
        <p:nvSpPr>
          <p:cNvPr id="187" name="PlaceHolder 3"/>
          <p:cNvSpPr>
            <a:spLocks noGrp="1"/>
          </p:cNvSpPr>
          <p:nvPr>
            <p:ph/>
          </p:nvPr>
        </p:nvSpPr>
        <p:spPr>
          <a:xfrm>
            <a:off x="1625760" y="1087560"/>
            <a:ext cx="1339200" cy="1235520"/>
          </a:xfrm>
          <a:prstGeom prst="rect">
            <a:avLst/>
          </a:prstGeom>
          <a:noFill/>
          <a:ln w="0">
            <a:noFill/>
          </a:ln>
        </p:spPr>
        <p:txBody>
          <a:bodyPr lIns="90000" rIns="90000" tIns="46800" bIns="46800" anchor="t">
            <a:normAutofit/>
          </a:bodyPr>
          <a:p>
            <a:pPr indent="0">
              <a:lnSpc>
                <a:spcPct val="90000"/>
              </a:lnSpc>
              <a:spcBef>
                <a:spcPts val="349"/>
              </a:spcBef>
              <a:buNone/>
              <a:tabLst>
                <a:tab algn="l" pos="317520"/>
                <a:tab algn="l" pos="635040"/>
                <a:tab algn="l" pos="952560"/>
                <a:tab algn="l" pos="1270080"/>
                <a:tab algn="l" pos="1587600"/>
                <a:tab algn="l" pos="1905120"/>
                <a:tab algn="l" pos="2222640"/>
                <a:tab algn="l" pos="2540160"/>
                <a:tab algn="l" pos="2857680"/>
                <a:tab algn="l" pos="3174840"/>
                <a:tab algn="l" pos="3492360"/>
                <a:tab algn="l" pos="3809880"/>
                <a:tab algn="l" pos="4127400"/>
                <a:tab algn="l" pos="4444920"/>
                <a:tab algn="l" pos="4762440"/>
                <a:tab algn="l" pos="5079960"/>
                <a:tab algn="l" pos="5397480"/>
                <a:tab algn="l" pos="5715000"/>
                <a:tab algn="l" pos="6032520"/>
                <a:tab algn="l" pos="6350040"/>
              </a:tabLst>
            </a:pPr>
            <a:endParaRPr b="0" lang="en-US" sz="900" spc="-1" strike="noStrike">
              <a:solidFill>
                <a:srgbClr val="000000"/>
              </a:solidFill>
              <a:latin typeface="Calibri"/>
            </a:endParaRPr>
          </a:p>
        </p:txBody>
      </p:sp>
      <p:sp>
        <p:nvSpPr>
          <p:cNvPr id="188" name="PlaceHolder 4"/>
          <p:cNvSpPr>
            <a:spLocks noGrp="1"/>
          </p:cNvSpPr>
          <p:nvPr>
            <p:ph/>
          </p:nvPr>
        </p:nvSpPr>
        <p:spPr>
          <a:xfrm>
            <a:off x="219240" y="2440800"/>
            <a:ext cx="1339200" cy="1235520"/>
          </a:xfrm>
          <a:prstGeom prst="rect">
            <a:avLst/>
          </a:prstGeom>
          <a:noFill/>
          <a:ln w="0">
            <a:noFill/>
          </a:ln>
        </p:spPr>
        <p:txBody>
          <a:bodyPr lIns="90000" rIns="90000" tIns="46800" bIns="46800" anchor="t">
            <a:normAutofit/>
          </a:bodyPr>
          <a:p>
            <a:pPr indent="0">
              <a:lnSpc>
                <a:spcPct val="90000"/>
              </a:lnSpc>
              <a:spcBef>
                <a:spcPts val="349"/>
              </a:spcBef>
              <a:buNone/>
              <a:tabLst>
                <a:tab algn="l" pos="317520"/>
                <a:tab algn="l" pos="635040"/>
                <a:tab algn="l" pos="952560"/>
                <a:tab algn="l" pos="1270080"/>
                <a:tab algn="l" pos="1587600"/>
                <a:tab algn="l" pos="1905120"/>
                <a:tab algn="l" pos="2222640"/>
                <a:tab algn="l" pos="2540160"/>
                <a:tab algn="l" pos="2857680"/>
                <a:tab algn="l" pos="3174840"/>
                <a:tab algn="l" pos="3492360"/>
                <a:tab algn="l" pos="3809880"/>
                <a:tab algn="l" pos="4127400"/>
                <a:tab algn="l" pos="4444920"/>
                <a:tab algn="l" pos="4762440"/>
                <a:tab algn="l" pos="5079960"/>
                <a:tab algn="l" pos="5397480"/>
                <a:tab algn="l" pos="5715000"/>
                <a:tab algn="l" pos="6032520"/>
                <a:tab algn="l" pos="6350040"/>
              </a:tabLst>
            </a:pPr>
            <a:endParaRPr b="0" lang="en-US" sz="900" spc="-1" strike="noStrike">
              <a:solidFill>
                <a:srgbClr val="000000"/>
              </a:solidFill>
              <a:latin typeface="Calibri"/>
            </a:endParaRPr>
          </a:p>
        </p:txBody>
      </p:sp>
      <p:sp>
        <p:nvSpPr>
          <p:cNvPr id="189" name="PlaceHolder 5"/>
          <p:cNvSpPr>
            <a:spLocks noGrp="1"/>
          </p:cNvSpPr>
          <p:nvPr>
            <p:ph/>
          </p:nvPr>
        </p:nvSpPr>
        <p:spPr>
          <a:xfrm>
            <a:off x="1625760" y="2440800"/>
            <a:ext cx="1339200" cy="1235520"/>
          </a:xfrm>
          <a:prstGeom prst="rect">
            <a:avLst/>
          </a:prstGeom>
          <a:noFill/>
          <a:ln w="0">
            <a:noFill/>
          </a:ln>
        </p:spPr>
        <p:txBody>
          <a:bodyPr lIns="90000" rIns="90000" tIns="46800" bIns="46800" anchor="t">
            <a:normAutofit/>
          </a:bodyPr>
          <a:p>
            <a:pPr indent="0">
              <a:lnSpc>
                <a:spcPct val="90000"/>
              </a:lnSpc>
              <a:spcBef>
                <a:spcPts val="349"/>
              </a:spcBef>
              <a:buNone/>
              <a:tabLst>
                <a:tab algn="l" pos="317520"/>
                <a:tab algn="l" pos="635040"/>
                <a:tab algn="l" pos="952560"/>
                <a:tab algn="l" pos="1270080"/>
                <a:tab algn="l" pos="1587600"/>
                <a:tab algn="l" pos="1905120"/>
                <a:tab algn="l" pos="2222640"/>
                <a:tab algn="l" pos="2540160"/>
                <a:tab algn="l" pos="2857680"/>
                <a:tab algn="l" pos="3174840"/>
                <a:tab algn="l" pos="3492360"/>
                <a:tab algn="l" pos="3809880"/>
                <a:tab algn="l" pos="4127400"/>
                <a:tab algn="l" pos="4444920"/>
                <a:tab algn="l" pos="4762440"/>
                <a:tab algn="l" pos="5079960"/>
                <a:tab algn="l" pos="5397480"/>
                <a:tab algn="l" pos="5715000"/>
                <a:tab algn="l" pos="6032520"/>
                <a:tab algn="l" pos="6350040"/>
              </a:tabLst>
            </a:pPr>
            <a:endParaRPr b="0" lang="en-US" sz="9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219240" y="217440"/>
            <a:ext cx="2744640" cy="789120"/>
          </a:xfrm>
          <a:prstGeom prst="rect">
            <a:avLst/>
          </a:prstGeom>
          <a:noFill/>
          <a:ln w="0">
            <a:noFill/>
          </a:ln>
        </p:spPr>
        <p:txBody>
          <a:bodyPr lIns="90000" rIns="90000" tIns="46800" bIns="46800" anchor="ctr">
            <a:noAutofit/>
          </a:bodyPr>
          <a:p>
            <a:pPr indent="0">
              <a:lnSpc>
                <a:spcPct val="90000"/>
              </a:lnSpc>
              <a:buNone/>
              <a:tabLst>
                <a:tab algn="l" pos="0"/>
                <a:tab algn="l" pos="317520"/>
                <a:tab algn="l" pos="635040"/>
                <a:tab algn="l" pos="952560"/>
                <a:tab algn="l" pos="1270080"/>
                <a:tab algn="l" pos="1587600"/>
                <a:tab algn="l" pos="1905120"/>
                <a:tab algn="l" pos="2222640"/>
                <a:tab algn="l" pos="2540160"/>
                <a:tab algn="l" pos="2857680"/>
                <a:tab algn="l" pos="3174840"/>
                <a:tab algn="l" pos="3492360"/>
                <a:tab algn="l" pos="3809880"/>
                <a:tab algn="l" pos="4127400"/>
                <a:tab algn="l" pos="4444920"/>
                <a:tab algn="l" pos="4762440"/>
                <a:tab algn="l" pos="5079960"/>
                <a:tab algn="l" pos="5397480"/>
                <a:tab algn="l" pos="5715000"/>
                <a:tab algn="l" pos="6032520"/>
                <a:tab algn="l" pos="6350040"/>
              </a:tabLst>
            </a:pPr>
            <a:endParaRPr b="0" lang="en-US" sz="1500" spc="-1" strike="noStrike">
              <a:solidFill>
                <a:srgbClr val="000000"/>
              </a:solidFill>
              <a:latin typeface="Calibri Light"/>
            </a:endParaRPr>
          </a:p>
        </p:txBody>
      </p:sp>
      <p:sp>
        <p:nvSpPr>
          <p:cNvPr id="191" name="PlaceHolder 2"/>
          <p:cNvSpPr>
            <a:spLocks noGrp="1"/>
          </p:cNvSpPr>
          <p:nvPr>
            <p:ph/>
          </p:nvPr>
        </p:nvSpPr>
        <p:spPr>
          <a:xfrm>
            <a:off x="219240" y="1087560"/>
            <a:ext cx="883440" cy="1235520"/>
          </a:xfrm>
          <a:prstGeom prst="rect">
            <a:avLst/>
          </a:prstGeom>
          <a:noFill/>
          <a:ln w="0">
            <a:noFill/>
          </a:ln>
        </p:spPr>
        <p:txBody>
          <a:bodyPr lIns="90000" rIns="90000" tIns="46800" bIns="46800" anchor="t">
            <a:normAutofit/>
          </a:bodyPr>
          <a:p>
            <a:pPr indent="0">
              <a:lnSpc>
                <a:spcPct val="90000"/>
              </a:lnSpc>
              <a:spcBef>
                <a:spcPts val="349"/>
              </a:spcBef>
              <a:buNone/>
              <a:tabLst>
                <a:tab algn="l" pos="317520"/>
                <a:tab algn="l" pos="635040"/>
                <a:tab algn="l" pos="952560"/>
                <a:tab algn="l" pos="1270080"/>
                <a:tab algn="l" pos="1587600"/>
                <a:tab algn="l" pos="1905120"/>
                <a:tab algn="l" pos="2222640"/>
                <a:tab algn="l" pos="2540160"/>
                <a:tab algn="l" pos="2857680"/>
                <a:tab algn="l" pos="3174840"/>
                <a:tab algn="l" pos="3492360"/>
                <a:tab algn="l" pos="3809880"/>
                <a:tab algn="l" pos="4127400"/>
                <a:tab algn="l" pos="4444920"/>
                <a:tab algn="l" pos="4762440"/>
                <a:tab algn="l" pos="5079960"/>
                <a:tab algn="l" pos="5397480"/>
                <a:tab algn="l" pos="5715000"/>
                <a:tab algn="l" pos="6032520"/>
                <a:tab algn="l" pos="6350040"/>
              </a:tabLst>
            </a:pPr>
            <a:endParaRPr b="0" lang="en-US" sz="900" spc="-1" strike="noStrike">
              <a:solidFill>
                <a:srgbClr val="000000"/>
              </a:solidFill>
              <a:latin typeface="Calibri"/>
            </a:endParaRPr>
          </a:p>
        </p:txBody>
      </p:sp>
      <p:sp>
        <p:nvSpPr>
          <p:cNvPr id="192" name="PlaceHolder 3"/>
          <p:cNvSpPr>
            <a:spLocks noGrp="1"/>
          </p:cNvSpPr>
          <p:nvPr>
            <p:ph/>
          </p:nvPr>
        </p:nvSpPr>
        <p:spPr>
          <a:xfrm>
            <a:off x="1147320" y="1087560"/>
            <a:ext cx="883440" cy="1235520"/>
          </a:xfrm>
          <a:prstGeom prst="rect">
            <a:avLst/>
          </a:prstGeom>
          <a:noFill/>
          <a:ln w="0">
            <a:noFill/>
          </a:ln>
        </p:spPr>
        <p:txBody>
          <a:bodyPr lIns="90000" rIns="90000" tIns="46800" bIns="46800" anchor="t">
            <a:normAutofit/>
          </a:bodyPr>
          <a:p>
            <a:pPr indent="0">
              <a:lnSpc>
                <a:spcPct val="90000"/>
              </a:lnSpc>
              <a:spcBef>
                <a:spcPts val="349"/>
              </a:spcBef>
              <a:buNone/>
              <a:tabLst>
                <a:tab algn="l" pos="317520"/>
                <a:tab algn="l" pos="635040"/>
                <a:tab algn="l" pos="952560"/>
                <a:tab algn="l" pos="1270080"/>
                <a:tab algn="l" pos="1587600"/>
                <a:tab algn="l" pos="1905120"/>
                <a:tab algn="l" pos="2222640"/>
                <a:tab algn="l" pos="2540160"/>
                <a:tab algn="l" pos="2857680"/>
                <a:tab algn="l" pos="3174840"/>
                <a:tab algn="l" pos="3492360"/>
                <a:tab algn="l" pos="3809880"/>
                <a:tab algn="l" pos="4127400"/>
                <a:tab algn="l" pos="4444920"/>
                <a:tab algn="l" pos="4762440"/>
                <a:tab algn="l" pos="5079960"/>
                <a:tab algn="l" pos="5397480"/>
                <a:tab algn="l" pos="5715000"/>
                <a:tab algn="l" pos="6032520"/>
                <a:tab algn="l" pos="6350040"/>
              </a:tabLst>
            </a:pPr>
            <a:endParaRPr b="0" lang="en-US" sz="900" spc="-1" strike="noStrike">
              <a:solidFill>
                <a:srgbClr val="000000"/>
              </a:solidFill>
              <a:latin typeface="Calibri"/>
            </a:endParaRPr>
          </a:p>
        </p:txBody>
      </p:sp>
      <p:sp>
        <p:nvSpPr>
          <p:cNvPr id="193" name="PlaceHolder 4"/>
          <p:cNvSpPr>
            <a:spLocks noGrp="1"/>
          </p:cNvSpPr>
          <p:nvPr>
            <p:ph/>
          </p:nvPr>
        </p:nvSpPr>
        <p:spPr>
          <a:xfrm>
            <a:off x="2075400" y="1087560"/>
            <a:ext cx="883440" cy="1235520"/>
          </a:xfrm>
          <a:prstGeom prst="rect">
            <a:avLst/>
          </a:prstGeom>
          <a:noFill/>
          <a:ln w="0">
            <a:noFill/>
          </a:ln>
        </p:spPr>
        <p:txBody>
          <a:bodyPr lIns="90000" rIns="90000" tIns="46800" bIns="46800" anchor="t">
            <a:normAutofit/>
          </a:bodyPr>
          <a:p>
            <a:pPr indent="0">
              <a:lnSpc>
                <a:spcPct val="90000"/>
              </a:lnSpc>
              <a:spcBef>
                <a:spcPts val="349"/>
              </a:spcBef>
              <a:buNone/>
              <a:tabLst>
                <a:tab algn="l" pos="317520"/>
                <a:tab algn="l" pos="635040"/>
                <a:tab algn="l" pos="952560"/>
                <a:tab algn="l" pos="1270080"/>
                <a:tab algn="l" pos="1587600"/>
                <a:tab algn="l" pos="1905120"/>
                <a:tab algn="l" pos="2222640"/>
                <a:tab algn="l" pos="2540160"/>
                <a:tab algn="l" pos="2857680"/>
                <a:tab algn="l" pos="3174840"/>
                <a:tab algn="l" pos="3492360"/>
                <a:tab algn="l" pos="3809880"/>
                <a:tab algn="l" pos="4127400"/>
                <a:tab algn="l" pos="4444920"/>
                <a:tab algn="l" pos="4762440"/>
                <a:tab algn="l" pos="5079960"/>
                <a:tab algn="l" pos="5397480"/>
                <a:tab algn="l" pos="5715000"/>
                <a:tab algn="l" pos="6032520"/>
                <a:tab algn="l" pos="6350040"/>
              </a:tabLst>
            </a:pPr>
            <a:endParaRPr b="0" lang="en-US" sz="900" spc="-1" strike="noStrike">
              <a:solidFill>
                <a:srgbClr val="000000"/>
              </a:solidFill>
              <a:latin typeface="Calibri"/>
            </a:endParaRPr>
          </a:p>
        </p:txBody>
      </p:sp>
      <p:sp>
        <p:nvSpPr>
          <p:cNvPr id="194" name="PlaceHolder 5"/>
          <p:cNvSpPr>
            <a:spLocks noGrp="1"/>
          </p:cNvSpPr>
          <p:nvPr>
            <p:ph/>
          </p:nvPr>
        </p:nvSpPr>
        <p:spPr>
          <a:xfrm>
            <a:off x="219240" y="2440800"/>
            <a:ext cx="883440" cy="1235520"/>
          </a:xfrm>
          <a:prstGeom prst="rect">
            <a:avLst/>
          </a:prstGeom>
          <a:noFill/>
          <a:ln w="0">
            <a:noFill/>
          </a:ln>
        </p:spPr>
        <p:txBody>
          <a:bodyPr lIns="90000" rIns="90000" tIns="46800" bIns="46800" anchor="t">
            <a:normAutofit/>
          </a:bodyPr>
          <a:p>
            <a:pPr indent="0">
              <a:lnSpc>
                <a:spcPct val="90000"/>
              </a:lnSpc>
              <a:spcBef>
                <a:spcPts val="349"/>
              </a:spcBef>
              <a:buNone/>
              <a:tabLst>
                <a:tab algn="l" pos="317520"/>
                <a:tab algn="l" pos="635040"/>
                <a:tab algn="l" pos="952560"/>
                <a:tab algn="l" pos="1270080"/>
                <a:tab algn="l" pos="1587600"/>
                <a:tab algn="l" pos="1905120"/>
                <a:tab algn="l" pos="2222640"/>
                <a:tab algn="l" pos="2540160"/>
                <a:tab algn="l" pos="2857680"/>
                <a:tab algn="l" pos="3174840"/>
                <a:tab algn="l" pos="3492360"/>
                <a:tab algn="l" pos="3809880"/>
                <a:tab algn="l" pos="4127400"/>
                <a:tab algn="l" pos="4444920"/>
                <a:tab algn="l" pos="4762440"/>
                <a:tab algn="l" pos="5079960"/>
                <a:tab algn="l" pos="5397480"/>
                <a:tab algn="l" pos="5715000"/>
                <a:tab algn="l" pos="6032520"/>
                <a:tab algn="l" pos="6350040"/>
              </a:tabLst>
            </a:pPr>
            <a:endParaRPr b="0" lang="en-US" sz="900" spc="-1" strike="noStrike">
              <a:solidFill>
                <a:srgbClr val="000000"/>
              </a:solidFill>
              <a:latin typeface="Calibri"/>
            </a:endParaRPr>
          </a:p>
        </p:txBody>
      </p:sp>
      <p:sp>
        <p:nvSpPr>
          <p:cNvPr id="195" name="PlaceHolder 6"/>
          <p:cNvSpPr>
            <a:spLocks noGrp="1"/>
          </p:cNvSpPr>
          <p:nvPr>
            <p:ph/>
          </p:nvPr>
        </p:nvSpPr>
        <p:spPr>
          <a:xfrm>
            <a:off x="1147320" y="2440800"/>
            <a:ext cx="883440" cy="1235520"/>
          </a:xfrm>
          <a:prstGeom prst="rect">
            <a:avLst/>
          </a:prstGeom>
          <a:noFill/>
          <a:ln w="0">
            <a:noFill/>
          </a:ln>
        </p:spPr>
        <p:txBody>
          <a:bodyPr lIns="90000" rIns="90000" tIns="46800" bIns="46800" anchor="t">
            <a:normAutofit/>
          </a:bodyPr>
          <a:p>
            <a:pPr indent="0">
              <a:lnSpc>
                <a:spcPct val="90000"/>
              </a:lnSpc>
              <a:spcBef>
                <a:spcPts val="349"/>
              </a:spcBef>
              <a:buNone/>
              <a:tabLst>
                <a:tab algn="l" pos="317520"/>
                <a:tab algn="l" pos="635040"/>
                <a:tab algn="l" pos="952560"/>
                <a:tab algn="l" pos="1270080"/>
                <a:tab algn="l" pos="1587600"/>
                <a:tab algn="l" pos="1905120"/>
                <a:tab algn="l" pos="2222640"/>
                <a:tab algn="l" pos="2540160"/>
                <a:tab algn="l" pos="2857680"/>
                <a:tab algn="l" pos="3174840"/>
                <a:tab algn="l" pos="3492360"/>
                <a:tab algn="l" pos="3809880"/>
                <a:tab algn="l" pos="4127400"/>
                <a:tab algn="l" pos="4444920"/>
                <a:tab algn="l" pos="4762440"/>
                <a:tab algn="l" pos="5079960"/>
                <a:tab algn="l" pos="5397480"/>
                <a:tab algn="l" pos="5715000"/>
                <a:tab algn="l" pos="6032520"/>
                <a:tab algn="l" pos="6350040"/>
              </a:tabLst>
            </a:pPr>
            <a:endParaRPr b="0" lang="en-US" sz="900" spc="-1" strike="noStrike">
              <a:solidFill>
                <a:srgbClr val="000000"/>
              </a:solidFill>
              <a:latin typeface="Calibri"/>
            </a:endParaRPr>
          </a:p>
        </p:txBody>
      </p:sp>
      <p:sp>
        <p:nvSpPr>
          <p:cNvPr id="196" name="PlaceHolder 7"/>
          <p:cNvSpPr>
            <a:spLocks noGrp="1"/>
          </p:cNvSpPr>
          <p:nvPr>
            <p:ph/>
          </p:nvPr>
        </p:nvSpPr>
        <p:spPr>
          <a:xfrm>
            <a:off x="2075400" y="2440800"/>
            <a:ext cx="883440" cy="1235520"/>
          </a:xfrm>
          <a:prstGeom prst="rect">
            <a:avLst/>
          </a:prstGeom>
          <a:noFill/>
          <a:ln w="0">
            <a:noFill/>
          </a:ln>
        </p:spPr>
        <p:txBody>
          <a:bodyPr lIns="90000" rIns="90000" tIns="46800" bIns="46800" anchor="t">
            <a:normAutofit/>
          </a:bodyPr>
          <a:p>
            <a:pPr indent="0">
              <a:lnSpc>
                <a:spcPct val="90000"/>
              </a:lnSpc>
              <a:spcBef>
                <a:spcPts val="349"/>
              </a:spcBef>
              <a:buNone/>
              <a:tabLst>
                <a:tab algn="l" pos="317520"/>
                <a:tab algn="l" pos="635040"/>
                <a:tab algn="l" pos="952560"/>
                <a:tab algn="l" pos="1270080"/>
                <a:tab algn="l" pos="1587600"/>
                <a:tab algn="l" pos="1905120"/>
                <a:tab algn="l" pos="2222640"/>
                <a:tab algn="l" pos="2540160"/>
                <a:tab algn="l" pos="2857680"/>
                <a:tab algn="l" pos="3174840"/>
                <a:tab algn="l" pos="3492360"/>
                <a:tab algn="l" pos="3809880"/>
                <a:tab algn="l" pos="4127400"/>
                <a:tab algn="l" pos="4444920"/>
                <a:tab algn="l" pos="4762440"/>
                <a:tab algn="l" pos="5079960"/>
                <a:tab algn="l" pos="5397480"/>
                <a:tab algn="l" pos="5715000"/>
                <a:tab algn="l" pos="6032520"/>
                <a:tab algn="l" pos="6350040"/>
              </a:tabLst>
            </a:pPr>
            <a:endParaRPr b="0" lang="en-US" sz="9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19240" y="217440"/>
            <a:ext cx="2744640" cy="789120"/>
          </a:xfrm>
          <a:prstGeom prst="rect">
            <a:avLst/>
          </a:prstGeom>
          <a:noFill/>
          <a:ln w="0">
            <a:noFill/>
          </a:ln>
        </p:spPr>
        <p:txBody>
          <a:bodyPr lIns="90000" rIns="90000" tIns="46800" bIns="46800" anchor="ctr">
            <a:noAutofit/>
          </a:bodyPr>
          <a:p>
            <a:pPr indent="0">
              <a:lnSpc>
                <a:spcPct val="90000"/>
              </a:lnSpc>
              <a:buNone/>
              <a:tabLst>
                <a:tab algn="l" pos="0"/>
                <a:tab algn="l" pos="317520"/>
                <a:tab algn="l" pos="635040"/>
                <a:tab algn="l" pos="952560"/>
                <a:tab algn="l" pos="1270080"/>
                <a:tab algn="l" pos="1587600"/>
                <a:tab algn="l" pos="1905120"/>
                <a:tab algn="l" pos="2222640"/>
                <a:tab algn="l" pos="2540160"/>
                <a:tab algn="l" pos="2857680"/>
                <a:tab algn="l" pos="3174840"/>
                <a:tab algn="l" pos="3492360"/>
                <a:tab algn="l" pos="3809880"/>
                <a:tab algn="l" pos="4127400"/>
                <a:tab algn="l" pos="4444920"/>
                <a:tab algn="l" pos="4762440"/>
                <a:tab algn="l" pos="5079960"/>
                <a:tab algn="l" pos="5397480"/>
                <a:tab algn="l" pos="5715000"/>
                <a:tab algn="l" pos="6032520"/>
                <a:tab algn="l" pos="6350040"/>
              </a:tabLst>
            </a:pPr>
            <a:endParaRPr b="0" lang="en-US" sz="1500" spc="-1" strike="noStrike">
              <a:solidFill>
                <a:srgbClr val="000000"/>
              </a:solidFill>
              <a:latin typeface="Calibri Light"/>
            </a:endParaRPr>
          </a:p>
        </p:txBody>
      </p:sp>
      <p:sp>
        <p:nvSpPr>
          <p:cNvPr id="10" name="PlaceHolder 2"/>
          <p:cNvSpPr>
            <a:spLocks noGrp="1"/>
          </p:cNvSpPr>
          <p:nvPr>
            <p:ph/>
          </p:nvPr>
        </p:nvSpPr>
        <p:spPr>
          <a:xfrm>
            <a:off x="219240" y="1087560"/>
            <a:ext cx="1339200" cy="2590560"/>
          </a:xfrm>
          <a:prstGeom prst="rect">
            <a:avLst/>
          </a:prstGeom>
          <a:noFill/>
          <a:ln w="0">
            <a:noFill/>
          </a:ln>
        </p:spPr>
        <p:txBody>
          <a:bodyPr lIns="90000" rIns="90000" tIns="46800" bIns="46800" anchor="t">
            <a:normAutofit/>
          </a:bodyPr>
          <a:p>
            <a:pPr indent="0">
              <a:lnSpc>
                <a:spcPct val="90000"/>
              </a:lnSpc>
              <a:spcBef>
                <a:spcPts val="349"/>
              </a:spcBef>
              <a:buNone/>
              <a:tabLst>
                <a:tab algn="l" pos="317520"/>
                <a:tab algn="l" pos="635040"/>
                <a:tab algn="l" pos="952560"/>
                <a:tab algn="l" pos="1270080"/>
                <a:tab algn="l" pos="1587600"/>
                <a:tab algn="l" pos="1905120"/>
                <a:tab algn="l" pos="2222640"/>
                <a:tab algn="l" pos="2540160"/>
                <a:tab algn="l" pos="2857680"/>
                <a:tab algn="l" pos="3174840"/>
                <a:tab algn="l" pos="3492360"/>
                <a:tab algn="l" pos="3809880"/>
                <a:tab algn="l" pos="4127400"/>
                <a:tab algn="l" pos="4444920"/>
                <a:tab algn="l" pos="4762440"/>
                <a:tab algn="l" pos="5079960"/>
                <a:tab algn="l" pos="5397480"/>
                <a:tab algn="l" pos="5715000"/>
                <a:tab algn="l" pos="6032520"/>
                <a:tab algn="l" pos="6350040"/>
              </a:tabLst>
            </a:pPr>
            <a:endParaRPr b="0" lang="en-US" sz="900" spc="-1" strike="noStrike">
              <a:solidFill>
                <a:srgbClr val="000000"/>
              </a:solidFill>
              <a:latin typeface="Calibri"/>
            </a:endParaRPr>
          </a:p>
        </p:txBody>
      </p:sp>
      <p:sp>
        <p:nvSpPr>
          <p:cNvPr id="11" name="PlaceHolder 3"/>
          <p:cNvSpPr>
            <a:spLocks noGrp="1"/>
          </p:cNvSpPr>
          <p:nvPr>
            <p:ph/>
          </p:nvPr>
        </p:nvSpPr>
        <p:spPr>
          <a:xfrm>
            <a:off x="1625760" y="1087560"/>
            <a:ext cx="1339200" cy="2590560"/>
          </a:xfrm>
          <a:prstGeom prst="rect">
            <a:avLst/>
          </a:prstGeom>
          <a:noFill/>
          <a:ln w="0">
            <a:noFill/>
          </a:ln>
        </p:spPr>
        <p:txBody>
          <a:bodyPr lIns="90000" rIns="90000" tIns="46800" bIns="46800" anchor="t">
            <a:normAutofit/>
          </a:bodyPr>
          <a:p>
            <a:pPr indent="0">
              <a:lnSpc>
                <a:spcPct val="90000"/>
              </a:lnSpc>
              <a:spcBef>
                <a:spcPts val="349"/>
              </a:spcBef>
              <a:buNone/>
              <a:tabLst>
                <a:tab algn="l" pos="317520"/>
                <a:tab algn="l" pos="635040"/>
                <a:tab algn="l" pos="952560"/>
                <a:tab algn="l" pos="1270080"/>
                <a:tab algn="l" pos="1587600"/>
                <a:tab algn="l" pos="1905120"/>
                <a:tab algn="l" pos="2222640"/>
                <a:tab algn="l" pos="2540160"/>
                <a:tab algn="l" pos="2857680"/>
                <a:tab algn="l" pos="3174840"/>
                <a:tab algn="l" pos="3492360"/>
                <a:tab algn="l" pos="3809880"/>
                <a:tab algn="l" pos="4127400"/>
                <a:tab algn="l" pos="4444920"/>
                <a:tab algn="l" pos="4762440"/>
                <a:tab algn="l" pos="5079960"/>
                <a:tab algn="l" pos="5397480"/>
                <a:tab algn="l" pos="5715000"/>
                <a:tab algn="l" pos="6032520"/>
                <a:tab algn="l" pos="6350040"/>
              </a:tabLst>
            </a:pPr>
            <a:endParaRPr b="0" lang="en-US" sz="9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CD1D33-340A-477D-8C3A-39EB957240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19240" y="217440"/>
            <a:ext cx="2744640" cy="789120"/>
          </a:xfrm>
          <a:prstGeom prst="rect">
            <a:avLst/>
          </a:prstGeom>
          <a:noFill/>
          <a:ln w="0">
            <a:noFill/>
          </a:ln>
        </p:spPr>
        <p:txBody>
          <a:bodyPr lIns="90000" rIns="90000" tIns="46800" bIns="46800" anchor="ctr">
            <a:noAutofit/>
          </a:bodyPr>
          <a:p>
            <a:pPr indent="0">
              <a:lnSpc>
                <a:spcPct val="90000"/>
              </a:lnSpc>
              <a:buNone/>
              <a:tabLst>
                <a:tab algn="l" pos="0"/>
                <a:tab algn="l" pos="317520"/>
                <a:tab algn="l" pos="635040"/>
                <a:tab algn="l" pos="952560"/>
                <a:tab algn="l" pos="1270080"/>
                <a:tab algn="l" pos="1587600"/>
                <a:tab algn="l" pos="1905120"/>
                <a:tab algn="l" pos="2222640"/>
                <a:tab algn="l" pos="2540160"/>
                <a:tab algn="l" pos="2857680"/>
                <a:tab algn="l" pos="3174840"/>
                <a:tab algn="l" pos="3492360"/>
                <a:tab algn="l" pos="3809880"/>
                <a:tab algn="l" pos="4127400"/>
                <a:tab algn="l" pos="4444920"/>
                <a:tab algn="l" pos="4762440"/>
                <a:tab algn="l" pos="5079960"/>
                <a:tab algn="l" pos="5397480"/>
                <a:tab algn="l" pos="5715000"/>
                <a:tab algn="l" pos="6032520"/>
                <a:tab algn="l" pos="6350040"/>
              </a:tabLst>
            </a:pPr>
            <a:endParaRPr b="0" lang="en-US" sz="15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B5C4EF-D075-4E85-AC88-12307BE77F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19240" y="217440"/>
            <a:ext cx="2744640" cy="3659040"/>
          </a:xfrm>
          <a:prstGeom prst="rect">
            <a:avLst/>
          </a:prstGeom>
          <a:noFill/>
          <a:ln w="0">
            <a:noFill/>
          </a:ln>
        </p:spPr>
        <p:txBody>
          <a:bodyPr lIns="0" rIns="0" tIns="0" bIns="0" anchor="ctr">
            <a:noAutofit/>
          </a:bodyPr>
          <a:p>
            <a:pPr algn="ctr">
              <a:lnSpc>
                <a:spcPct val="90000"/>
              </a:lnSpc>
              <a:spcBef>
                <a:spcPts val="349"/>
              </a:spcBef>
              <a:tabLst>
                <a:tab algn="l" pos="0"/>
                <a:tab algn="l" pos="317520"/>
                <a:tab algn="l" pos="635040"/>
                <a:tab algn="l" pos="952560"/>
                <a:tab algn="l" pos="1270080"/>
                <a:tab algn="l" pos="1587600"/>
                <a:tab algn="l" pos="1905120"/>
                <a:tab algn="l" pos="2222640"/>
                <a:tab algn="l" pos="2540160"/>
                <a:tab algn="l" pos="2857680"/>
                <a:tab algn="l" pos="3174840"/>
                <a:tab algn="l" pos="3492360"/>
                <a:tab algn="l" pos="3809880"/>
                <a:tab algn="l" pos="4127400"/>
                <a:tab algn="l" pos="4444920"/>
                <a:tab algn="l" pos="4762440"/>
                <a:tab algn="l" pos="5079960"/>
                <a:tab algn="l" pos="5397480"/>
                <a:tab algn="l" pos="5715000"/>
                <a:tab algn="l" pos="6032520"/>
                <a:tab algn="l" pos="6350040"/>
              </a:tabLst>
            </a:pPr>
            <a:endParaRPr b="0" lang="en-US" sz="9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7553CA-98AE-4F96-9C3D-9BC5F9E85D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19240" y="217440"/>
            <a:ext cx="2744640" cy="789120"/>
          </a:xfrm>
          <a:prstGeom prst="rect">
            <a:avLst/>
          </a:prstGeom>
          <a:noFill/>
          <a:ln w="0">
            <a:noFill/>
          </a:ln>
        </p:spPr>
        <p:txBody>
          <a:bodyPr lIns="90000" rIns="90000" tIns="46800" bIns="46800" anchor="ctr">
            <a:noAutofit/>
          </a:bodyPr>
          <a:p>
            <a:pPr indent="0">
              <a:lnSpc>
                <a:spcPct val="90000"/>
              </a:lnSpc>
              <a:buNone/>
              <a:tabLst>
                <a:tab algn="l" pos="0"/>
                <a:tab algn="l" pos="317520"/>
                <a:tab algn="l" pos="635040"/>
                <a:tab algn="l" pos="952560"/>
                <a:tab algn="l" pos="1270080"/>
                <a:tab algn="l" pos="1587600"/>
                <a:tab algn="l" pos="1905120"/>
                <a:tab algn="l" pos="2222640"/>
                <a:tab algn="l" pos="2540160"/>
                <a:tab algn="l" pos="2857680"/>
                <a:tab algn="l" pos="3174840"/>
                <a:tab algn="l" pos="3492360"/>
                <a:tab algn="l" pos="3809880"/>
                <a:tab algn="l" pos="4127400"/>
                <a:tab algn="l" pos="4444920"/>
                <a:tab algn="l" pos="4762440"/>
                <a:tab algn="l" pos="5079960"/>
                <a:tab algn="l" pos="5397480"/>
                <a:tab algn="l" pos="5715000"/>
                <a:tab algn="l" pos="6032520"/>
                <a:tab algn="l" pos="6350040"/>
              </a:tabLst>
            </a:pPr>
            <a:endParaRPr b="0" lang="en-US" sz="1500" spc="-1" strike="noStrike">
              <a:solidFill>
                <a:srgbClr val="000000"/>
              </a:solidFill>
              <a:latin typeface="Calibri Light"/>
            </a:endParaRPr>
          </a:p>
        </p:txBody>
      </p:sp>
      <p:sp>
        <p:nvSpPr>
          <p:cNvPr id="15" name="PlaceHolder 2"/>
          <p:cNvSpPr>
            <a:spLocks noGrp="1"/>
          </p:cNvSpPr>
          <p:nvPr>
            <p:ph/>
          </p:nvPr>
        </p:nvSpPr>
        <p:spPr>
          <a:xfrm>
            <a:off x="219240" y="1087560"/>
            <a:ext cx="1339200" cy="1235520"/>
          </a:xfrm>
          <a:prstGeom prst="rect">
            <a:avLst/>
          </a:prstGeom>
          <a:noFill/>
          <a:ln w="0">
            <a:noFill/>
          </a:ln>
        </p:spPr>
        <p:txBody>
          <a:bodyPr lIns="90000" rIns="90000" tIns="46800" bIns="46800" anchor="t">
            <a:normAutofit/>
          </a:bodyPr>
          <a:p>
            <a:pPr indent="0">
              <a:lnSpc>
                <a:spcPct val="90000"/>
              </a:lnSpc>
              <a:spcBef>
                <a:spcPts val="349"/>
              </a:spcBef>
              <a:buNone/>
              <a:tabLst>
                <a:tab algn="l" pos="317520"/>
                <a:tab algn="l" pos="635040"/>
                <a:tab algn="l" pos="952560"/>
                <a:tab algn="l" pos="1270080"/>
                <a:tab algn="l" pos="1587600"/>
                <a:tab algn="l" pos="1905120"/>
                <a:tab algn="l" pos="2222640"/>
                <a:tab algn="l" pos="2540160"/>
                <a:tab algn="l" pos="2857680"/>
                <a:tab algn="l" pos="3174840"/>
                <a:tab algn="l" pos="3492360"/>
                <a:tab algn="l" pos="3809880"/>
                <a:tab algn="l" pos="4127400"/>
                <a:tab algn="l" pos="4444920"/>
                <a:tab algn="l" pos="4762440"/>
                <a:tab algn="l" pos="5079960"/>
                <a:tab algn="l" pos="5397480"/>
                <a:tab algn="l" pos="5715000"/>
                <a:tab algn="l" pos="6032520"/>
                <a:tab algn="l" pos="6350040"/>
              </a:tabLst>
            </a:pPr>
            <a:endParaRPr b="0" lang="en-US" sz="900" spc="-1" strike="noStrike">
              <a:solidFill>
                <a:srgbClr val="000000"/>
              </a:solidFill>
              <a:latin typeface="Calibri"/>
            </a:endParaRPr>
          </a:p>
        </p:txBody>
      </p:sp>
      <p:sp>
        <p:nvSpPr>
          <p:cNvPr id="16" name="PlaceHolder 3"/>
          <p:cNvSpPr>
            <a:spLocks noGrp="1"/>
          </p:cNvSpPr>
          <p:nvPr>
            <p:ph/>
          </p:nvPr>
        </p:nvSpPr>
        <p:spPr>
          <a:xfrm>
            <a:off x="1625760" y="1087560"/>
            <a:ext cx="1339200" cy="2590560"/>
          </a:xfrm>
          <a:prstGeom prst="rect">
            <a:avLst/>
          </a:prstGeom>
          <a:noFill/>
          <a:ln w="0">
            <a:noFill/>
          </a:ln>
        </p:spPr>
        <p:txBody>
          <a:bodyPr lIns="90000" rIns="90000" tIns="46800" bIns="46800" anchor="t">
            <a:normAutofit/>
          </a:bodyPr>
          <a:p>
            <a:pPr indent="0">
              <a:lnSpc>
                <a:spcPct val="90000"/>
              </a:lnSpc>
              <a:spcBef>
                <a:spcPts val="349"/>
              </a:spcBef>
              <a:buNone/>
              <a:tabLst>
                <a:tab algn="l" pos="317520"/>
                <a:tab algn="l" pos="635040"/>
                <a:tab algn="l" pos="952560"/>
                <a:tab algn="l" pos="1270080"/>
                <a:tab algn="l" pos="1587600"/>
                <a:tab algn="l" pos="1905120"/>
                <a:tab algn="l" pos="2222640"/>
                <a:tab algn="l" pos="2540160"/>
                <a:tab algn="l" pos="2857680"/>
                <a:tab algn="l" pos="3174840"/>
                <a:tab algn="l" pos="3492360"/>
                <a:tab algn="l" pos="3809880"/>
                <a:tab algn="l" pos="4127400"/>
                <a:tab algn="l" pos="4444920"/>
                <a:tab algn="l" pos="4762440"/>
                <a:tab algn="l" pos="5079960"/>
                <a:tab algn="l" pos="5397480"/>
                <a:tab algn="l" pos="5715000"/>
                <a:tab algn="l" pos="6032520"/>
                <a:tab algn="l" pos="6350040"/>
              </a:tabLst>
            </a:pPr>
            <a:endParaRPr b="0" lang="en-US" sz="900" spc="-1" strike="noStrike">
              <a:solidFill>
                <a:srgbClr val="000000"/>
              </a:solidFill>
              <a:latin typeface="Calibri"/>
            </a:endParaRPr>
          </a:p>
        </p:txBody>
      </p:sp>
      <p:sp>
        <p:nvSpPr>
          <p:cNvPr id="17" name="PlaceHolder 4"/>
          <p:cNvSpPr>
            <a:spLocks noGrp="1"/>
          </p:cNvSpPr>
          <p:nvPr>
            <p:ph/>
          </p:nvPr>
        </p:nvSpPr>
        <p:spPr>
          <a:xfrm>
            <a:off x="219240" y="2440800"/>
            <a:ext cx="1339200" cy="1235520"/>
          </a:xfrm>
          <a:prstGeom prst="rect">
            <a:avLst/>
          </a:prstGeom>
          <a:noFill/>
          <a:ln w="0">
            <a:noFill/>
          </a:ln>
        </p:spPr>
        <p:txBody>
          <a:bodyPr lIns="90000" rIns="90000" tIns="46800" bIns="46800" anchor="t">
            <a:normAutofit/>
          </a:bodyPr>
          <a:p>
            <a:pPr indent="0">
              <a:lnSpc>
                <a:spcPct val="90000"/>
              </a:lnSpc>
              <a:spcBef>
                <a:spcPts val="349"/>
              </a:spcBef>
              <a:buNone/>
              <a:tabLst>
                <a:tab algn="l" pos="317520"/>
                <a:tab algn="l" pos="635040"/>
                <a:tab algn="l" pos="952560"/>
                <a:tab algn="l" pos="1270080"/>
                <a:tab algn="l" pos="1587600"/>
                <a:tab algn="l" pos="1905120"/>
                <a:tab algn="l" pos="2222640"/>
                <a:tab algn="l" pos="2540160"/>
                <a:tab algn="l" pos="2857680"/>
                <a:tab algn="l" pos="3174840"/>
                <a:tab algn="l" pos="3492360"/>
                <a:tab algn="l" pos="3809880"/>
                <a:tab algn="l" pos="4127400"/>
                <a:tab algn="l" pos="4444920"/>
                <a:tab algn="l" pos="4762440"/>
                <a:tab algn="l" pos="5079960"/>
                <a:tab algn="l" pos="5397480"/>
                <a:tab algn="l" pos="5715000"/>
                <a:tab algn="l" pos="6032520"/>
                <a:tab algn="l" pos="6350040"/>
              </a:tabLst>
            </a:pPr>
            <a:endParaRPr b="0" lang="en-US" sz="9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C3FAD9-9891-4B9D-BBA1-C4619B9080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19240" y="217440"/>
            <a:ext cx="2744640" cy="789120"/>
          </a:xfrm>
          <a:prstGeom prst="rect">
            <a:avLst/>
          </a:prstGeom>
          <a:noFill/>
          <a:ln w="0">
            <a:noFill/>
          </a:ln>
        </p:spPr>
        <p:txBody>
          <a:bodyPr lIns="90000" rIns="90000" tIns="46800" bIns="46800" anchor="ctr">
            <a:noAutofit/>
          </a:bodyPr>
          <a:p>
            <a:pPr indent="0">
              <a:lnSpc>
                <a:spcPct val="90000"/>
              </a:lnSpc>
              <a:buNone/>
              <a:tabLst>
                <a:tab algn="l" pos="0"/>
                <a:tab algn="l" pos="317520"/>
                <a:tab algn="l" pos="635040"/>
                <a:tab algn="l" pos="952560"/>
                <a:tab algn="l" pos="1270080"/>
                <a:tab algn="l" pos="1587600"/>
                <a:tab algn="l" pos="1905120"/>
                <a:tab algn="l" pos="2222640"/>
                <a:tab algn="l" pos="2540160"/>
                <a:tab algn="l" pos="2857680"/>
                <a:tab algn="l" pos="3174840"/>
                <a:tab algn="l" pos="3492360"/>
                <a:tab algn="l" pos="3809880"/>
                <a:tab algn="l" pos="4127400"/>
                <a:tab algn="l" pos="4444920"/>
                <a:tab algn="l" pos="4762440"/>
                <a:tab algn="l" pos="5079960"/>
                <a:tab algn="l" pos="5397480"/>
                <a:tab algn="l" pos="5715000"/>
                <a:tab algn="l" pos="6032520"/>
                <a:tab algn="l" pos="6350040"/>
              </a:tabLst>
            </a:pPr>
            <a:endParaRPr b="0" lang="en-US" sz="1500" spc="-1" strike="noStrike">
              <a:solidFill>
                <a:srgbClr val="000000"/>
              </a:solidFill>
              <a:latin typeface="Calibri Light"/>
            </a:endParaRPr>
          </a:p>
        </p:txBody>
      </p:sp>
      <p:sp>
        <p:nvSpPr>
          <p:cNvPr id="19" name="PlaceHolder 2"/>
          <p:cNvSpPr>
            <a:spLocks noGrp="1"/>
          </p:cNvSpPr>
          <p:nvPr>
            <p:ph/>
          </p:nvPr>
        </p:nvSpPr>
        <p:spPr>
          <a:xfrm>
            <a:off x="219240" y="1087560"/>
            <a:ext cx="1339200" cy="2590560"/>
          </a:xfrm>
          <a:prstGeom prst="rect">
            <a:avLst/>
          </a:prstGeom>
          <a:noFill/>
          <a:ln w="0">
            <a:noFill/>
          </a:ln>
        </p:spPr>
        <p:txBody>
          <a:bodyPr lIns="90000" rIns="90000" tIns="46800" bIns="46800" anchor="t">
            <a:normAutofit/>
          </a:bodyPr>
          <a:p>
            <a:pPr indent="0">
              <a:lnSpc>
                <a:spcPct val="90000"/>
              </a:lnSpc>
              <a:spcBef>
                <a:spcPts val="349"/>
              </a:spcBef>
              <a:buNone/>
              <a:tabLst>
                <a:tab algn="l" pos="317520"/>
                <a:tab algn="l" pos="635040"/>
                <a:tab algn="l" pos="952560"/>
                <a:tab algn="l" pos="1270080"/>
                <a:tab algn="l" pos="1587600"/>
                <a:tab algn="l" pos="1905120"/>
                <a:tab algn="l" pos="2222640"/>
                <a:tab algn="l" pos="2540160"/>
                <a:tab algn="l" pos="2857680"/>
                <a:tab algn="l" pos="3174840"/>
                <a:tab algn="l" pos="3492360"/>
                <a:tab algn="l" pos="3809880"/>
                <a:tab algn="l" pos="4127400"/>
                <a:tab algn="l" pos="4444920"/>
                <a:tab algn="l" pos="4762440"/>
                <a:tab algn="l" pos="5079960"/>
                <a:tab algn="l" pos="5397480"/>
                <a:tab algn="l" pos="5715000"/>
                <a:tab algn="l" pos="6032520"/>
                <a:tab algn="l" pos="6350040"/>
              </a:tabLst>
            </a:pPr>
            <a:endParaRPr b="0" lang="en-US" sz="900" spc="-1" strike="noStrike">
              <a:solidFill>
                <a:srgbClr val="000000"/>
              </a:solidFill>
              <a:latin typeface="Calibri"/>
            </a:endParaRPr>
          </a:p>
        </p:txBody>
      </p:sp>
      <p:sp>
        <p:nvSpPr>
          <p:cNvPr id="20" name="PlaceHolder 3"/>
          <p:cNvSpPr>
            <a:spLocks noGrp="1"/>
          </p:cNvSpPr>
          <p:nvPr>
            <p:ph/>
          </p:nvPr>
        </p:nvSpPr>
        <p:spPr>
          <a:xfrm>
            <a:off x="1625760" y="1087560"/>
            <a:ext cx="1339200" cy="1235520"/>
          </a:xfrm>
          <a:prstGeom prst="rect">
            <a:avLst/>
          </a:prstGeom>
          <a:noFill/>
          <a:ln w="0">
            <a:noFill/>
          </a:ln>
        </p:spPr>
        <p:txBody>
          <a:bodyPr lIns="90000" rIns="90000" tIns="46800" bIns="46800" anchor="t">
            <a:normAutofit/>
          </a:bodyPr>
          <a:p>
            <a:pPr indent="0">
              <a:lnSpc>
                <a:spcPct val="90000"/>
              </a:lnSpc>
              <a:spcBef>
                <a:spcPts val="349"/>
              </a:spcBef>
              <a:buNone/>
              <a:tabLst>
                <a:tab algn="l" pos="317520"/>
                <a:tab algn="l" pos="635040"/>
                <a:tab algn="l" pos="952560"/>
                <a:tab algn="l" pos="1270080"/>
                <a:tab algn="l" pos="1587600"/>
                <a:tab algn="l" pos="1905120"/>
                <a:tab algn="l" pos="2222640"/>
                <a:tab algn="l" pos="2540160"/>
                <a:tab algn="l" pos="2857680"/>
                <a:tab algn="l" pos="3174840"/>
                <a:tab algn="l" pos="3492360"/>
                <a:tab algn="l" pos="3809880"/>
                <a:tab algn="l" pos="4127400"/>
                <a:tab algn="l" pos="4444920"/>
                <a:tab algn="l" pos="4762440"/>
                <a:tab algn="l" pos="5079960"/>
                <a:tab algn="l" pos="5397480"/>
                <a:tab algn="l" pos="5715000"/>
                <a:tab algn="l" pos="6032520"/>
                <a:tab algn="l" pos="6350040"/>
              </a:tabLst>
            </a:pPr>
            <a:endParaRPr b="0" lang="en-US" sz="900" spc="-1" strike="noStrike">
              <a:solidFill>
                <a:srgbClr val="000000"/>
              </a:solidFill>
              <a:latin typeface="Calibri"/>
            </a:endParaRPr>
          </a:p>
        </p:txBody>
      </p:sp>
      <p:sp>
        <p:nvSpPr>
          <p:cNvPr id="21" name="PlaceHolder 4"/>
          <p:cNvSpPr>
            <a:spLocks noGrp="1"/>
          </p:cNvSpPr>
          <p:nvPr>
            <p:ph/>
          </p:nvPr>
        </p:nvSpPr>
        <p:spPr>
          <a:xfrm>
            <a:off x="1625760" y="2440800"/>
            <a:ext cx="1339200" cy="1235520"/>
          </a:xfrm>
          <a:prstGeom prst="rect">
            <a:avLst/>
          </a:prstGeom>
          <a:noFill/>
          <a:ln w="0">
            <a:noFill/>
          </a:ln>
        </p:spPr>
        <p:txBody>
          <a:bodyPr lIns="90000" rIns="90000" tIns="46800" bIns="46800" anchor="t">
            <a:normAutofit/>
          </a:bodyPr>
          <a:p>
            <a:pPr indent="0">
              <a:lnSpc>
                <a:spcPct val="90000"/>
              </a:lnSpc>
              <a:spcBef>
                <a:spcPts val="349"/>
              </a:spcBef>
              <a:buNone/>
              <a:tabLst>
                <a:tab algn="l" pos="317520"/>
                <a:tab algn="l" pos="635040"/>
                <a:tab algn="l" pos="952560"/>
                <a:tab algn="l" pos="1270080"/>
                <a:tab algn="l" pos="1587600"/>
                <a:tab algn="l" pos="1905120"/>
                <a:tab algn="l" pos="2222640"/>
                <a:tab algn="l" pos="2540160"/>
                <a:tab algn="l" pos="2857680"/>
                <a:tab algn="l" pos="3174840"/>
                <a:tab algn="l" pos="3492360"/>
                <a:tab algn="l" pos="3809880"/>
                <a:tab algn="l" pos="4127400"/>
                <a:tab algn="l" pos="4444920"/>
                <a:tab algn="l" pos="4762440"/>
                <a:tab algn="l" pos="5079960"/>
                <a:tab algn="l" pos="5397480"/>
                <a:tab algn="l" pos="5715000"/>
                <a:tab algn="l" pos="6032520"/>
                <a:tab algn="l" pos="6350040"/>
              </a:tabLst>
            </a:pPr>
            <a:endParaRPr b="0" lang="en-US" sz="9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798341-E2C0-4252-AD59-E1BAC24915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19240" y="217440"/>
            <a:ext cx="2744640" cy="789120"/>
          </a:xfrm>
          <a:prstGeom prst="rect">
            <a:avLst/>
          </a:prstGeom>
          <a:noFill/>
          <a:ln w="0">
            <a:noFill/>
          </a:ln>
        </p:spPr>
        <p:txBody>
          <a:bodyPr lIns="90000" rIns="90000" tIns="46800" bIns="46800" anchor="ctr">
            <a:noAutofit/>
          </a:bodyPr>
          <a:p>
            <a:pPr indent="0">
              <a:lnSpc>
                <a:spcPct val="90000"/>
              </a:lnSpc>
              <a:buNone/>
              <a:tabLst>
                <a:tab algn="l" pos="0"/>
                <a:tab algn="l" pos="317520"/>
                <a:tab algn="l" pos="635040"/>
                <a:tab algn="l" pos="952560"/>
                <a:tab algn="l" pos="1270080"/>
                <a:tab algn="l" pos="1587600"/>
                <a:tab algn="l" pos="1905120"/>
                <a:tab algn="l" pos="2222640"/>
                <a:tab algn="l" pos="2540160"/>
                <a:tab algn="l" pos="2857680"/>
                <a:tab algn="l" pos="3174840"/>
                <a:tab algn="l" pos="3492360"/>
                <a:tab algn="l" pos="3809880"/>
                <a:tab algn="l" pos="4127400"/>
                <a:tab algn="l" pos="4444920"/>
                <a:tab algn="l" pos="4762440"/>
                <a:tab algn="l" pos="5079960"/>
                <a:tab algn="l" pos="5397480"/>
                <a:tab algn="l" pos="5715000"/>
                <a:tab algn="l" pos="6032520"/>
                <a:tab algn="l" pos="6350040"/>
              </a:tabLst>
            </a:pPr>
            <a:endParaRPr b="0" lang="en-US" sz="1500" spc="-1" strike="noStrike">
              <a:solidFill>
                <a:srgbClr val="000000"/>
              </a:solidFill>
              <a:latin typeface="Calibri Light"/>
            </a:endParaRPr>
          </a:p>
        </p:txBody>
      </p:sp>
      <p:sp>
        <p:nvSpPr>
          <p:cNvPr id="23" name="PlaceHolder 2"/>
          <p:cNvSpPr>
            <a:spLocks noGrp="1"/>
          </p:cNvSpPr>
          <p:nvPr>
            <p:ph/>
          </p:nvPr>
        </p:nvSpPr>
        <p:spPr>
          <a:xfrm>
            <a:off x="219240" y="1087560"/>
            <a:ext cx="1339200" cy="1235520"/>
          </a:xfrm>
          <a:prstGeom prst="rect">
            <a:avLst/>
          </a:prstGeom>
          <a:noFill/>
          <a:ln w="0">
            <a:noFill/>
          </a:ln>
        </p:spPr>
        <p:txBody>
          <a:bodyPr lIns="90000" rIns="90000" tIns="46800" bIns="46800" anchor="t">
            <a:normAutofit/>
          </a:bodyPr>
          <a:p>
            <a:pPr indent="0">
              <a:lnSpc>
                <a:spcPct val="90000"/>
              </a:lnSpc>
              <a:spcBef>
                <a:spcPts val="349"/>
              </a:spcBef>
              <a:buNone/>
              <a:tabLst>
                <a:tab algn="l" pos="317520"/>
                <a:tab algn="l" pos="635040"/>
                <a:tab algn="l" pos="952560"/>
                <a:tab algn="l" pos="1270080"/>
                <a:tab algn="l" pos="1587600"/>
                <a:tab algn="l" pos="1905120"/>
                <a:tab algn="l" pos="2222640"/>
                <a:tab algn="l" pos="2540160"/>
                <a:tab algn="l" pos="2857680"/>
                <a:tab algn="l" pos="3174840"/>
                <a:tab algn="l" pos="3492360"/>
                <a:tab algn="l" pos="3809880"/>
                <a:tab algn="l" pos="4127400"/>
                <a:tab algn="l" pos="4444920"/>
                <a:tab algn="l" pos="4762440"/>
                <a:tab algn="l" pos="5079960"/>
                <a:tab algn="l" pos="5397480"/>
                <a:tab algn="l" pos="5715000"/>
                <a:tab algn="l" pos="6032520"/>
                <a:tab algn="l" pos="6350040"/>
              </a:tabLst>
            </a:pPr>
            <a:endParaRPr b="0" lang="en-US" sz="900" spc="-1" strike="noStrike">
              <a:solidFill>
                <a:srgbClr val="000000"/>
              </a:solidFill>
              <a:latin typeface="Calibri"/>
            </a:endParaRPr>
          </a:p>
        </p:txBody>
      </p:sp>
      <p:sp>
        <p:nvSpPr>
          <p:cNvPr id="24" name="PlaceHolder 3"/>
          <p:cNvSpPr>
            <a:spLocks noGrp="1"/>
          </p:cNvSpPr>
          <p:nvPr>
            <p:ph/>
          </p:nvPr>
        </p:nvSpPr>
        <p:spPr>
          <a:xfrm>
            <a:off x="1625760" y="1087560"/>
            <a:ext cx="1339200" cy="1235520"/>
          </a:xfrm>
          <a:prstGeom prst="rect">
            <a:avLst/>
          </a:prstGeom>
          <a:noFill/>
          <a:ln w="0">
            <a:noFill/>
          </a:ln>
        </p:spPr>
        <p:txBody>
          <a:bodyPr lIns="90000" rIns="90000" tIns="46800" bIns="46800" anchor="t">
            <a:normAutofit/>
          </a:bodyPr>
          <a:p>
            <a:pPr indent="0">
              <a:lnSpc>
                <a:spcPct val="90000"/>
              </a:lnSpc>
              <a:spcBef>
                <a:spcPts val="349"/>
              </a:spcBef>
              <a:buNone/>
              <a:tabLst>
                <a:tab algn="l" pos="317520"/>
                <a:tab algn="l" pos="635040"/>
                <a:tab algn="l" pos="952560"/>
                <a:tab algn="l" pos="1270080"/>
                <a:tab algn="l" pos="1587600"/>
                <a:tab algn="l" pos="1905120"/>
                <a:tab algn="l" pos="2222640"/>
                <a:tab algn="l" pos="2540160"/>
                <a:tab algn="l" pos="2857680"/>
                <a:tab algn="l" pos="3174840"/>
                <a:tab algn="l" pos="3492360"/>
                <a:tab algn="l" pos="3809880"/>
                <a:tab algn="l" pos="4127400"/>
                <a:tab algn="l" pos="4444920"/>
                <a:tab algn="l" pos="4762440"/>
                <a:tab algn="l" pos="5079960"/>
                <a:tab algn="l" pos="5397480"/>
                <a:tab algn="l" pos="5715000"/>
                <a:tab algn="l" pos="6032520"/>
                <a:tab algn="l" pos="6350040"/>
              </a:tabLst>
            </a:pPr>
            <a:endParaRPr b="0" lang="en-US" sz="900" spc="-1" strike="noStrike">
              <a:solidFill>
                <a:srgbClr val="000000"/>
              </a:solidFill>
              <a:latin typeface="Calibri"/>
            </a:endParaRPr>
          </a:p>
        </p:txBody>
      </p:sp>
      <p:sp>
        <p:nvSpPr>
          <p:cNvPr id="25" name="PlaceHolder 4"/>
          <p:cNvSpPr>
            <a:spLocks noGrp="1"/>
          </p:cNvSpPr>
          <p:nvPr>
            <p:ph/>
          </p:nvPr>
        </p:nvSpPr>
        <p:spPr>
          <a:xfrm>
            <a:off x="219240" y="2440800"/>
            <a:ext cx="2744640" cy="1235520"/>
          </a:xfrm>
          <a:prstGeom prst="rect">
            <a:avLst/>
          </a:prstGeom>
          <a:noFill/>
          <a:ln w="0">
            <a:noFill/>
          </a:ln>
        </p:spPr>
        <p:txBody>
          <a:bodyPr lIns="90000" rIns="90000" tIns="46800" bIns="46800" anchor="t">
            <a:normAutofit/>
          </a:bodyPr>
          <a:p>
            <a:pPr indent="0">
              <a:lnSpc>
                <a:spcPct val="90000"/>
              </a:lnSpc>
              <a:spcBef>
                <a:spcPts val="349"/>
              </a:spcBef>
              <a:buNone/>
              <a:tabLst>
                <a:tab algn="l" pos="317520"/>
                <a:tab algn="l" pos="635040"/>
                <a:tab algn="l" pos="952560"/>
                <a:tab algn="l" pos="1270080"/>
                <a:tab algn="l" pos="1587600"/>
                <a:tab algn="l" pos="1905120"/>
                <a:tab algn="l" pos="2222640"/>
                <a:tab algn="l" pos="2540160"/>
                <a:tab algn="l" pos="2857680"/>
                <a:tab algn="l" pos="3174840"/>
                <a:tab algn="l" pos="3492360"/>
                <a:tab algn="l" pos="3809880"/>
                <a:tab algn="l" pos="4127400"/>
                <a:tab algn="l" pos="4444920"/>
                <a:tab algn="l" pos="4762440"/>
                <a:tab algn="l" pos="5079960"/>
                <a:tab algn="l" pos="5397480"/>
                <a:tab algn="l" pos="5715000"/>
                <a:tab algn="l" pos="6032520"/>
                <a:tab algn="l" pos="6350040"/>
              </a:tabLst>
            </a:pPr>
            <a:endParaRPr b="0" lang="en-US" sz="9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3F0514-3BEF-4BB5-9470-BAAF243EE23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19240" y="217440"/>
            <a:ext cx="2744640" cy="789120"/>
          </a:xfrm>
          <a:prstGeom prst="rect">
            <a:avLst/>
          </a:prstGeom>
          <a:noFill/>
          <a:ln w="0">
            <a:noFill/>
          </a:ln>
        </p:spPr>
        <p:txBody>
          <a:bodyPr lIns="90000" rIns="90000" tIns="46800" bIns="46800" anchor="ctr">
            <a:noAutofit/>
          </a:bodyPr>
          <a:p>
            <a:pPr indent="0">
              <a:lnSpc>
                <a:spcPct val="90000"/>
              </a:lnSpc>
              <a:buNone/>
              <a:tabLst>
                <a:tab algn="l" pos="0"/>
                <a:tab algn="l" pos="317520"/>
                <a:tab algn="l" pos="635040"/>
                <a:tab algn="l" pos="952560"/>
                <a:tab algn="l" pos="1270080"/>
                <a:tab algn="l" pos="1587600"/>
                <a:tab algn="l" pos="1905120"/>
                <a:tab algn="l" pos="2222640"/>
                <a:tab algn="l" pos="2540160"/>
                <a:tab algn="l" pos="2857680"/>
                <a:tab algn="l" pos="3174840"/>
                <a:tab algn="l" pos="3492360"/>
                <a:tab algn="l" pos="3809880"/>
                <a:tab algn="l" pos="4127400"/>
                <a:tab algn="l" pos="4444920"/>
                <a:tab algn="l" pos="4762440"/>
                <a:tab algn="l" pos="5079960"/>
                <a:tab algn="l" pos="5397480"/>
                <a:tab algn="l" pos="5715000"/>
                <a:tab algn="l" pos="6032520"/>
                <a:tab algn="l" pos="6350040"/>
              </a:tabLst>
            </a:pPr>
            <a:r>
              <a:rPr b="0" lang="en-US" sz="1500" spc="-1" strike="noStrike">
                <a:solidFill>
                  <a:srgbClr val="000000"/>
                </a:solidFill>
                <a:latin typeface="Calibri Light"/>
              </a:rPr>
              <a:t>Click to edit the title text format</a:t>
            </a:r>
            <a:endParaRPr b="0" lang="en-US" sz="1500" spc="-1" strike="noStrike">
              <a:solidFill>
                <a:srgbClr val="000000"/>
              </a:solidFill>
              <a:latin typeface="Calibri Light"/>
            </a:endParaRPr>
          </a:p>
        </p:txBody>
      </p:sp>
      <p:sp>
        <p:nvSpPr>
          <p:cNvPr id="1" name="PlaceHolder 2"/>
          <p:cNvSpPr>
            <a:spLocks noGrp="1"/>
          </p:cNvSpPr>
          <p:nvPr>
            <p:ph type="body"/>
          </p:nvPr>
        </p:nvSpPr>
        <p:spPr>
          <a:xfrm>
            <a:off x="219240" y="1087560"/>
            <a:ext cx="2744640" cy="2590560"/>
          </a:xfrm>
          <a:prstGeom prst="rect">
            <a:avLst/>
          </a:prstGeom>
          <a:noFill/>
          <a:ln w="0">
            <a:noFill/>
          </a:ln>
        </p:spPr>
        <p:txBody>
          <a:bodyPr lIns="90000" rIns="90000" tIns="46800" bIns="46800" anchor="t">
            <a:normAutofit/>
          </a:bodyPr>
          <a:p>
            <a:pPr marL="79200" indent="-79200">
              <a:lnSpc>
                <a:spcPct val="90000"/>
              </a:lnSpc>
              <a:spcBef>
                <a:spcPts val="349"/>
              </a:spcBef>
              <a:buClr>
                <a:srgbClr val="000000"/>
              </a:buClr>
              <a:buFont typeface="Arial"/>
              <a:buChar char="•"/>
              <a:tabLst>
                <a:tab algn="l" pos="317520"/>
                <a:tab algn="l" pos="635040"/>
                <a:tab algn="l" pos="952560"/>
                <a:tab algn="l" pos="1270080"/>
                <a:tab algn="l" pos="1587600"/>
                <a:tab algn="l" pos="1905120"/>
                <a:tab algn="l" pos="2222640"/>
                <a:tab algn="l" pos="2540160"/>
                <a:tab algn="l" pos="2857680"/>
                <a:tab algn="l" pos="3174840"/>
                <a:tab algn="l" pos="3492360"/>
                <a:tab algn="l" pos="3809880"/>
                <a:tab algn="l" pos="4127400"/>
                <a:tab algn="l" pos="4444920"/>
                <a:tab algn="l" pos="4762440"/>
                <a:tab algn="l" pos="5079960"/>
                <a:tab algn="l" pos="5397480"/>
                <a:tab algn="l" pos="5715000"/>
                <a:tab algn="l" pos="6032520"/>
                <a:tab algn="l" pos="6350040"/>
              </a:tabLst>
            </a:pPr>
            <a:r>
              <a:rPr b="0" lang="en-US" sz="900" spc="-1" strike="noStrike">
                <a:solidFill>
                  <a:srgbClr val="000000"/>
                </a:solidFill>
                <a:latin typeface="Calibri"/>
              </a:rPr>
              <a:t>Click to edit the outline text format</a:t>
            </a:r>
            <a:endParaRPr b="0" lang="en-US" sz="900" spc="-1" strike="noStrike">
              <a:solidFill>
                <a:srgbClr val="000000"/>
              </a:solidFill>
              <a:latin typeface="Calibri"/>
            </a:endParaRPr>
          </a:p>
          <a:p>
            <a:pPr lvl="1" marL="237960" indent="-79200">
              <a:lnSpc>
                <a:spcPct val="90000"/>
              </a:lnSpc>
              <a:spcBef>
                <a:spcPts val="349"/>
              </a:spcBef>
              <a:buClr>
                <a:srgbClr val="000000"/>
              </a:buClr>
              <a:buFont typeface="Arial"/>
              <a:buChar char="•"/>
              <a:tabLst>
                <a:tab algn="l" pos="317520"/>
                <a:tab algn="l" pos="635040"/>
                <a:tab algn="l" pos="952560"/>
                <a:tab algn="l" pos="1270080"/>
                <a:tab algn="l" pos="1587600"/>
                <a:tab algn="l" pos="1905120"/>
                <a:tab algn="l" pos="2222640"/>
                <a:tab algn="l" pos="2540160"/>
                <a:tab algn="l" pos="2857680"/>
                <a:tab algn="l" pos="3174840"/>
                <a:tab algn="l" pos="3492360"/>
                <a:tab algn="l" pos="3809880"/>
                <a:tab algn="l" pos="4127400"/>
                <a:tab algn="l" pos="4444920"/>
                <a:tab algn="l" pos="4762440"/>
                <a:tab algn="l" pos="5079960"/>
                <a:tab algn="l" pos="5397480"/>
                <a:tab algn="l" pos="5715000"/>
                <a:tab algn="l" pos="6032520"/>
                <a:tab algn="l" pos="6350040"/>
              </a:tabLst>
            </a:pPr>
            <a:r>
              <a:rPr b="0" lang="en-US" sz="900" spc="-1" strike="noStrike">
                <a:solidFill>
                  <a:srgbClr val="000000"/>
                </a:solidFill>
                <a:latin typeface="Calibri"/>
              </a:rPr>
              <a:t>Second Outline Level</a:t>
            </a:r>
            <a:endParaRPr b="0" lang="en-US" sz="900" spc="-1" strike="noStrike">
              <a:solidFill>
                <a:srgbClr val="000000"/>
              </a:solidFill>
              <a:latin typeface="Calibri"/>
            </a:endParaRPr>
          </a:p>
          <a:p>
            <a:pPr lvl="2" marL="396720" indent="-79200">
              <a:lnSpc>
                <a:spcPct val="90000"/>
              </a:lnSpc>
              <a:spcBef>
                <a:spcPts val="349"/>
              </a:spcBef>
              <a:buClr>
                <a:srgbClr val="000000"/>
              </a:buClr>
              <a:buFont typeface="Arial"/>
              <a:buChar char="•"/>
              <a:tabLst>
                <a:tab algn="l" pos="317520"/>
                <a:tab algn="l" pos="635040"/>
                <a:tab algn="l" pos="952560"/>
                <a:tab algn="l" pos="1270080"/>
                <a:tab algn="l" pos="1587600"/>
                <a:tab algn="l" pos="1905120"/>
                <a:tab algn="l" pos="2222640"/>
                <a:tab algn="l" pos="2540160"/>
                <a:tab algn="l" pos="2857680"/>
                <a:tab algn="l" pos="3174840"/>
                <a:tab algn="l" pos="3492360"/>
                <a:tab algn="l" pos="3809880"/>
                <a:tab algn="l" pos="4127400"/>
                <a:tab algn="l" pos="4444920"/>
                <a:tab algn="l" pos="4762440"/>
                <a:tab algn="l" pos="5079960"/>
                <a:tab algn="l" pos="5397480"/>
                <a:tab algn="l" pos="5715000"/>
                <a:tab algn="l" pos="6032520"/>
                <a:tab algn="l" pos="6350040"/>
              </a:tabLst>
            </a:pPr>
            <a:r>
              <a:rPr b="0" lang="en-US" sz="900" spc="-1" strike="noStrike">
                <a:solidFill>
                  <a:srgbClr val="000000"/>
                </a:solidFill>
                <a:latin typeface="Calibri"/>
              </a:rPr>
              <a:t>Third Outline Level</a:t>
            </a:r>
            <a:endParaRPr b="0" lang="en-US" sz="900" spc="-1" strike="noStrike">
              <a:solidFill>
                <a:srgbClr val="000000"/>
              </a:solidFill>
              <a:latin typeface="Calibri"/>
            </a:endParaRPr>
          </a:p>
          <a:p>
            <a:pPr lvl="3" marL="555480" indent="-79200">
              <a:lnSpc>
                <a:spcPct val="90000"/>
              </a:lnSpc>
              <a:spcBef>
                <a:spcPts val="349"/>
              </a:spcBef>
              <a:buClr>
                <a:srgbClr val="000000"/>
              </a:buClr>
              <a:buFont typeface="Arial"/>
              <a:buChar char="•"/>
              <a:tabLst>
                <a:tab algn="l" pos="317520"/>
                <a:tab algn="l" pos="635040"/>
                <a:tab algn="l" pos="952560"/>
                <a:tab algn="l" pos="1270080"/>
                <a:tab algn="l" pos="1587600"/>
                <a:tab algn="l" pos="1905120"/>
                <a:tab algn="l" pos="2222640"/>
                <a:tab algn="l" pos="2540160"/>
                <a:tab algn="l" pos="2857680"/>
                <a:tab algn="l" pos="3174840"/>
                <a:tab algn="l" pos="3492360"/>
                <a:tab algn="l" pos="3809880"/>
                <a:tab algn="l" pos="4127400"/>
                <a:tab algn="l" pos="4444920"/>
                <a:tab algn="l" pos="4762440"/>
                <a:tab algn="l" pos="5079960"/>
                <a:tab algn="l" pos="5397480"/>
                <a:tab algn="l" pos="5715000"/>
                <a:tab algn="l" pos="6032520"/>
                <a:tab algn="l" pos="6350040"/>
              </a:tabLst>
            </a:pPr>
            <a:r>
              <a:rPr b="0" lang="en-US" sz="900" spc="-1" strike="noStrike">
                <a:solidFill>
                  <a:srgbClr val="000000"/>
                </a:solidFill>
                <a:latin typeface="Calibri"/>
              </a:rPr>
              <a:t>Fourth Outline Level</a:t>
            </a:r>
            <a:endParaRPr b="0" lang="en-US" sz="900" spc="-1" strike="noStrike">
              <a:solidFill>
                <a:srgbClr val="000000"/>
              </a:solidFill>
              <a:latin typeface="Calibri"/>
            </a:endParaRPr>
          </a:p>
          <a:p>
            <a:pPr lvl="4" marL="716040" indent="-79560">
              <a:lnSpc>
                <a:spcPct val="90000"/>
              </a:lnSpc>
              <a:spcBef>
                <a:spcPts val="349"/>
              </a:spcBef>
              <a:buClr>
                <a:srgbClr val="000000"/>
              </a:buClr>
              <a:buFont typeface="Arial"/>
              <a:buChar char="•"/>
              <a:tabLst>
                <a:tab algn="l" pos="317520"/>
                <a:tab algn="l" pos="635040"/>
                <a:tab algn="l" pos="952560"/>
                <a:tab algn="l" pos="1270080"/>
                <a:tab algn="l" pos="1587600"/>
                <a:tab algn="l" pos="1905120"/>
                <a:tab algn="l" pos="2222640"/>
                <a:tab algn="l" pos="2540160"/>
                <a:tab algn="l" pos="2857680"/>
                <a:tab algn="l" pos="3174840"/>
                <a:tab algn="l" pos="3492360"/>
                <a:tab algn="l" pos="3809880"/>
                <a:tab algn="l" pos="4127400"/>
                <a:tab algn="l" pos="4444920"/>
                <a:tab algn="l" pos="4762440"/>
                <a:tab algn="l" pos="5079960"/>
                <a:tab algn="l" pos="5397480"/>
                <a:tab algn="l" pos="5715000"/>
                <a:tab algn="l" pos="6032520"/>
                <a:tab algn="l" pos="6350040"/>
              </a:tabLst>
            </a:pPr>
            <a:r>
              <a:rPr b="0" lang="en-US" sz="900" spc="-1" strike="noStrike">
                <a:solidFill>
                  <a:srgbClr val="000000"/>
                </a:solidFill>
                <a:latin typeface="Calibri"/>
              </a:rPr>
              <a:t>Fifth Outline Level</a:t>
            </a:r>
            <a:endParaRPr b="0" lang="en-US" sz="900" spc="-1" strike="noStrike">
              <a:solidFill>
                <a:srgbClr val="000000"/>
              </a:solidFill>
              <a:latin typeface="Calibri"/>
            </a:endParaRPr>
          </a:p>
          <a:p>
            <a:pPr lvl="5" marL="716040" indent="-79560">
              <a:lnSpc>
                <a:spcPct val="90000"/>
              </a:lnSpc>
              <a:spcBef>
                <a:spcPts val="349"/>
              </a:spcBef>
              <a:buClr>
                <a:srgbClr val="000000"/>
              </a:buClr>
              <a:buFont typeface="Arial"/>
              <a:buChar char="•"/>
              <a:tabLst>
                <a:tab algn="l" pos="317520"/>
                <a:tab algn="l" pos="635040"/>
                <a:tab algn="l" pos="952560"/>
                <a:tab algn="l" pos="1270080"/>
                <a:tab algn="l" pos="1587600"/>
                <a:tab algn="l" pos="1905120"/>
                <a:tab algn="l" pos="2222640"/>
                <a:tab algn="l" pos="2540160"/>
                <a:tab algn="l" pos="2857680"/>
                <a:tab algn="l" pos="3174840"/>
                <a:tab algn="l" pos="3492360"/>
                <a:tab algn="l" pos="3809880"/>
                <a:tab algn="l" pos="4127400"/>
                <a:tab algn="l" pos="4444920"/>
                <a:tab algn="l" pos="4762440"/>
                <a:tab algn="l" pos="5079960"/>
                <a:tab algn="l" pos="5397480"/>
                <a:tab algn="l" pos="5715000"/>
                <a:tab algn="l" pos="6032520"/>
                <a:tab algn="l" pos="6350040"/>
              </a:tabLst>
            </a:pPr>
            <a:r>
              <a:rPr b="0" lang="en-US" sz="900" spc="-1" strike="noStrike">
                <a:solidFill>
                  <a:srgbClr val="000000"/>
                </a:solidFill>
                <a:latin typeface="Calibri"/>
              </a:rPr>
              <a:t>Sixth Outline Level</a:t>
            </a:r>
            <a:endParaRPr b="0" lang="en-US" sz="900" spc="-1" strike="noStrike">
              <a:solidFill>
                <a:srgbClr val="000000"/>
              </a:solidFill>
              <a:latin typeface="Calibri"/>
            </a:endParaRPr>
          </a:p>
          <a:p>
            <a:pPr lvl="6" marL="716040" indent="-79560">
              <a:lnSpc>
                <a:spcPct val="90000"/>
              </a:lnSpc>
              <a:spcBef>
                <a:spcPts val="349"/>
              </a:spcBef>
              <a:buClr>
                <a:srgbClr val="000000"/>
              </a:buClr>
              <a:buFont typeface="Arial"/>
              <a:buChar char="•"/>
              <a:tabLst>
                <a:tab algn="l" pos="317520"/>
                <a:tab algn="l" pos="635040"/>
                <a:tab algn="l" pos="952560"/>
                <a:tab algn="l" pos="1270080"/>
                <a:tab algn="l" pos="1587600"/>
                <a:tab algn="l" pos="1905120"/>
                <a:tab algn="l" pos="2222640"/>
                <a:tab algn="l" pos="2540160"/>
                <a:tab algn="l" pos="2857680"/>
                <a:tab algn="l" pos="3174840"/>
                <a:tab algn="l" pos="3492360"/>
                <a:tab algn="l" pos="3809880"/>
                <a:tab algn="l" pos="4127400"/>
                <a:tab algn="l" pos="4444920"/>
                <a:tab algn="l" pos="4762440"/>
                <a:tab algn="l" pos="5079960"/>
                <a:tab algn="l" pos="5397480"/>
                <a:tab algn="l" pos="5715000"/>
                <a:tab algn="l" pos="6032520"/>
                <a:tab algn="l" pos="6350040"/>
              </a:tabLst>
            </a:pPr>
            <a:r>
              <a:rPr b="0" lang="en-US" sz="900" spc="-1" strike="noStrike">
                <a:solidFill>
                  <a:srgbClr val="000000"/>
                </a:solidFill>
                <a:latin typeface="Calibri"/>
              </a:rPr>
              <a:t>Seventh Outline Level</a:t>
            </a:r>
            <a:endParaRPr b="0" lang="en-US" sz="900" spc="-1" strike="noStrike">
              <a:solidFill>
                <a:srgbClr val="000000"/>
              </a:solidFill>
              <a:latin typeface="Calibri"/>
            </a:endParaRPr>
          </a:p>
        </p:txBody>
      </p:sp>
      <p:sp>
        <p:nvSpPr>
          <p:cNvPr id="2" name="PlaceHolder 3"/>
          <p:cNvSpPr>
            <a:spLocks noGrp="1"/>
          </p:cNvSpPr>
          <p:nvPr>
            <p:ph type="dt" idx="1"/>
          </p:nvPr>
        </p:nvSpPr>
        <p:spPr>
          <a:xfrm>
            <a:off x="219240" y="3784680"/>
            <a:ext cx="715680" cy="2174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ja-JP" sz="400" spc="-1" strike="noStrike">
                <a:solidFill>
                  <a:srgbClr val="898989"/>
                </a:solidFill>
                <a:latin typeface="Times New Roman"/>
                <a:ea typeface="游ゴシック"/>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400" spc="-1" strike="noStrike">
                <a:solidFill>
                  <a:srgbClr val="898989"/>
                </a:solidFill>
                <a:latin typeface="Times New Roman"/>
                <a:ea typeface="游ゴシック"/>
              </a:rPr>
              <a:t>&lt;date/time&gt;</a:t>
            </a:r>
            <a:endParaRPr b="0" lang="en-US" sz="400" spc="-1" strike="noStrike">
              <a:solidFill>
                <a:srgbClr val="000000"/>
              </a:solidFill>
              <a:latin typeface="Times New Roman"/>
            </a:endParaRPr>
          </a:p>
        </p:txBody>
      </p:sp>
      <p:sp>
        <p:nvSpPr>
          <p:cNvPr id="3" name="PlaceHolder 4"/>
          <p:cNvSpPr>
            <a:spLocks noGrp="1"/>
          </p:cNvSpPr>
          <p:nvPr>
            <p:ph type="ftr" idx="2"/>
          </p:nvPr>
        </p:nvSpPr>
        <p:spPr>
          <a:xfrm>
            <a:off x="1053720" y="3784680"/>
            <a:ext cx="1074600" cy="2174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2247480" y="3784680"/>
            <a:ext cx="716040" cy="2174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ja-JP" sz="400" spc="-1" strike="noStrike">
                <a:solidFill>
                  <a:srgbClr val="898989"/>
                </a:solidFill>
                <a:latin typeface="Times New Roman"/>
                <a:ea typeface="游ゴシック"/>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79A20B4-E4AA-47CF-BB60-D0A2C74A9F4A}" type="slidenum">
              <a:rPr b="0" lang="ja-JP" sz="400" spc="-1" strike="noStrike">
                <a:solidFill>
                  <a:srgbClr val="898989"/>
                </a:solidFill>
                <a:latin typeface="Times New Roman"/>
                <a:ea typeface="游ゴシック"/>
              </a:rPr>
              <a:t>&lt;number&gt;</a:t>
            </a:fld>
            <a:endParaRPr b="0" lang="en-US" sz="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角丸四角形 13"/>
          <p:cNvSpPr/>
          <p:nvPr/>
        </p:nvSpPr>
        <p:spPr>
          <a:xfrm>
            <a:off x="485640" y="442800"/>
            <a:ext cx="2251080" cy="3214800"/>
          </a:xfrm>
          <a:custGeom>
            <a:avLst/>
            <a:gdLst>
              <a:gd name="textAreaLeft" fmla="*/ 41040 w 2251080"/>
              <a:gd name="textAreaRight" fmla="*/ 2210040 w 2251080"/>
              <a:gd name="textAreaTop" fmla="*/ 41040 h 3214800"/>
              <a:gd name="textAreaBottom" fmla="*/ 3173760 h 3214800"/>
            </a:gdLst>
            <a:ahLst/>
            <a:rect l="textAreaLeft" t="textAreaTop" r="textAreaRight" b="textAreaBottom"/>
            <a:pathLst>
              <a:path w="21600" h="30846">
                <a:moveTo>
                  <a:pt x="1347" y="0"/>
                </a:moveTo>
                <a:arcTo wR="1347" hR="1347" stAng="16200000" swAng="-5400000"/>
                <a:lnTo>
                  <a:pt x="0" y="29499"/>
                </a:lnTo>
                <a:arcTo wR="1347" hR="1347" stAng="10800000" swAng="-5400000"/>
                <a:lnTo>
                  <a:pt x="20253" y="30846"/>
                </a:lnTo>
                <a:arcTo wR="1347" hR="1347" stAng="5400000" swAng="-5400000"/>
                <a:lnTo>
                  <a:pt x="21600" y="1347"/>
                </a:lnTo>
                <a:arcTo wR="1347" hR="1347" stAng="0" swAng="-5400000"/>
                <a:close/>
              </a:path>
            </a:pathLst>
          </a:custGeom>
          <a:noFill/>
          <a:ln w="12600">
            <a:solidFill>
              <a:srgbClr val="000000"/>
            </a:solidFill>
            <a:miter/>
          </a:ln>
        </p:spPr>
        <p:style>
          <a:lnRef idx="0"/>
          <a:fillRef idx="0"/>
          <a:effectRef idx="0"/>
          <a:fontRef idx="minor"/>
        </p:style>
        <p:txBody>
          <a:bodyPr lIns="32040" rIns="32040" tIns="15840" bIns="1584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2" name="Rectangle 55"/>
          <p:cNvSpPr/>
          <p:nvPr/>
        </p:nvSpPr>
        <p:spPr>
          <a:xfrm>
            <a:off x="-12600" y="-781200"/>
            <a:ext cx="7062840" cy="4875480"/>
          </a:xfrm>
          <a:prstGeom prst="rect">
            <a:avLst/>
          </a:prstGeom>
          <a:solidFill>
            <a:srgbClr val="ffffff"/>
          </a:solidFill>
          <a:ln w="3240">
            <a:solidFill>
              <a:srgbClr val="000000"/>
            </a:solidFill>
            <a:miter/>
          </a:ln>
        </p:spPr>
        <p:style>
          <a:lnRef idx="0"/>
          <a:fillRef idx="0"/>
          <a:effectRef idx="0"/>
          <a:fontRef idx="minor"/>
        </p:style>
        <p:txBody>
          <a:bodyPr wrap="none"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3" name="テキスト ボックス 6"/>
          <p:cNvSpPr/>
          <p:nvPr/>
        </p:nvSpPr>
        <p:spPr>
          <a:xfrm>
            <a:off x="6916320" y="-822240"/>
            <a:ext cx="940320" cy="4925880"/>
          </a:xfrm>
          <a:prstGeom prst="rect">
            <a:avLst/>
          </a:prstGeom>
          <a:solidFill>
            <a:srgbClr val="fff2cc"/>
          </a:solidFill>
          <a:ln w="0">
            <a:noFill/>
          </a:ln>
        </p:spPr>
        <p:style>
          <a:lnRef idx="0"/>
          <a:fillRef idx="0"/>
          <a:effectRef idx="0"/>
          <a:fontRef idx="minor"/>
        </p:style>
        <p:txBody>
          <a:bodyPr lIns="89280" rIns="89280" tIns="44640" bIns="44640" anchor="t" vert="eaVe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メイリオ"/>
                <a:ea typeface="メイリオ"/>
              </a:rPr>
              <a:t>(※)</a:t>
            </a:r>
            <a:r>
              <a:rPr b="0" lang="ja-JP" sz="1000" spc="-1" strike="noStrike">
                <a:solidFill>
                  <a:srgbClr val="000000"/>
                </a:solidFill>
                <a:latin typeface="メイリオ"/>
                <a:ea typeface="メイリオ"/>
              </a:rPr>
              <a:t>画像を追加した後、デザインテンプレにカーソルをあてた状態で</a:t>
            </a:r>
            <a:endParaRPr b="0" lang="en-US" sz="10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000" spc="-1" strike="noStrike">
                <a:solidFill>
                  <a:srgbClr val="000000"/>
                </a:solidFill>
                <a:latin typeface="メイリオ"/>
                <a:ea typeface="メイリオ"/>
              </a:rPr>
              <a:t>「書式」タブ▼「配置」タブの「配置」▼「左右中央揃え</a:t>
            </a:r>
            <a:r>
              <a:rPr b="0" lang="en-US" sz="1000" spc="-1" strike="noStrike">
                <a:solidFill>
                  <a:srgbClr val="000000"/>
                </a:solidFill>
                <a:latin typeface="メイリオ"/>
                <a:ea typeface="メイリオ"/>
              </a:rPr>
              <a:t>(C)</a:t>
            </a:r>
            <a:r>
              <a:rPr b="0" lang="ja-JP" sz="1000" spc="-1" strike="noStrike">
                <a:solidFill>
                  <a:srgbClr val="000000"/>
                </a:solidFill>
                <a:latin typeface="メイリオ"/>
                <a:ea typeface="メイリオ"/>
              </a:rPr>
              <a:t>」と、</a:t>
            </a:r>
            <a:endParaRPr b="0" lang="en-US" sz="10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000" spc="-1" strike="noStrike">
                <a:solidFill>
                  <a:srgbClr val="000000"/>
                </a:solidFill>
                <a:latin typeface="メイリオ"/>
                <a:ea typeface="メイリオ"/>
              </a:rPr>
              <a:t>「上下中央揃え</a:t>
            </a:r>
            <a:r>
              <a:rPr b="0" lang="en-US" sz="1000" spc="-1" strike="noStrike">
                <a:solidFill>
                  <a:srgbClr val="000000"/>
                </a:solidFill>
                <a:latin typeface="メイリオ"/>
                <a:ea typeface="メイリオ"/>
              </a:rPr>
              <a:t>(M)</a:t>
            </a:r>
            <a:r>
              <a:rPr b="0" lang="ja-JP" sz="1000" spc="-1" strike="noStrike">
                <a:solidFill>
                  <a:srgbClr val="000000"/>
                </a:solidFill>
                <a:latin typeface="メイリオ"/>
                <a:ea typeface="メイリオ"/>
              </a:rPr>
              <a:t>」を選択し、画像の中央にテンプレを重ねてください。</a:t>
            </a:r>
            <a:endParaRPr b="0" lang="en-US" sz="10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000" spc="-1" strike="noStrike">
                <a:solidFill>
                  <a:srgbClr val="000000"/>
                </a:solidFill>
                <a:latin typeface="メイリオ"/>
                <a:ea typeface="メイリオ"/>
              </a:rPr>
              <a:t>◀</a:t>
            </a:r>
            <a:r>
              <a:rPr b="0" lang="ja-JP" sz="1000" spc="-1" strike="noStrike">
                <a:solidFill>
                  <a:srgbClr val="000000"/>
                </a:solidFill>
                <a:latin typeface="メイリオ"/>
                <a:ea typeface="メイリオ"/>
              </a:rPr>
              <a:t>デザインテンプレ</a:t>
            </a:r>
            <a:endParaRPr b="0" lang="en-US" sz="10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p:txBody>
      </p:sp>
      <p:sp>
        <p:nvSpPr>
          <p:cNvPr id="44" name="Text Box 2"/>
          <p:cNvSpPr/>
          <p:nvPr/>
        </p:nvSpPr>
        <p:spPr>
          <a:xfrm>
            <a:off x="0" y="-2036880"/>
            <a:ext cx="7862760" cy="1262160"/>
          </a:xfrm>
          <a:prstGeom prst="rect">
            <a:avLst/>
          </a:prstGeom>
          <a:solidFill>
            <a:srgbClr val="fff2cc"/>
          </a:solidFill>
          <a:ln w="0">
            <a:noFill/>
          </a:ln>
        </p:spPr>
        <p:style>
          <a:lnRef idx="0"/>
          <a:fillRef idx="0"/>
          <a:effectRef idx="0"/>
          <a:fontRef idx="minor"/>
        </p:style>
        <p:txBody>
          <a:bodyPr lIns="72720" rIns="72720" tIns="8640" bIns="8640" anchor="t">
            <a:noAutofit/>
          </a:bodyPr>
          <a:p>
            <a:pPr algn="just">
              <a:lnSpc>
                <a:spcPct val="100000"/>
              </a:lnSpc>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endParaRPr b="0" lang="en-US" sz="200" spc="-1" strike="noStrike">
              <a:solidFill>
                <a:srgbClr val="000000"/>
              </a:solidFill>
              <a:latin typeface="Calibri"/>
            </a:endParaRPr>
          </a:p>
          <a:p>
            <a:pPr algn="just">
              <a:lnSpc>
                <a:spcPct val="100000"/>
              </a:lnSpc>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endParaRPr b="0" lang="en-US" sz="600" spc="-1" strike="noStrike">
              <a:solidFill>
                <a:srgbClr val="000000"/>
              </a:solidFill>
              <a:latin typeface="Calibri"/>
            </a:endParaRPr>
          </a:p>
          <a:p>
            <a:pPr algn="just">
              <a:lnSpc>
                <a:spcPct val="100000"/>
              </a:lnSpc>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ja-JP" sz="1100" spc="-1" strike="noStrike">
                <a:solidFill>
                  <a:srgbClr val="000000"/>
                </a:solidFill>
                <a:latin typeface="メイリオ"/>
                <a:ea typeface="メイリオ"/>
              </a:rPr>
              <a:t>トランプ（ポーカー）＿デザインテンプレート</a:t>
            </a:r>
            <a:r>
              <a:rPr b="1" lang="en-US" sz="1100" spc="-1" strike="noStrike">
                <a:solidFill>
                  <a:srgbClr val="000000"/>
                </a:solidFill>
                <a:latin typeface="メイリオ"/>
                <a:ea typeface="メイリオ"/>
              </a:rPr>
              <a:t>2_</a:t>
            </a:r>
            <a:r>
              <a:rPr b="1" lang="ja-JP" sz="1100" spc="-1" strike="noStrike">
                <a:solidFill>
                  <a:srgbClr val="000000"/>
                </a:solidFill>
                <a:latin typeface="メイリオ"/>
                <a:ea typeface="メイリオ"/>
              </a:rPr>
              <a:t>数字面</a:t>
            </a:r>
            <a:r>
              <a:rPr b="1" lang="en-US" sz="1100" spc="-1" strike="noStrike">
                <a:solidFill>
                  <a:srgbClr val="000000"/>
                </a:solidFill>
                <a:latin typeface="メイリオ"/>
                <a:ea typeface="メイリオ"/>
              </a:rPr>
              <a:t>(</a:t>
            </a:r>
            <a:r>
              <a:rPr b="1" lang="ja-JP" sz="1100" spc="-1" strike="noStrike">
                <a:solidFill>
                  <a:srgbClr val="000000"/>
                </a:solidFill>
                <a:latin typeface="メイリオ"/>
                <a:ea typeface="メイリオ"/>
              </a:rPr>
              <a:t>絵札</a:t>
            </a:r>
            <a:r>
              <a:rPr b="1" lang="en-US" sz="1100" spc="-1" strike="noStrike">
                <a:solidFill>
                  <a:srgbClr val="000000"/>
                </a:solidFill>
                <a:latin typeface="メイリオ"/>
                <a:ea typeface="メイリオ"/>
              </a:rPr>
              <a:t>)_</a:t>
            </a:r>
            <a:r>
              <a:rPr b="1" lang="ja-JP" sz="1100" spc="-1" strike="noStrike">
                <a:solidFill>
                  <a:srgbClr val="000000"/>
                </a:solidFill>
                <a:latin typeface="メイリオ"/>
                <a:ea typeface="メイリオ"/>
              </a:rPr>
              <a:t>フェイスフレーム</a:t>
            </a:r>
            <a:endParaRPr b="0" lang="en-US" sz="1100" spc="-1" strike="noStrike">
              <a:solidFill>
                <a:srgbClr val="000000"/>
              </a:solidFill>
              <a:latin typeface="Calibri"/>
            </a:endParaRPr>
          </a:p>
          <a:p>
            <a:pPr algn="just">
              <a:lnSpc>
                <a:spcPct val="100000"/>
              </a:lnSpc>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ja-JP" sz="1100" spc="-1" strike="noStrike">
                <a:solidFill>
                  <a:srgbClr val="000000"/>
                </a:solidFill>
                <a:latin typeface="メイリオ"/>
                <a:ea typeface="メイリオ"/>
              </a:rPr>
              <a:t>●</a:t>
            </a:r>
            <a:r>
              <a:rPr b="1" lang="ja-JP" sz="1100" spc="-1" strike="noStrike">
                <a:solidFill>
                  <a:srgbClr val="000000"/>
                </a:solidFill>
                <a:latin typeface="メイリオ"/>
                <a:ea typeface="メイリオ"/>
              </a:rPr>
              <a:t>印字範囲</a:t>
            </a:r>
            <a:r>
              <a:rPr b="1" lang="en-US" sz="1100" spc="-1" strike="noStrike">
                <a:solidFill>
                  <a:srgbClr val="000000"/>
                </a:solidFill>
                <a:latin typeface="メイリオ"/>
                <a:ea typeface="メイリオ"/>
              </a:rPr>
              <a:t>W63×H88</a:t>
            </a:r>
            <a:r>
              <a:rPr b="1" lang="ja-JP" sz="1100" spc="-1" strike="noStrike">
                <a:solidFill>
                  <a:srgbClr val="000000"/>
                </a:solidFill>
                <a:latin typeface="メイリオ"/>
                <a:ea typeface="メイリオ"/>
              </a:rPr>
              <a:t>ｍｍ</a:t>
            </a:r>
            <a:endParaRPr b="0" lang="en-US" sz="1100" spc="-1" strike="noStrike">
              <a:solidFill>
                <a:srgbClr val="000000"/>
              </a:solidFill>
              <a:latin typeface="Calibri"/>
            </a:endParaRPr>
          </a:p>
          <a:p>
            <a:pPr algn="just">
              <a:lnSpc>
                <a:spcPct val="100000"/>
              </a:lnSpc>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endParaRPr b="0" lang="en-US" sz="1100" spc="-1" strike="noStrike">
              <a:solidFill>
                <a:srgbClr val="000000"/>
              </a:solidFill>
              <a:latin typeface="Calibri"/>
            </a:endParaRPr>
          </a:p>
          <a:p>
            <a:pPr algn="just">
              <a:lnSpc>
                <a:spcPct val="100000"/>
              </a:lnSpc>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endParaRPr b="0" lang="en-US" sz="1100" spc="-1" strike="noStrike">
              <a:solidFill>
                <a:srgbClr val="000000"/>
              </a:solidFill>
              <a:latin typeface="Calibri"/>
            </a:endParaRPr>
          </a:p>
          <a:p>
            <a:pPr algn="just">
              <a:lnSpc>
                <a:spcPct val="100000"/>
              </a:lnSpc>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endParaRPr b="0" lang="en-US" sz="1100" spc="-1" strike="noStrike">
              <a:solidFill>
                <a:srgbClr val="000000"/>
              </a:solidFill>
              <a:latin typeface="Calibri"/>
            </a:endParaRPr>
          </a:p>
          <a:p>
            <a:pPr algn="just">
              <a:lnSpc>
                <a:spcPct val="100000"/>
              </a:lnSpc>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endParaRPr b="0" lang="en-US" sz="1100" spc="-1" strike="noStrike">
              <a:solidFill>
                <a:srgbClr val="000000"/>
              </a:solidFill>
              <a:latin typeface="Calibri"/>
            </a:endParaRPr>
          </a:p>
          <a:p>
            <a:pPr algn="just">
              <a:lnSpc>
                <a:spcPct val="100000"/>
              </a:lnSpc>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endParaRPr b="0" lang="en-US" sz="1100" spc="-1" strike="noStrike">
              <a:solidFill>
                <a:srgbClr val="000000"/>
              </a:solidFill>
              <a:latin typeface="Calibri"/>
            </a:endParaRPr>
          </a:p>
          <a:p>
            <a:pPr algn="just">
              <a:lnSpc>
                <a:spcPct val="100000"/>
              </a:lnSpc>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endParaRPr b="0" lang="en-US" sz="1100" spc="-1" strike="noStrike">
              <a:solidFill>
                <a:srgbClr val="000000"/>
              </a:solidFill>
              <a:latin typeface="Calibri"/>
            </a:endParaRPr>
          </a:p>
          <a:p>
            <a:pPr algn="just">
              <a:lnSpc>
                <a:spcPct val="100000"/>
              </a:lnSpc>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endParaRPr b="0" lang="en-US" sz="1100" spc="-1" strike="noStrike">
              <a:solidFill>
                <a:srgbClr val="000000"/>
              </a:solidFill>
              <a:latin typeface="Calibri"/>
            </a:endParaRPr>
          </a:p>
        </p:txBody>
      </p:sp>
      <p:pic>
        <p:nvPicPr>
          <p:cNvPr id="45" name="Picture 56" descr="トンボ説明ol"/>
          <p:cNvPicPr/>
          <p:nvPr/>
        </p:nvPicPr>
        <p:blipFill>
          <a:blip r:embed="rId2"/>
          <a:stretch/>
        </p:blipFill>
        <p:spPr>
          <a:xfrm>
            <a:off x="2579760" y="-717480"/>
            <a:ext cx="1230120" cy="1279440"/>
          </a:xfrm>
          <a:prstGeom prst="rect">
            <a:avLst/>
          </a:prstGeom>
          <a:ln w="0">
            <a:noFill/>
          </a:ln>
        </p:spPr>
      </p:pic>
      <p:sp>
        <p:nvSpPr>
          <p:cNvPr id="46" name="Rectangle 55"/>
          <p:cNvSpPr/>
          <p:nvPr/>
        </p:nvSpPr>
        <p:spPr>
          <a:xfrm>
            <a:off x="0" y="0"/>
            <a:ext cx="3182760" cy="4083120"/>
          </a:xfrm>
          <a:prstGeom prst="rect">
            <a:avLst/>
          </a:prstGeom>
          <a:solidFill>
            <a:srgbClr val="ffffff"/>
          </a:solidFill>
          <a:ln w="0">
            <a:noFill/>
          </a:ln>
        </p:spPr>
        <p:style>
          <a:lnRef idx="0"/>
          <a:fillRef idx="0"/>
          <a:effectRef idx="0"/>
          <a:fontRef idx="minor"/>
        </p:style>
        <p:txBody>
          <a:bodyPr wrap="none"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grpSp>
        <p:nvGrpSpPr>
          <p:cNvPr id="47" name="グループ化 12"/>
          <p:cNvGrpSpPr/>
          <p:nvPr/>
        </p:nvGrpSpPr>
        <p:grpSpPr>
          <a:xfrm>
            <a:off x="4062240" y="-746280"/>
            <a:ext cx="2718000" cy="1030320"/>
            <a:chOff x="4062240" y="-746280"/>
            <a:chExt cx="2718000" cy="1030320"/>
          </a:xfrm>
        </p:grpSpPr>
        <p:pic>
          <p:nvPicPr>
            <p:cNvPr id="48" name="Picture 2" descr=""/>
            <p:cNvPicPr/>
            <p:nvPr/>
          </p:nvPicPr>
          <p:blipFill>
            <a:blip r:embed="rId3"/>
            <a:stretch/>
          </p:blipFill>
          <p:spPr>
            <a:xfrm>
              <a:off x="5822280" y="-746280"/>
              <a:ext cx="915120" cy="968040"/>
            </a:xfrm>
            <a:prstGeom prst="rect">
              <a:avLst/>
            </a:prstGeom>
            <a:ln w="0">
              <a:noFill/>
            </a:ln>
          </p:spPr>
        </p:pic>
        <p:sp>
          <p:nvSpPr>
            <p:cNvPr id="49" name="テキスト ボックス 12"/>
            <p:cNvSpPr/>
            <p:nvPr/>
          </p:nvSpPr>
          <p:spPr>
            <a:xfrm>
              <a:off x="4379760" y="-274320"/>
              <a:ext cx="1603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900" spc="-1" strike="noStrike">
                  <a:solidFill>
                    <a:srgbClr val="ff0000"/>
                  </a:solidFill>
                  <a:latin typeface="メイリオ"/>
                  <a:ea typeface="メイリオ"/>
                </a:rPr>
                <a:t>角部分は</a:t>
              </a:r>
              <a:endParaRPr b="0" lang="en-US" sz="9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900" spc="-1" strike="noStrike">
                  <a:solidFill>
                    <a:srgbClr val="ff0000"/>
                  </a:solidFill>
                  <a:latin typeface="メイリオ"/>
                  <a:ea typeface="メイリオ"/>
                </a:rPr>
                <a:t>角</a:t>
              </a:r>
              <a:r>
                <a:rPr b="0" lang="en-US" sz="900" spc="-1" strike="noStrike">
                  <a:solidFill>
                    <a:srgbClr val="ff0000"/>
                  </a:solidFill>
                  <a:latin typeface="メイリオ"/>
                  <a:ea typeface="メイリオ"/>
                </a:rPr>
                <a:t>R(</a:t>
              </a:r>
              <a:r>
                <a:rPr b="0" lang="ja-JP" sz="900" spc="-1" strike="noStrike">
                  <a:solidFill>
                    <a:srgbClr val="ff0000"/>
                  </a:solidFill>
                  <a:latin typeface="メイリオ"/>
                  <a:ea typeface="メイリオ"/>
                </a:rPr>
                <a:t>角丸</a:t>
              </a:r>
              <a:r>
                <a:rPr b="0" lang="en-US" sz="900" spc="-1" strike="noStrike">
                  <a:solidFill>
                    <a:srgbClr val="ff0000"/>
                  </a:solidFill>
                  <a:latin typeface="メイリオ"/>
                  <a:ea typeface="メイリオ"/>
                </a:rPr>
                <a:t>)</a:t>
              </a:r>
              <a:r>
                <a:rPr b="0" lang="ja-JP" sz="900" spc="-1" strike="noStrike">
                  <a:solidFill>
                    <a:srgbClr val="ff0000"/>
                  </a:solidFill>
                  <a:latin typeface="メイリオ"/>
                  <a:ea typeface="メイリオ"/>
                </a:rPr>
                <a:t>になります↘</a:t>
              </a:r>
              <a:endParaRPr b="0" lang="en-US" sz="900" spc="-1" strike="noStrike">
                <a:solidFill>
                  <a:srgbClr val="000000"/>
                </a:solidFill>
                <a:latin typeface="Calibri"/>
              </a:endParaRPr>
            </a:p>
          </p:txBody>
        </p:sp>
        <p:sp>
          <p:nvSpPr>
            <p:cNvPr id="50" name="円/楕円 46"/>
            <p:cNvSpPr/>
            <p:nvPr/>
          </p:nvSpPr>
          <p:spPr>
            <a:xfrm>
              <a:off x="5769000" y="60120"/>
              <a:ext cx="207720" cy="199800"/>
            </a:xfrm>
            <a:prstGeom prst="ellipse">
              <a:avLst/>
            </a:prstGeom>
            <a:noFill/>
            <a:ln w="9360">
              <a:solidFill>
                <a:srgbClr val="c55a11"/>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1" name="角丸四角形 47"/>
            <p:cNvSpPr/>
            <p:nvPr/>
          </p:nvSpPr>
          <p:spPr>
            <a:xfrm>
              <a:off x="4062240" y="-746280"/>
              <a:ext cx="2718000" cy="1030320"/>
            </a:xfrm>
            <a:prstGeom prst="roundRect">
              <a:avLst>
                <a:gd name="adj" fmla="val 7218"/>
              </a:avLst>
            </a:prstGeom>
            <a:noFill/>
            <a:ln w="9360">
              <a:solidFill>
                <a:srgbClr val="c55a11"/>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grpSp>
      <p:sp>
        <p:nvSpPr>
          <p:cNvPr id="52" name="右カーブ矢印 48"/>
          <p:cNvSpPr/>
          <p:nvPr/>
        </p:nvSpPr>
        <p:spPr>
          <a:xfrm flipH="1" rot="15175200">
            <a:off x="3631320" y="-501840"/>
            <a:ext cx="296640" cy="958680"/>
          </a:xfrm>
          <a:custGeom>
            <a:avLst/>
            <a:gdLst>
              <a:gd name="textAreaLeft" fmla="*/ 39600 w 296640"/>
              <a:gd name="textAreaRight" fmla="*/ 257040 w 296640"/>
              <a:gd name="textAreaTop" fmla="*/ 198720 h 958680"/>
              <a:gd name="textAreaBottom" fmla="*/ 670320 h 958680"/>
            </a:gdLst>
            <a:ahLst/>
            <a:rect l="textAreaLeft" t="textAreaTop" r="textAreaRight" b="textAreaBottom"/>
            <a:pathLst>
              <a:path w="21600" h="21600">
                <a:moveTo>
                  <a:pt x="21600" y="0"/>
                </a:moveTo>
                <a:arcTo wR="21600" hR="8952" stAng="-5400000" swAng="-5400000"/>
                <a:lnTo>
                  <a:pt x="0" y="10623"/>
                </a:lnTo>
                <a:arcTo wR="21600" hR="8952" stAng="10800000" swAng="-3484539"/>
                <a:lnTo>
                  <a:pt x="16200" y="21316"/>
                </a:lnTo>
                <a:lnTo>
                  <a:pt x="21600" y="18739"/>
                </a:lnTo>
                <a:lnTo>
                  <a:pt x="16200" y="15593"/>
                </a:lnTo>
                <a:lnTo>
                  <a:pt x="16200" y="17619"/>
                </a:lnTo>
                <a:arcTo wR="21600" hR="8952" stAng="7315461" swAng="3351050"/>
                <a:lnTo>
                  <a:pt x="94" y="9787"/>
                </a:lnTo>
                <a:arcTo wR="21600" hR="8952" stAng="-10666510" swAng="5266510"/>
                <a:close/>
              </a:path>
              <a:path fill="darkenLess" w="21600" h="21600">
                <a:moveTo>
                  <a:pt x="21600" y="0"/>
                </a:moveTo>
                <a:arcTo wR="21600" hR="8952" stAng="-5400000" swAng="-5400000"/>
                <a:lnTo>
                  <a:pt x="0" y="8952"/>
                </a:lnTo>
                <a:arcTo wR="21600" hR="8952" stAng="10800000" swAng="-133490"/>
                <a:lnTo>
                  <a:pt x="94" y="9787"/>
                </a:lnTo>
                <a:arcTo wR="21600" hR="8952" stAng="-10666510" swAng="5266510"/>
                <a:close/>
              </a:path>
            </a:pathLst>
          </a:custGeom>
          <a:solidFill>
            <a:srgbClr val="c55a11"/>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3" name="正方形/長方形 16"/>
          <p:cNvSpPr/>
          <p:nvPr/>
        </p:nvSpPr>
        <p:spPr>
          <a:xfrm>
            <a:off x="349200" y="349200"/>
            <a:ext cx="2484360" cy="33847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4" name="Text Box 4"/>
          <p:cNvSpPr/>
          <p:nvPr/>
        </p:nvSpPr>
        <p:spPr>
          <a:xfrm>
            <a:off x="0" y="4103640"/>
            <a:ext cx="7862760" cy="503280"/>
          </a:xfrm>
          <a:prstGeom prst="rect">
            <a:avLst/>
          </a:prstGeom>
          <a:solidFill>
            <a:srgbClr val="fff2cc"/>
          </a:solidFill>
          <a:ln w="0">
            <a:noFill/>
          </a:ln>
        </p:spPr>
        <p:style>
          <a:lnRef idx="0"/>
          <a:fillRef idx="0"/>
          <a:effectRef idx="0"/>
          <a:fontRef idx="minor"/>
        </p:style>
        <p:txBody>
          <a:bodyPr lIns="72720" rIns="72720" tIns="8640" bIns="8640" anchor="t">
            <a:noAutofit/>
          </a:bodyPr>
          <a:p>
            <a:pPr algn="just">
              <a:lnSpc>
                <a:spcPct val="100000"/>
              </a:lnSpc>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endParaRPr b="0" lang="en-US" sz="200" spc="-1" strike="noStrike">
              <a:solidFill>
                <a:srgbClr val="000000"/>
              </a:solidFill>
              <a:latin typeface="Calibri"/>
            </a:endParaRPr>
          </a:p>
          <a:p>
            <a:pPr algn="just">
              <a:lnSpc>
                <a:spcPct val="100000"/>
              </a:lnSpc>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endParaRPr b="0" lang="en-US" sz="200" spc="-1" strike="noStrike">
              <a:solidFill>
                <a:srgbClr val="000000"/>
              </a:solidFill>
              <a:latin typeface="Calibri"/>
            </a:endParaRPr>
          </a:p>
          <a:p>
            <a:pPr algn="just">
              <a:lnSpc>
                <a:spcPct val="100000"/>
              </a:lnSpc>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0" lang="en-US" sz="1000" spc="-1" strike="noStrike">
                <a:solidFill>
                  <a:srgbClr val="000000"/>
                </a:solidFill>
                <a:latin typeface="メイリオ"/>
                <a:ea typeface="メイリオ"/>
              </a:rPr>
              <a:t>◎</a:t>
            </a:r>
            <a:r>
              <a:rPr b="0" lang="ja-JP" sz="1000" spc="-1" strike="noStrike">
                <a:solidFill>
                  <a:srgbClr val="000000"/>
                </a:solidFill>
                <a:latin typeface="メイリオ"/>
                <a:ea typeface="メイリオ"/>
              </a:rPr>
              <a:t>デザインテンプレを重ねた後、更に画像の配置やサイズを微調整したい場合「ホーム」タブ▶ 「編集」タブの</a:t>
            </a:r>
            <a:endParaRPr b="0" lang="en-US" sz="1000" spc="-1" strike="noStrike">
              <a:solidFill>
                <a:srgbClr val="000000"/>
              </a:solidFill>
              <a:latin typeface="Calibri"/>
            </a:endParaRPr>
          </a:p>
          <a:p>
            <a:pPr algn="just">
              <a:lnSpc>
                <a:spcPct val="100000"/>
              </a:lnSpc>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0" lang="ja-JP" sz="1000" spc="-1" strike="noStrike">
                <a:solidFill>
                  <a:srgbClr val="000000"/>
                </a:solidFill>
                <a:latin typeface="メイリオ"/>
                <a:ea typeface="メイリオ"/>
              </a:rPr>
              <a:t> </a:t>
            </a:r>
            <a:r>
              <a:rPr b="0" lang="ja-JP" sz="1000" spc="-1" strike="noStrike">
                <a:solidFill>
                  <a:srgbClr val="000000"/>
                </a:solidFill>
                <a:latin typeface="メイリオ"/>
                <a:ea typeface="メイリオ"/>
              </a:rPr>
              <a:t>「選択」▶「オブジェクトの選択と表示</a:t>
            </a:r>
            <a:r>
              <a:rPr b="0" lang="en-US" sz="1000" spc="-1" strike="noStrike">
                <a:solidFill>
                  <a:srgbClr val="000000"/>
                </a:solidFill>
                <a:latin typeface="メイリオ"/>
                <a:ea typeface="メイリオ"/>
              </a:rPr>
              <a:t>(P)</a:t>
            </a:r>
            <a:r>
              <a:rPr b="0" lang="ja-JP" sz="1000" spc="-1" strike="noStrike">
                <a:solidFill>
                  <a:srgbClr val="000000"/>
                </a:solidFill>
                <a:latin typeface="メイリオ"/>
                <a:ea typeface="メイリオ"/>
              </a:rPr>
              <a:t>」を選択します。編集したい画像にカーソルをあてて調整できます。</a:t>
            </a:r>
            <a:endParaRPr b="0" lang="en-US" sz="1000" spc="-1" strike="noStrike">
              <a:solidFill>
                <a:srgbClr val="000000"/>
              </a:solidFill>
              <a:latin typeface="Calibri"/>
            </a:endParaRPr>
          </a:p>
        </p:txBody>
      </p:sp>
      <p:sp>
        <p:nvSpPr>
          <p:cNvPr id="55" name="テキスト ボックス 18"/>
          <p:cNvSpPr/>
          <p:nvPr/>
        </p:nvSpPr>
        <p:spPr>
          <a:xfrm>
            <a:off x="811080" y="-1498680"/>
            <a:ext cx="6897960" cy="698760"/>
          </a:xfrm>
          <a:prstGeom prst="rect">
            <a:avLst/>
          </a:prstGeom>
          <a:noFill/>
          <a:ln w="0">
            <a:noFill/>
          </a:ln>
        </p:spPr>
        <p:style>
          <a:lnRef idx="0"/>
          <a:fillRef idx="0"/>
          <a:effectRef idx="0"/>
          <a:fontRef idx="minor"/>
        </p:style>
        <p:txBody>
          <a:bodyPr lIns="89280" rIns="89280" tIns="44640" bIns="4464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メイリオ"/>
                <a:ea typeface="メイリオ"/>
              </a:rPr>
              <a:t>1.</a:t>
            </a:r>
            <a:r>
              <a:rPr b="1" lang="ja-JP" sz="1000" spc="-1" strike="noStrike">
                <a:solidFill>
                  <a:srgbClr val="000000"/>
                </a:solidFill>
                <a:latin typeface="メイリオ"/>
                <a:ea typeface="メイリオ"/>
              </a:rPr>
              <a:t>画像を貼る ・・・・・・ </a:t>
            </a:r>
            <a:r>
              <a:rPr b="0" lang="ja-JP" sz="1000" spc="-1" strike="noStrike">
                <a:solidFill>
                  <a:srgbClr val="000000"/>
                </a:solidFill>
                <a:latin typeface="メイリオ"/>
                <a:ea typeface="メイリオ"/>
              </a:rPr>
              <a:t>画像アイコンをクリックして入れたい画像を追加しサイズ調整します</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メイリオ"/>
                <a:ea typeface="メイリオ"/>
              </a:rPr>
              <a:t>2.</a:t>
            </a:r>
            <a:r>
              <a:rPr b="1" lang="ja-JP" sz="1000" spc="-1" strike="noStrike">
                <a:solidFill>
                  <a:srgbClr val="000000"/>
                </a:solidFill>
                <a:latin typeface="メイリオ"/>
                <a:ea typeface="メイリオ"/>
              </a:rPr>
              <a:t>フレームを重ねる・・・ </a:t>
            </a:r>
            <a:r>
              <a:rPr b="0" lang="ja-JP" sz="1000" spc="-1" strike="noStrike">
                <a:solidFill>
                  <a:srgbClr val="000000"/>
                </a:solidFill>
                <a:latin typeface="メイリオ"/>
                <a:ea typeface="メイリオ"/>
              </a:rPr>
              <a:t>右のデザインテンプレを画像の上に重ねます</a:t>
            </a:r>
            <a:r>
              <a:rPr b="0" lang="en-US" sz="1000" spc="-1" strike="noStrike">
                <a:solidFill>
                  <a:srgbClr val="000000"/>
                </a:solidFill>
                <a:latin typeface="メイリオ"/>
                <a:ea typeface="メイリオ"/>
              </a:rPr>
              <a: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メイリオ"/>
                <a:ea typeface="メイリオ"/>
              </a:rPr>
              <a:t>3.PDF</a:t>
            </a:r>
            <a:r>
              <a:rPr b="1" lang="ja-JP" sz="1000" spc="-1" strike="noStrike">
                <a:solidFill>
                  <a:srgbClr val="000000"/>
                </a:solidFill>
                <a:latin typeface="メイリオ"/>
                <a:ea typeface="メイリオ"/>
              </a:rPr>
              <a:t>で保存をする</a:t>
            </a:r>
            <a:r>
              <a:rPr b="0" lang="ja-JP" sz="1000" spc="-1" strike="noStrike">
                <a:solidFill>
                  <a:srgbClr val="000000"/>
                </a:solidFill>
                <a:latin typeface="メイリオ"/>
                <a:ea typeface="メイリオ"/>
              </a:rPr>
              <a:t>・・・「ファイル」タブ▶「名前を付けて保存</a:t>
            </a:r>
            <a:r>
              <a:rPr b="0" lang="en-US" sz="1000" spc="-1" strike="noStrike">
                <a:solidFill>
                  <a:srgbClr val="000000"/>
                </a:solidFill>
                <a:latin typeface="メイリオ"/>
                <a:ea typeface="メイリオ"/>
              </a:rPr>
              <a:t>(A)</a:t>
            </a:r>
            <a:r>
              <a:rPr b="0" lang="ja-JP" sz="1000" spc="-1" strike="noStrike">
                <a:solidFill>
                  <a:srgbClr val="000000"/>
                </a:solidFill>
                <a:latin typeface="メイリオ"/>
                <a:ea typeface="メイリオ"/>
              </a:rPr>
              <a:t>」▶ファイルの種類</a:t>
            </a:r>
            <a:r>
              <a:rPr b="0" lang="en-US" sz="1000" spc="-1" strike="noStrike">
                <a:solidFill>
                  <a:srgbClr val="000000"/>
                </a:solidFill>
                <a:latin typeface="メイリオ"/>
                <a:ea typeface="メイリオ"/>
              </a:rPr>
              <a:t>(T)</a:t>
            </a:r>
            <a:r>
              <a:rPr b="0" lang="ja-JP" sz="1000" spc="-1" strike="noStrike">
                <a:solidFill>
                  <a:srgbClr val="000000"/>
                </a:solidFill>
                <a:latin typeface="メイリオ"/>
                <a:ea typeface="メイリオ"/>
              </a:rPr>
              <a:t>で</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000" spc="-1" strike="noStrike">
                <a:solidFill>
                  <a:srgbClr val="000000"/>
                </a:solidFill>
                <a:latin typeface="メイリオ"/>
                <a:ea typeface="メイリオ"/>
              </a:rPr>
              <a:t>　　　　　　　　　　　　 「</a:t>
            </a:r>
            <a:r>
              <a:rPr b="0" lang="en-US" sz="1000" spc="-1" strike="noStrike">
                <a:solidFill>
                  <a:srgbClr val="000000"/>
                </a:solidFill>
                <a:latin typeface="メイリオ"/>
                <a:ea typeface="メイリオ"/>
              </a:rPr>
              <a:t>PDF(*.PDF )</a:t>
            </a:r>
            <a:r>
              <a:rPr b="0" lang="ja-JP" sz="1000" spc="-1" strike="noStrike">
                <a:solidFill>
                  <a:srgbClr val="000000"/>
                </a:solidFill>
                <a:latin typeface="メイリオ"/>
                <a:ea typeface="メイリオ"/>
              </a:rPr>
              <a:t>」を選んで保存します</a:t>
            </a:r>
            <a:endParaRPr b="0" lang="en-US" sz="1000" spc="-1" strike="noStrike">
              <a:solidFill>
                <a:srgbClr val="000000"/>
              </a:solidFill>
              <a:latin typeface="Calibri"/>
            </a:endParaRPr>
          </a:p>
        </p:txBody>
      </p:sp>
      <p:grpSp>
        <p:nvGrpSpPr>
          <p:cNvPr id="56" name="グループ化 21"/>
          <p:cNvGrpSpPr/>
          <p:nvPr/>
        </p:nvGrpSpPr>
        <p:grpSpPr>
          <a:xfrm>
            <a:off x="0" y="0"/>
            <a:ext cx="3182760" cy="4083120"/>
            <a:chOff x="0" y="0"/>
            <a:chExt cx="3182760" cy="4083120"/>
          </a:xfrm>
        </p:grpSpPr>
        <p:grpSp>
          <p:nvGrpSpPr>
            <p:cNvPr id="57" name="object 2"/>
            <p:cNvGrpSpPr/>
            <p:nvPr/>
          </p:nvGrpSpPr>
          <p:grpSpPr>
            <a:xfrm>
              <a:off x="23040" y="3624120"/>
              <a:ext cx="436320" cy="436320"/>
              <a:chOff x="23040" y="3624120"/>
              <a:chExt cx="436320" cy="436320"/>
            </a:xfrm>
          </p:grpSpPr>
          <p:sp>
            <p:nvSpPr>
              <p:cNvPr id="58" name="object 3"/>
              <p:cNvSpPr/>
              <p:nvPr/>
            </p:nvSpPr>
            <p:spPr>
              <a:xfrm>
                <a:off x="23040" y="3624120"/>
                <a:ext cx="327600" cy="436320"/>
              </a:xfrm>
              <a:custGeom>
                <a:avLst/>
                <a:gdLst/>
                <a:ahLst/>
                <a:rect l="l" t="t" r="r" b="b"/>
                <a:pathLst>
                  <a:path w="324485" h="432435">
                    <a:moveTo>
                      <a:pt x="0" y="0"/>
                    </a:moveTo>
                    <a:lnTo>
                      <a:pt x="324002" y="0"/>
                    </a:lnTo>
                    <a:lnTo>
                      <a:pt x="324002" y="432003"/>
                    </a:lnTo>
                  </a:path>
                </a:pathLst>
              </a:custGeom>
              <a:noFill/>
              <a:ln w="3960">
                <a:solidFill>
                  <a:srgbClr val="000000"/>
                </a:solidFill>
                <a:round/>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59" name="object 4"/>
              <p:cNvSpPr/>
              <p:nvPr/>
            </p:nvSpPr>
            <p:spPr>
              <a:xfrm>
                <a:off x="23040" y="3732840"/>
                <a:ext cx="436320" cy="327600"/>
              </a:xfrm>
              <a:custGeom>
                <a:avLst/>
                <a:gdLst/>
                <a:ahLst/>
                <a:rect l="l" t="t" r="r" b="b"/>
                <a:pathLst>
                  <a:path w="432434" h="324485">
                    <a:moveTo>
                      <a:pt x="432003" y="324002"/>
                    </a:moveTo>
                    <a:lnTo>
                      <a:pt x="432003" y="0"/>
                    </a:lnTo>
                    <a:lnTo>
                      <a:pt x="0" y="0"/>
                    </a:lnTo>
                  </a:path>
                </a:pathLst>
              </a:custGeom>
              <a:noFill/>
              <a:ln w="3960">
                <a:solidFill>
                  <a:srgbClr val="000000"/>
                </a:solidFill>
                <a:round/>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grpSp>
        <p:grpSp>
          <p:nvGrpSpPr>
            <p:cNvPr id="60" name="object 5"/>
            <p:cNvGrpSpPr/>
            <p:nvPr/>
          </p:nvGrpSpPr>
          <p:grpSpPr>
            <a:xfrm>
              <a:off x="23040" y="23040"/>
              <a:ext cx="436320" cy="436320"/>
              <a:chOff x="23040" y="23040"/>
              <a:chExt cx="436320" cy="436320"/>
            </a:xfrm>
          </p:grpSpPr>
          <p:sp>
            <p:nvSpPr>
              <p:cNvPr id="61" name="object 6"/>
              <p:cNvSpPr/>
              <p:nvPr/>
            </p:nvSpPr>
            <p:spPr>
              <a:xfrm>
                <a:off x="23040" y="23040"/>
                <a:ext cx="327600" cy="436320"/>
              </a:xfrm>
              <a:custGeom>
                <a:avLst/>
                <a:gdLst/>
                <a:ahLst/>
                <a:rect l="l" t="t" r="r" b="b"/>
                <a:pathLst>
                  <a:path w="324485" h="432434">
                    <a:moveTo>
                      <a:pt x="0" y="432003"/>
                    </a:moveTo>
                    <a:lnTo>
                      <a:pt x="324002" y="432003"/>
                    </a:lnTo>
                    <a:lnTo>
                      <a:pt x="324002" y="0"/>
                    </a:lnTo>
                  </a:path>
                </a:pathLst>
              </a:custGeom>
              <a:noFill/>
              <a:ln w="3960">
                <a:solidFill>
                  <a:srgbClr val="000000"/>
                </a:solidFill>
                <a:round/>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62" name="object 7"/>
              <p:cNvSpPr/>
              <p:nvPr/>
            </p:nvSpPr>
            <p:spPr>
              <a:xfrm>
                <a:off x="23040" y="23040"/>
                <a:ext cx="436320" cy="327600"/>
              </a:xfrm>
              <a:custGeom>
                <a:avLst/>
                <a:gdLst/>
                <a:ahLst/>
                <a:rect l="l" t="t" r="r" b="b"/>
                <a:pathLst>
                  <a:path w="432434" h="324485">
                    <a:moveTo>
                      <a:pt x="432003" y="0"/>
                    </a:moveTo>
                    <a:lnTo>
                      <a:pt x="432003" y="324002"/>
                    </a:lnTo>
                    <a:lnTo>
                      <a:pt x="0" y="324002"/>
                    </a:lnTo>
                  </a:path>
                </a:pathLst>
              </a:custGeom>
              <a:noFill/>
              <a:ln w="3960">
                <a:solidFill>
                  <a:srgbClr val="000000"/>
                </a:solidFill>
                <a:round/>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grpSp>
        <p:grpSp>
          <p:nvGrpSpPr>
            <p:cNvPr id="63" name="object 8"/>
            <p:cNvGrpSpPr/>
            <p:nvPr/>
          </p:nvGrpSpPr>
          <p:grpSpPr>
            <a:xfrm>
              <a:off x="2723760" y="23040"/>
              <a:ext cx="436320" cy="436320"/>
              <a:chOff x="2723760" y="23040"/>
              <a:chExt cx="436320" cy="436320"/>
            </a:xfrm>
          </p:grpSpPr>
          <p:sp>
            <p:nvSpPr>
              <p:cNvPr id="64" name="object 9"/>
              <p:cNvSpPr/>
              <p:nvPr/>
            </p:nvSpPr>
            <p:spPr>
              <a:xfrm>
                <a:off x="2832480" y="23040"/>
                <a:ext cx="327600" cy="436320"/>
              </a:xfrm>
              <a:custGeom>
                <a:avLst/>
                <a:gdLst/>
                <a:ahLst/>
                <a:rect l="l" t="t" r="r" b="b"/>
                <a:pathLst>
                  <a:path w="324485" h="432434">
                    <a:moveTo>
                      <a:pt x="324002" y="432003"/>
                    </a:moveTo>
                    <a:lnTo>
                      <a:pt x="0" y="432003"/>
                    </a:lnTo>
                    <a:lnTo>
                      <a:pt x="0" y="0"/>
                    </a:lnTo>
                  </a:path>
                </a:pathLst>
              </a:custGeom>
              <a:noFill/>
              <a:ln w="3960">
                <a:solidFill>
                  <a:srgbClr val="000000"/>
                </a:solidFill>
                <a:round/>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65" name="object 10"/>
              <p:cNvSpPr/>
              <p:nvPr/>
            </p:nvSpPr>
            <p:spPr>
              <a:xfrm>
                <a:off x="2723760" y="23040"/>
                <a:ext cx="436320" cy="327600"/>
              </a:xfrm>
              <a:custGeom>
                <a:avLst/>
                <a:gdLst/>
                <a:ahLst/>
                <a:rect l="l" t="t" r="r" b="b"/>
                <a:pathLst>
                  <a:path w="432435" h="324485">
                    <a:moveTo>
                      <a:pt x="0" y="0"/>
                    </a:moveTo>
                    <a:lnTo>
                      <a:pt x="0" y="324002"/>
                    </a:lnTo>
                    <a:lnTo>
                      <a:pt x="432003" y="324002"/>
                    </a:lnTo>
                  </a:path>
                </a:pathLst>
              </a:custGeom>
              <a:noFill/>
              <a:ln w="3960">
                <a:solidFill>
                  <a:srgbClr val="000000"/>
                </a:solidFill>
                <a:round/>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grpSp>
        <p:grpSp>
          <p:nvGrpSpPr>
            <p:cNvPr id="66" name="object 11"/>
            <p:cNvGrpSpPr/>
            <p:nvPr/>
          </p:nvGrpSpPr>
          <p:grpSpPr>
            <a:xfrm>
              <a:off x="2723760" y="3624120"/>
              <a:ext cx="436320" cy="436320"/>
              <a:chOff x="2723760" y="3624120"/>
              <a:chExt cx="436320" cy="436320"/>
            </a:xfrm>
          </p:grpSpPr>
          <p:sp>
            <p:nvSpPr>
              <p:cNvPr id="67" name="object 12"/>
              <p:cNvSpPr/>
              <p:nvPr/>
            </p:nvSpPr>
            <p:spPr>
              <a:xfrm>
                <a:off x="2832480" y="3624120"/>
                <a:ext cx="327600" cy="436320"/>
              </a:xfrm>
              <a:custGeom>
                <a:avLst/>
                <a:gdLst/>
                <a:ahLst/>
                <a:rect l="l" t="t" r="r" b="b"/>
                <a:pathLst>
                  <a:path w="324485" h="432435">
                    <a:moveTo>
                      <a:pt x="324002" y="0"/>
                    </a:moveTo>
                    <a:lnTo>
                      <a:pt x="0" y="0"/>
                    </a:lnTo>
                    <a:lnTo>
                      <a:pt x="0" y="432003"/>
                    </a:lnTo>
                  </a:path>
                </a:pathLst>
              </a:custGeom>
              <a:noFill/>
              <a:ln w="3960">
                <a:solidFill>
                  <a:srgbClr val="000000"/>
                </a:solidFill>
                <a:round/>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68" name="object 13"/>
              <p:cNvSpPr/>
              <p:nvPr/>
            </p:nvSpPr>
            <p:spPr>
              <a:xfrm>
                <a:off x="2723760" y="3732840"/>
                <a:ext cx="436320" cy="327600"/>
              </a:xfrm>
              <a:custGeom>
                <a:avLst/>
                <a:gdLst/>
                <a:ahLst/>
                <a:rect l="l" t="t" r="r" b="b"/>
                <a:pathLst>
                  <a:path w="432435" h="324485">
                    <a:moveTo>
                      <a:pt x="0" y="324002"/>
                    </a:moveTo>
                    <a:lnTo>
                      <a:pt x="0" y="0"/>
                    </a:lnTo>
                    <a:lnTo>
                      <a:pt x="432003" y="0"/>
                    </a:lnTo>
                  </a:path>
                </a:pathLst>
              </a:custGeom>
              <a:noFill/>
              <a:ln w="3960">
                <a:solidFill>
                  <a:srgbClr val="000000"/>
                </a:solidFill>
                <a:round/>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grpSp>
        <p:grpSp>
          <p:nvGrpSpPr>
            <p:cNvPr id="69" name="object 14"/>
            <p:cNvGrpSpPr/>
            <p:nvPr/>
          </p:nvGrpSpPr>
          <p:grpSpPr>
            <a:xfrm>
              <a:off x="0" y="1584360"/>
              <a:ext cx="304560" cy="914400"/>
              <a:chOff x="0" y="1584360"/>
              <a:chExt cx="304560" cy="914400"/>
            </a:xfrm>
          </p:grpSpPr>
          <p:sp>
            <p:nvSpPr>
              <p:cNvPr id="70" name="object 15"/>
              <p:cNvSpPr/>
              <p:nvPr/>
            </p:nvSpPr>
            <p:spPr>
              <a:xfrm>
                <a:off x="0" y="2041560"/>
                <a:ext cx="304560" cy="360"/>
              </a:xfrm>
              <a:custGeom>
                <a:avLst/>
                <a:gdLst/>
                <a:ahLst/>
                <a:rect l="l" t="t" r="r" b="b"/>
                <a:pathLst>
                  <a:path w="304800" h="0">
                    <a:moveTo>
                      <a:pt x="0" y="0"/>
                    </a:moveTo>
                    <a:lnTo>
                      <a:pt x="304800" y="0"/>
                    </a:lnTo>
                  </a:path>
                </a:pathLst>
              </a:custGeom>
              <a:noFill/>
              <a:ln w="3960">
                <a:solidFill>
                  <a:srgbClr val="000000"/>
                </a:solidFill>
                <a:round/>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71" name="object 16"/>
              <p:cNvSpPr/>
              <p:nvPr/>
            </p:nvSpPr>
            <p:spPr>
              <a:xfrm>
                <a:off x="228600" y="1584360"/>
                <a:ext cx="360" cy="914400"/>
              </a:xfrm>
              <a:custGeom>
                <a:avLst/>
                <a:gdLst/>
                <a:ahLst/>
                <a:rect l="l" t="t" r="r" b="b"/>
                <a:pathLst>
                  <a:path w="0" h="914400">
                    <a:moveTo>
                      <a:pt x="0" y="0"/>
                    </a:moveTo>
                    <a:lnTo>
                      <a:pt x="0" y="914400"/>
                    </a:lnTo>
                  </a:path>
                </a:pathLst>
              </a:custGeom>
              <a:noFill/>
              <a:ln w="3960">
                <a:solidFill>
                  <a:srgbClr val="000000"/>
                </a:solidFill>
                <a:round/>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grpSp>
        <p:grpSp>
          <p:nvGrpSpPr>
            <p:cNvPr id="72" name="object 17"/>
            <p:cNvGrpSpPr/>
            <p:nvPr/>
          </p:nvGrpSpPr>
          <p:grpSpPr>
            <a:xfrm>
              <a:off x="2878200" y="1584360"/>
              <a:ext cx="304560" cy="914400"/>
              <a:chOff x="2878200" y="1584360"/>
              <a:chExt cx="304560" cy="914400"/>
            </a:xfrm>
          </p:grpSpPr>
          <p:sp>
            <p:nvSpPr>
              <p:cNvPr id="73" name="object 18"/>
              <p:cNvSpPr/>
              <p:nvPr/>
            </p:nvSpPr>
            <p:spPr>
              <a:xfrm>
                <a:off x="2878200" y="2041560"/>
                <a:ext cx="304560" cy="360"/>
              </a:xfrm>
              <a:custGeom>
                <a:avLst/>
                <a:gdLst/>
                <a:ahLst/>
                <a:rect l="l" t="t" r="r" b="b"/>
                <a:pathLst>
                  <a:path w="304800" h="0">
                    <a:moveTo>
                      <a:pt x="304800" y="0"/>
                    </a:moveTo>
                    <a:lnTo>
                      <a:pt x="0" y="0"/>
                    </a:lnTo>
                  </a:path>
                </a:pathLst>
              </a:custGeom>
              <a:noFill/>
              <a:ln w="3960">
                <a:solidFill>
                  <a:srgbClr val="000000"/>
                </a:solidFill>
                <a:round/>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74" name="object 19"/>
              <p:cNvSpPr/>
              <p:nvPr/>
            </p:nvSpPr>
            <p:spPr>
              <a:xfrm>
                <a:off x="2954160" y="1584360"/>
                <a:ext cx="360" cy="914400"/>
              </a:xfrm>
              <a:custGeom>
                <a:avLst/>
                <a:gdLst/>
                <a:ahLst/>
                <a:rect l="l" t="t" r="r" b="b"/>
                <a:pathLst>
                  <a:path w="0" h="914400">
                    <a:moveTo>
                      <a:pt x="0" y="914400"/>
                    </a:moveTo>
                    <a:lnTo>
                      <a:pt x="0" y="0"/>
                    </a:lnTo>
                  </a:path>
                </a:pathLst>
              </a:custGeom>
              <a:noFill/>
              <a:ln w="3960">
                <a:solidFill>
                  <a:srgbClr val="000000"/>
                </a:solidFill>
                <a:round/>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grpSp>
        <p:grpSp>
          <p:nvGrpSpPr>
            <p:cNvPr id="75" name="object 20"/>
            <p:cNvGrpSpPr/>
            <p:nvPr/>
          </p:nvGrpSpPr>
          <p:grpSpPr>
            <a:xfrm>
              <a:off x="1134000" y="0"/>
              <a:ext cx="914400" cy="304560"/>
              <a:chOff x="1134000" y="0"/>
              <a:chExt cx="914400" cy="304560"/>
            </a:xfrm>
          </p:grpSpPr>
          <p:sp>
            <p:nvSpPr>
              <p:cNvPr id="76" name="object 21"/>
              <p:cNvSpPr/>
              <p:nvPr/>
            </p:nvSpPr>
            <p:spPr>
              <a:xfrm>
                <a:off x="1134000" y="228600"/>
                <a:ext cx="914400" cy="360"/>
              </a:xfrm>
              <a:custGeom>
                <a:avLst/>
                <a:gdLst/>
                <a:ahLst/>
                <a:rect l="l" t="t" r="r" b="b"/>
                <a:pathLst>
                  <a:path w="914400" h="0">
                    <a:moveTo>
                      <a:pt x="0" y="0"/>
                    </a:moveTo>
                    <a:lnTo>
                      <a:pt x="914400" y="0"/>
                    </a:lnTo>
                  </a:path>
                </a:pathLst>
              </a:custGeom>
              <a:noFill/>
              <a:ln w="3960">
                <a:solidFill>
                  <a:srgbClr val="000000"/>
                </a:solidFill>
                <a:round/>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77" name="object 22"/>
              <p:cNvSpPr/>
              <p:nvPr/>
            </p:nvSpPr>
            <p:spPr>
              <a:xfrm>
                <a:off x="1591200" y="0"/>
                <a:ext cx="360" cy="304560"/>
              </a:xfrm>
              <a:custGeom>
                <a:avLst/>
                <a:gdLst/>
                <a:ahLst/>
                <a:rect l="l" t="t" r="r" b="b"/>
                <a:pathLst>
                  <a:path w="0" h="304800">
                    <a:moveTo>
                      <a:pt x="0" y="0"/>
                    </a:moveTo>
                    <a:lnTo>
                      <a:pt x="0" y="304800"/>
                    </a:lnTo>
                  </a:path>
                </a:pathLst>
              </a:custGeom>
              <a:noFill/>
              <a:ln w="3960">
                <a:solidFill>
                  <a:srgbClr val="000000"/>
                </a:solidFill>
                <a:round/>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grpSp>
        <p:grpSp>
          <p:nvGrpSpPr>
            <p:cNvPr id="78" name="object 23"/>
            <p:cNvGrpSpPr/>
            <p:nvPr/>
          </p:nvGrpSpPr>
          <p:grpSpPr>
            <a:xfrm>
              <a:off x="1134000" y="3778560"/>
              <a:ext cx="914400" cy="304560"/>
              <a:chOff x="1134000" y="3778560"/>
              <a:chExt cx="914400" cy="304560"/>
            </a:xfrm>
          </p:grpSpPr>
          <p:sp>
            <p:nvSpPr>
              <p:cNvPr id="79" name="object 24"/>
              <p:cNvSpPr/>
              <p:nvPr/>
            </p:nvSpPr>
            <p:spPr>
              <a:xfrm>
                <a:off x="1134000" y="3854520"/>
                <a:ext cx="914400" cy="360"/>
              </a:xfrm>
              <a:custGeom>
                <a:avLst/>
                <a:gdLst/>
                <a:ahLst/>
                <a:rect l="l" t="t" r="r" b="b"/>
                <a:pathLst>
                  <a:path w="914400" h="0">
                    <a:moveTo>
                      <a:pt x="914400" y="0"/>
                    </a:moveTo>
                    <a:lnTo>
                      <a:pt x="0" y="0"/>
                    </a:lnTo>
                  </a:path>
                </a:pathLst>
              </a:custGeom>
              <a:noFill/>
              <a:ln w="3960">
                <a:solidFill>
                  <a:srgbClr val="000000"/>
                </a:solidFill>
                <a:round/>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80" name="object 25"/>
              <p:cNvSpPr/>
              <p:nvPr/>
            </p:nvSpPr>
            <p:spPr>
              <a:xfrm>
                <a:off x="1591200" y="3778560"/>
                <a:ext cx="360" cy="304560"/>
              </a:xfrm>
              <a:custGeom>
                <a:avLst/>
                <a:gdLst/>
                <a:ahLst/>
                <a:rect l="l" t="t" r="r" b="b"/>
                <a:pathLst>
                  <a:path w="0" h="304800">
                    <a:moveTo>
                      <a:pt x="0" y="304800"/>
                    </a:moveTo>
                    <a:lnTo>
                      <a:pt x="0" y="0"/>
                    </a:lnTo>
                  </a:path>
                </a:pathLst>
              </a:custGeom>
              <a:noFill/>
              <a:ln w="3960">
                <a:solidFill>
                  <a:srgbClr val="000000"/>
                </a:solidFill>
                <a:round/>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grpSp>
      </p:grpSp>
      <p:sp>
        <p:nvSpPr>
          <p:cNvPr id="81" name="PlaceHolder 1"/>
          <p:cNvSpPr>
            <a:spLocks noGrp="1"/>
          </p:cNvSpPr>
          <p:nvPr>
            <p:ph type="title"/>
          </p:nvPr>
        </p:nvSpPr>
        <p:spPr>
          <a:xfrm>
            <a:off x="219240" y="217440"/>
            <a:ext cx="2744640" cy="789120"/>
          </a:xfrm>
          <a:prstGeom prst="rect">
            <a:avLst/>
          </a:prstGeom>
          <a:noFill/>
          <a:ln w="0">
            <a:noFill/>
          </a:ln>
        </p:spPr>
        <p:txBody>
          <a:bodyPr lIns="90000" rIns="90000" tIns="46800" bIns="46800" anchor="ctr">
            <a:noAutofit/>
          </a:bodyPr>
          <a:p>
            <a:pPr indent="0">
              <a:lnSpc>
                <a:spcPct val="90000"/>
              </a:lnSpc>
              <a:buNone/>
              <a:tabLst>
                <a:tab algn="l" pos="0"/>
                <a:tab algn="l" pos="317520"/>
                <a:tab algn="l" pos="635040"/>
                <a:tab algn="l" pos="952560"/>
                <a:tab algn="l" pos="1270080"/>
                <a:tab algn="l" pos="1587600"/>
                <a:tab algn="l" pos="1905120"/>
                <a:tab algn="l" pos="2222640"/>
                <a:tab algn="l" pos="2540160"/>
                <a:tab algn="l" pos="2857680"/>
                <a:tab algn="l" pos="3174840"/>
                <a:tab algn="l" pos="3492360"/>
                <a:tab algn="l" pos="3809880"/>
                <a:tab algn="l" pos="4127400"/>
                <a:tab algn="l" pos="4444920"/>
                <a:tab algn="l" pos="4762440"/>
                <a:tab algn="l" pos="5079960"/>
                <a:tab algn="l" pos="5397480"/>
                <a:tab algn="l" pos="5715000"/>
                <a:tab algn="l" pos="6032520"/>
                <a:tab algn="l" pos="6350040"/>
              </a:tabLst>
            </a:pPr>
            <a:r>
              <a:rPr b="0" lang="en-US" sz="1500" spc="-1" strike="noStrike">
                <a:solidFill>
                  <a:srgbClr val="000000"/>
                </a:solidFill>
                <a:latin typeface="Calibri Light"/>
              </a:rPr>
              <a:t>Click to edit the title text format</a:t>
            </a:r>
            <a:endParaRPr b="0" lang="en-US" sz="1500" spc="-1" strike="noStrike">
              <a:solidFill>
                <a:srgbClr val="000000"/>
              </a:solidFill>
              <a:latin typeface="Calibri Light"/>
            </a:endParaRPr>
          </a:p>
        </p:txBody>
      </p:sp>
      <p:sp>
        <p:nvSpPr>
          <p:cNvPr id="82" name="PlaceHolder 2"/>
          <p:cNvSpPr>
            <a:spLocks noGrp="1"/>
          </p:cNvSpPr>
          <p:nvPr>
            <p:ph type="body"/>
          </p:nvPr>
        </p:nvSpPr>
        <p:spPr>
          <a:xfrm>
            <a:off x="219240" y="1087560"/>
            <a:ext cx="2744640" cy="2590560"/>
          </a:xfrm>
          <a:prstGeom prst="rect">
            <a:avLst/>
          </a:prstGeom>
          <a:noFill/>
          <a:ln w="0">
            <a:noFill/>
          </a:ln>
        </p:spPr>
        <p:txBody>
          <a:bodyPr lIns="90000" rIns="90000" tIns="46800" bIns="46800" anchor="t">
            <a:normAutofit/>
          </a:bodyPr>
          <a:p>
            <a:pPr marL="79200" indent="-79200">
              <a:lnSpc>
                <a:spcPct val="90000"/>
              </a:lnSpc>
              <a:spcBef>
                <a:spcPts val="349"/>
              </a:spcBef>
              <a:buClr>
                <a:srgbClr val="000000"/>
              </a:buClr>
              <a:buFont typeface="Arial"/>
              <a:buChar char="•"/>
              <a:tabLst>
                <a:tab algn="l" pos="317520"/>
                <a:tab algn="l" pos="635040"/>
                <a:tab algn="l" pos="952560"/>
                <a:tab algn="l" pos="1270080"/>
                <a:tab algn="l" pos="1587600"/>
                <a:tab algn="l" pos="1905120"/>
                <a:tab algn="l" pos="2222640"/>
                <a:tab algn="l" pos="2540160"/>
                <a:tab algn="l" pos="2857680"/>
                <a:tab algn="l" pos="3174840"/>
                <a:tab algn="l" pos="3492360"/>
                <a:tab algn="l" pos="3809880"/>
                <a:tab algn="l" pos="4127400"/>
                <a:tab algn="l" pos="4444920"/>
                <a:tab algn="l" pos="4762440"/>
                <a:tab algn="l" pos="5079960"/>
                <a:tab algn="l" pos="5397480"/>
                <a:tab algn="l" pos="5715000"/>
                <a:tab algn="l" pos="6032520"/>
                <a:tab algn="l" pos="6350040"/>
              </a:tabLst>
            </a:pPr>
            <a:r>
              <a:rPr b="0" lang="en-US" sz="900" spc="-1" strike="noStrike">
                <a:solidFill>
                  <a:srgbClr val="000000"/>
                </a:solidFill>
                <a:latin typeface="Calibri"/>
              </a:rPr>
              <a:t>Click to edit the outline text format</a:t>
            </a:r>
            <a:endParaRPr b="0" lang="en-US" sz="900" spc="-1" strike="noStrike">
              <a:solidFill>
                <a:srgbClr val="000000"/>
              </a:solidFill>
              <a:latin typeface="Calibri"/>
            </a:endParaRPr>
          </a:p>
          <a:p>
            <a:pPr lvl="1" marL="237960" indent="-79200">
              <a:lnSpc>
                <a:spcPct val="90000"/>
              </a:lnSpc>
              <a:spcBef>
                <a:spcPts val="349"/>
              </a:spcBef>
              <a:buClr>
                <a:srgbClr val="000000"/>
              </a:buClr>
              <a:buFont typeface="Arial"/>
              <a:buChar char="•"/>
              <a:tabLst>
                <a:tab algn="l" pos="317520"/>
                <a:tab algn="l" pos="635040"/>
                <a:tab algn="l" pos="952560"/>
                <a:tab algn="l" pos="1270080"/>
                <a:tab algn="l" pos="1587600"/>
                <a:tab algn="l" pos="1905120"/>
                <a:tab algn="l" pos="2222640"/>
                <a:tab algn="l" pos="2540160"/>
                <a:tab algn="l" pos="2857680"/>
                <a:tab algn="l" pos="3174840"/>
                <a:tab algn="l" pos="3492360"/>
                <a:tab algn="l" pos="3809880"/>
                <a:tab algn="l" pos="4127400"/>
                <a:tab algn="l" pos="4444920"/>
                <a:tab algn="l" pos="4762440"/>
                <a:tab algn="l" pos="5079960"/>
                <a:tab algn="l" pos="5397480"/>
                <a:tab algn="l" pos="5715000"/>
                <a:tab algn="l" pos="6032520"/>
                <a:tab algn="l" pos="6350040"/>
              </a:tabLst>
            </a:pPr>
            <a:r>
              <a:rPr b="0" lang="en-US" sz="900" spc="-1" strike="noStrike">
                <a:solidFill>
                  <a:srgbClr val="000000"/>
                </a:solidFill>
                <a:latin typeface="Calibri"/>
              </a:rPr>
              <a:t>Second Outline Level</a:t>
            </a:r>
            <a:endParaRPr b="0" lang="en-US" sz="900" spc="-1" strike="noStrike">
              <a:solidFill>
                <a:srgbClr val="000000"/>
              </a:solidFill>
              <a:latin typeface="Calibri"/>
            </a:endParaRPr>
          </a:p>
          <a:p>
            <a:pPr lvl="2" marL="396720" indent="-79200">
              <a:lnSpc>
                <a:spcPct val="90000"/>
              </a:lnSpc>
              <a:spcBef>
                <a:spcPts val="349"/>
              </a:spcBef>
              <a:buClr>
                <a:srgbClr val="000000"/>
              </a:buClr>
              <a:buFont typeface="Arial"/>
              <a:buChar char="•"/>
              <a:tabLst>
                <a:tab algn="l" pos="317520"/>
                <a:tab algn="l" pos="635040"/>
                <a:tab algn="l" pos="952560"/>
                <a:tab algn="l" pos="1270080"/>
                <a:tab algn="l" pos="1587600"/>
                <a:tab algn="l" pos="1905120"/>
                <a:tab algn="l" pos="2222640"/>
                <a:tab algn="l" pos="2540160"/>
                <a:tab algn="l" pos="2857680"/>
                <a:tab algn="l" pos="3174840"/>
                <a:tab algn="l" pos="3492360"/>
                <a:tab algn="l" pos="3809880"/>
                <a:tab algn="l" pos="4127400"/>
                <a:tab algn="l" pos="4444920"/>
                <a:tab algn="l" pos="4762440"/>
                <a:tab algn="l" pos="5079960"/>
                <a:tab algn="l" pos="5397480"/>
                <a:tab algn="l" pos="5715000"/>
                <a:tab algn="l" pos="6032520"/>
                <a:tab algn="l" pos="6350040"/>
              </a:tabLst>
            </a:pPr>
            <a:r>
              <a:rPr b="0" lang="en-US" sz="900" spc="-1" strike="noStrike">
                <a:solidFill>
                  <a:srgbClr val="000000"/>
                </a:solidFill>
                <a:latin typeface="Calibri"/>
              </a:rPr>
              <a:t>Third Outline Level</a:t>
            </a:r>
            <a:endParaRPr b="0" lang="en-US" sz="900" spc="-1" strike="noStrike">
              <a:solidFill>
                <a:srgbClr val="000000"/>
              </a:solidFill>
              <a:latin typeface="Calibri"/>
            </a:endParaRPr>
          </a:p>
          <a:p>
            <a:pPr lvl="3" marL="555480" indent="-79200">
              <a:lnSpc>
                <a:spcPct val="90000"/>
              </a:lnSpc>
              <a:spcBef>
                <a:spcPts val="349"/>
              </a:spcBef>
              <a:buClr>
                <a:srgbClr val="000000"/>
              </a:buClr>
              <a:buFont typeface="Arial"/>
              <a:buChar char="•"/>
              <a:tabLst>
                <a:tab algn="l" pos="317520"/>
                <a:tab algn="l" pos="635040"/>
                <a:tab algn="l" pos="952560"/>
                <a:tab algn="l" pos="1270080"/>
                <a:tab algn="l" pos="1587600"/>
                <a:tab algn="l" pos="1905120"/>
                <a:tab algn="l" pos="2222640"/>
                <a:tab algn="l" pos="2540160"/>
                <a:tab algn="l" pos="2857680"/>
                <a:tab algn="l" pos="3174840"/>
                <a:tab algn="l" pos="3492360"/>
                <a:tab algn="l" pos="3809880"/>
                <a:tab algn="l" pos="4127400"/>
                <a:tab algn="l" pos="4444920"/>
                <a:tab algn="l" pos="4762440"/>
                <a:tab algn="l" pos="5079960"/>
                <a:tab algn="l" pos="5397480"/>
                <a:tab algn="l" pos="5715000"/>
                <a:tab algn="l" pos="6032520"/>
                <a:tab algn="l" pos="6350040"/>
              </a:tabLst>
            </a:pPr>
            <a:r>
              <a:rPr b="0" lang="en-US" sz="900" spc="-1" strike="noStrike">
                <a:solidFill>
                  <a:srgbClr val="000000"/>
                </a:solidFill>
                <a:latin typeface="Calibri"/>
              </a:rPr>
              <a:t>Fourth Outline Level</a:t>
            </a:r>
            <a:endParaRPr b="0" lang="en-US" sz="900" spc="-1" strike="noStrike">
              <a:solidFill>
                <a:srgbClr val="000000"/>
              </a:solidFill>
              <a:latin typeface="Calibri"/>
            </a:endParaRPr>
          </a:p>
          <a:p>
            <a:pPr lvl="4" marL="716040" indent="-79560">
              <a:lnSpc>
                <a:spcPct val="90000"/>
              </a:lnSpc>
              <a:spcBef>
                <a:spcPts val="349"/>
              </a:spcBef>
              <a:buClr>
                <a:srgbClr val="000000"/>
              </a:buClr>
              <a:buFont typeface="Arial"/>
              <a:buChar char="•"/>
              <a:tabLst>
                <a:tab algn="l" pos="317520"/>
                <a:tab algn="l" pos="635040"/>
                <a:tab algn="l" pos="952560"/>
                <a:tab algn="l" pos="1270080"/>
                <a:tab algn="l" pos="1587600"/>
                <a:tab algn="l" pos="1905120"/>
                <a:tab algn="l" pos="2222640"/>
                <a:tab algn="l" pos="2540160"/>
                <a:tab algn="l" pos="2857680"/>
                <a:tab algn="l" pos="3174840"/>
                <a:tab algn="l" pos="3492360"/>
                <a:tab algn="l" pos="3809880"/>
                <a:tab algn="l" pos="4127400"/>
                <a:tab algn="l" pos="4444920"/>
                <a:tab algn="l" pos="4762440"/>
                <a:tab algn="l" pos="5079960"/>
                <a:tab algn="l" pos="5397480"/>
                <a:tab algn="l" pos="5715000"/>
                <a:tab algn="l" pos="6032520"/>
                <a:tab algn="l" pos="6350040"/>
              </a:tabLst>
            </a:pPr>
            <a:r>
              <a:rPr b="0" lang="en-US" sz="900" spc="-1" strike="noStrike">
                <a:solidFill>
                  <a:srgbClr val="000000"/>
                </a:solidFill>
                <a:latin typeface="Calibri"/>
              </a:rPr>
              <a:t>Fifth Outline Level</a:t>
            </a:r>
            <a:endParaRPr b="0" lang="en-US" sz="900" spc="-1" strike="noStrike">
              <a:solidFill>
                <a:srgbClr val="000000"/>
              </a:solidFill>
              <a:latin typeface="Calibri"/>
            </a:endParaRPr>
          </a:p>
          <a:p>
            <a:pPr lvl="5" marL="716040" indent="-79560">
              <a:lnSpc>
                <a:spcPct val="90000"/>
              </a:lnSpc>
              <a:spcBef>
                <a:spcPts val="349"/>
              </a:spcBef>
              <a:buClr>
                <a:srgbClr val="000000"/>
              </a:buClr>
              <a:buFont typeface="Arial"/>
              <a:buChar char="•"/>
              <a:tabLst>
                <a:tab algn="l" pos="317520"/>
                <a:tab algn="l" pos="635040"/>
                <a:tab algn="l" pos="952560"/>
                <a:tab algn="l" pos="1270080"/>
                <a:tab algn="l" pos="1587600"/>
                <a:tab algn="l" pos="1905120"/>
                <a:tab algn="l" pos="2222640"/>
                <a:tab algn="l" pos="2540160"/>
                <a:tab algn="l" pos="2857680"/>
                <a:tab algn="l" pos="3174840"/>
                <a:tab algn="l" pos="3492360"/>
                <a:tab algn="l" pos="3809880"/>
                <a:tab algn="l" pos="4127400"/>
                <a:tab algn="l" pos="4444920"/>
                <a:tab algn="l" pos="4762440"/>
                <a:tab algn="l" pos="5079960"/>
                <a:tab algn="l" pos="5397480"/>
                <a:tab algn="l" pos="5715000"/>
                <a:tab algn="l" pos="6032520"/>
                <a:tab algn="l" pos="6350040"/>
              </a:tabLst>
            </a:pPr>
            <a:r>
              <a:rPr b="0" lang="en-US" sz="900" spc="-1" strike="noStrike">
                <a:solidFill>
                  <a:srgbClr val="000000"/>
                </a:solidFill>
                <a:latin typeface="Calibri"/>
              </a:rPr>
              <a:t>Sixth Outline Level</a:t>
            </a:r>
            <a:endParaRPr b="0" lang="en-US" sz="900" spc="-1" strike="noStrike">
              <a:solidFill>
                <a:srgbClr val="000000"/>
              </a:solidFill>
              <a:latin typeface="Calibri"/>
            </a:endParaRPr>
          </a:p>
          <a:p>
            <a:pPr lvl="6" marL="716040" indent="-79560">
              <a:lnSpc>
                <a:spcPct val="90000"/>
              </a:lnSpc>
              <a:spcBef>
                <a:spcPts val="349"/>
              </a:spcBef>
              <a:buClr>
                <a:srgbClr val="000000"/>
              </a:buClr>
              <a:buFont typeface="Arial"/>
              <a:buChar char="•"/>
              <a:tabLst>
                <a:tab algn="l" pos="317520"/>
                <a:tab algn="l" pos="635040"/>
                <a:tab algn="l" pos="952560"/>
                <a:tab algn="l" pos="1270080"/>
                <a:tab algn="l" pos="1587600"/>
                <a:tab algn="l" pos="1905120"/>
                <a:tab algn="l" pos="2222640"/>
                <a:tab algn="l" pos="2540160"/>
                <a:tab algn="l" pos="2857680"/>
                <a:tab algn="l" pos="3174840"/>
                <a:tab algn="l" pos="3492360"/>
                <a:tab algn="l" pos="3809880"/>
                <a:tab algn="l" pos="4127400"/>
                <a:tab algn="l" pos="4444920"/>
                <a:tab algn="l" pos="4762440"/>
                <a:tab algn="l" pos="5079960"/>
                <a:tab algn="l" pos="5397480"/>
                <a:tab algn="l" pos="5715000"/>
                <a:tab algn="l" pos="6032520"/>
                <a:tab algn="l" pos="6350040"/>
              </a:tabLst>
            </a:pPr>
            <a:r>
              <a:rPr b="0" lang="en-US" sz="900" spc="-1" strike="noStrike">
                <a:solidFill>
                  <a:srgbClr val="000000"/>
                </a:solidFill>
                <a:latin typeface="Calibri"/>
              </a:rPr>
              <a:t>Seventh Outline Level</a:t>
            </a:r>
            <a:endParaRPr b="0" lang="en-US" sz="9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角丸四角形 14"/>
          <p:cNvSpPr/>
          <p:nvPr/>
        </p:nvSpPr>
        <p:spPr>
          <a:xfrm>
            <a:off x="485640" y="442800"/>
            <a:ext cx="2251080" cy="3214800"/>
          </a:xfrm>
          <a:custGeom>
            <a:avLst/>
            <a:gdLst>
              <a:gd name="textAreaLeft" fmla="*/ 41040 w 2251080"/>
              <a:gd name="textAreaRight" fmla="*/ 2210040 w 2251080"/>
              <a:gd name="textAreaTop" fmla="*/ 41040 h 3214800"/>
              <a:gd name="textAreaBottom" fmla="*/ 3173760 h 3214800"/>
            </a:gdLst>
            <a:ahLst/>
            <a:rect l="textAreaLeft" t="textAreaTop" r="textAreaRight" b="textAreaBottom"/>
            <a:pathLst>
              <a:path w="21600" h="30846">
                <a:moveTo>
                  <a:pt x="1347" y="0"/>
                </a:moveTo>
                <a:arcTo wR="1347" hR="1347" stAng="16200000" swAng="-5400000"/>
                <a:lnTo>
                  <a:pt x="0" y="29499"/>
                </a:lnTo>
                <a:arcTo wR="1347" hR="1347" stAng="10800000" swAng="-5400000"/>
                <a:lnTo>
                  <a:pt x="20253" y="30846"/>
                </a:lnTo>
                <a:arcTo wR="1347" hR="1347" stAng="5400000" swAng="-5400000"/>
                <a:lnTo>
                  <a:pt x="21600" y="1347"/>
                </a:lnTo>
                <a:arcTo wR="1347" hR="1347" stAng="0" swAng="-5400000"/>
                <a:close/>
              </a:path>
            </a:pathLst>
          </a:custGeom>
          <a:noFill/>
          <a:ln w="12600">
            <a:solidFill>
              <a:srgbClr val="000000"/>
            </a:solidFill>
            <a:miter/>
          </a:ln>
        </p:spPr>
        <p:style>
          <a:lnRef idx="0"/>
          <a:fillRef idx="0"/>
          <a:effectRef idx="0"/>
          <a:fontRef idx="minor"/>
        </p:style>
        <p:txBody>
          <a:bodyPr lIns="32040" rIns="32040" tIns="15840" bIns="1584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20" name="Rectangle 55"/>
          <p:cNvSpPr/>
          <p:nvPr/>
        </p:nvSpPr>
        <p:spPr>
          <a:xfrm>
            <a:off x="-12600" y="-781200"/>
            <a:ext cx="7062840" cy="4875480"/>
          </a:xfrm>
          <a:prstGeom prst="rect">
            <a:avLst/>
          </a:prstGeom>
          <a:solidFill>
            <a:srgbClr val="ffffff"/>
          </a:solidFill>
          <a:ln w="3240">
            <a:solidFill>
              <a:srgbClr val="000000"/>
            </a:solidFill>
            <a:miter/>
          </a:ln>
        </p:spPr>
        <p:style>
          <a:lnRef idx="0"/>
          <a:fillRef idx="0"/>
          <a:effectRef idx="0"/>
          <a:fontRef idx="minor"/>
        </p:style>
        <p:txBody>
          <a:bodyPr wrap="none"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21" name="テキスト ボックス 6"/>
          <p:cNvSpPr/>
          <p:nvPr/>
        </p:nvSpPr>
        <p:spPr>
          <a:xfrm>
            <a:off x="6916320" y="-822240"/>
            <a:ext cx="940320" cy="4925880"/>
          </a:xfrm>
          <a:prstGeom prst="rect">
            <a:avLst/>
          </a:prstGeom>
          <a:solidFill>
            <a:srgbClr val="fff2cc"/>
          </a:solidFill>
          <a:ln w="0">
            <a:noFill/>
          </a:ln>
        </p:spPr>
        <p:style>
          <a:lnRef idx="0"/>
          <a:fillRef idx="0"/>
          <a:effectRef idx="0"/>
          <a:fontRef idx="minor"/>
        </p:style>
        <p:txBody>
          <a:bodyPr lIns="89280" rIns="89280" tIns="44640" bIns="44640" anchor="t" vert="eaVe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メイリオ"/>
                <a:ea typeface="メイリオ"/>
              </a:rPr>
              <a:t>(※)</a:t>
            </a:r>
            <a:r>
              <a:rPr b="0" lang="ja-JP" sz="1000" spc="-1" strike="noStrike">
                <a:solidFill>
                  <a:srgbClr val="000000"/>
                </a:solidFill>
                <a:latin typeface="メイリオ"/>
                <a:ea typeface="メイリオ"/>
              </a:rPr>
              <a:t>画像を追加した後、デザインテンプレにカーソルをあてた状態で</a:t>
            </a:r>
            <a:endParaRPr b="0" lang="en-US" sz="10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000" spc="-1" strike="noStrike">
                <a:solidFill>
                  <a:srgbClr val="000000"/>
                </a:solidFill>
                <a:latin typeface="メイリオ"/>
                <a:ea typeface="メイリオ"/>
              </a:rPr>
              <a:t>「書式」タブ▼「配置」タブの「配置」▼「左右中央揃え</a:t>
            </a:r>
            <a:r>
              <a:rPr b="0" lang="en-US" sz="1000" spc="-1" strike="noStrike">
                <a:solidFill>
                  <a:srgbClr val="000000"/>
                </a:solidFill>
                <a:latin typeface="メイリオ"/>
                <a:ea typeface="メイリオ"/>
              </a:rPr>
              <a:t>(C)</a:t>
            </a:r>
            <a:r>
              <a:rPr b="0" lang="ja-JP" sz="1000" spc="-1" strike="noStrike">
                <a:solidFill>
                  <a:srgbClr val="000000"/>
                </a:solidFill>
                <a:latin typeface="メイリオ"/>
                <a:ea typeface="メイリオ"/>
              </a:rPr>
              <a:t>」と、</a:t>
            </a:r>
            <a:endParaRPr b="0" lang="en-US" sz="10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000" spc="-1" strike="noStrike">
                <a:solidFill>
                  <a:srgbClr val="000000"/>
                </a:solidFill>
                <a:latin typeface="メイリオ"/>
                <a:ea typeface="メイリオ"/>
              </a:rPr>
              <a:t>「上下中央揃え</a:t>
            </a:r>
            <a:r>
              <a:rPr b="0" lang="en-US" sz="1000" spc="-1" strike="noStrike">
                <a:solidFill>
                  <a:srgbClr val="000000"/>
                </a:solidFill>
                <a:latin typeface="メイリオ"/>
                <a:ea typeface="メイリオ"/>
              </a:rPr>
              <a:t>(M)</a:t>
            </a:r>
            <a:r>
              <a:rPr b="0" lang="ja-JP" sz="1000" spc="-1" strike="noStrike">
                <a:solidFill>
                  <a:srgbClr val="000000"/>
                </a:solidFill>
                <a:latin typeface="メイリオ"/>
                <a:ea typeface="メイリオ"/>
              </a:rPr>
              <a:t>」を選択し、画像の中央にテンプレを重ねてください。</a:t>
            </a:r>
            <a:endParaRPr b="0" lang="en-US" sz="10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000" spc="-1" strike="noStrike">
                <a:solidFill>
                  <a:srgbClr val="000000"/>
                </a:solidFill>
                <a:latin typeface="メイリオ"/>
                <a:ea typeface="メイリオ"/>
              </a:rPr>
              <a:t>◀</a:t>
            </a:r>
            <a:r>
              <a:rPr b="0" lang="ja-JP" sz="1000" spc="-1" strike="noStrike">
                <a:solidFill>
                  <a:srgbClr val="000000"/>
                </a:solidFill>
                <a:latin typeface="メイリオ"/>
                <a:ea typeface="メイリオ"/>
              </a:rPr>
              <a:t>デザインテンプレ</a:t>
            </a:r>
            <a:endParaRPr b="0" lang="en-US" sz="10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p:txBody>
      </p:sp>
      <p:sp>
        <p:nvSpPr>
          <p:cNvPr id="122" name="Text Box 2"/>
          <p:cNvSpPr/>
          <p:nvPr/>
        </p:nvSpPr>
        <p:spPr>
          <a:xfrm>
            <a:off x="0" y="-2036880"/>
            <a:ext cx="7862760" cy="1262160"/>
          </a:xfrm>
          <a:prstGeom prst="rect">
            <a:avLst/>
          </a:prstGeom>
          <a:solidFill>
            <a:srgbClr val="fff2cc"/>
          </a:solidFill>
          <a:ln w="0">
            <a:noFill/>
          </a:ln>
        </p:spPr>
        <p:style>
          <a:lnRef idx="0"/>
          <a:fillRef idx="0"/>
          <a:effectRef idx="0"/>
          <a:fontRef idx="minor"/>
        </p:style>
        <p:txBody>
          <a:bodyPr lIns="72720" rIns="72720" tIns="8640" bIns="8640" anchor="t">
            <a:noAutofit/>
          </a:bodyPr>
          <a:p>
            <a:pPr algn="just">
              <a:lnSpc>
                <a:spcPct val="100000"/>
              </a:lnSpc>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endParaRPr b="0" lang="en-US" sz="200" spc="-1" strike="noStrike">
              <a:solidFill>
                <a:srgbClr val="000000"/>
              </a:solidFill>
              <a:latin typeface="Calibri"/>
            </a:endParaRPr>
          </a:p>
          <a:p>
            <a:pPr algn="just">
              <a:lnSpc>
                <a:spcPct val="100000"/>
              </a:lnSpc>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endParaRPr b="0" lang="en-US" sz="600" spc="-1" strike="noStrike">
              <a:solidFill>
                <a:srgbClr val="000000"/>
              </a:solidFill>
              <a:latin typeface="Calibri"/>
            </a:endParaRPr>
          </a:p>
          <a:p>
            <a:pPr algn="just">
              <a:lnSpc>
                <a:spcPct val="100000"/>
              </a:lnSpc>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ja-JP" sz="1100" spc="-1" strike="noStrike">
                <a:solidFill>
                  <a:srgbClr val="000000"/>
                </a:solidFill>
                <a:latin typeface="メイリオ"/>
                <a:ea typeface="メイリオ"/>
              </a:rPr>
              <a:t>トランプ＿デザインテンプレート</a:t>
            </a:r>
            <a:r>
              <a:rPr b="1" lang="en-US" sz="1100" spc="-1" strike="noStrike">
                <a:solidFill>
                  <a:srgbClr val="000000"/>
                </a:solidFill>
                <a:latin typeface="メイリオ"/>
                <a:ea typeface="メイリオ"/>
              </a:rPr>
              <a:t>2_</a:t>
            </a:r>
            <a:r>
              <a:rPr b="1" lang="ja-JP" sz="1100" spc="-1" strike="noStrike">
                <a:solidFill>
                  <a:srgbClr val="000000"/>
                </a:solidFill>
                <a:latin typeface="メイリオ"/>
                <a:ea typeface="メイリオ"/>
              </a:rPr>
              <a:t>数字面</a:t>
            </a:r>
            <a:r>
              <a:rPr b="1" lang="en-US" sz="1100" spc="-1" strike="noStrike">
                <a:solidFill>
                  <a:srgbClr val="000000"/>
                </a:solidFill>
                <a:latin typeface="メイリオ"/>
                <a:ea typeface="メイリオ"/>
              </a:rPr>
              <a:t>(</a:t>
            </a:r>
            <a:r>
              <a:rPr b="1" lang="ja-JP" sz="1100" spc="-1" strike="noStrike">
                <a:solidFill>
                  <a:srgbClr val="000000"/>
                </a:solidFill>
                <a:latin typeface="メイリオ"/>
                <a:ea typeface="メイリオ"/>
              </a:rPr>
              <a:t>絵札</a:t>
            </a:r>
            <a:r>
              <a:rPr b="1" lang="en-US" sz="1100" spc="-1" strike="noStrike">
                <a:solidFill>
                  <a:srgbClr val="000000"/>
                </a:solidFill>
                <a:latin typeface="メイリオ"/>
                <a:ea typeface="メイリオ"/>
              </a:rPr>
              <a:t>)_</a:t>
            </a:r>
            <a:r>
              <a:rPr b="1" lang="ja-JP" sz="1100" spc="-1" strike="noStrike">
                <a:solidFill>
                  <a:srgbClr val="000000"/>
                </a:solidFill>
                <a:latin typeface="メイリオ"/>
                <a:ea typeface="メイリオ"/>
              </a:rPr>
              <a:t>フェイスフレーム</a:t>
            </a:r>
            <a:endParaRPr b="0" lang="en-US" sz="1100" spc="-1" strike="noStrike">
              <a:solidFill>
                <a:srgbClr val="000000"/>
              </a:solidFill>
              <a:latin typeface="Calibri"/>
            </a:endParaRPr>
          </a:p>
          <a:p>
            <a:pPr algn="just">
              <a:lnSpc>
                <a:spcPct val="100000"/>
              </a:lnSpc>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1" lang="ja-JP" sz="1100" spc="-1" strike="noStrike">
                <a:solidFill>
                  <a:srgbClr val="000000"/>
                </a:solidFill>
                <a:latin typeface="メイリオ"/>
                <a:ea typeface="メイリオ"/>
              </a:rPr>
              <a:t>●</a:t>
            </a:r>
            <a:r>
              <a:rPr b="1" lang="ja-JP" sz="1100" spc="-1" strike="noStrike">
                <a:solidFill>
                  <a:srgbClr val="000000"/>
                </a:solidFill>
                <a:latin typeface="メイリオ"/>
                <a:ea typeface="メイリオ"/>
              </a:rPr>
              <a:t>印字範囲</a:t>
            </a:r>
            <a:r>
              <a:rPr b="1" lang="en-US" sz="1100" spc="-1" strike="noStrike">
                <a:solidFill>
                  <a:srgbClr val="000000"/>
                </a:solidFill>
                <a:latin typeface="メイリオ"/>
                <a:ea typeface="メイリオ"/>
              </a:rPr>
              <a:t>W58×H89</a:t>
            </a:r>
            <a:r>
              <a:rPr b="1" lang="ja-JP" sz="1100" spc="-1" strike="noStrike">
                <a:solidFill>
                  <a:srgbClr val="000000"/>
                </a:solidFill>
                <a:latin typeface="メイリオ"/>
                <a:ea typeface="メイリオ"/>
              </a:rPr>
              <a:t>ｍｍ</a:t>
            </a:r>
            <a:endParaRPr b="0" lang="en-US" sz="1100" spc="-1" strike="noStrike">
              <a:solidFill>
                <a:srgbClr val="000000"/>
              </a:solidFill>
              <a:latin typeface="Calibri"/>
            </a:endParaRPr>
          </a:p>
          <a:p>
            <a:pPr algn="just">
              <a:lnSpc>
                <a:spcPct val="100000"/>
              </a:lnSpc>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endParaRPr b="0" lang="en-US" sz="1100" spc="-1" strike="noStrike">
              <a:solidFill>
                <a:srgbClr val="000000"/>
              </a:solidFill>
              <a:latin typeface="Calibri"/>
            </a:endParaRPr>
          </a:p>
          <a:p>
            <a:pPr algn="just">
              <a:lnSpc>
                <a:spcPct val="100000"/>
              </a:lnSpc>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endParaRPr b="0" lang="en-US" sz="1100" spc="-1" strike="noStrike">
              <a:solidFill>
                <a:srgbClr val="000000"/>
              </a:solidFill>
              <a:latin typeface="Calibri"/>
            </a:endParaRPr>
          </a:p>
          <a:p>
            <a:pPr algn="just">
              <a:lnSpc>
                <a:spcPct val="100000"/>
              </a:lnSpc>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endParaRPr b="0" lang="en-US" sz="1100" spc="-1" strike="noStrike">
              <a:solidFill>
                <a:srgbClr val="000000"/>
              </a:solidFill>
              <a:latin typeface="Calibri"/>
            </a:endParaRPr>
          </a:p>
          <a:p>
            <a:pPr algn="just">
              <a:lnSpc>
                <a:spcPct val="100000"/>
              </a:lnSpc>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endParaRPr b="0" lang="en-US" sz="1100" spc="-1" strike="noStrike">
              <a:solidFill>
                <a:srgbClr val="000000"/>
              </a:solidFill>
              <a:latin typeface="Calibri"/>
            </a:endParaRPr>
          </a:p>
          <a:p>
            <a:pPr algn="just">
              <a:lnSpc>
                <a:spcPct val="100000"/>
              </a:lnSpc>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endParaRPr b="0" lang="en-US" sz="1100" spc="-1" strike="noStrike">
              <a:solidFill>
                <a:srgbClr val="000000"/>
              </a:solidFill>
              <a:latin typeface="Calibri"/>
            </a:endParaRPr>
          </a:p>
          <a:p>
            <a:pPr algn="just">
              <a:lnSpc>
                <a:spcPct val="100000"/>
              </a:lnSpc>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endParaRPr b="0" lang="en-US" sz="1100" spc="-1" strike="noStrike">
              <a:solidFill>
                <a:srgbClr val="000000"/>
              </a:solidFill>
              <a:latin typeface="Calibri"/>
            </a:endParaRPr>
          </a:p>
          <a:p>
            <a:pPr algn="just">
              <a:lnSpc>
                <a:spcPct val="100000"/>
              </a:lnSpc>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endParaRPr b="0" lang="en-US" sz="1100" spc="-1" strike="noStrike">
              <a:solidFill>
                <a:srgbClr val="000000"/>
              </a:solidFill>
              <a:latin typeface="Calibri"/>
            </a:endParaRPr>
          </a:p>
        </p:txBody>
      </p:sp>
      <p:pic>
        <p:nvPicPr>
          <p:cNvPr id="123" name="Picture 56" descr="トンボ説明ol"/>
          <p:cNvPicPr/>
          <p:nvPr/>
        </p:nvPicPr>
        <p:blipFill>
          <a:blip r:embed="rId2"/>
          <a:stretch/>
        </p:blipFill>
        <p:spPr>
          <a:xfrm>
            <a:off x="2579760" y="-717480"/>
            <a:ext cx="1230120" cy="1279440"/>
          </a:xfrm>
          <a:prstGeom prst="rect">
            <a:avLst/>
          </a:prstGeom>
          <a:ln w="0">
            <a:noFill/>
          </a:ln>
        </p:spPr>
      </p:pic>
      <p:sp>
        <p:nvSpPr>
          <p:cNvPr id="124" name="Rectangle 55"/>
          <p:cNvSpPr/>
          <p:nvPr/>
        </p:nvSpPr>
        <p:spPr>
          <a:xfrm>
            <a:off x="0" y="0"/>
            <a:ext cx="3182760" cy="4083120"/>
          </a:xfrm>
          <a:prstGeom prst="rect">
            <a:avLst/>
          </a:prstGeom>
          <a:solidFill>
            <a:srgbClr val="ffffff"/>
          </a:solidFill>
          <a:ln w="0">
            <a:noFill/>
          </a:ln>
        </p:spPr>
        <p:style>
          <a:lnRef idx="0"/>
          <a:fillRef idx="0"/>
          <a:effectRef idx="0"/>
          <a:fontRef idx="minor"/>
        </p:style>
        <p:txBody>
          <a:bodyPr wrap="none"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grpSp>
        <p:nvGrpSpPr>
          <p:cNvPr id="125" name="グループ化 29"/>
          <p:cNvGrpSpPr/>
          <p:nvPr/>
        </p:nvGrpSpPr>
        <p:grpSpPr>
          <a:xfrm>
            <a:off x="4062240" y="-746280"/>
            <a:ext cx="2718000" cy="1030320"/>
            <a:chOff x="4062240" y="-746280"/>
            <a:chExt cx="2718000" cy="1030320"/>
          </a:xfrm>
        </p:grpSpPr>
        <p:pic>
          <p:nvPicPr>
            <p:cNvPr id="126" name="Picture 2" descr=""/>
            <p:cNvPicPr/>
            <p:nvPr/>
          </p:nvPicPr>
          <p:blipFill>
            <a:blip r:embed="rId3"/>
            <a:stretch/>
          </p:blipFill>
          <p:spPr>
            <a:xfrm>
              <a:off x="5822280" y="-746280"/>
              <a:ext cx="915120" cy="968040"/>
            </a:xfrm>
            <a:prstGeom prst="rect">
              <a:avLst/>
            </a:prstGeom>
            <a:ln w="0">
              <a:noFill/>
            </a:ln>
          </p:spPr>
        </p:pic>
        <p:sp>
          <p:nvSpPr>
            <p:cNvPr id="127" name="テキスト ボックス 31"/>
            <p:cNvSpPr/>
            <p:nvPr/>
          </p:nvSpPr>
          <p:spPr>
            <a:xfrm>
              <a:off x="4379760" y="-274320"/>
              <a:ext cx="1603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900" spc="-1" strike="noStrike">
                  <a:solidFill>
                    <a:srgbClr val="ff0000"/>
                  </a:solidFill>
                  <a:latin typeface="メイリオ"/>
                  <a:ea typeface="メイリオ"/>
                </a:rPr>
                <a:t>角部分は</a:t>
              </a:r>
              <a:endParaRPr b="0" lang="en-US" sz="9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900" spc="-1" strike="noStrike">
                  <a:solidFill>
                    <a:srgbClr val="ff0000"/>
                  </a:solidFill>
                  <a:latin typeface="メイリオ"/>
                  <a:ea typeface="メイリオ"/>
                </a:rPr>
                <a:t>角</a:t>
              </a:r>
              <a:r>
                <a:rPr b="0" lang="en-US" sz="900" spc="-1" strike="noStrike">
                  <a:solidFill>
                    <a:srgbClr val="ff0000"/>
                  </a:solidFill>
                  <a:latin typeface="メイリオ"/>
                  <a:ea typeface="メイリオ"/>
                </a:rPr>
                <a:t>R(</a:t>
              </a:r>
              <a:r>
                <a:rPr b="0" lang="ja-JP" sz="900" spc="-1" strike="noStrike">
                  <a:solidFill>
                    <a:srgbClr val="ff0000"/>
                  </a:solidFill>
                  <a:latin typeface="メイリオ"/>
                  <a:ea typeface="メイリオ"/>
                </a:rPr>
                <a:t>角丸</a:t>
              </a:r>
              <a:r>
                <a:rPr b="0" lang="en-US" sz="900" spc="-1" strike="noStrike">
                  <a:solidFill>
                    <a:srgbClr val="ff0000"/>
                  </a:solidFill>
                  <a:latin typeface="メイリオ"/>
                  <a:ea typeface="メイリオ"/>
                </a:rPr>
                <a:t>)</a:t>
              </a:r>
              <a:r>
                <a:rPr b="0" lang="ja-JP" sz="900" spc="-1" strike="noStrike">
                  <a:solidFill>
                    <a:srgbClr val="ff0000"/>
                  </a:solidFill>
                  <a:latin typeface="メイリオ"/>
                  <a:ea typeface="メイリオ"/>
                </a:rPr>
                <a:t>になります↘</a:t>
              </a:r>
              <a:endParaRPr b="0" lang="en-US" sz="900" spc="-1" strike="noStrike">
                <a:solidFill>
                  <a:srgbClr val="000000"/>
                </a:solidFill>
                <a:latin typeface="Calibri"/>
              </a:endParaRPr>
            </a:p>
          </p:txBody>
        </p:sp>
        <p:sp>
          <p:nvSpPr>
            <p:cNvPr id="128" name="円/楕円 42"/>
            <p:cNvSpPr/>
            <p:nvPr/>
          </p:nvSpPr>
          <p:spPr>
            <a:xfrm>
              <a:off x="5769000" y="60120"/>
              <a:ext cx="207720" cy="199800"/>
            </a:xfrm>
            <a:prstGeom prst="ellipse">
              <a:avLst/>
            </a:prstGeom>
            <a:noFill/>
            <a:ln w="9360">
              <a:solidFill>
                <a:srgbClr val="c55a11"/>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29" name="角丸四角形 43"/>
            <p:cNvSpPr/>
            <p:nvPr/>
          </p:nvSpPr>
          <p:spPr>
            <a:xfrm>
              <a:off x="4062240" y="-746280"/>
              <a:ext cx="2718000" cy="1030320"/>
            </a:xfrm>
            <a:prstGeom prst="roundRect">
              <a:avLst>
                <a:gd name="adj" fmla="val 7218"/>
              </a:avLst>
            </a:prstGeom>
            <a:noFill/>
            <a:ln w="9360">
              <a:solidFill>
                <a:srgbClr val="c55a11"/>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grpSp>
      <p:sp>
        <p:nvSpPr>
          <p:cNvPr id="130" name="右カーブ矢印 44"/>
          <p:cNvSpPr/>
          <p:nvPr/>
        </p:nvSpPr>
        <p:spPr>
          <a:xfrm flipH="1" rot="15175200">
            <a:off x="3631320" y="-501840"/>
            <a:ext cx="296640" cy="958680"/>
          </a:xfrm>
          <a:custGeom>
            <a:avLst/>
            <a:gdLst>
              <a:gd name="textAreaLeft" fmla="*/ 39600 w 296640"/>
              <a:gd name="textAreaRight" fmla="*/ 257040 w 296640"/>
              <a:gd name="textAreaTop" fmla="*/ 198720 h 958680"/>
              <a:gd name="textAreaBottom" fmla="*/ 670320 h 958680"/>
            </a:gdLst>
            <a:ahLst/>
            <a:rect l="textAreaLeft" t="textAreaTop" r="textAreaRight" b="textAreaBottom"/>
            <a:pathLst>
              <a:path w="21600" h="21600">
                <a:moveTo>
                  <a:pt x="21600" y="0"/>
                </a:moveTo>
                <a:arcTo wR="21600" hR="8952" stAng="-5400000" swAng="-5400000"/>
                <a:lnTo>
                  <a:pt x="0" y="10623"/>
                </a:lnTo>
                <a:arcTo wR="21600" hR="8952" stAng="10800000" swAng="-3484539"/>
                <a:lnTo>
                  <a:pt x="16200" y="21316"/>
                </a:lnTo>
                <a:lnTo>
                  <a:pt x="21600" y="18739"/>
                </a:lnTo>
                <a:lnTo>
                  <a:pt x="16200" y="15593"/>
                </a:lnTo>
                <a:lnTo>
                  <a:pt x="16200" y="17619"/>
                </a:lnTo>
                <a:arcTo wR="21600" hR="8952" stAng="7315461" swAng="3351050"/>
                <a:lnTo>
                  <a:pt x="94" y="9787"/>
                </a:lnTo>
                <a:arcTo wR="21600" hR="8952" stAng="-10666510" swAng="5266510"/>
                <a:close/>
              </a:path>
              <a:path fill="darkenLess" w="21600" h="21600">
                <a:moveTo>
                  <a:pt x="21600" y="0"/>
                </a:moveTo>
                <a:arcTo wR="21600" hR="8952" stAng="-5400000" swAng="-5400000"/>
                <a:lnTo>
                  <a:pt x="0" y="8952"/>
                </a:lnTo>
                <a:arcTo wR="21600" hR="8952" stAng="10800000" swAng="-133490"/>
                <a:lnTo>
                  <a:pt x="94" y="9787"/>
                </a:lnTo>
                <a:arcTo wR="21600" hR="8952" stAng="-10666510" swAng="5266510"/>
                <a:close/>
              </a:path>
            </a:pathLst>
          </a:custGeom>
          <a:solidFill>
            <a:srgbClr val="c55a11"/>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31" name="正方形/長方形 16"/>
          <p:cNvSpPr/>
          <p:nvPr/>
        </p:nvSpPr>
        <p:spPr>
          <a:xfrm>
            <a:off x="349200" y="349200"/>
            <a:ext cx="2484360" cy="33847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32" name="Text Box 4"/>
          <p:cNvSpPr/>
          <p:nvPr/>
        </p:nvSpPr>
        <p:spPr>
          <a:xfrm>
            <a:off x="0" y="4103640"/>
            <a:ext cx="7862760" cy="503280"/>
          </a:xfrm>
          <a:prstGeom prst="rect">
            <a:avLst/>
          </a:prstGeom>
          <a:solidFill>
            <a:srgbClr val="fff2cc"/>
          </a:solidFill>
          <a:ln w="0">
            <a:noFill/>
          </a:ln>
        </p:spPr>
        <p:style>
          <a:lnRef idx="0"/>
          <a:fillRef idx="0"/>
          <a:effectRef idx="0"/>
          <a:fontRef idx="minor"/>
        </p:style>
        <p:txBody>
          <a:bodyPr lIns="72720" rIns="72720" tIns="8640" bIns="8640" anchor="t">
            <a:noAutofit/>
          </a:bodyPr>
          <a:p>
            <a:pPr algn="just">
              <a:lnSpc>
                <a:spcPct val="100000"/>
              </a:lnSpc>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endParaRPr b="0" lang="en-US" sz="200" spc="-1" strike="noStrike">
              <a:solidFill>
                <a:srgbClr val="000000"/>
              </a:solidFill>
              <a:latin typeface="Calibri"/>
            </a:endParaRPr>
          </a:p>
          <a:p>
            <a:pPr algn="just">
              <a:lnSpc>
                <a:spcPct val="100000"/>
              </a:lnSpc>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endParaRPr b="0" lang="en-US" sz="200" spc="-1" strike="noStrike">
              <a:solidFill>
                <a:srgbClr val="000000"/>
              </a:solidFill>
              <a:latin typeface="Calibri"/>
            </a:endParaRPr>
          </a:p>
          <a:p>
            <a:pPr algn="just">
              <a:lnSpc>
                <a:spcPct val="100000"/>
              </a:lnSpc>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0" lang="en-US" sz="1000" spc="-1" strike="noStrike">
                <a:solidFill>
                  <a:srgbClr val="000000"/>
                </a:solidFill>
                <a:latin typeface="メイリオ"/>
                <a:ea typeface="メイリオ"/>
              </a:rPr>
              <a:t>◎</a:t>
            </a:r>
            <a:r>
              <a:rPr b="0" lang="ja-JP" sz="1000" spc="-1" strike="noStrike">
                <a:solidFill>
                  <a:srgbClr val="000000"/>
                </a:solidFill>
                <a:latin typeface="メイリオ"/>
                <a:ea typeface="メイリオ"/>
              </a:rPr>
              <a:t>デザインテンプレを重ねた後、更に画像の配置やサイズを微調整したい場合「ホーム」タブ▶ 「編集」タブの</a:t>
            </a:r>
            <a:endParaRPr b="0" lang="en-US" sz="1000" spc="-1" strike="noStrike">
              <a:solidFill>
                <a:srgbClr val="000000"/>
              </a:solidFill>
              <a:latin typeface="Calibri"/>
            </a:endParaRPr>
          </a:p>
          <a:p>
            <a:pPr algn="just">
              <a:lnSpc>
                <a:spcPct val="100000"/>
              </a:lnSpc>
              <a:tabLst>
                <a:tab algn="l" pos="0"/>
                <a:tab algn="l" pos="382680"/>
                <a:tab algn="l" pos="765000"/>
                <a:tab algn="l" pos="1147680"/>
                <a:tab algn="l" pos="1530360"/>
                <a:tab algn="l" pos="1913040"/>
                <a:tab algn="l" pos="2295360"/>
                <a:tab algn="l" pos="2678040"/>
                <a:tab algn="l" pos="3060720"/>
                <a:tab algn="l" pos="3443400"/>
                <a:tab algn="l" pos="3825720"/>
                <a:tab algn="l" pos="4208400"/>
                <a:tab algn="l" pos="4591080"/>
                <a:tab algn="l" pos="4973760"/>
                <a:tab algn="l" pos="5356080"/>
                <a:tab algn="l" pos="5738760"/>
                <a:tab algn="l" pos="6121440"/>
                <a:tab algn="l" pos="6504120"/>
                <a:tab algn="l" pos="6886440"/>
                <a:tab algn="l" pos="7269120"/>
                <a:tab algn="l" pos="7651800"/>
              </a:tabLst>
            </a:pPr>
            <a:r>
              <a:rPr b="0" lang="ja-JP" sz="1000" spc="-1" strike="noStrike">
                <a:solidFill>
                  <a:srgbClr val="000000"/>
                </a:solidFill>
                <a:latin typeface="メイリオ"/>
                <a:ea typeface="メイリオ"/>
              </a:rPr>
              <a:t> </a:t>
            </a:r>
            <a:r>
              <a:rPr b="0" lang="ja-JP" sz="1000" spc="-1" strike="noStrike">
                <a:solidFill>
                  <a:srgbClr val="000000"/>
                </a:solidFill>
                <a:latin typeface="メイリオ"/>
                <a:ea typeface="メイリオ"/>
              </a:rPr>
              <a:t>「選択」▶「オブジェクトの選択と表示</a:t>
            </a:r>
            <a:r>
              <a:rPr b="0" lang="en-US" sz="1000" spc="-1" strike="noStrike">
                <a:solidFill>
                  <a:srgbClr val="000000"/>
                </a:solidFill>
                <a:latin typeface="メイリオ"/>
                <a:ea typeface="メイリオ"/>
              </a:rPr>
              <a:t>(P)</a:t>
            </a:r>
            <a:r>
              <a:rPr b="0" lang="ja-JP" sz="1000" spc="-1" strike="noStrike">
                <a:solidFill>
                  <a:srgbClr val="000000"/>
                </a:solidFill>
                <a:latin typeface="メイリオ"/>
                <a:ea typeface="メイリオ"/>
              </a:rPr>
              <a:t>」を選択します。編集したい画像にカーソルをあてて調整できます。</a:t>
            </a:r>
            <a:endParaRPr b="0" lang="en-US" sz="1000" spc="-1" strike="noStrike">
              <a:solidFill>
                <a:srgbClr val="000000"/>
              </a:solidFill>
              <a:latin typeface="Calibri"/>
            </a:endParaRPr>
          </a:p>
        </p:txBody>
      </p:sp>
      <p:sp>
        <p:nvSpPr>
          <p:cNvPr id="133" name="テキスト ボックス 37"/>
          <p:cNvSpPr/>
          <p:nvPr/>
        </p:nvSpPr>
        <p:spPr>
          <a:xfrm>
            <a:off x="811080" y="-1498680"/>
            <a:ext cx="6897960" cy="698760"/>
          </a:xfrm>
          <a:prstGeom prst="rect">
            <a:avLst/>
          </a:prstGeom>
          <a:noFill/>
          <a:ln w="0">
            <a:noFill/>
          </a:ln>
        </p:spPr>
        <p:style>
          <a:lnRef idx="0"/>
          <a:fillRef idx="0"/>
          <a:effectRef idx="0"/>
          <a:fontRef idx="minor"/>
        </p:style>
        <p:txBody>
          <a:bodyPr lIns="89280" rIns="89280" tIns="44640" bIns="4464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メイリオ"/>
                <a:ea typeface="メイリオ"/>
              </a:rPr>
              <a:t>1.</a:t>
            </a:r>
            <a:r>
              <a:rPr b="1" lang="ja-JP" sz="1000" spc="-1" strike="noStrike">
                <a:solidFill>
                  <a:srgbClr val="000000"/>
                </a:solidFill>
                <a:latin typeface="メイリオ"/>
                <a:ea typeface="メイリオ"/>
              </a:rPr>
              <a:t>画像を貼る ・・・・・・ </a:t>
            </a:r>
            <a:r>
              <a:rPr b="0" lang="ja-JP" sz="1000" spc="-1" strike="noStrike">
                <a:solidFill>
                  <a:srgbClr val="000000"/>
                </a:solidFill>
                <a:latin typeface="メイリオ"/>
                <a:ea typeface="メイリオ"/>
              </a:rPr>
              <a:t>画像アイコンをクリックして入れたい画像を追加しサイズ調整します</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メイリオ"/>
                <a:ea typeface="メイリオ"/>
              </a:rPr>
              <a:t>2.</a:t>
            </a:r>
            <a:r>
              <a:rPr b="1" lang="ja-JP" sz="1000" spc="-1" strike="noStrike">
                <a:solidFill>
                  <a:srgbClr val="000000"/>
                </a:solidFill>
                <a:latin typeface="メイリオ"/>
                <a:ea typeface="メイリオ"/>
              </a:rPr>
              <a:t>フレームを重ねる・・・ </a:t>
            </a:r>
            <a:r>
              <a:rPr b="0" lang="ja-JP" sz="1000" spc="-1" strike="noStrike">
                <a:solidFill>
                  <a:srgbClr val="000000"/>
                </a:solidFill>
                <a:latin typeface="メイリオ"/>
                <a:ea typeface="メイリオ"/>
              </a:rPr>
              <a:t>右のデザインテンプレを画像の上に重ねます</a:t>
            </a:r>
            <a:r>
              <a:rPr b="0" lang="en-US" sz="1000" spc="-1" strike="noStrike">
                <a:solidFill>
                  <a:srgbClr val="000000"/>
                </a:solidFill>
                <a:latin typeface="メイリオ"/>
                <a:ea typeface="メイリオ"/>
              </a:rPr>
              <a:t>(※)</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メイリオ"/>
                <a:ea typeface="メイリオ"/>
              </a:rPr>
              <a:t>3.PDF</a:t>
            </a:r>
            <a:r>
              <a:rPr b="1" lang="ja-JP" sz="1000" spc="-1" strike="noStrike">
                <a:solidFill>
                  <a:srgbClr val="000000"/>
                </a:solidFill>
                <a:latin typeface="メイリオ"/>
                <a:ea typeface="メイリオ"/>
              </a:rPr>
              <a:t>で保存をする</a:t>
            </a:r>
            <a:r>
              <a:rPr b="0" lang="ja-JP" sz="1000" spc="-1" strike="noStrike">
                <a:solidFill>
                  <a:srgbClr val="000000"/>
                </a:solidFill>
                <a:latin typeface="メイリオ"/>
                <a:ea typeface="メイリオ"/>
              </a:rPr>
              <a:t>・・・「ファイル」タブ▶「名前を付けて保存</a:t>
            </a:r>
            <a:r>
              <a:rPr b="0" lang="en-US" sz="1000" spc="-1" strike="noStrike">
                <a:solidFill>
                  <a:srgbClr val="000000"/>
                </a:solidFill>
                <a:latin typeface="メイリオ"/>
                <a:ea typeface="メイリオ"/>
              </a:rPr>
              <a:t>(A)</a:t>
            </a:r>
            <a:r>
              <a:rPr b="0" lang="ja-JP" sz="1000" spc="-1" strike="noStrike">
                <a:solidFill>
                  <a:srgbClr val="000000"/>
                </a:solidFill>
                <a:latin typeface="メイリオ"/>
                <a:ea typeface="メイリオ"/>
              </a:rPr>
              <a:t>」▶ファイルの種類</a:t>
            </a:r>
            <a:r>
              <a:rPr b="0" lang="en-US" sz="1000" spc="-1" strike="noStrike">
                <a:solidFill>
                  <a:srgbClr val="000000"/>
                </a:solidFill>
                <a:latin typeface="メイリオ"/>
                <a:ea typeface="メイリオ"/>
              </a:rPr>
              <a:t>(T)</a:t>
            </a:r>
            <a:r>
              <a:rPr b="0" lang="ja-JP" sz="1000" spc="-1" strike="noStrike">
                <a:solidFill>
                  <a:srgbClr val="000000"/>
                </a:solidFill>
                <a:latin typeface="メイリオ"/>
                <a:ea typeface="メイリオ"/>
              </a:rPr>
              <a:t>で</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000" spc="-1" strike="noStrike">
                <a:solidFill>
                  <a:srgbClr val="000000"/>
                </a:solidFill>
                <a:latin typeface="メイリオ"/>
                <a:ea typeface="メイリオ"/>
              </a:rPr>
              <a:t>　　　　　　　　　　　　 「</a:t>
            </a:r>
            <a:r>
              <a:rPr b="0" lang="en-US" sz="1000" spc="-1" strike="noStrike">
                <a:solidFill>
                  <a:srgbClr val="000000"/>
                </a:solidFill>
                <a:latin typeface="メイリオ"/>
                <a:ea typeface="メイリオ"/>
              </a:rPr>
              <a:t>PDF(*.PDF )</a:t>
            </a:r>
            <a:r>
              <a:rPr b="0" lang="ja-JP" sz="1000" spc="-1" strike="noStrike">
                <a:solidFill>
                  <a:srgbClr val="000000"/>
                </a:solidFill>
                <a:latin typeface="メイリオ"/>
                <a:ea typeface="メイリオ"/>
              </a:rPr>
              <a:t>」を選んで保存します</a:t>
            </a:r>
            <a:endParaRPr b="0" lang="en-US" sz="1000" spc="-1" strike="noStrike">
              <a:solidFill>
                <a:srgbClr val="000000"/>
              </a:solidFill>
              <a:latin typeface="Calibri"/>
            </a:endParaRPr>
          </a:p>
        </p:txBody>
      </p:sp>
      <p:grpSp>
        <p:nvGrpSpPr>
          <p:cNvPr id="134" name="グループ化 21"/>
          <p:cNvGrpSpPr/>
          <p:nvPr/>
        </p:nvGrpSpPr>
        <p:grpSpPr>
          <a:xfrm>
            <a:off x="0" y="0"/>
            <a:ext cx="3182760" cy="4083120"/>
            <a:chOff x="0" y="0"/>
            <a:chExt cx="3182760" cy="4083120"/>
          </a:xfrm>
        </p:grpSpPr>
        <p:grpSp>
          <p:nvGrpSpPr>
            <p:cNvPr id="135" name="object 2"/>
            <p:cNvGrpSpPr/>
            <p:nvPr/>
          </p:nvGrpSpPr>
          <p:grpSpPr>
            <a:xfrm>
              <a:off x="23040" y="3624120"/>
              <a:ext cx="436320" cy="436320"/>
              <a:chOff x="23040" y="3624120"/>
              <a:chExt cx="436320" cy="436320"/>
            </a:xfrm>
          </p:grpSpPr>
          <p:sp>
            <p:nvSpPr>
              <p:cNvPr id="136" name="object 3"/>
              <p:cNvSpPr/>
              <p:nvPr/>
            </p:nvSpPr>
            <p:spPr>
              <a:xfrm>
                <a:off x="23040" y="3624120"/>
                <a:ext cx="327600" cy="436320"/>
              </a:xfrm>
              <a:custGeom>
                <a:avLst/>
                <a:gdLst/>
                <a:ahLst/>
                <a:rect l="l" t="t" r="r" b="b"/>
                <a:pathLst>
                  <a:path w="324485" h="432435">
                    <a:moveTo>
                      <a:pt x="0" y="0"/>
                    </a:moveTo>
                    <a:lnTo>
                      <a:pt x="324002" y="0"/>
                    </a:lnTo>
                    <a:lnTo>
                      <a:pt x="324002" y="432003"/>
                    </a:lnTo>
                  </a:path>
                </a:pathLst>
              </a:custGeom>
              <a:noFill/>
              <a:ln w="3960">
                <a:solidFill>
                  <a:srgbClr val="000000"/>
                </a:solidFill>
                <a:round/>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137" name="object 4"/>
              <p:cNvSpPr/>
              <p:nvPr/>
            </p:nvSpPr>
            <p:spPr>
              <a:xfrm>
                <a:off x="23040" y="3732840"/>
                <a:ext cx="436320" cy="327600"/>
              </a:xfrm>
              <a:custGeom>
                <a:avLst/>
                <a:gdLst/>
                <a:ahLst/>
                <a:rect l="l" t="t" r="r" b="b"/>
                <a:pathLst>
                  <a:path w="432434" h="324485">
                    <a:moveTo>
                      <a:pt x="432003" y="324002"/>
                    </a:moveTo>
                    <a:lnTo>
                      <a:pt x="432003" y="0"/>
                    </a:lnTo>
                    <a:lnTo>
                      <a:pt x="0" y="0"/>
                    </a:lnTo>
                  </a:path>
                </a:pathLst>
              </a:custGeom>
              <a:noFill/>
              <a:ln w="3960">
                <a:solidFill>
                  <a:srgbClr val="000000"/>
                </a:solidFill>
                <a:round/>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grpSp>
        <p:grpSp>
          <p:nvGrpSpPr>
            <p:cNvPr id="138" name="object 5"/>
            <p:cNvGrpSpPr/>
            <p:nvPr/>
          </p:nvGrpSpPr>
          <p:grpSpPr>
            <a:xfrm>
              <a:off x="23040" y="23040"/>
              <a:ext cx="436320" cy="436320"/>
              <a:chOff x="23040" y="23040"/>
              <a:chExt cx="436320" cy="436320"/>
            </a:xfrm>
          </p:grpSpPr>
          <p:sp>
            <p:nvSpPr>
              <p:cNvPr id="139" name="object 6"/>
              <p:cNvSpPr/>
              <p:nvPr/>
            </p:nvSpPr>
            <p:spPr>
              <a:xfrm>
                <a:off x="23040" y="23040"/>
                <a:ext cx="327600" cy="436320"/>
              </a:xfrm>
              <a:custGeom>
                <a:avLst/>
                <a:gdLst/>
                <a:ahLst/>
                <a:rect l="l" t="t" r="r" b="b"/>
                <a:pathLst>
                  <a:path w="324485" h="432434">
                    <a:moveTo>
                      <a:pt x="0" y="432003"/>
                    </a:moveTo>
                    <a:lnTo>
                      <a:pt x="324002" y="432003"/>
                    </a:lnTo>
                    <a:lnTo>
                      <a:pt x="324002" y="0"/>
                    </a:lnTo>
                  </a:path>
                </a:pathLst>
              </a:custGeom>
              <a:noFill/>
              <a:ln w="3960">
                <a:solidFill>
                  <a:srgbClr val="000000"/>
                </a:solidFill>
                <a:round/>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140" name="object 7"/>
              <p:cNvSpPr/>
              <p:nvPr/>
            </p:nvSpPr>
            <p:spPr>
              <a:xfrm>
                <a:off x="23040" y="23040"/>
                <a:ext cx="436320" cy="327600"/>
              </a:xfrm>
              <a:custGeom>
                <a:avLst/>
                <a:gdLst/>
                <a:ahLst/>
                <a:rect l="l" t="t" r="r" b="b"/>
                <a:pathLst>
                  <a:path w="432434" h="324485">
                    <a:moveTo>
                      <a:pt x="432003" y="0"/>
                    </a:moveTo>
                    <a:lnTo>
                      <a:pt x="432003" y="324002"/>
                    </a:lnTo>
                    <a:lnTo>
                      <a:pt x="0" y="324002"/>
                    </a:lnTo>
                  </a:path>
                </a:pathLst>
              </a:custGeom>
              <a:noFill/>
              <a:ln w="3960">
                <a:solidFill>
                  <a:srgbClr val="000000"/>
                </a:solidFill>
                <a:round/>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grpSp>
        <p:grpSp>
          <p:nvGrpSpPr>
            <p:cNvPr id="141" name="object 8"/>
            <p:cNvGrpSpPr/>
            <p:nvPr/>
          </p:nvGrpSpPr>
          <p:grpSpPr>
            <a:xfrm>
              <a:off x="2723760" y="23040"/>
              <a:ext cx="436320" cy="436320"/>
              <a:chOff x="2723760" y="23040"/>
              <a:chExt cx="436320" cy="436320"/>
            </a:xfrm>
          </p:grpSpPr>
          <p:sp>
            <p:nvSpPr>
              <p:cNvPr id="142" name="object 9"/>
              <p:cNvSpPr/>
              <p:nvPr/>
            </p:nvSpPr>
            <p:spPr>
              <a:xfrm>
                <a:off x="2832480" y="23040"/>
                <a:ext cx="327600" cy="436320"/>
              </a:xfrm>
              <a:custGeom>
                <a:avLst/>
                <a:gdLst/>
                <a:ahLst/>
                <a:rect l="l" t="t" r="r" b="b"/>
                <a:pathLst>
                  <a:path w="324485" h="432434">
                    <a:moveTo>
                      <a:pt x="324002" y="432003"/>
                    </a:moveTo>
                    <a:lnTo>
                      <a:pt x="0" y="432003"/>
                    </a:lnTo>
                    <a:lnTo>
                      <a:pt x="0" y="0"/>
                    </a:lnTo>
                  </a:path>
                </a:pathLst>
              </a:custGeom>
              <a:noFill/>
              <a:ln w="3960">
                <a:solidFill>
                  <a:srgbClr val="000000"/>
                </a:solidFill>
                <a:round/>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143" name="object 10"/>
              <p:cNvSpPr/>
              <p:nvPr/>
            </p:nvSpPr>
            <p:spPr>
              <a:xfrm>
                <a:off x="2723760" y="23040"/>
                <a:ext cx="436320" cy="327600"/>
              </a:xfrm>
              <a:custGeom>
                <a:avLst/>
                <a:gdLst/>
                <a:ahLst/>
                <a:rect l="l" t="t" r="r" b="b"/>
                <a:pathLst>
                  <a:path w="432435" h="324485">
                    <a:moveTo>
                      <a:pt x="0" y="0"/>
                    </a:moveTo>
                    <a:lnTo>
                      <a:pt x="0" y="324002"/>
                    </a:lnTo>
                    <a:lnTo>
                      <a:pt x="432003" y="324002"/>
                    </a:lnTo>
                  </a:path>
                </a:pathLst>
              </a:custGeom>
              <a:noFill/>
              <a:ln w="3960">
                <a:solidFill>
                  <a:srgbClr val="000000"/>
                </a:solidFill>
                <a:round/>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grpSp>
        <p:grpSp>
          <p:nvGrpSpPr>
            <p:cNvPr id="144" name="object 11"/>
            <p:cNvGrpSpPr/>
            <p:nvPr/>
          </p:nvGrpSpPr>
          <p:grpSpPr>
            <a:xfrm>
              <a:off x="2723760" y="3624120"/>
              <a:ext cx="436320" cy="436320"/>
              <a:chOff x="2723760" y="3624120"/>
              <a:chExt cx="436320" cy="436320"/>
            </a:xfrm>
          </p:grpSpPr>
          <p:sp>
            <p:nvSpPr>
              <p:cNvPr id="145" name="object 12"/>
              <p:cNvSpPr/>
              <p:nvPr/>
            </p:nvSpPr>
            <p:spPr>
              <a:xfrm>
                <a:off x="2832480" y="3624120"/>
                <a:ext cx="327600" cy="436320"/>
              </a:xfrm>
              <a:custGeom>
                <a:avLst/>
                <a:gdLst/>
                <a:ahLst/>
                <a:rect l="l" t="t" r="r" b="b"/>
                <a:pathLst>
                  <a:path w="324485" h="432435">
                    <a:moveTo>
                      <a:pt x="324002" y="0"/>
                    </a:moveTo>
                    <a:lnTo>
                      <a:pt x="0" y="0"/>
                    </a:lnTo>
                    <a:lnTo>
                      <a:pt x="0" y="432003"/>
                    </a:lnTo>
                  </a:path>
                </a:pathLst>
              </a:custGeom>
              <a:noFill/>
              <a:ln w="3960">
                <a:solidFill>
                  <a:srgbClr val="000000"/>
                </a:solidFill>
                <a:round/>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146" name="object 13"/>
              <p:cNvSpPr/>
              <p:nvPr/>
            </p:nvSpPr>
            <p:spPr>
              <a:xfrm>
                <a:off x="2723760" y="3732840"/>
                <a:ext cx="436320" cy="327600"/>
              </a:xfrm>
              <a:custGeom>
                <a:avLst/>
                <a:gdLst/>
                <a:ahLst/>
                <a:rect l="l" t="t" r="r" b="b"/>
                <a:pathLst>
                  <a:path w="432435" h="324485">
                    <a:moveTo>
                      <a:pt x="0" y="324002"/>
                    </a:moveTo>
                    <a:lnTo>
                      <a:pt x="0" y="0"/>
                    </a:lnTo>
                    <a:lnTo>
                      <a:pt x="432003" y="0"/>
                    </a:lnTo>
                  </a:path>
                </a:pathLst>
              </a:custGeom>
              <a:noFill/>
              <a:ln w="3960">
                <a:solidFill>
                  <a:srgbClr val="000000"/>
                </a:solidFill>
                <a:round/>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grpSp>
        <p:grpSp>
          <p:nvGrpSpPr>
            <p:cNvPr id="147" name="object 14"/>
            <p:cNvGrpSpPr/>
            <p:nvPr/>
          </p:nvGrpSpPr>
          <p:grpSpPr>
            <a:xfrm>
              <a:off x="0" y="1584360"/>
              <a:ext cx="304560" cy="914400"/>
              <a:chOff x="0" y="1584360"/>
              <a:chExt cx="304560" cy="914400"/>
            </a:xfrm>
          </p:grpSpPr>
          <p:sp>
            <p:nvSpPr>
              <p:cNvPr id="148" name="object 15"/>
              <p:cNvSpPr/>
              <p:nvPr/>
            </p:nvSpPr>
            <p:spPr>
              <a:xfrm>
                <a:off x="0" y="2041560"/>
                <a:ext cx="304560" cy="360"/>
              </a:xfrm>
              <a:custGeom>
                <a:avLst/>
                <a:gdLst/>
                <a:ahLst/>
                <a:rect l="l" t="t" r="r" b="b"/>
                <a:pathLst>
                  <a:path w="304800" h="0">
                    <a:moveTo>
                      <a:pt x="0" y="0"/>
                    </a:moveTo>
                    <a:lnTo>
                      <a:pt x="304800" y="0"/>
                    </a:lnTo>
                  </a:path>
                </a:pathLst>
              </a:custGeom>
              <a:noFill/>
              <a:ln w="3960">
                <a:solidFill>
                  <a:srgbClr val="000000"/>
                </a:solidFill>
                <a:round/>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149" name="object 16"/>
              <p:cNvSpPr/>
              <p:nvPr/>
            </p:nvSpPr>
            <p:spPr>
              <a:xfrm>
                <a:off x="228600" y="1584360"/>
                <a:ext cx="360" cy="914400"/>
              </a:xfrm>
              <a:custGeom>
                <a:avLst/>
                <a:gdLst/>
                <a:ahLst/>
                <a:rect l="l" t="t" r="r" b="b"/>
                <a:pathLst>
                  <a:path w="0" h="914400">
                    <a:moveTo>
                      <a:pt x="0" y="0"/>
                    </a:moveTo>
                    <a:lnTo>
                      <a:pt x="0" y="914400"/>
                    </a:lnTo>
                  </a:path>
                </a:pathLst>
              </a:custGeom>
              <a:noFill/>
              <a:ln w="3960">
                <a:solidFill>
                  <a:srgbClr val="000000"/>
                </a:solidFill>
                <a:round/>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grpSp>
        <p:grpSp>
          <p:nvGrpSpPr>
            <p:cNvPr id="150" name="object 17"/>
            <p:cNvGrpSpPr/>
            <p:nvPr/>
          </p:nvGrpSpPr>
          <p:grpSpPr>
            <a:xfrm>
              <a:off x="2878200" y="1584360"/>
              <a:ext cx="304560" cy="914400"/>
              <a:chOff x="2878200" y="1584360"/>
              <a:chExt cx="304560" cy="914400"/>
            </a:xfrm>
          </p:grpSpPr>
          <p:sp>
            <p:nvSpPr>
              <p:cNvPr id="151" name="object 18"/>
              <p:cNvSpPr/>
              <p:nvPr/>
            </p:nvSpPr>
            <p:spPr>
              <a:xfrm>
                <a:off x="2878200" y="2041560"/>
                <a:ext cx="304560" cy="360"/>
              </a:xfrm>
              <a:custGeom>
                <a:avLst/>
                <a:gdLst/>
                <a:ahLst/>
                <a:rect l="l" t="t" r="r" b="b"/>
                <a:pathLst>
                  <a:path w="304800" h="0">
                    <a:moveTo>
                      <a:pt x="304800" y="0"/>
                    </a:moveTo>
                    <a:lnTo>
                      <a:pt x="0" y="0"/>
                    </a:lnTo>
                  </a:path>
                </a:pathLst>
              </a:custGeom>
              <a:noFill/>
              <a:ln w="3960">
                <a:solidFill>
                  <a:srgbClr val="000000"/>
                </a:solidFill>
                <a:round/>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152" name="object 19"/>
              <p:cNvSpPr/>
              <p:nvPr/>
            </p:nvSpPr>
            <p:spPr>
              <a:xfrm>
                <a:off x="2954160" y="1584360"/>
                <a:ext cx="360" cy="914400"/>
              </a:xfrm>
              <a:custGeom>
                <a:avLst/>
                <a:gdLst/>
                <a:ahLst/>
                <a:rect l="l" t="t" r="r" b="b"/>
                <a:pathLst>
                  <a:path w="0" h="914400">
                    <a:moveTo>
                      <a:pt x="0" y="914400"/>
                    </a:moveTo>
                    <a:lnTo>
                      <a:pt x="0" y="0"/>
                    </a:lnTo>
                  </a:path>
                </a:pathLst>
              </a:custGeom>
              <a:noFill/>
              <a:ln w="3960">
                <a:solidFill>
                  <a:srgbClr val="000000"/>
                </a:solidFill>
                <a:round/>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grpSp>
        <p:grpSp>
          <p:nvGrpSpPr>
            <p:cNvPr id="153" name="object 20"/>
            <p:cNvGrpSpPr/>
            <p:nvPr/>
          </p:nvGrpSpPr>
          <p:grpSpPr>
            <a:xfrm>
              <a:off x="1134000" y="0"/>
              <a:ext cx="914400" cy="304560"/>
              <a:chOff x="1134000" y="0"/>
              <a:chExt cx="914400" cy="304560"/>
            </a:xfrm>
          </p:grpSpPr>
          <p:sp>
            <p:nvSpPr>
              <p:cNvPr id="154" name="object 21"/>
              <p:cNvSpPr/>
              <p:nvPr/>
            </p:nvSpPr>
            <p:spPr>
              <a:xfrm>
                <a:off x="1134000" y="228600"/>
                <a:ext cx="914400" cy="360"/>
              </a:xfrm>
              <a:custGeom>
                <a:avLst/>
                <a:gdLst/>
                <a:ahLst/>
                <a:rect l="l" t="t" r="r" b="b"/>
                <a:pathLst>
                  <a:path w="914400" h="0">
                    <a:moveTo>
                      <a:pt x="0" y="0"/>
                    </a:moveTo>
                    <a:lnTo>
                      <a:pt x="914400" y="0"/>
                    </a:lnTo>
                  </a:path>
                </a:pathLst>
              </a:custGeom>
              <a:noFill/>
              <a:ln w="3960">
                <a:solidFill>
                  <a:srgbClr val="000000"/>
                </a:solidFill>
                <a:round/>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155" name="object 22"/>
              <p:cNvSpPr/>
              <p:nvPr/>
            </p:nvSpPr>
            <p:spPr>
              <a:xfrm>
                <a:off x="1591200" y="0"/>
                <a:ext cx="360" cy="304560"/>
              </a:xfrm>
              <a:custGeom>
                <a:avLst/>
                <a:gdLst/>
                <a:ahLst/>
                <a:rect l="l" t="t" r="r" b="b"/>
                <a:pathLst>
                  <a:path w="0" h="304800">
                    <a:moveTo>
                      <a:pt x="0" y="0"/>
                    </a:moveTo>
                    <a:lnTo>
                      <a:pt x="0" y="304800"/>
                    </a:lnTo>
                  </a:path>
                </a:pathLst>
              </a:custGeom>
              <a:noFill/>
              <a:ln w="3960">
                <a:solidFill>
                  <a:srgbClr val="000000"/>
                </a:solidFill>
                <a:round/>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grpSp>
        <p:grpSp>
          <p:nvGrpSpPr>
            <p:cNvPr id="156" name="object 23"/>
            <p:cNvGrpSpPr/>
            <p:nvPr/>
          </p:nvGrpSpPr>
          <p:grpSpPr>
            <a:xfrm>
              <a:off x="1134000" y="3778560"/>
              <a:ext cx="914400" cy="304560"/>
              <a:chOff x="1134000" y="3778560"/>
              <a:chExt cx="914400" cy="304560"/>
            </a:xfrm>
          </p:grpSpPr>
          <p:sp>
            <p:nvSpPr>
              <p:cNvPr id="157" name="object 24"/>
              <p:cNvSpPr/>
              <p:nvPr/>
            </p:nvSpPr>
            <p:spPr>
              <a:xfrm>
                <a:off x="1134000" y="3854520"/>
                <a:ext cx="914400" cy="360"/>
              </a:xfrm>
              <a:custGeom>
                <a:avLst/>
                <a:gdLst/>
                <a:ahLst/>
                <a:rect l="l" t="t" r="r" b="b"/>
                <a:pathLst>
                  <a:path w="914400" h="0">
                    <a:moveTo>
                      <a:pt x="914400" y="0"/>
                    </a:moveTo>
                    <a:lnTo>
                      <a:pt x="0" y="0"/>
                    </a:lnTo>
                  </a:path>
                </a:pathLst>
              </a:custGeom>
              <a:noFill/>
              <a:ln w="3960">
                <a:solidFill>
                  <a:srgbClr val="000000"/>
                </a:solidFill>
                <a:round/>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158" name="object 25"/>
              <p:cNvSpPr/>
              <p:nvPr/>
            </p:nvSpPr>
            <p:spPr>
              <a:xfrm>
                <a:off x="1591200" y="3778560"/>
                <a:ext cx="360" cy="304560"/>
              </a:xfrm>
              <a:custGeom>
                <a:avLst/>
                <a:gdLst/>
                <a:ahLst/>
                <a:rect l="l" t="t" r="r" b="b"/>
                <a:pathLst>
                  <a:path w="0" h="304800">
                    <a:moveTo>
                      <a:pt x="0" y="304800"/>
                    </a:moveTo>
                    <a:lnTo>
                      <a:pt x="0" y="0"/>
                    </a:lnTo>
                  </a:path>
                </a:pathLst>
              </a:custGeom>
              <a:noFill/>
              <a:ln w="3960">
                <a:solidFill>
                  <a:srgbClr val="000000"/>
                </a:solidFill>
                <a:round/>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grpSp>
      </p:grpSp>
      <p:sp>
        <p:nvSpPr>
          <p:cNvPr id="159" name="PlaceHolder 1"/>
          <p:cNvSpPr>
            <a:spLocks noGrp="1"/>
          </p:cNvSpPr>
          <p:nvPr>
            <p:ph type="title"/>
          </p:nvPr>
        </p:nvSpPr>
        <p:spPr>
          <a:xfrm>
            <a:off x="219240" y="217440"/>
            <a:ext cx="2744640" cy="789120"/>
          </a:xfrm>
          <a:prstGeom prst="rect">
            <a:avLst/>
          </a:prstGeom>
          <a:noFill/>
          <a:ln w="0">
            <a:noFill/>
          </a:ln>
        </p:spPr>
        <p:txBody>
          <a:bodyPr lIns="90000" rIns="90000" tIns="46800" bIns="46800" anchor="ctr">
            <a:noAutofit/>
          </a:bodyPr>
          <a:p>
            <a:pPr indent="0">
              <a:lnSpc>
                <a:spcPct val="90000"/>
              </a:lnSpc>
              <a:buNone/>
              <a:tabLst>
                <a:tab algn="l" pos="0"/>
                <a:tab algn="l" pos="317520"/>
                <a:tab algn="l" pos="635040"/>
                <a:tab algn="l" pos="952560"/>
                <a:tab algn="l" pos="1270080"/>
                <a:tab algn="l" pos="1587600"/>
                <a:tab algn="l" pos="1905120"/>
                <a:tab algn="l" pos="2222640"/>
                <a:tab algn="l" pos="2540160"/>
                <a:tab algn="l" pos="2857680"/>
                <a:tab algn="l" pos="3174840"/>
                <a:tab algn="l" pos="3492360"/>
                <a:tab algn="l" pos="3809880"/>
                <a:tab algn="l" pos="4127400"/>
                <a:tab algn="l" pos="4444920"/>
                <a:tab algn="l" pos="4762440"/>
                <a:tab algn="l" pos="5079960"/>
                <a:tab algn="l" pos="5397480"/>
                <a:tab algn="l" pos="5715000"/>
                <a:tab algn="l" pos="6032520"/>
                <a:tab algn="l" pos="6350040"/>
              </a:tabLst>
            </a:pPr>
            <a:r>
              <a:rPr b="0" lang="en-US" sz="1500" spc="-1" strike="noStrike">
                <a:solidFill>
                  <a:srgbClr val="000000"/>
                </a:solidFill>
                <a:latin typeface="Calibri Light"/>
              </a:rPr>
              <a:t>Click to edit the title text format</a:t>
            </a:r>
            <a:endParaRPr b="0" lang="en-US" sz="1500" spc="-1" strike="noStrike">
              <a:solidFill>
                <a:srgbClr val="000000"/>
              </a:solidFill>
              <a:latin typeface="Calibri Light"/>
            </a:endParaRPr>
          </a:p>
        </p:txBody>
      </p:sp>
      <p:sp>
        <p:nvSpPr>
          <p:cNvPr id="160" name="PlaceHolder 2"/>
          <p:cNvSpPr>
            <a:spLocks noGrp="1"/>
          </p:cNvSpPr>
          <p:nvPr>
            <p:ph type="body"/>
          </p:nvPr>
        </p:nvSpPr>
        <p:spPr>
          <a:xfrm>
            <a:off x="219240" y="1087560"/>
            <a:ext cx="2744640" cy="2590560"/>
          </a:xfrm>
          <a:prstGeom prst="rect">
            <a:avLst/>
          </a:prstGeom>
          <a:noFill/>
          <a:ln w="0">
            <a:noFill/>
          </a:ln>
        </p:spPr>
        <p:txBody>
          <a:bodyPr lIns="90000" rIns="90000" tIns="46800" bIns="46800" anchor="t">
            <a:normAutofit/>
          </a:bodyPr>
          <a:p>
            <a:pPr marL="79200" indent="-79200">
              <a:lnSpc>
                <a:spcPct val="90000"/>
              </a:lnSpc>
              <a:spcBef>
                <a:spcPts val="349"/>
              </a:spcBef>
              <a:buClr>
                <a:srgbClr val="000000"/>
              </a:buClr>
              <a:buFont typeface="Arial"/>
              <a:buChar char="•"/>
              <a:tabLst>
                <a:tab algn="l" pos="317520"/>
                <a:tab algn="l" pos="635040"/>
                <a:tab algn="l" pos="952560"/>
                <a:tab algn="l" pos="1270080"/>
                <a:tab algn="l" pos="1587600"/>
                <a:tab algn="l" pos="1905120"/>
                <a:tab algn="l" pos="2222640"/>
                <a:tab algn="l" pos="2540160"/>
                <a:tab algn="l" pos="2857680"/>
                <a:tab algn="l" pos="3174840"/>
                <a:tab algn="l" pos="3492360"/>
                <a:tab algn="l" pos="3809880"/>
                <a:tab algn="l" pos="4127400"/>
                <a:tab algn="l" pos="4444920"/>
                <a:tab algn="l" pos="4762440"/>
                <a:tab algn="l" pos="5079960"/>
                <a:tab algn="l" pos="5397480"/>
                <a:tab algn="l" pos="5715000"/>
                <a:tab algn="l" pos="6032520"/>
                <a:tab algn="l" pos="6350040"/>
              </a:tabLst>
            </a:pPr>
            <a:r>
              <a:rPr b="0" lang="en-US" sz="900" spc="-1" strike="noStrike">
                <a:solidFill>
                  <a:srgbClr val="000000"/>
                </a:solidFill>
                <a:latin typeface="Calibri"/>
              </a:rPr>
              <a:t>Click to edit the outline text format</a:t>
            </a:r>
            <a:endParaRPr b="0" lang="en-US" sz="900" spc="-1" strike="noStrike">
              <a:solidFill>
                <a:srgbClr val="000000"/>
              </a:solidFill>
              <a:latin typeface="Calibri"/>
            </a:endParaRPr>
          </a:p>
          <a:p>
            <a:pPr lvl="1" marL="237960" indent="-79200">
              <a:lnSpc>
                <a:spcPct val="90000"/>
              </a:lnSpc>
              <a:spcBef>
                <a:spcPts val="349"/>
              </a:spcBef>
              <a:buClr>
                <a:srgbClr val="000000"/>
              </a:buClr>
              <a:buFont typeface="Arial"/>
              <a:buChar char="•"/>
              <a:tabLst>
                <a:tab algn="l" pos="317520"/>
                <a:tab algn="l" pos="635040"/>
                <a:tab algn="l" pos="952560"/>
                <a:tab algn="l" pos="1270080"/>
                <a:tab algn="l" pos="1587600"/>
                <a:tab algn="l" pos="1905120"/>
                <a:tab algn="l" pos="2222640"/>
                <a:tab algn="l" pos="2540160"/>
                <a:tab algn="l" pos="2857680"/>
                <a:tab algn="l" pos="3174840"/>
                <a:tab algn="l" pos="3492360"/>
                <a:tab algn="l" pos="3809880"/>
                <a:tab algn="l" pos="4127400"/>
                <a:tab algn="l" pos="4444920"/>
                <a:tab algn="l" pos="4762440"/>
                <a:tab algn="l" pos="5079960"/>
                <a:tab algn="l" pos="5397480"/>
                <a:tab algn="l" pos="5715000"/>
                <a:tab algn="l" pos="6032520"/>
                <a:tab algn="l" pos="6350040"/>
              </a:tabLst>
            </a:pPr>
            <a:r>
              <a:rPr b="0" lang="en-US" sz="900" spc="-1" strike="noStrike">
                <a:solidFill>
                  <a:srgbClr val="000000"/>
                </a:solidFill>
                <a:latin typeface="Calibri"/>
              </a:rPr>
              <a:t>Second Outline Level</a:t>
            </a:r>
            <a:endParaRPr b="0" lang="en-US" sz="900" spc="-1" strike="noStrike">
              <a:solidFill>
                <a:srgbClr val="000000"/>
              </a:solidFill>
              <a:latin typeface="Calibri"/>
            </a:endParaRPr>
          </a:p>
          <a:p>
            <a:pPr lvl="2" marL="396720" indent="-79200">
              <a:lnSpc>
                <a:spcPct val="90000"/>
              </a:lnSpc>
              <a:spcBef>
                <a:spcPts val="349"/>
              </a:spcBef>
              <a:buClr>
                <a:srgbClr val="000000"/>
              </a:buClr>
              <a:buFont typeface="Arial"/>
              <a:buChar char="•"/>
              <a:tabLst>
                <a:tab algn="l" pos="317520"/>
                <a:tab algn="l" pos="635040"/>
                <a:tab algn="l" pos="952560"/>
                <a:tab algn="l" pos="1270080"/>
                <a:tab algn="l" pos="1587600"/>
                <a:tab algn="l" pos="1905120"/>
                <a:tab algn="l" pos="2222640"/>
                <a:tab algn="l" pos="2540160"/>
                <a:tab algn="l" pos="2857680"/>
                <a:tab algn="l" pos="3174840"/>
                <a:tab algn="l" pos="3492360"/>
                <a:tab algn="l" pos="3809880"/>
                <a:tab algn="l" pos="4127400"/>
                <a:tab algn="l" pos="4444920"/>
                <a:tab algn="l" pos="4762440"/>
                <a:tab algn="l" pos="5079960"/>
                <a:tab algn="l" pos="5397480"/>
                <a:tab algn="l" pos="5715000"/>
                <a:tab algn="l" pos="6032520"/>
                <a:tab algn="l" pos="6350040"/>
              </a:tabLst>
            </a:pPr>
            <a:r>
              <a:rPr b="0" lang="en-US" sz="900" spc="-1" strike="noStrike">
                <a:solidFill>
                  <a:srgbClr val="000000"/>
                </a:solidFill>
                <a:latin typeface="Calibri"/>
              </a:rPr>
              <a:t>Third Outline Level</a:t>
            </a:r>
            <a:endParaRPr b="0" lang="en-US" sz="900" spc="-1" strike="noStrike">
              <a:solidFill>
                <a:srgbClr val="000000"/>
              </a:solidFill>
              <a:latin typeface="Calibri"/>
            </a:endParaRPr>
          </a:p>
          <a:p>
            <a:pPr lvl="3" marL="555480" indent="-79200">
              <a:lnSpc>
                <a:spcPct val="90000"/>
              </a:lnSpc>
              <a:spcBef>
                <a:spcPts val="349"/>
              </a:spcBef>
              <a:buClr>
                <a:srgbClr val="000000"/>
              </a:buClr>
              <a:buFont typeface="Arial"/>
              <a:buChar char="•"/>
              <a:tabLst>
                <a:tab algn="l" pos="317520"/>
                <a:tab algn="l" pos="635040"/>
                <a:tab algn="l" pos="952560"/>
                <a:tab algn="l" pos="1270080"/>
                <a:tab algn="l" pos="1587600"/>
                <a:tab algn="l" pos="1905120"/>
                <a:tab algn="l" pos="2222640"/>
                <a:tab algn="l" pos="2540160"/>
                <a:tab algn="l" pos="2857680"/>
                <a:tab algn="l" pos="3174840"/>
                <a:tab algn="l" pos="3492360"/>
                <a:tab algn="l" pos="3809880"/>
                <a:tab algn="l" pos="4127400"/>
                <a:tab algn="l" pos="4444920"/>
                <a:tab algn="l" pos="4762440"/>
                <a:tab algn="l" pos="5079960"/>
                <a:tab algn="l" pos="5397480"/>
                <a:tab algn="l" pos="5715000"/>
                <a:tab algn="l" pos="6032520"/>
                <a:tab algn="l" pos="6350040"/>
              </a:tabLst>
            </a:pPr>
            <a:r>
              <a:rPr b="0" lang="en-US" sz="900" spc="-1" strike="noStrike">
                <a:solidFill>
                  <a:srgbClr val="000000"/>
                </a:solidFill>
                <a:latin typeface="Calibri"/>
              </a:rPr>
              <a:t>Fourth Outline Level</a:t>
            </a:r>
            <a:endParaRPr b="0" lang="en-US" sz="900" spc="-1" strike="noStrike">
              <a:solidFill>
                <a:srgbClr val="000000"/>
              </a:solidFill>
              <a:latin typeface="Calibri"/>
            </a:endParaRPr>
          </a:p>
          <a:p>
            <a:pPr lvl="4" marL="716040" indent="-79560">
              <a:lnSpc>
                <a:spcPct val="90000"/>
              </a:lnSpc>
              <a:spcBef>
                <a:spcPts val="349"/>
              </a:spcBef>
              <a:buClr>
                <a:srgbClr val="000000"/>
              </a:buClr>
              <a:buFont typeface="Arial"/>
              <a:buChar char="•"/>
              <a:tabLst>
                <a:tab algn="l" pos="317520"/>
                <a:tab algn="l" pos="635040"/>
                <a:tab algn="l" pos="952560"/>
                <a:tab algn="l" pos="1270080"/>
                <a:tab algn="l" pos="1587600"/>
                <a:tab algn="l" pos="1905120"/>
                <a:tab algn="l" pos="2222640"/>
                <a:tab algn="l" pos="2540160"/>
                <a:tab algn="l" pos="2857680"/>
                <a:tab algn="l" pos="3174840"/>
                <a:tab algn="l" pos="3492360"/>
                <a:tab algn="l" pos="3809880"/>
                <a:tab algn="l" pos="4127400"/>
                <a:tab algn="l" pos="4444920"/>
                <a:tab algn="l" pos="4762440"/>
                <a:tab algn="l" pos="5079960"/>
                <a:tab algn="l" pos="5397480"/>
                <a:tab algn="l" pos="5715000"/>
                <a:tab algn="l" pos="6032520"/>
                <a:tab algn="l" pos="6350040"/>
              </a:tabLst>
            </a:pPr>
            <a:r>
              <a:rPr b="0" lang="en-US" sz="900" spc="-1" strike="noStrike">
                <a:solidFill>
                  <a:srgbClr val="000000"/>
                </a:solidFill>
                <a:latin typeface="Calibri"/>
              </a:rPr>
              <a:t>Fifth Outline Level</a:t>
            </a:r>
            <a:endParaRPr b="0" lang="en-US" sz="900" spc="-1" strike="noStrike">
              <a:solidFill>
                <a:srgbClr val="000000"/>
              </a:solidFill>
              <a:latin typeface="Calibri"/>
            </a:endParaRPr>
          </a:p>
          <a:p>
            <a:pPr lvl="5" marL="716040" indent="-79560">
              <a:lnSpc>
                <a:spcPct val="90000"/>
              </a:lnSpc>
              <a:spcBef>
                <a:spcPts val="349"/>
              </a:spcBef>
              <a:buClr>
                <a:srgbClr val="000000"/>
              </a:buClr>
              <a:buFont typeface="Arial"/>
              <a:buChar char="•"/>
              <a:tabLst>
                <a:tab algn="l" pos="317520"/>
                <a:tab algn="l" pos="635040"/>
                <a:tab algn="l" pos="952560"/>
                <a:tab algn="l" pos="1270080"/>
                <a:tab algn="l" pos="1587600"/>
                <a:tab algn="l" pos="1905120"/>
                <a:tab algn="l" pos="2222640"/>
                <a:tab algn="l" pos="2540160"/>
                <a:tab algn="l" pos="2857680"/>
                <a:tab algn="l" pos="3174840"/>
                <a:tab algn="l" pos="3492360"/>
                <a:tab algn="l" pos="3809880"/>
                <a:tab algn="l" pos="4127400"/>
                <a:tab algn="l" pos="4444920"/>
                <a:tab algn="l" pos="4762440"/>
                <a:tab algn="l" pos="5079960"/>
                <a:tab algn="l" pos="5397480"/>
                <a:tab algn="l" pos="5715000"/>
                <a:tab algn="l" pos="6032520"/>
                <a:tab algn="l" pos="6350040"/>
              </a:tabLst>
            </a:pPr>
            <a:r>
              <a:rPr b="0" lang="en-US" sz="900" spc="-1" strike="noStrike">
                <a:solidFill>
                  <a:srgbClr val="000000"/>
                </a:solidFill>
                <a:latin typeface="Calibri"/>
              </a:rPr>
              <a:t>Sixth Outline Level</a:t>
            </a:r>
            <a:endParaRPr b="0" lang="en-US" sz="900" spc="-1" strike="noStrike">
              <a:solidFill>
                <a:srgbClr val="000000"/>
              </a:solidFill>
              <a:latin typeface="Calibri"/>
            </a:endParaRPr>
          </a:p>
          <a:p>
            <a:pPr lvl="6" marL="716040" indent="-79560">
              <a:lnSpc>
                <a:spcPct val="90000"/>
              </a:lnSpc>
              <a:spcBef>
                <a:spcPts val="349"/>
              </a:spcBef>
              <a:buClr>
                <a:srgbClr val="000000"/>
              </a:buClr>
              <a:buFont typeface="Arial"/>
              <a:buChar char="•"/>
              <a:tabLst>
                <a:tab algn="l" pos="317520"/>
                <a:tab algn="l" pos="635040"/>
                <a:tab algn="l" pos="952560"/>
                <a:tab algn="l" pos="1270080"/>
                <a:tab algn="l" pos="1587600"/>
                <a:tab algn="l" pos="1905120"/>
                <a:tab algn="l" pos="2222640"/>
                <a:tab algn="l" pos="2540160"/>
                <a:tab algn="l" pos="2857680"/>
                <a:tab algn="l" pos="3174840"/>
                <a:tab algn="l" pos="3492360"/>
                <a:tab algn="l" pos="3809880"/>
                <a:tab algn="l" pos="4127400"/>
                <a:tab algn="l" pos="4444920"/>
                <a:tab algn="l" pos="4762440"/>
                <a:tab algn="l" pos="5079960"/>
                <a:tab algn="l" pos="5397480"/>
                <a:tab algn="l" pos="5715000"/>
                <a:tab algn="l" pos="6032520"/>
                <a:tab algn="l" pos="6350040"/>
              </a:tabLst>
            </a:pPr>
            <a:r>
              <a:rPr b="0" lang="en-US" sz="900" spc="-1" strike="noStrike">
                <a:solidFill>
                  <a:srgbClr val="000000"/>
                </a:solidFill>
                <a:latin typeface="Calibri"/>
              </a:rPr>
              <a:t>Seventh Outline Level</a:t>
            </a:r>
            <a:endParaRPr b="0" lang="en-US" sz="9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13.png"/><Relationship Id="rId4"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14.png"/><Relationship Id="rId4"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15.png"/><Relationship Id="rId4"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6.png"/><Relationship Id="rId3"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7.png"/><Relationship Id="rId3"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5.png"/><Relationship Id="rId4"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6.png"/><Relationship Id="rId4"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7.png"/><Relationship Id="rId4"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8.png"/><Relationship Id="rId4"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9.png"/><Relationship Id="rId4"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10.png"/><Relationship Id="rId4"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11.png"/><Relationship Id="rId4"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12.png"/><Relationship Id="rId4"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4" name="" descr=""/>
          <p:cNvPicPr/>
          <p:nvPr/>
        </p:nvPicPr>
        <p:blipFill>
          <a:blip r:embed="rId1"/>
          <a:stretch/>
        </p:blipFill>
        <p:spPr>
          <a:xfrm>
            <a:off x="912960" y="574560"/>
            <a:ext cx="1357200" cy="1301760"/>
          </a:xfrm>
          <a:prstGeom prst="rect">
            <a:avLst/>
          </a:prstGeom>
          <a:ln w="0">
            <a:noFill/>
          </a:ln>
        </p:spPr>
      </p:pic>
      <p:pic>
        <p:nvPicPr>
          <p:cNvPr id="205" name="" descr=""/>
          <p:cNvPicPr/>
          <p:nvPr/>
        </p:nvPicPr>
        <p:blipFill>
          <a:blip r:embed="rId2"/>
          <a:stretch/>
        </p:blipFill>
        <p:spPr>
          <a:xfrm>
            <a:off x="912960" y="2205000"/>
            <a:ext cx="1357200" cy="1301760"/>
          </a:xfrm>
          <a:prstGeom prst="rect">
            <a:avLst/>
          </a:prstGeom>
          <a:ln w="0">
            <a:noFill/>
          </a:ln>
        </p:spPr>
      </p:pic>
      <p:pic>
        <p:nvPicPr>
          <p:cNvPr id="206" name="デザインテンプレ" descr="トランプ_テンプレ表面♠J.png"/>
          <p:cNvPicPr/>
          <p:nvPr/>
        </p:nvPicPr>
        <p:blipFill>
          <a:blip r:embed="rId3"/>
          <a:srcRect l="0" t="3524" r="0" b="3524"/>
          <a:stretch/>
        </p:blipFill>
        <p:spPr>
          <a:xfrm>
            <a:off x="4059360" y="325440"/>
            <a:ext cx="2484360" cy="338472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1" name="" descr=""/>
          <p:cNvPicPr/>
          <p:nvPr/>
        </p:nvPicPr>
        <p:blipFill>
          <a:blip r:embed="rId1"/>
          <a:stretch/>
        </p:blipFill>
        <p:spPr>
          <a:xfrm>
            <a:off x="912960" y="574560"/>
            <a:ext cx="1357200" cy="1301760"/>
          </a:xfrm>
          <a:prstGeom prst="rect">
            <a:avLst/>
          </a:prstGeom>
          <a:ln w="0">
            <a:noFill/>
          </a:ln>
        </p:spPr>
      </p:pic>
      <p:pic>
        <p:nvPicPr>
          <p:cNvPr id="232" name="" descr=""/>
          <p:cNvPicPr/>
          <p:nvPr/>
        </p:nvPicPr>
        <p:blipFill>
          <a:blip r:embed="rId2"/>
          <a:stretch/>
        </p:blipFill>
        <p:spPr>
          <a:xfrm>
            <a:off x="912960" y="2205000"/>
            <a:ext cx="1357200" cy="1301760"/>
          </a:xfrm>
          <a:prstGeom prst="rect">
            <a:avLst/>
          </a:prstGeom>
          <a:ln w="0">
            <a:noFill/>
          </a:ln>
        </p:spPr>
      </p:pic>
      <p:pic>
        <p:nvPicPr>
          <p:cNvPr id="233" name="デザインテンプレ" descr="トランプ_テンプレ表面♥J.png"/>
          <p:cNvPicPr/>
          <p:nvPr/>
        </p:nvPicPr>
        <p:blipFill>
          <a:blip r:embed="rId3"/>
          <a:srcRect l="0" t="3524" r="0" b="3524"/>
          <a:stretch/>
        </p:blipFill>
        <p:spPr>
          <a:xfrm>
            <a:off x="4059360" y="325440"/>
            <a:ext cx="2484360" cy="338472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4" name="" descr=""/>
          <p:cNvPicPr/>
          <p:nvPr/>
        </p:nvPicPr>
        <p:blipFill>
          <a:blip r:embed="rId1"/>
          <a:stretch/>
        </p:blipFill>
        <p:spPr>
          <a:xfrm>
            <a:off x="912960" y="574560"/>
            <a:ext cx="1357200" cy="1301760"/>
          </a:xfrm>
          <a:prstGeom prst="rect">
            <a:avLst/>
          </a:prstGeom>
          <a:ln w="0">
            <a:noFill/>
          </a:ln>
        </p:spPr>
      </p:pic>
      <p:pic>
        <p:nvPicPr>
          <p:cNvPr id="235" name="" descr=""/>
          <p:cNvPicPr/>
          <p:nvPr/>
        </p:nvPicPr>
        <p:blipFill>
          <a:blip r:embed="rId2"/>
          <a:stretch/>
        </p:blipFill>
        <p:spPr>
          <a:xfrm>
            <a:off x="912960" y="2205000"/>
            <a:ext cx="1357200" cy="1301760"/>
          </a:xfrm>
          <a:prstGeom prst="rect">
            <a:avLst/>
          </a:prstGeom>
          <a:ln w="0">
            <a:noFill/>
          </a:ln>
        </p:spPr>
      </p:pic>
      <p:pic>
        <p:nvPicPr>
          <p:cNvPr id="236" name="デザインテンプレ" descr="トランプ_テンプレ表面♥Q.png"/>
          <p:cNvPicPr/>
          <p:nvPr/>
        </p:nvPicPr>
        <p:blipFill>
          <a:blip r:embed="rId3"/>
          <a:srcRect l="0" t="3524" r="0" b="3524"/>
          <a:stretch/>
        </p:blipFill>
        <p:spPr>
          <a:xfrm>
            <a:off x="4059360" y="325440"/>
            <a:ext cx="2484360" cy="338472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7" name="" descr=""/>
          <p:cNvPicPr/>
          <p:nvPr/>
        </p:nvPicPr>
        <p:blipFill>
          <a:blip r:embed="rId1"/>
          <a:stretch/>
        </p:blipFill>
        <p:spPr>
          <a:xfrm>
            <a:off x="912960" y="574560"/>
            <a:ext cx="1357200" cy="1301760"/>
          </a:xfrm>
          <a:prstGeom prst="rect">
            <a:avLst/>
          </a:prstGeom>
          <a:ln w="0">
            <a:noFill/>
          </a:ln>
        </p:spPr>
      </p:pic>
      <p:pic>
        <p:nvPicPr>
          <p:cNvPr id="238" name="" descr=""/>
          <p:cNvPicPr/>
          <p:nvPr/>
        </p:nvPicPr>
        <p:blipFill>
          <a:blip r:embed="rId2"/>
          <a:stretch/>
        </p:blipFill>
        <p:spPr>
          <a:xfrm>
            <a:off x="912960" y="2205000"/>
            <a:ext cx="1357200" cy="1301760"/>
          </a:xfrm>
          <a:prstGeom prst="rect">
            <a:avLst/>
          </a:prstGeom>
          <a:ln w="0">
            <a:noFill/>
          </a:ln>
        </p:spPr>
      </p:pic>
      <p:pic>
        <p:nvPicPr>
          <p:cNvPr id="239" name="デザインテンプレ" descr="トランプ_テンプレ表面♥K.png"/>
          <p:cNvPicPr/>
          <p:nvPr/>
        </p:nvPicPr>
        <p:blipFill>
          <a:blip r:embed="rId3"/>
          <a:srcRect l="0" t="3524" r="0" b="3524"/>
          <a:stretch/>
        </p:blipFill>
        <p:spPr>
          <a:xfrm>
            <a:off x="4059360" y="325440"/>
            <a:ext cx="2484360" cy="338472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0" name="" descr=""/>
          <p:cNvPicPr/>
          <p:nvPr/>
        </p:nvPicPr>
        <p:blipFill>
          <a:blip r:embed="rId1"/>
          <a:stretch/>
        </p:blipFill>
        <p:spPr>
          <a:xfrm>
            <a:off x="912960" y="1390680"/>
            <a:ext cx="1357200" cy="1301760"/>
          </a:xfrm>
          <a:prstGeom prst="rect">
            <a:avLst/>
          </a:prstGeom>
          <a:ln w="0">
            <a:noFill/>
          </a:ln>
        </p:spPr>
      </p:pic>
      <p:pic>
        <p:nvPicPr>
          <p:cNvPr id="241" name="デザインテンプレ" descr="トランプ_テンプレ表面Joker紫.png"/>
          <p:cNvPicPr/>
          <p:nvPr/>
        </p:nvPicPr>
        <p:blipFill>
          <a:blip r:embed="rId2"/>
          <a:srcRect l="0" t="3493" r="0" b="3493"/>
          <a:stretch/>
        </p:blipFill>
        <p:spPr>
          <a:xfrm>
            <a:off x="4067280" y="325440"/>
            <a:ext cx="2482920" cy="338472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 descr=""/>
          <p:cNvPicPr/>
          <p:nvPr/>
        </p:nvPicPr>
        <p:blipFill>
          <a:blip r:embed="rId1"/>
          <a:stretch/>
        </p:blipFill>
        <p:spPr>
          <a:xfrm>
            <a:off x="912960" y="1390680"/>
            <a:ext cx="1357200" cy="1301760"/>
          </a:xfrm>
          <a:prstGeom prst="rect">
            <a:avLst/>
          </a:prstGeom>
          <a:ln w="0">
            <a:noFill/>
          </a:ln>
        </p:spPr>
      </p:pic>
      <p:pic>
        <p:nvPicPr>
          <p:cNvPr id="243" name="デザインテンプレ" descr="トランプ_テンプレ表面Joker緑.png"/>
          <p:cNvPicPr/>
          <p:nvPr/>
        </p:nvPicPr>
        <p:blipFill>
          <a:blip r:embed="rId2"/>
          <a:srcRect l="0" t="3493" r="0" b="3493"/>
          <a:stretch/>
        </p:blipFill>
        <p:spPr>
          <a:xfrm>
            <a:off x="4067280" y="325440"/>
            <a:ext cx="2482920" cy="338472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7" name="" descr=""/>
          <p:cNvPicPr/>
          <p:nvPr/>
        </p:nvPicPr>
        <p:blipFill>
          <a:blip r:embed="rId1"/>
          <a:stretch/>
        </p:blipFill>
        <p:spPr>
          <a:xfrm>
            <a:off x="912960" y="574560"/>
            <a:ext cx="1357200" cy="1301760"/>
          </a:xfrm>
          <a:prstGeom prst="rect">
            <a:avLst/>
          </a:prstGeom>
          <a:ln w="0">
            <a:noFill/>
          </a:ln>
        </p:spPr>
      </p:pic>
      <p:pic>
        <p:nvPicPr>
          <p:cNvPr id="208" name="" descr=""/>
          <p:cNvPicPr/>
          <p:nvPr/>
        </p:nvPicPr>
        <p:blipFill>
          <a:blip r:embed="rId2"/>
          <a:stretch/>
        </p:blipFill>
        <p:spPr>
          <a:xfrm>
            <a:off x="912960" y="2205000"/>
            <a:ext cx="1357200" cy="1301760"/>
          </a:xfrm>
          <a:prstGeom prst="rect">
            <a:avLst/>
          </a:prstGeom>
          <a:ln w="0">
            <a:noFill/>
          </a:ln>
        </p:spPr>
      </p:pic>
      <p:pic>
        <p:nvPicPr>
          <p:cNvPr id="209" name="デザインテンプレ" descr="トランプ_テンプレ表面♠Q.png"/>
          <p:cNvPicPr/>
          <p:nvPr/>
        </p:nvPicPr>
        <p:blipFill>
          <a:blip r:embed="rId3"/>
          <a:srcRect l="0" t="3524" r="0" b="3524"/>
          <a:stretch/>
        </p:blipFill>
        <p:spPr>
          <a:xfrm>
            <a:off x="4059360" y="325440"/>
            <a:ext cx="2484360" cy="338472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0" name="" descr=""/>
          <p:cNvPicPr/>
          <p:nvPr/>
        </p:nvPicPr>
        <p:blipFill>
          <a:blip r:embed="rId1"/>
          <a:stretch/>
        </p:blipFill>
        <p:spPr>
          <a:xfrm>
            <a:off x="912960" y="574560"/>
            <a:ext cx="1357200" cy="1301760"/>
          </a:xfrm>
          <a:prstGeom prst="rect">
            <a:avLst/>
          </a:prstGeom>
          <a:ln w="0">
            <a:noFill/>
          </a:ln>
        </p:spPr>
      </p:pic>
      <p:pic>
        <p:nvPicPr>
          <p:cNvPr id="211" name="" descr=""/>
          <p:cNvPicPr/>
          <p:nvPr/>
        </p:nvPicPr>
        <p:blipFill>
          <a:blip r:embed="rId2"/>
          <a:stretch/>
        </p:blipFill>
        <p:spPr>
          <a:xfrm>
            <a:off x="912960" y="2205000"/>
            <a:ext cx="1357200" cy="1301760"/>
          </a:xfrm>
          <a:prstGeom prst="rect">
            <a:avLst/>
          </a:prstGeom>
          <a:ln w="0">
            <a:noFill/>
          </a:ln>
        </p:spPr>
      </p:pic>
      <p:pic>
        <p:nvPicPr>
          <p:cNvPr id="212" name="デザインテンプレ" descr="トランプ_テンプレ表面♠K.png"/>
          <p:cNvPicPr/>
          <p:nvPr/>
        </p:nvPicPr>
        <p:blipFill>
          <a:blip r:embed="rId3"/>
          <a:srcRect l="0" t="3524" r="0" b="3524"/>
          <a:stretch/>
        </p:blipFill>
        <p:spPr>
          <a:xfrm>
            <a:off x="4059360" y="325440"/>
            <a:ext cx="2484360" cy="338472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 descr=""/>
          <p:cNvPicPr/>
          <p:nvPr/>
        </p:nvPicPr>
        <p:blipFill>
          <a:blip r:embed="rId1"/>
          <a:stretch/>
        </p:blipFill>
        <p:spPr>
          <a:xfrm>
            <a:off x="912960" y="574560"/>
            <a:ext cx="1357200" cy="1301760"/>
          </a:xfrm>
          <a:prstGeom prst="rect">
            <a:avLst/>
          </a:prstGeom>
          <a:ln w="0">
            <a:noFill/>
          </a:ln>
        </p:spPr>
      </p:pic>
      <p:pic>
        <p:nvPicPr>
          <p:cNvPr id="214" name="" descr=""/>
          <p:cNvPicPr/>
          <p:nvPr/>
        </p:nvPicPr>
        <p:blipFill>
          <a:blip r:embed="rId2"/>
          <a:stretch/>
        </p:blipFill>
        <p:spPr>
          <a:xfrm>
            <a:off x="912960" y="2205000"/>
            <a:ext cx="1357200" cy="1301760"/>
          </a:xfrm>
          <a:prstGeom prst="rect">
            <a:avLst/>
          </a:prstGeom>
          <a:ln w="0">
            <a:noFill/>
          </a:ln>
        </p:spPr>
      </p:pic>
      <p:pic>
        <p:nvPicPr>
          <p:cNvPr id="215" name="デザインテンプレ" descr="トランプ_テンプレ表面♦J.png"/>
          <p:cNvPicPr/>
          <p:nvPr/>
        </p:nvPicPr>
        <p:blipFill>
          <a:blip r:embed="rId3"/>
          <a:srcRect l="0" t="3524" r="0" b="3524"/>
          <a:stretch/>
        </p:blipFill>
        <p:spPr>
          <a:xfrm>
            <a:off x="4059360" y="325440"/>
            <a:ext cx="2484360" cy="338472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6" name="" descr=""/>
          <p:cNvPicPr/>
          <p:nvPr/>
        </p:nvPicPr>
        <p:blipFill>
          <a:blip r:embed="rId1"/>
          <a:stretch/>
        </p:blipFill>
        <p:spPr>
          <a:xfrm>
            <a:off x="912960" y="574560"/>
            <a:ext cx="1357200" cy="1301760"/>
          </a:xfrm>
          <a:prstGeom prst="rect">
            <a:avLst/>
          </a:prstGeom>
          <a:ln w="0">
            <a:noFill/>
          </a:ln>
        </p:spPr>
      </p:pic>
      <p:pic>
        <p:nvPicPr>
          <p:cNvPr id="217" name="" descr=""/>
          <p:cNvPicPr/>
          <p:nvPr/>
        </p:nvPicPr>
        <p:blipFill>
          <a:blip r:embed="rId2"/>
          <a:stretch/>
        </p:blipFill>
        <p:spPr>
          <a:xfrm>
            <a:off x="912960" y="2205000"/>
            <a:ext cx="1357200" cy="1301760"/>
          </a:xfrm>
          <a:prstGeom prst="rect">
            <a:avLst/>
          </a:prstGeom>
          <a:ln w="0">
            <a:noFill/>
          </a:ln>
        </p:spPr>
      </p:pic>
      <p:pic>
        <p:nvPicPr>
          <p:cNvPr id="218" name="デザインテンプレ" descr="トランプ_テンプレ表面♦Q.png"/>
          <p:cNvPicPr/>
          <p:nvPr/>
        </p:nvPicPr>
        <p:blipFill>
          <a:blip r:embed="rId3"/>
          <a:srcRect l="0" t="3524" r="0" b="3524"/>
          <a:stretch/>
        </p:blipFill>
        <p:spPr>
          <a:xfrm>
            <a:off x="4059360" y="325440"/>
            <a:ext cx="2484360" cy="338472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9" name="" descr=""/>
          <p:cNvPicPr/>
          <p:nvPr/>
        </p:nvPicPr>
        <p:blipFill>
          <a:blip r:embed="rId1"/>
          <a:stretch/>
        </p:blipFill>
        <p:spPr>
          <a:xfrm>
            <a:off x="912960" y="574560"/>
            <a:ext cx="1357200" cy="1301760"/>
          </a:xfrm>
          <a:prstGeom prst="rect">
            <a:avLst/>
          </a:prstGeom>
          <a:ln w="0">
            <a:noFill/>
          </a:ln>
        </p:spPr>
      </p:pic>
      <p:pic>
        <p:nvPicPr>
          <p:cNvPr id="220" name="" descr=""/>
          <p:cNvPicPr/>
          <p:nvPr/>
        </p:nvPicPr>
        <p:blipFill>
          <a:blip r:embed="rId2"/>
          <a:stretch/>
        </p:blipFill>
        <p:spPr>
          <a:xfrm>
            <a:off x="912960" y="2205000"/>
            <a:ext cx="1357200" cy="1301760"/>
          </a:xfrm>
          <a:prstGeom prst="rect">
            <a:avLst/>
          </a:prstGeom>
          <a:ln w="0">
            <a:noFill/>
          </a:ln>
        </p:spPr>
      </p:pic>
      <p:pic>
        <p:nvPicPr>
          <p:cNvPr id="221" name="デザインテンプレ" descr="トランプ_テンプレ表面♦K.png"/>
          <p:cNvPicPr/>
          <p:nvPr/>
        </p:nvPicPr>
        <p:blipFill>
          <a:blip r:embed="rId3"/>
          <a:srcRect l="0" t="3524" r="0" b="3524"/>
          <a:stretch/>
        </p:blipFill>
        <p:spPr>
          <a:xfrm>
            <a:off x="4059360" y="325440"/>
            <a:ext cx="2484360" cy="338472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2" name="" descr=""/>
          <p:cNvPicPr/>
          <p:nvPr/>
        </p:nvPicPr>
        <p:blipFill>
          <a:blip r:embed="rId1"/>
          <a:stretch/>
        </p:blipFill>
        <p:spPr>
          <a:xfrm>
            <a:off x="912960" y="574560"/>
            <a:ext cx="1357200" cy="1301760"/>
          </a:xfrm>
          <a:prstGeom prst="rect">
            <a:avLst/>
          </a:prstGeom>
          <a:ln w="0">
            <a:noFill/>
          </a:ln>
        </p:spPr>
      </p:pic>
      <p:pic>
        <p:nvPicPr>
          <p:cNvPr id="223" name="" descr=""/>
          <p:cNvPicPr/>
          <p:nvPr/>
        </p:nvPicPr>
        <p:blipFill>
          <a:blip r:embed="rId2"/>
          <a:stretch/>
        </p:blipFill>
        <p:spPr>
          <a:xfrm>
            <a:off x="912960" y="2205000"/>
            <a:ext cx="1357200" cy="1301760"/>
          </a:xfrm>
          <a:prstGeom prst="rect">
            <a:avLst/>
          </a:prstGeom>
          <a:ln w="0">
            <a:noFill/>
          </a:ln>
        </p:spPr>
      </p:pic>
      <p:pic>
        <p:nvPicPr>
          <p:cNvPr id="224" name="デザインテンプレ" descr="トランプ_テンプレ表面♣J.png"/>
          <p:cNvPicPr/>
          <p:nvPr/>
        </p:nvPicPr>
        <p:blipFill>
          <a:blip r:embed="rId3"/>
          <a:srcRect l="0" t="3524" r="0" b="3524"/>
          <a:stretch/>
        </p:blipFill>
        <p:spPr>
          <a:xfrm>
            <a:off x="4059360" y="325440"/>
            <a:ext cx="2484360" cy="338472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5" name="" descr=""/>
          <p:cNvPicPr/>
          <p:nvPr/>
        </p:nvPicPr>
        <p:blipFill>
          <a:blip r:embed="rId1"/>
          <a:stretch/>
        </p:blipFill>
        <p:spPr>
          <a:xfrm>
            <a:off x="912960" y="574560"/>
            <a:ext cx="1357200" cy="1301760"/>
          </a:xfrm>
          <a:prstGeom prst="rect">
            <a:avLst/>
          </a:prstGeom>
          <a:ln w="0">
            <a:noFill/>
          </a:ln>
        </p:spPr>
      </p:pic>
      <p:pic>
        <p:nvPicPr>
          <p:cNvPr id="226" name="" descr=""/>
          <p:cNvPicPr/>
          <p:nvPr/>
        </p:nvPicPr>
        <p:blipFill>
          <a:blip r:embed="rId2"/>
          <a:stretch/>
        </p:blipFill>
        <p:spPr>
          <a:xfrm>
            <a:off x="912960" y="2205000"/>
            <a:ext cx="1357200" cy="1301760"/>
          </a:xfrm>
          <a:prstGeom prst="rect">
            <a:avLst/>
          </a:prstGeom>
          <a:ln w="0">
            <a:noFill/>
          </a:ln>
        </p:spPr>
      </p:pic>
      <p:pic>
        <p:nvPicPr>
          <p:cNvPr id="227" name="デザインテンプレ" descr="トランプ_テンプレ表面♣Q.png"/>
          <p:cNvPicPr/>
          <p:nvPr/>
        </p:nvPicPr>
        <p:blipFill>
          <a:blip r:embed="rId3"/>
          <a:srcRect l="0" t="3524" r="0" b="3524"/>
          <a:stretch/>
        </p:blipFill>
        <p:spPr>
          <a:xfrm>
            <a:off x="4059360" y="325440"/>
            <a:ext cx="2484360" cy="338472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8" name="" descr=""/>
          <p:cNvPicPr/>
          <p:nvPr/>
        </p:nvPicPr>
        <p:blipFill>
          <a:blip r:embed="rId1"/>
          <a:stretch/>
        </p:blipFill>
        <p:spPr>
          <a:xfrm>
            <a:off x="912960" y="574560"/>
            <a:ext cx="1357200" cy="1301760"/>
          </a:xfrm>
          <a:prstGeom prst="rect">
            <a:avLst/>
          </a:prstGeom>
          <a:ln w="0">
            <a:noFill/>
          </a:ln>
        </p:spPr>
      </p:pic>
      <p:pic>
        <p:nvPicPr>
          <p:cNvPr id="229" name="" descr=""/>
          <p:cNvPicPr/>
          <p:nvPr/>
        </p:nvPicPr>
        <p:blipFill>
          <a:blip r:embed="rId2"/>
          <a:stretch/>
        </p:blipFill>
        <p:spPr>
          <a:xfrm>
            <a:off x="912960" y="2205000"/>
            <a:ext cx="1357200" cy="1301760"/>
          </a:xfrm>
          <a:prstGeom prst="rect">
            <a:avLst/>
          </a:prstGeom>
          <a:ln w="0">
            <a:noFill/>
          </a:ln>
        </p:spPr>
      </p:pic>
      <p:pic>
        <p:nvPicPr>
          <p:cNvPr id="230" name="デザインテンプレ" descr="トランプ_テンプレ表面♣K.png"/>
          <p:cNvPicPr/>
          <p:nvPr/>
        </p:nvPicPr>
        <p:blipFill>
          <a:blip r:embed="rId3"/>
          <a:srcRect l="0" t="3524" r="0" b="3524"/>
          <a:stretch/>
        </p:blipFill>
        <p:spPr>
          <a:xfrm>
            <a:off x="4059360" y="325440"/>
            <a:ext cx="2484360" cy="338472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10-05T02:12:22Z</dcterms:created>
  <dc:creator>Vanfu Inc.</dc:creator>
  <dc:description/>
  <cp:keywords>デザインテンプレート</cp:keywords>
  <dc:language>en-US</dc:language>
  <cp:lastModifiedBy>irodori16</cp:lastModifiedBy>
  <cp:lastPrinted>2016-11-24T08:45:10Z</cp:lastPrinted>
  <dcterms:modified xsi:type="dcterms:W3CDTF">2025-11-11T10:03:45Z</dcterms:modified>
  <cp:revision>67</cp:revision>
  <dc:subject>フロント_フェイス</dc:subject>
  <dc:title>トランプ_テンプレ２</dc:title>
</cp:coreProperties>
</file>