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19813" cy="109807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D793-9CAE-4C71-BF25-4A48618D3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550764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06000" y="5895720"/>
            <a:ext cx="550764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70C1-17DD-48A5-9D1E-6FCE78A2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128040" y="25693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06000" y="58957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128040" y="58957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702F-D344-47F4-ACC2-E3C468203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177336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168280" y="2569320"/>
            <a:ext cx="177336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030920" y="2569320"/>
            <a:ext cx="177336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06000" y="5895720"/>
            <a:ext cx="177336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2168280" y="5895720"/>
            <a:ext cx="177336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4030920" y="5895720"/>
            <a:ext cx="177336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955E-0E1D-4F62-B76E-05DE2CF57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306000" y="2569320"/>
            <a:ext cx="5507640" cy="63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49E2-128B-44A0-99EF-84D94784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5507640" cy="63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E315-4E12-4B01-A5F8-645C2654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2687400" cy="63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28040" y="2569320"/>
            <a:ext cx="2687400" cy="63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5024-74E1-4DED-9723-2FDBBFE5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39EE-CB65-4F98-B45D-78EA36AD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306000" y="437760"/>
            <a:ext cx="5507640" cy="84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3915-2951-48F6-A4B3-FC4D7DF0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8040" y="2569320"/>
            <a:ext cx="2687400" cy="63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6000" y="58957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1F98-AE30-4904-912C-BFEF5EAE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2687400" cy="63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28040" y="25693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128040" y="58957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C11E-ABF4-42FD-900F-AA1AD92E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6000" y="437760"/>
            <a:ext cx="5507640" cy="18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6000" y="25693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28040" y="2569320"/>
            <a:ext cx="268740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06000" y="5895720"/>
            <a:ext cx="5507640" cy="30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43A1-7BBE-4D9E-8F05-667021AD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15"/>
          <p:cNvGrpSpPr/>
          <p:nvPr/>
        </p:nvGrpSpPr>
        <p:grpSpPr>
          <a:xfrm>
            <a:off x="1079640" y="1077480"/>
            <a:ext cx="3962160" cy="8823240"/>
            <a:chOff x="1079640" y="1077480"/>
            <a:chExt cx="3962160" cy="8823240"/>
          </a:xfrm>
        </p:grpSpPr>
        <p:sp>
          <p:nvSpPr>
            <p:cNvPr id="1" name="Line 106"/>
            <p:cNvSpPr/>
            <p:nvPr/>
          </p:nvSpPr>
          <p:spPr>
            <a:xfrm flipV="1">
              <a:off x="1331640" y="1077480"/>
              <a:ext cx="0" cy="882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07"/>
            <p:cNvSpPr/>
            <p:nvPr/>
          </p:nvSpPr>
          <p:spPr>
            <a:xfrm flipV="1">
              <a:off x="1439640" y="1077480"/>
              <a:ext cx="0" cy="882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8"/>
            <p:cNvSpPr/>
            <p:nvPr/>
          </p:nvSpPr>
          <p:spPr>
            <a:xfrm flipV="1">
              <a:off x="3061440" y="1077480"/>
              <a:ext cx="0" cy="882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09"/>
            <p:cNvSpPr/>
            <p:nvPr/>
          </p:nvSpPr>
          <p:spPr>
            <a:xfrm flipV="1">
              <a:off x="4678560" y="1077480"/>
              <a:ext cx="0" cy="882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10"/>
            <p:cNvSpPr/>
            <p:nvPr/>
          </p:nvSpPr>
          <p:spPr>
            <a:xfrm flipV="1">
              <a:off x="4786560" y="1077480"/>
              <a:ext cx="0" cy="882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11"/>
            <p:cNvSpPr/>
            <p:nvPr/>
          </p:nvSpPr>
          <p:spPr>
            <a:xfrm>
              <a:off x="1079640" y="9630720"/>
              <a:ext cx="3960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12"/>
            <p:cNvSpPr/>
            <p:nvPr/>
          </p:nvSpPr>
          <p:spPr>
            <a:xfrm>
              <a:off x="1079640" y="9524160"/>
              <a:ext cx="3960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13"/>
            <p:cNvSpPr/>
            <p:nvPr/>
          </p:nvSpPr>
          <p:spPr>
            <a:xfrm>
              <a:off x="1081080" y="5474880"/>
              <a:ext cx="3960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14"/>
            <p:cNvSpPr/>
            <p:nvPr/>
          </p:nvSpPr>
          <p:spPr>
            <a:xfrm>
              <a:off x="1081080" y="1423440"/>
              <a:ext cx="3960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15"/>
            <p:cNvSpPr/>
            <p:nvPr/>
          </p:nvSpPr>
          <p:spPr>
            <a:xfrm>
              <a:off x="1081080" y="1315440"/>
              <a:ext cx="3960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16"/>
            <p:cNvSpPr/>
            <p:nvPr/>
          </p:nvSpPr>
          <p:spPr>
            <a:xfrm rot="16200000">
              <a:off x="-1100160" y="3745440"/>
              <a:ext cx="8317080" cy="34531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1"/>
          <p:cNvSpPr>
            <a:spLocks noGrp="1"/>
          </p:cNvSpPr>
          <p:nvPr>
            <p:ph type="dt" idx="1"/>
          </p:nvPr>
        </p:nvSpPr>
        <p:spPr>
          <a:xfrm>
            <a:off x="306000" y="10177200"/>
            <a:ext cx="142884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ftr" idx="2"/>
          </p:nvPr>
        </p:nvSpPr>
        <p:spPr>
          <a:xfrm>
            <a:off x="2090880" y="10177200"/>
            <a:ext cx="193968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sldNum" idx="3"/>
          </p:nvPr>
        </p:nvSpPr>
        <p:spPr>
          <a:xfrm>
            <a:off x="4385880" y="10177200"/>
            <a:ext cx="142884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458F-AA8A-486D-BD67-1B2F6B4B375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グループ化 37"/>
          <p:cNvGrpSpPr/>
          <p:nvPr/>
        </p:nvGrpSpPr>
        <p:grpSpPr>
          <a:xfrm>
            <a:off x="81000" y="179280"/>
            <a:ext cx="5940360" cy="10736280"/>
            <a:chOff x="81000" y="179280"/>
            <a:chExt cx="5940360" cy="10736280"/>
          </a:xfrm>
        </p:grpSpPr>
        <p:grpSp>
          <p:nvGrpSpPr>
            <p:cNvPr id="16" name="グループ化 35"/>
            <p:cNvGrpSpPr/>
            <p:nvPr/>
          </p:nvGrpSpPr>
          <p:grpSpPr>
            <a:xfrm>
              <a:off x="97200" y="179280"/>
              <a:ext cx="4591080" cy="9328320"/>
              <a:chOff x="97200" y="179280"/>
              <a:chExt cx="4591080" cy="9328320"/>
            </a:xfrm>
          </p:grpSpPr>
          <p:pic>
            <p:nvPicPr>
              <p:cNvPr id="17" name="Pictur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1448280" y="666360"/>
                <a:ext cx="3240000" cy="883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" name="AutoShape 172"/>
              <p:cNvSpPr/>
              <p:nvPr/>
            </p:nvSpPr>
            <p:spPr>
              <a:xfrm>
                <a:off x="97200" y="7296840"/>
                <a:ext cx="1099800" cy="799920"/>
              </a:xfrm>
              <a:prstGeom prst="wedgeRoundRectCallout">
                <a:avLst>
                  <a:gd name="adj1" fmla="val 106097"/>
                  <a:gd name="adj2" fmla="val -73032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全てのオブジェクトをピンクの破線内におさめてください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AutoShape 173"/>
              <p:cNvSpPr/>
              <p:nvPr/>
            </p:nvSpPr>
            <p:spPr>
              <a:xfrm>
                <a:off x="97200" y="5811120"/>
                <a:ext cx="1099800" cy="571320"/>
              </a:xfrm>
              <a:prstGeom prst="wedgeRoundRectCallout">
                <a:avLst>
                  <a:gd name="adj1" fmla="val 73509"/>
                  <a:gd name="adj2" fmla="val -46333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青い破線が仕上がり位置となりま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" name="グループ化 34"/>
              <p:cNvGrpSpPr/>
              <p:nvPr/>
            </p:nvGrpSpPr>
            <p:grpSpPr>
              <a:xfrm>
                <a:off x="1429920" y="1407600"/>
                <a:ext cx="3240000" cy="8100000"/>
                <a:chOff x="1429920" y="1407600"/>
                <a:chExt cx="3240000" cy="8100000"/>
              </a:xfrm>
            </p:grpSpPr>
            <p:sp>
              <p:nvSpPr>
                <p:cNvPr id="21" name="Rectangle 146"/>
                <p:cNvSpPr/>
                <p:nvPr/>
              </p:nvSpPr>
              <p:spPr>
                <a:xfrm rot="10800000">
                  <a:off x="1429920" y="1407600"/>
                  <a:ext cx="3240000" cy="810000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146"/>
                <p:cNvSpPr/>
                <p:nvPr/>
              </p:nvSpPr>
              <p:spPr>
                <a:xfrm rot="10800000">
                  <a:off x="1779480" y="1767600"/>
                  <a:ext cx="2519280" cy="7379640"/>
                </a:xfrm>
                <a:prstGeom prst="rect">
                  <a:avLst/>
                </a:prstGeom>
                <a:noFill/>
                <a:ln w="6480">
                  <a:solidFill>
                    <a:srgbClr val="ff66cc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3" name="Picture 2" descr=""/>
              <p:cNvPicPr/>
              <p:nvPr/>
            </p:nvPicPr>
            <p:blipFill>
              <a:blip r:embed="rId3"/>
              <a:stretch/>
            </p:blipFill>
            <p:spPr>
              <a:xfrm>
                <a:off x="1487160" y="179280"/>
                <a:ext cx="3147480" cy="577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" name="Text Box 174"/>
            <p:cNvSpPr/>
            <p:nvPr/>
          </p:nvSpPr>
          <p:spPr>
            <a:xfrm>
              <a:off x="81000" y="10052280"/>
              <a:ext cx="5940360" cy="863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封筒の周囲</a:t>
              </a:r>
              <a:r>
                <a:rPr b="0" lang="en-US" sz="700" spc="-1" strike="noStrike">
                  <a:solidFill>
                    <a:srgbClr val="000000"/>
                  </a:solidFill>
                  <a:latin typeface="ＭＳ Ｐゴシック"/>
                </a:rPr>
                <a:t>10mm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とベロ（フタ）部分には印刷することができません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製袋された封筒に印刷するため、貼り合わせ部分の段差（下図の灰色の破線）にかかるベタなどのデザインはかすれる可能性があります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データは</a:t>
              </a:r>
              <a:r>
                <a:rPr b="0" lang="en-US" sz="7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色で作成してください。色の掛け合わせはできません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用紙サイズの変更やトンボの移動、変形などなさらないようお願いします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透過性や半透明、パターンなど変換が正常に出来ない場合があります。　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en-US" sz="7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を削除してください。また、テンプレートと同じサイズになっているか確認してください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5T06:15:36Z</dcterms:created>
  <dc:creator>2007044</dc:creator>
  <dc:description/>
  <dc:language>en-US</dc:language>
  <cp:lastModifiedBy>2007044</cp:lastModifiedBy>
  <dcterms:modified xsi:type="dcterms:W3CDTF">2017-01-25T07:30:24Z</dcterms:modified>
  <cp:revision>2</cp:revision>
  <dc:subject/>
  <dc:title>スライド 1</dc:title>
</cp:coreProperties>
</file>