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980738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49000" y="1432080"/>
            <a:ext cx="9881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9000" y="3286080"/>
            <a:ext cx="9881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432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12760" y="1432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49000" y="3286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612760" y="3286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9000" y="1432080"/>
            <a:ext cx="31816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90160" y="1432080"/>
            <a:ext cx="31816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231320" y="1432080"/>
            <a:ext cx="31816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49000" y="3286080"/>
            <a:ext cx="31816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90160" y="3286080"/>
            <a:ext cx="31816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7231320" y="3286080"/>
            <a:ext cx="31816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49000" y="1432080"/>
            <a:ext cx="9881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49000" y="1432080"/>
            <a:ext cx="9881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432080"/>
            <a:ext cx="48222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2760" y="1432080"/>
            <a:ext cx="48222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49000" y="244080"/>
            <a:ext cx="9881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432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12760" y="1432080"/>
            <a:ext cx="48222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9000" y="3286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49000" y="1432080"/>
            <a:ext cx="482220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612760" y="1432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12760" y="3286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244080"/>
            <a:ext cx="9881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9000" y="1432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612760" y="1432080"/>
            <a:ext cx="482220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49000" y="3286080"/>
            <a:ext cx="9881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06"/>
          <p:cNvSpPr/>
          <p:nvPr/>
        </p:nvSpPr>
        <p:spPr>
          <a:xfrm>
            <a:off x="1079640" y="1330200"/>
            <a:ext cx="882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107"/>
          <p:cNvSpPr/>
          <p:nvPr/>
        </p:nvSpPr>
        <p:spPr>
          <a:xfrm>
            <a:off x="1079640" y="1438200"/>
            <a:ext cx="882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08"/>
          <p:cNvSpPr/>
          <p:nvPr/>
        </p:nvSpPr>
        <p:spPr>
          <a:xfrm>
            <a:off x="1079640" y="3060720"/>
            <a:ext cx="882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9"/>
          <p:cNvSpPr/>
          <p:nvPr/>
        </p:nvSpPr>
        <p:spPr>
          <a:xfrm>
            <a:off x="1079640" y="4678200"/>
            <a:ext cx="882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0"/>
          <p:cNvSpPr/>
          <p:nvPr/>
        </p:nvSpPr>
        <p:spPr>
          <a:xfrm>
            <a:off x="1079640" y="4786200"/>
            <a:ext cx="882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11"/>
          <p:cNvSpPr/>
          <p:nvPr/>
        </p:nvSpPr>
        <p:spPr>
          <a:xfrm>
            <a:off x="1347840" y="1079640"/>
            <a:ext cx="0" cy="39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12"/>
          <p:cNvSpPr/>
          <p:nvPr/>
        </p:nvSpPr>
        <p:spPr>
          <a:xfrm>
            <a:off x="1454040" y="1079640"/>
            <a:ext cx="0" cy="39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3"/>
          <p:cNvSpPr/>
          <p:nvPr/>
        </p:nvSpPr>
        <p:spPr>
          <a:xfrm>
            <a:off x="5505480" y="1079640"/>
            <a:ext cx="0" cy="39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14"/>
          <p:cNvSpPr/>
          <p:nvPr/>
        </p:nvSpPr>
        <p:spPr>
          <a:xfrm>
            <a:off x="9556920" y="1079640"/>
            <a:ext cx="0" cy="39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15"/>
          <p:cNvSpPr/>
          <p:nvPr/>
        </p:nvSpPr>
        <p:spPr>
          <a:xfrm>
            <a:off x="9664560" y="1079640"/>
            <a:ext cx="0" cy="396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16"/>
          <p:cNvSpPr/>
          <p:nvPr/>
        </p:nvSpPr>
        <p:spPr>
          <a:xfrm>
            <a:off x="1347840" y="1330200"/>
            <a:ext cx="8316720" cy="345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7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78"/>
          <p:cNvSpPr/>
          <p:nvPr/>
        </p:nvSpPr>
        <p:spPr>
          <a:xfrm>
            <a:off x="-7920" y="44712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グループ化 40"/>
          <p:cNvGrpSpPr/>
          <p:nvPr/>
        </p:nvGrpSpPr>
        <p:grpSpPr>
          <a:xfrm>
            <a:off x="1454040" y="185760"/>
            <a:ext cx="8794800" cy="5754600"/>
            <a:chOff x="1454040" y="185760"/>
            <a:chExt cx="8794800" cy="5754600"/>
          </a:xfrm>
        </p:grpSpPr>
        <p:pic>
          <p:nvPicPr>
            <p:cNvPr id="14" name="Picture 16" descr=""/>
            <p:cNvPicPr/>
            <p:nvPr/>
          </p:nvPicPr>
          <p:blipFill>
            <a:blip r:embed="rId2"/>
            <a:stretch/>
          </p:blipFill>
          <p:spPr>
            <a:xfrm>
              <a:off x="3421800" y="185760"/>
              <a:ext cx="4147200" cy="73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" name="グループ化 39"/>
            <p:cNvGrpSpPr/>
            <p:nvPr/>
          </p:nvGrpSpPr>
          <p:grpSpPr>
            <a:xfrm>
              <a:off x="1454040" y="1436760"/>
              <a:ext cx="8794800" cy="4503600"/>
              <a:chOff x="1454040" y="1436760"/>
              <a:chExt cx="8794800" cy="4503600"/>
            </a:xfrm>
          </p:grpSpPr>
          <p:sp>
            <p:nvSpPr>
              <p:cNvPr id="16" name="Text Box 174"/>
              <p:cNvSpPr/>
              <p:nvPr/>
            </p:nvSpPr>
            <p:spPr>
              <a:xfrm>
                <a:off x="2333520" y="5076720"/>
                <a:ext cx="6315120" cy="863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封筒の周囲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</a:rPr>
                  <a:t>10mm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とベロ（フタ）部分には印刷することができません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製袋された封筒に印刷するため、貼り合わせ部分の段差（下図の灰色の破線）にかかるベタなどのデザインはかすれる可能性があり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データは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</a:rPr>
                  <a:t>1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色で作成してください。色の掛け合わせはできません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用紙サイズの変更やトンボの移動、変形などなさらないようお願いします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透過性や半透明、パターンなど変換が正常に出来ない場合があります。　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◎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ＭＳ Ｐゴシック"/>
                  </a:rPr>
                  <a:t>PDF</a:t>
                </a:r>
                <a:r>
                  <a:rPr b="0" lang="ja-JP" sz="700" spc="-1" strike="noStrike">
                    <a:solidFill>
                      <a:srgbClr val="000000"/>
                    </a:solidFill>
                    <a:latin typeface="ＭＳ Ｐゴシック"/>
                  </a:rPr>
                  <a:t>を作成する際は、説明部分を削除してください。また、テンプレートと同じサイズになっているか確認してください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" name="グループ化 38"/>
              <p:cNvGrpSpPr/>
              <p:nvPr/>
            </p:nvGrpSpPr>
            <p:grpSpPr>
              <a:xfrm>
                <a:off x="1454040" y="1436760"/>
                <a:ext cx="8794800" cy="3243240"/>
                <a:chOff x="1454040" y="1436760"/>
                <a:chExt cx="8794800" cy="3243240"/>
              </a:xfrm>
            </p:grpSpPr>
            <p:sp>
              <p:nvSpPr>
                <p:cNvPr id="18" name="AutoShape 130"/>
                <p:cNvSpPr/>
                <p:nvPr/>
              </p:nvSpPr>
              <p:spPr>
                <a:xfrm flipV="1" rot="5400000">
                  <a:off x="8282520" y="2709000"/>
                  <a:ext cx="3238560" cy="693720"/>
                </a:xfrm>
                <a:custGeom>
                  <a:avLst/>
                  <a:gdLst>
                    <a:gd name="textAreaLeft" fmla="*/ 411840 w 3238560"/>
                    <a:gd name="textAreaRight" fmla="*/ 2826720 w 3238560"/>
                    <a:gd name="textAreaTop" fmla="*/ 88200 h 693720"/>
                    <a:gd name="textAreaBottom" fmla="*/ 605520 h 693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895" y="21600"/>
                      </a:lnTo>
                      <a:lnTo>
                        <a:pt x="19705" y="21600"/>
                      </a:lnTo>
                      <a:lnTo>
                        <a:pt x="2160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9" name="Picture 1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454040" y="1440000"/>
                  <a:ext cx="8100360" cy="3240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0" name="グループ化 37"/>
          <p:cNvGrpSpPr/>
          <p:nvPr/>
        </p:nvGrpSpPr>
        <p:grpSpPr>
          <a:xfrm>
            <a:off x="96840" y="1440000"/>
            <a:ext cx="9457920" cy="3240000"/>
            <a:chOff x="96840" y="1440000"/>
            <a:chExt cx="9457920" cy="3240000"/>
          </a:xfrm>
        </p:grpSpPr>
        <p:sp>
          <p:nvSpPr>
            <p:cNvPr id="21" name="Rectangle 146"/>
            <p:cNvSpPr/>
            <p:nvPr/>
          </p:nvSpPr>
          <p:spPr>
            <a:xfrm rot="5400000">
              <a:off x="3884040" y="-990360"/>
              <a:ext cx="3240000" cy="81010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AutoShape 172"/>
            <p:cNvSpPr/>
            <p:nvPr/>
          </p:nvSpPr>
          <p:spPr>
            <a:xfrm>
              <a:off x="96840" y="3581640"/>
              <a:ext cx="1100160" cy="799920"/>
            </a:xfrm>
            <a:prstGeom prst="wedgeRoundRectCallout">
              <a:avLst>
                <a:gd name="adj1" fmla="val 106097"/>
                <a:gd name="adj2" fmla="val -7303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AutoShape 173"/>
            <p:cNvSpPr/>
            <p:nvPr/>
          </p:nvSpPr>
          <p:spPr>
            <a:xfrm>
              <a:off x="96840" y="2095560"/>
              <a:ext cx="1100160" cy="571320"/>
            </a:xfrm>
            <a:prstGeom prst="wedgeRoundRectCallout">
              <a:avLst>
                <a:gd name="adj1" fmla="val 73509"/>
                <a:gd name="adj2" fmla="val -4633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146"/>
            <p:cNvSpPr/>
            <p:nvPr/>
          </p:nvSpPr>
          <p:spPr>
            <a:xfrm rot="5400000">
              <a:off x="4244400" y="-619200"/>
              <a:ext cx="2519280" cy="7380360"/>
            </a:xfrm>
            <a:prstGeom prst="rect">
              <a:avLst/>
            </a:prstGeom>
            <a:noFill/>
            <a:ln w="648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2007044</cp:lastModifiedBy>
  <cp:lastPrinted>2013-09-17T03:09:22Z</cp:lastPrinted>
  <dcterms:modified xsi:type="dcterms:W3CDTF">2017-01-25T06:13:31Z</dcterms:modified>
  <cp:revision>36</cp:revision>
  <dc:subject/>
  <dc:title>PowerPoint プレゼンテーション</dc:title>
</cp:coreProperties>
</file>