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980738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9881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9000" y="3286080"/>
            <a:ext cx="9881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612760" y="1432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9000" y="3286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612760" y="3286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31816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90160" y="1432080"/>
            <a:ext cx="31816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31320" y="1432080"/>
            <a:ext cx="31816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49000" y="3286080"/>
            <a:ext cx="31816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890160" y="3286080"/>
            <a:ext cx="31816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231320" y="3286080"/>
            <a:ext cx="31816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49000" y="1432080"/>
            <a:ext cx="9881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9881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48222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2760" y="1432080"/>
            <a:ext cx="48222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49000" y="244080"/>
            <a:ext cx="9881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12760" y="1432080"/>
            <a:ext cx="48222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9000" y="3286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48222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12760" y="1432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12760" y="3286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612760" y="1432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9000" y="3286080"/>
            <a:ext cx="9881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06"/>
          <p:cNvSpPr/>
          <p:nvPr/>
        </p:nvSpPr>
        <p:spPr>
          <a:xfrm>
            <a:off x="1079640" y="1330200"/>
            <a:ext cx="882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107"/>
          <p:cNvSpPr/>
          <p:nvPr/>
        </p:nvSpPr>
        <p:spPr>
          <a:xfrm>
            <a:off x="1079640" y="1438200"/>
            <a:ext cx="882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08"/>
          <p:cNvSpPr/>
          <p:nvPr/>
        </p:nvSpPr>
        <p:spPr>
          <a:xfrm>
            <a:off x="1079640" y="3060720"/>
            <a:ext cx="882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9"/>
          <p:cNvSpPr/>
          <p:nvPr/>
        </p:nvSpPr>
        <p:spPr>
          <a:xfrm>
            <a:off x="1079640" y="4678200"/>
            <a:ext cx="882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0"/>
          <p:cNvSpPr/>
          <p:nvPr/>
        </p:nvSpPr>
        <p:spPr>
          <a:xfrm>
            <a:off x="1079640" y="4786200"/>
            <a:ext cx="882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11"/>
          <p:cNvSpPr/>
          <p:nvPr/>
        </p:nvSpPr>
        <p:spPr>
          <a:xfrm>
            <a:off x="1347840" y="1079640"/>
            <a:ext cx="0" cy="39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12"/>
          <p:cNvSpPr/>
          <p:nvPr/>
        </p:nvSpPr>
        <p:spPr>
          <a:xfrm>
            <a:off x="1454040" y="1079640"/>
            <a:ext cx="0" cy="39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3"/>
          <p:cNvSpPr/>
          <p:nvPr/>
        </p:nvSpPr>
        <p:spPr>
          <a:xfrm>
            <a:off x="5505480" y="1079640"/>
            <a:ext cx="0" cy="39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14"/>
          <p:cNvSpPr/>
          <p:nvPr/>
        </p:nvSpPr>
        <p:spPr>
          <a:xfrm>
            <a:off x="9556920" y="1079640"/>
            <a:ext cx="0" cy="39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15"/>
          <p:cNvSpPr/>
          <p:nvPr/>
        </p:nvSpPr>
        <p:spPr>
          <a:xfrm>
            <a:off x="9664560" y="1079640"/>
            <a:ext cx="0" cy="39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16"/>
          <p:cNvSpPr/>
          <p:nvPr/>
        </p:nvSpPr>
        <p:spPr>
          <a:xfrm>
            <a:off x="1347840" y="1330200"/>
            <a:ext cx="8316720" cy="345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78"/>
          <p:cNvSpPr/>
          <p:nvPr/>
        </p:nvSpPr>
        <p:spPr>
          <a:xfrm>
            <a:off x="-7920" y="4471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グループ化 30"/>
          <p:cNvGrpSpPr/>
          <p:nvPr/>
        </p:nvGrpSpPr>
        <p:grpSpPr>
          <a:xfrm>
            <a:off x="96840" y="168120"/>
            <a:ext cx="9466200" cy="5772240"/>
            <a:chOff x="96840" y="168120"/>
            <a:chExt cx="9466200" cy="5772240"/>
          </a:xfrm>
        </p:grpSpPr>
        <p:sp>
          <p:nvSpPr>
            <p:cNvPr id="14" name="Text Box 174"/>
            <p:cNvSpPr/>
            <p:nvPr/>
          </p:nvSpPr>
          <p:spPr>
            <a:xfrm>
              <a:off x="2333520" y="5076720"/>
              <a:ext cx="6315120" cy="86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封筒の周囲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0mm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とベロ（フタ）部分には印刷することが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製袋された封筒に印刷するため、貼り合わせ部分の段差（下図の灰色の破線）にかかるベタなどのデザインはかすれる可能性があり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データは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色で作成してください。色の掛け合わせはできません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用紙サイズの変更やトンボの移動、変形などなさらないようお願いします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透過性や半透明、パターンなど変換が正常に出来ない場合があります。　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◎ </a:t>
              </a:r>
              <a:r>
                <a:rPr b="0" lang="en-US" sz="7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7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を削除してください。また、テンプレートと同じサイズになっているか確認してください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グループ化 29"/>
            <p:cNvGrpSpPr/>
            <p:nvPr/>
          </p:nvGrpSpPr>
          <p:grpSpPr>
            <a:xfrm>
              <a:off x="96840" y="1427040"/>
              <a:ext cx="9466200" cy="3267000"/>
              <a:chOff x="96840" y="1427040"/>
              <a:chExt cx="9466200" cy="3267000"/>
            </a:xfrm>
          </p:grpSpPr>
          <p:pic>
            <p:nvPicPr>
              <p:cNvPr id="16" name="Picture 29" descr=""/>
              <p:cNvPicPr/>
              <p:nvPr/>
            </p:nvPicPr>
            <p:blipFill>
              <a:blip r:embed="rId2"/>
              <a:stretch/>
            </p:blipFill>
            <p:spPr>
              <a:xfrm>
                <a:off x="723600" y="1427040"/>
                <a:ext cx="8839440" cy="3267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" name="グループ化 37"/>
              <p:cNvGrpSpPr/>
              <p:nvPr/>
            </p:nvGrpSpPr>
            <p:grpSpPr>
              <a:xfrm>
                <a:off x="96840" y="1439640"/>
                <a:ext cx="9457920" cy="3240360"/>
                <a:chOff x="96840" y="1439640"/>
                <a:chExt cx="9457920" cy="3240360"/>
              </a:xfrm>
            </p:grpSpPr>
            <p:sp>
              <p:nvSpPr>
                <p:cNvPr id="18" name="Rectangle 146"/>
                <p:cNvSpPr/>
                <p:nvPr/>
              </p:nvSpPr>
              <p:spPr>
                <a:xfrm rot="5400000">
                  <a:off x="3884040" y="-990720"/>
                  <a:ext cx="3240360" cy="810108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AutoShape 172"/>
                <p:cNvSpPr/>
                <p:nvPr/>
              </p:nvSpPr>
              <p:spPr>
                <a:xfrm>
                  <a:off x="96840" y="3581280"/>
                  <a:ext cx="1100160" cy="799920"/>
                </a:xfrm>
                <a:prstGeom prst="wedgeRoundRectCallout">
                  <a:avLst>
                    <a:gd name="adj1" fmla="val 106097"/>
                    <a:gd name="adj2" fmla="val -73032"/>
                    <a:gd name="adj3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34920"/>
                      <a:tab algn="l" pos="1870200"/>
                      <a:tab algn="l" pos="2805120"/>
                      <a:tab algn="l" pos="3740040"/>
                      <a:tab algn="l" pos="4675320"/>
                      <a:tab algn="l" pos="5610240"/>
                      <a:tab algn="l" pos="6545160"/>
                      <a:tab algn="l" pos="7480440"/>
                      <a:tab algn="l" pos="8415360"/>
                      <a:tab algn="l" pos="9350280"/>
                      <a:tab algn="l" pos="1028556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全てのオブジェクトをピンクの破線内におさめてください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AutoShape 173"/>
                <p:cNvSpPr/>
                <p:nvPr/>
              </p:nvSpPr>
              <p:spPr>
                <a:xfrm>
                  <a:off x="96840" y="2095200"/>
                  <a:ext cx="1100160" cy="571320"/>
                </a:xfrm>
                <a:prstGeom prst="wedgeRoundRectCallout">
                  <a:avLst>
                    <a:gd name="adj1" fmla="val 73509"/>
                    <a:gd name="adj2" fmla="val -46333"/>
                    <a:gd name="adj3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34920"/>
                      <a:tab algn="l" pos="1870200"/>
                      <a:tab algn="l" pos="2805120"/>
                      <a:tab algn="l" pos="3740040"/>
                      <a:tab algn="l" pos="4675320"/>
                      <a:tab algn="l" pos="5610240"/>
                      <a:tab algn="l" pos="6545160"/>
                      <a:tab algn="l" pos="7480440"/>
                      <a:tab algn="l" pos="8415360"/>
                      <a:tab algn="l" pos="9350280"/>
                      <a:tab algn="l" pos="1028556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青い破線が仕上がり位置となり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34920"/>
                      <a:tab algn="l" pos="1870200"/>
                      <a:tab algn="l" pos="2805120"/>
                      <a:tab algn="l" pos="3740040"/>
                      <a:tab algn="l" pos="4675320"/>
                      <a:tab algn="l" pos="5610240"/>
                      <a:tab algn="l" pos="6545160"/>
                      <a:tab algn="l" pos="7480440"/>
                      <a:tab algn="l" pos="8415360"/>
                      <a:tab algn="l" pos="9350280"/>
                      <a:tab algn="l" pos="1028556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146"/>
                <p:cNvSpPr/>
                <p:nvPr/>
              </p:nvSpPr>
              <p:spPr>
                <a:xfrm rot="5400000">
                  <a:off x="4378680" y="-34200"/>
                  <a:ext cx="2519640" cy="6210360"/>
                </a:xfrm>
                <a:prstGeom prst="rect">
                  <a:avLst/>
                </a:prstGeom>
                <a:noFill/>
                <a:ln w="6480">
                  <a:solidFill>
                    <a:srgbClr val="ff66cc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" name="Picture 28" descr=""/>
            <p:cNvPicPr/>
            <p:nvPr/>
          </p:nvPicPr>
          <p:blipFill>
            <a:blip r:embed="rId3"/>
            <a:stretch/>
          </p:blipFill>
          <p:spPr>
            <a:xfrm>
              <a:off x="3413160" y="168120"/>
              <a:ext cx="415440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鴨志田 つどい</dc:creator>
  <dc:description/>
  <dc:language>en-US</dc:language>
  <cp:lastModifiedBy>2007044</cp:lastModifiedBy>
  <cp:lastPrinted>2013-09-17T03:09:22Z</cp:lastPrinted>
  <dcterms:modified xsi:type="dcterms:W3CDTF">2017-01-25T06:12:11Z</dcterms:modified>
  <cp:revision>37</cp:revision>
  <dc:subject/>
  <dc:title>PowerPoint プレゼンテーション</dc:title>
</cp:coreProperties>
</file>