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1D5-BE45-47D8-957A-B317B619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BF5-0D28-46A5-B7E1-78B1C656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190-A03C-40D3-984C-71A336ED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A79-016E-4606-8E32-472F0B23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15A-38C8-49DD-AAAD-17B2E039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F6D-6E89-4534-B2B1-1C085B93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C59-51AA-4098-A113-0BA04BC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9AE-AD03-4CF4-8FEA-3B9C527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2A-D813-48C8-9537-74EDA7B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EAD7-70EA-43C3-8062-F332D62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752-106C-4776-B908-1122F069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BCA-5EBB-43FF-A849-AF5AA4F8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1C92-689B-4F86-B299-2768052941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28"/>
          <p:cNvGrpSpPr/>
          <p:nvPr/>
        </p:nvGrpSpPr>
        <p:grpSpPr>
          <a:xfrm>
            <a:off x="81000" y="90360"/>
            <a:ext cx="5940360" cy="10825200"/>
            <a:chOff x="81000" y="90360"/>
            <a:chExt cx="5940360" cy="10825200"/>
          </a:xfrm>
        </p:grpSpPr>
        <p:grpSp>
          <p:nvGrpSpPr>
            <p:cNvPr id="16" name="グループ化 29"/>
            <p:cNvGrpSpPr/>
            <p:nvPr/>
          </p:nvGrpSpPr>
          <p:grpSpPr>
            <a:xfrm>
              <a:off x="81000" y="689760"/>
              <a:ext cx="5940360" cy="10225800"/>
              <a:chOff x="81000" y="689760"/>
              <a:chExt cx="5940360" cy="10225800"/>
            </a:xfrm>
          </p:grpSpPr>
          <p:pic>
            <p:nvPicPr>
              <p:cNvPr id="17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27400" y="689760"/>
                <a:ext cx="3266640" cy="88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6840" y="7296120"/>
                <a:ext cx="110016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6840" y="5811840"/>
                <a:ext cx="110016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39640" cy="8099640"/>
                <a:chOff x="1429920" y="1407600"/>
                <a:chExt cx="3239640" cy="809964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39640" cy="809964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120" y="2499840"/>
                  <a:ext cx="2519280" cy="617868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Text Box 174"/>
              <p:cNvSpPr/>
              <p:nvPr/>
            </p:nvSpPr>
            <p:spPr>
              <a:xfrm>
                <a:off x="81000" y="10052280"/>
                <a:ext cx="5940360" cy="863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封筒の周囲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とベロ（フタ）部分には印刷することが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製袋された封筒に印刷するため、貼り合わせ部分の段差（下図の灰色の破線）にかかるベタなどのデザインは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データは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色で作成してください。色の掛け合わせは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用紙サイズの変更やトンボの移動、変形などなさらないようお願いし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透過性や半透明、パターンなど変換が正常に出来ない場合があり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を作成する際は、説明部分を削除してください。また、テンプレートと同じサイズになっている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" name="Picture 1" descr=""/>
            <p:cNvPicPr/>
            <p:nvPr/>
          </p:nvPicPr>
          <p:blipFill>
            <a:blip r:embed="rId3"/>
            <a:stretch/>
          </p:blipFill>
          <p:spPr>
            <a:xfrm>
              <a:off x="1512360" y="90360"/>
              <a:ext cx="3096360" cy="564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6:34:29Z</dcterms:modified>
  <cp:revision>3</cp:revision>
  <dc:subject/>
  <dc:title>スライド 1</dc:title>
</cp:coreProperties>
</file>