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423275" cy="102997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1200" y="410760"/>
            <a:ext cx="7581240" cy="17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21200" y="2409840"/>
            <a:ext cx="758124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21200" y="5529960"/>
            <a:ext cx="758124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1200" y="410760"/>
            <a:ext cx="7581240" cy="17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21200" y="2409840"/>
            <a:ext cx="369936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305960" y="2409840"/>
            <a:ext cx="369936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21200" y="5529960"/>
            <a:ext cx="369936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305960" y="5529960"/>
            <a:ext cx="369936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1200" y="410760"/>
            <a:ext cx="7581240" cy="17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21200" y="2409840"/>
            <a:ext cx="244080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2984400" y="2409840"/>
            <a:ext cx="244080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547600" y="2409840"/>
            <a:ext cx="244080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21200" y="5529960"/>
            <a:ext cx="244080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2984400" y="5529960"/>
            <a:ext cx="244080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547600" y="5529960"/>
            <a:ext cx="244080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1200" y="410760"/>
            <a:ext cx="7581240" cy="17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21200" y="2409840"/>
            <a:ext cx="7581240" cy="59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21200" y="410760"/>
            <a:ext cx="7581240" cy="17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21200" y="2409840"/>
            <a:ext cx="7581240" cy="59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1200" y="410760"/>
            <a:ext cx="7581240" cy="17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1200" y="2409840"/>
            <a:ext cx="3699360" cy="59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05960" y="2409840"/>
            <a:ext cx="3699360" cy="59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1200" y="410760"/>
            <a:ext cx="7581240" cy="17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21200" y="410760"/>
            <a:ext cx="7581240" cy="79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1200" y="410760"/>
            <a:ext cx="7581240" cy="17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1200" y="2409840"/>
            <a:ext cx="369936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05960" y="2409840"/>
            <a:ext cx="3699360" cy="59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1200" y="5529960"/>
            <a:ext cx="369936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21200" y="410760"/>
            <a:ext cx="7581240" cy="17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21200" y="2409840"/>
            <a:ext cx="3699360" cy="59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305960" y="2409840"/>
            <a:ext cx="369936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305960" y="5529960"/>
            <a:ext cx="369936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21200" y="410760"/>
            <a:ext cx="7581240" cy="17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21200" y="2409840"/>
            <a:ext cx="369936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305960" y="2409840"/>
            <a:ext cx="369936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21200" y="5529960"/>
            <a:ext cx="7581240" cy="28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99"/>
          <p:cNvGrpSpPr/>
          <p:nvPr/>
        </p:nvGrpSpPr>
        <p:grpSpPr>
          <a:xfrm>
            <a:off x="1079640" y="1079640"/>
            <a:ext cx="6261120" cy="8140680"/>
            <a:chOff x="1079640" y="1079640"/>
            <a:chExt cx="6261120" cy="8140680"/>
          </a:xfrm>
        </p:grpSpPr>
        <p:sp>
          <p:nvSpPr>
            <p:cNvPr id="1" name="Line 82"/>
            <p:cNvSpPr/>
            <p:nvPr/>
          </p:nvSpPr>
          <p:spPr>
            <a:xfrm>
              <a:off x="1079640" y="1332000"/>
              <a:ext cx="6261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83"/>
            <p:cNvSpPr/>
            <p:nvPr/>
          </p:nvSpPr>
          <p:spPr>
            <a:xfrm>
              <a:off x="1079640" y="1440000"/>
              <a:ext cx="6261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84"/>
            <p:cNvSpPr/>
            <p:nvPr/>
          </p:nvSpPr>
          <p:spPr>
            <a:xfrm>
              <a:off x="1079640" y="8959680"/>
              <a:ext cx="6261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85"/>
            <p:cNvSpPr/>
            <p:nvPr/>
          </p:nvSpPr>
          <p:spPr>
            <a:xfrm>
              <a:off x="1079640" y="8852040"/>
              <a:ext cx="6261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86"/>
            <p:cNvSpPr/>
            <p:nvPr/>
          </p:nvSpPr>
          <p:spPr>
            <a:xfrm>
              <a:off x="1079640" y="5145120"/>
              <a:ext cx="6261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87"/>
            <p:cNvSpPr/>
            <p:nvPr/>
          </p:nvSpPr>
          <p:spPr>
            <a:xfrm>
              <a:off x="1332000" y="1079640"/>
              <a:ext cx="0" cy="8140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88"/>
            <p:cNvSpPr/>
            <p:nvPr/>
          </p:nvSpPr>
          <p:spPr>
            <a:xfrm>
              <a:off x="1440000" y="1079640"/>
              <a:ext cx="0" cy="8140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89"/>
            <p:cNvSpPr/>
            <p:nvPr/>
          </p:nvSpPr>
          <p:spPr>
            <a:xfrm>
              <a:off x="7088040" y="1079640"/>
              <a:ext cx="0" cy="8140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90"/>
            <p:cNvSpPr/>
            <p:nvPr/>
          </p:nvSpPr>
          <p:spPr>
            <a:xfrm>
              <a:off x="6980400" y="1079640"/>
              <a:ext cx="0" cy="8140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91"/>
            <p:cNvSpPr/>
            <p:nvPr/>
          </p:nvSpPr>
          <p:spPr>
            <a:xfrm>
              <a:off x="4210200" y="1079640"/>
              <a:ext cx="0" cy="8140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92"/>
            <p:cNvSpPr/>
            <p:nvPr/>
          </p:nvSpPr>
          <p:spPr>
            <a:xfrm>
              <a:off x="1332000" y="1332000"/>
              <a:ext cx="5757840" cy="7629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Text Box 113"/>
          <p:cNvSpPr/>
          <p:nvPr/>
        </p:nvSpPr>
        <p:spPr>
          <a:xfrm>
            <a:off x="1260360" y="9326520"/>
            <a:ext cx="590256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AutoShape 114"/>
          <p:cNvSpPr/>
          <p:nvPr/>
        </p:nvSpPr>
        <p:spPr>
          <a:xfrm>
            <a:off x="4284720" y="903780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AutoShape 115"/>
          <p:cNvSpPr/>
          <p:nvPr/>
        </p:nvSpPr>
        <p:spPr>
          <a:xfrm>
            <a:off x="4284720" y="100188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122" descr=""/>
          <p:cNvPicPr/>
          <p:nvPr/>
        </p:nvPicPr>
        <p:blipFill>
          <a:blip r:embed="rId2"/>
          <a:stretch/>
        </p:blipFill>
        <p:spPr>
          <a:xfrm>
            <a:off x="1434960" y="1438200"/>
            <a:ext cx="5553360" cy="7419960"/>
          </a:xfrm>
          <a:prstGeom prst="rect">
            <a:avLst/>
          </a:prstGeom>
          <a:ln w="0">
            <a:noFill/>
          </a:ln>
        </p:spPr>
      </p:pic>
      <p:grpSp>
        <p:nvGrpSpPr>
          <p:cNvPr id="16" name="グループ化 1"/>
          <p:cNvGrpSpPr/>
          <p:nvPr/>
        </p:nvGrpSpPr>
        <p:grpSpPr>
          <a:xfrm>
            <a:off x="98280" y="1440000"/>
            <a:ext cx="6991560" cy="7413480"/>
            <a:chOff x="98280" y="1440000"/>
            <a:chExt cx="6991560" cy="7413480"/>
          </a:xfrm>
        </p:grpSpPr>
        <p:grpSp>
          <p:nvGrpSpPr>
            <p:cNvPr id="17" name="Group 108"/>
            <p:cNvGrpSpPr/>
            <p:nvPr/>
          </p:nvGrpSpPr>
          <p:grpSpPr>
            <a:xfrm>
              <a:off x="1798560" y="1798560"/>
              <a:ext cx="4822920" cy="6694560"/>
              <a:chOff x="1798560" y="1798560"/>
              <a:chExt cx="4822920" cy="6694560"/>
            </a:xfrm>
          </p:grpSpPr>
          <p:sp>
            <p:nvSpPr>
              <p:cNvPr id="18" name="Rectangle 103"/>
              <p:cNvSpPr/>
              <p:nvPr/>
            </p:nvSpPr>
            <p:spPr>
              <a:xfrm>
                <a:off x="1798560" y="1798560"/>
                <a:ext cx="4822920" cy="2987640"/>
              </a:xfrm>
              <a:prstGeom prst="rect">
                <a:avLst/>
              </a:prstGeom>
              <a:noFill/>
              <a:ln w="648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Rectangle 104"/>
              <p:cNvSpPr/>
              <p:nvPr/>
            </p:nvSpPr>
            <p:spPr>
              <a:xfrm>
                <a:off x="1798560" y="5505480"/>
                <a:ext cx="4822920" cy="2987640"/>
              </a:xfrm>
              <a:prstGeom prst="rect">
                <a:avLst/>
              </a:prstGeom>
              <a:noFill/>
              <a:ln w="648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69920"/>
                    <a:tab algn="l" pos="2139840"/>
                    <a:tab algn="l" pos="3209760"/>
                    <a:tab algn="l" pos="4280040"/>
                    <a:tab algn="l" pos="5349960"/>
                    <a:tab algn="l" pos="6419880"/>
                    <a:tab algn="l" pos="7489800"/>
                    <a:tab algn="l" pos="8559720"/>
                    <a:tab algn="l" pos="9629640"/>
                    <a:tab algn="l" pos="106999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" name="AutoShape 102"/>
            <p:cNvSpPr/>
            <p:nvPr/>
          </p:nvSpPr>
          <p:spPr>
            <a:xfrm rot="5400000">
              <a:off x="502200" y="2375280"/>
              <a:ext cx="7413480" cy="5542200"/>
            </a:xfrm>
            <a:prstGeom prst="roundRect">
              <a:avLst>
                <a:gd name="adj" fmla="val 3093"/>
              </a:avLst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1069920"/>
                  <a:tab algn="l" pos="2139840"/>
                  <a:tab algn="l" pos="3209760"/>
                  <a:tab algn="l" pos="4280040"/>
                  <a:tab algn="l" pos="5349960"/>
                  <a:tab algn="l" pos="6419880"/>
                  <a:tab algn="l" pos="7489800"/>
                  <a:tab algn="l" pos="8559720"/>
                  <a:tab algn="l" pos="9629640"/>
                  <a:tab algn="l" pos="1069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Line 110"/>
            <p:cNvSpPr/>
            <p:nvPr/>
          </p:nvSpPr>
          <p:spPr>
            <a:xfrm>
              <a:off x="1331640" y="5145120"/>
              <a:ext cx="5758200" cy="0"/>
            </a:xfrm>
            <a:prstGeom prst="line">
              <a:avLst/>
            </a:prstGeom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AutoShape 116"/>
            <p:cNvSpPr/>
            <p:nvPr/>
          </p:nvSpPr>
          <p:spPr>
            <a:xfrm>
              <a:off x="98280" y="3203640"/>
              <a:ext cx="1028520" cy="93636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AutoShape 117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" name="Picture 27" descr=""/>
          <p:cNvPicPr/>
          <p:nvPr/>
        </p:nvPicPr>
        <p:blipFill>
          <a:blip r:embed="rId3"/>
          <a:stretch/>
        </p:blipFill>
        <p:spPr>
          <a:xfrm>
            <a:off x="2406600" y="244440"/>
            <a:ext cx="3605400" cy="71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0:15:52Z</dcterms:created>
  <dc:creator/>
  <dc:description/>
  <dc:language>en-US</dc:language>
  <cp:lastModifiedBy>福井 聡</cp:lastModifiedBy>
  <dcterms:modified xsi:type="dcterms:W3CDTF">2014-08-05T22:54:37Z</dcterms:modified>
  <cp:revision>17</cp:revision>
  <dc:subject/>
  <dc:title>PowerPoint プレゼンテーション</dc:title>
</cp:coreProperties>
</file>