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664240" y="7586640"/>
            <a:ext cx="457200" cy="56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4240" y="10237320"/>
            <a:ext cx="4572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2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664240" y="10261440"/>
            <a:ext cx="457200" cy="61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9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49360" y="1434960"/>
            <a:ext cx="3227400" cy="738216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5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42"/>
            <p:cNvSpPr/>
            <p:nvPr/>
          </p:nvSpPr>
          <p:spPr>
            <a:xfrm>
              <a:off x="1798560" y="2446200"/>
              <a:ext cx="2519640" cy="557856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57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Picture 12" descr=""/>
          <p:cNvPicPr/>
          <p:nvPr/>
        </p:nvPicPr>
        <p:blipFill>
          <a:blip r:embed="rId4"/>
          <a:stretch/>
        </p:blipFill>
        <p:spPr>
          <a:xfrm>
            <a:off x="1633680" y="162000"/>
            <a:ext cx="284796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31:39Z</dcterms:modified>
  <cp:revision>26</cp:revision>
  <dc:subject/>
  <dc:title>PowerPoint プレゼンテーション</dc:title>
</cp:coreProperties>
</file>