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67.jpeg" ContentType="image/jpeg"/>
  <Override PartName="/ppt/media/image58.png" ContentType="image/png"/>
  <Override PartName="/ppt/media/image22.png" ContentType="image/png"/>
  <Override PartName="/ppt/media/image59.png" ContentType="image/png"/>
  <Override PartName="/ppt/media/image71.jpeg" ContentType="image/jpeg"/>
  <Override PartName="/ppt/media/image70.jpeg" ContentType="image/jpeg"/>
  <Override PartName="/ppt/media/image35.png" ContentType="image/png"/>
  <Override PartName="/ppt/media/image26.png" ContentType="image/png"/>
  <Override PartName="/ppt/media/image63.png" ContentType="image/png"/>
  <Override PartName="/ppt/media/image69.jpeg" ContentType="image/jpeg"/>
  <Override PartName="/ppt/media/image61.png" ContentType="image/png"/>
  <Override PartName="/ppt/media/image68.jpeg" ContentType="image/jpeg"/>
  <Override PartName="/ppt/media/image31.png" ContentType="image/png"/>
  <Override PartName="/ppt/media/image2.png" ContentType="image/png"/>
  <Override PartName="/ppt/media/image72.jpeg" ContentType="image/jpeg"/>
  <Override PartName="/ppt/media/image14.png" ContentType="image/png"/>
  <Override PartName="/ppt/media/image66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64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74.jpeg" ContentType="image/jpeg"/>
  <Override PartName="/ppt/media/image28.png" ContentType="image/png"/>
  <Override PartName="/ppt/media/image5.png" ContentType="image/png"/>
  <Override PartName="/ppt/media/image17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62850"/>
  <p:notesSz cx="10691813" cy="7562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D63-2971-48D1-BF51-346B8676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8BB-9469-455C-AB97-8DB74B5F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A4CB-C6D4-4FAD-9A96-DA549FCC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3988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4700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2D93-C46E-40C1-BD95-AC45A87E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718-B1A5-4E15-8B94-6936137F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BA5-5613-4DB3-8C76-1C154276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A81-46F6-48B8-A0B2-AB774E14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AEAF-E941-43BF-94B3-D048F829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E10-F3FC-4ACA-AFB9-8005F0CF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5906-5751-4C94-B75D-D7CC4C2C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4700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C340-111F-404D-95FC-D2E0C95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3988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4700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ECB9-4877-4E97-A182-FBD9EDBD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3988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635280" y="7034040"/>
            <a:ext cx="342288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53460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98960" y="7034040"/>
            <a:ext cx="245916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C439-733C-46BA-9D04-FE707E465789}" type="slidenum">
              <a:rPr b="0" lang="ja-JP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3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5.png"/><Relationship Id="rId48" Type="http://schemas.openxmlformats.org/officeDocument/2006/relationships/image" Target="../media/image46.png"/><Relationship Id="rId49" Type="http://schemas.openxmlformats.org/officeDocument/2006/relationships/image" Target="../media/image47.png"/><Relationship Id="rId50" Type="http://schemas.openxmlformats.org/officeDocument/2006/relationships/image" Target="../media/image48.png"/><Relationship Id="rId51" Type="http://schemas.openxmlformats.org/officeDocument/2006/relationships/image" Target="../media/image49.png"/><Relationship Id="rId52" Type="http://schemas.openxmlformats.org/officeDocument/2006/relationships/image" Target="../media/image50.png"/><Relationship Id="rId53" Type="http://schemas.openxmlformats.org/officeDocument/2006/relationships/image" Target="../media/image51.png"/><Relationship Id="rId54" Type="http://schemas.openxmlformats.org/officeDocument/2006/relationships/image" Target="../media/image45.png"/><Relationship Id="rId55" Type="http://schemas.openxmlformats.org/officeDocument/2006/relationships/image" Target="../media/image45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image" Target="../media/image55.png"/><Relationship Id="rId60" Type="http://schemas.openxmlformats.org/officeDocument/2006/relationships/image" Target="../media/image56.png"/><Relationship Id="rId61" Type="http://schemas.openxmlformats.org/officeDocument/2006/relationships/image" Target="../media/image56.png"/><Relationship Id="rId62" Type="http://schemas.openxmlformats.org/officeDocument/2006/relationships/image" Target="../media/image57.png"/><Relationship Id="rId63" Type="http://schemas.openxmlformats.org/officeDocument/2006/relationships/image" Target="../media/image58.png"/><Relationship Id="rId64" Type="http://schemas.openxmlformats.org/officeDocument/2006/relationships/image" Target="../media/image59.png"/><Relationship Id="rId65" Type="http://schemas.openxmlformats.org/officeDocument/2006/relationships/image" Target="../media/image60.png"/><Relationship Id="rId66" Type="http://schemas.openxmlformats.org/officeDocument/2006/relationships/image" Target="../media/image61.png"/><Relationship Id="rId67" Type="http://schemas.openxmlformats.org/officeDocument/2006/relationships/image" Target="../media/image62.png"/><Relationship Id="rId68" Type="http://schemas.openxmlformats.org/officeDocument/2006/relationships/image" Target="../media/image62.png"/><Relationship Id="rId69" Type="http://schemas.openxmlformats.org/officeDocument/2006/relationships/image" Target="../media/image63.png"/><Relationship Id="rId70" Type="http://schemas.openxmlformats.org/officeDocument/2006/relationships/image" Target="../media/image58.png"/><Relationship Id="rId71" Type="http://schemas.openxmlformats.org/officeDocument/2006/relationships/image" Target="../media/image64.png"/><Relationship Id="rId72" Type="http://schemas.openxmlformats.org/officeDocument/2006/relationships/image" Target="../media/image65.png"/><Relationship Id="rId73" Type="http://schemas.openxmlformats.org/officeDocument/2006/relationships/image" Target="../media/image66.png"/><Relationship Id="rId74" Type="http://schemas.openxmlformats.org/officeDocument/2006/relationships/image" Target="../media/image67.jpeg"/><Relationship Id="rId75" Type="http://schemas.openxmlformats.org/officeDocument/2006/relationships/image" Target="../media/image68.jpeg"/><Relationship Id="rId76" Type="http://schemas.openxmlformats.org/officeDocument/2006/relationships/image" Target="../media/image69.jpeg"/><Relationship Id="rId77" Type="http://schemas.openxmlformats.org/officeDocument/2006/relationships/image" Target="../media/image70.jpeg"/><Relationship Id="rId78" Type="http://schemas.openxmlformats.org/officeDocument/2006/relationships/image" Target="../media/image71.jpeg"/><Relationship Id="rId79" Type="http://schemas.openxmlformats.org/officeDocument/2006/relationships/image" Target="../media/image72.jpeg"/><Relationship Id="rId80" Type="http://schemas.openxmlformats.org/officeDocument/2006/relationships/image" Target="../media/image73.jpeg"/><Relationship Id="rId81" Type="http://schemas.openxmlformats.org/officeDocument/2006/relationships/image" Target="../media/image74.jpeg"/><Relationship Id="rId82" Type="http://schemas.openxmlformats.org/officeDocument/2006/relationships/image" Target="../media/image75.jpeg"/><Relationship Id="rId8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グループ化 21"/>
          <p:cNvGrpSpPr/>
          <p:nvPr/>
        </p:nvGrpSpPr>
        <p:grpSpPr>
          <a:xfrm>
            <a:off x="0" y="0"/>
            <a:ext cx="10691640" cy="7559640"/>
            <a:chOff x="0" y="0"/>
            <a:chExt cx="10691640" cy="7559640"/>
          </a:xfrm>
        </p:grpSpPr>
        <p:sp>
          <p:nvSpPr>
            <p:cNvPr id="42" name="object 2"/>
            <p:cNvSpPr/>
            <p:nvPr/>
          </p:nvSpPr>
          <p:spPr>
            <a:xfrm>
              <a:off x="0" y="0"/>
              <a:ext cx="10691640" cy="7559640"/>
            </a:xfrm>
            <a:custGeom>
              <a:avLst/>
              <a:gdLst/>
              <a:ahLst/>
              <a:rect l="l" t="t" r="r" b="b"/>
              <a:pathLst>
                <a:path w="10692130" h="7560309">
                  <a:moveTo>
                    <a:pt x="10692003" y="0"/>
                  </a:moveTo>
                  <a:lnTo>
                    <a:pt x="0" y="0"/>
                  </a:lnTo>
                  <a:lnTo>
                    <a:pt x="0" y="7559992"/>
                  </a:lnTo>
                  <a:lnTo>
                    <a:pt x="10692003" y="7559992"/>
                  </a:lnTo>
                  <a:lnTo>
                    <a:pt x="10692003" y="0"/>
                  </a:lnTo>
                  <a:close/>
                </a:path>
              </a:pathLst>
            </a:custGeom>
            <a:solidFill>
              <a:srgbClr val="e6e7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object 3"/>
            <p:cNvSpPr/>
            <p:nvPr/>
          </p:nvSpPr>
          <p:spPr>
            <a:xfrm>
              <a:off x="306000" y="128880"/>
              <a:ext cx="10079640" cy="972000"/>
            </a:xfrm>
            <a:custGeom>
              <a:avLst/>
              <a:gdLst/>
              <a:ahLst/>
              <a:rect l="l" t="t" r="r" b="b"/>
              <a:pathLst>
                <a:path w="10079990" h="972185">
                  <a:moveTo>
                    <a:pt x="10079990" y="0"/>
                  </a:moveTo>
                  <a:lnTo>
                    <a:pt x="0" y="0"/>
                  </a:lnTo>
                  <a:lnTo>
                    <a:pt x="0" y="972007"/>
                  </a:lnTo>
                  <a:lnTo>
                    <a:pt x="10079990" y="972007"/>
                  </a:lnTo>
                  <a:lnTo>
                    <a:pt x="10079990" y="0"/>
                  </a:lnTo>
                  <a:close/>
                </a:path>
              </a:pathLst>
            </a:custGeom>
            <a:solidFill>
              <a:srgbClr val="244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" name="object 4"/>
            <p:cNvGrpSpPr/>
            <p:nvPr/>
          </p:nvGrpSpPr>
          <p:grpSpPr>
            <a:xfrm>
              <a:off x="299880" y="3290400"/>
              <a:ext cx="10091880" cy="4145400"/>
              <a:chOff x="299880" y="3290400"/>
              <a:chExt cx="10091880" cy="4145400"/>
            </a:xfrm>
          </p:grpSpPr>
          <p:sp>
            <p:nvSpPr>
              <p:cNvPr id="45" name="object 5"/>
              <p:cNvSpPr/>
              <p:nvPr/>
            </p:nvSpPr>
            <p:spPr>
              <a:xfrm>
                <a:off x="299880" y="3290400"/>
                <a:ext cx="10091880" cy="829080"/>
              </a:xfrm>
              <a:custGeom>
                <a:avLst/>
                <a:gdLst/>
                <a:ahLst/>
                <a:rect l="l" t="t" r="r" b="b"/>
                <a:pathLst>
                  <a:path w="10079990" h="828039">
                    <a:moveTo>
                      <a:pt x="10079990" y="0"/>
                    </a:moveTo>
                    <a:lnTo>
                      <a:pt x="0" y="0"/>
                    </a:lnTo>
                    <a:lnTo>
                      <a:pt x="0" y="828001"/>
                    </a:lnTo>
                    <a:lnTo>
                      <a:pt x="10079990" y="828001"/>
                    </a:lnTo>
                    <a:lnTo>
                      <a:pt x="10079990" y="0"/>
                    </a:lnTo>
                    <a:close/>
                  </a:path>
                </a:pathLst>
              </a:custGeom>
              <a:solidFill>
                <a:srgbClr val="244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" name="object 6"/>
              <p:cNvSpPr/>
              <p:nvPr/>
            </p:nvSpPr>
            <p:spPr>
              <a:xfrm>
                <a:off x="299880" y="4119480"/>
                <a:ext cx="10091880" cy="3316320"/>
              </a:xfrm>
              <a:custGeom>
                <a:avLst/>
                <a:gdLst/>
                <a:ahLst/>
                <a:rect l="l" t="t" r="r" b="b"/>
                <a:pathLst>
                  <a:path w="10079990" h="3312159">
                    <a:moveTo>
                      <a:pt x="10079990" y="828001"/>
                    </a:moveTo>
                    <a:lnTo>
                      <a:pt x="0" y="828001"/>
                    </a:lnTo>
                    <a:lnTo>
                      <a:pt x="0" y="0"/>
                    </a:lnTo>
                    <a:lnTo>
                      <a:pt x="10079990" y="0"/>
                    </a:lnTo>
                    <a:lnTo>
                      <a:pt x="10079990" y="828001"/>
                    </a:lnTo>
                    <a:close/>
                  </a:path>
                  <a:path w="10079990" h="3312159">
                    <a:moveTo>
                      <a:pt x="10079990" y="1655991"/>
                    </a:moveTo>
                    <a:lnTo>
                      <a:pt x="0" y="1655991"/>
                    </a:lnTo>
                    <a:lnTo>
                      <a:pt x="0" y="828001"/>
                    </a:lnTo>
                    <a:lnTo>
                      <a:pt x="10079990" y="828001"/>
                    </a:lnTo>
                    <a:lnTo>
                      <a:pt x="10079990" y="1655991"/>
                    </a:lnTo>
                    <a:close/>
                  </a:path>
                  <a:path w="10079990" h="3312159">
                    <a:moveTo>
                      <a:pt x="10079990" y="2484005"/>
                    </a:moveTo>
                    <a:lnTo>
                      <a:pt x="0" y="2484005"/>
                    </a:lnTo>
                    <a:lnTo>
                      <a:pt x="0" y="1656003"/>
                    </a:lnTo>
                    <a:lnTo>
                      <a:pt x="10079990" y="1656003"/>
                    </a:lnTo>
                    <a:lnTo>
                      <a:pt x="10079990" y="2484005"/>
                    </a:lnTo>
                    <a:close/>
                  </a:path>
                  <a:path w="10079990" h="3312159">
                    <a:moveTo>
                      <a:pt x="10079990" y="3311994"/>
                    </a:moveTo>
                    <a:lnTo>
                      <a:pt x="0" y="3311994"/>
                    </a:lnTo>
                    <a:lnTo>
                      <a:pt x="0" y="2484005"/>
                    </a:lnTo>
                    <a:lnTo>
                      <a:pt x="10079990" y="2484005"/>
                    </a:lnTo>
                    <a:lnTo>
                      <a:pt x="10079990" y="3311994"/>
                    </a:lnTo>
                    <a:close/>
                  </a:path>
                </a:pathLst>
              </a:custGeom>
              <a:noFill/>
              <a:ln w="11520">
                <a:solidFill>
                  <a:srgbClr val="231f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object 7"/>
              <p:cNvSpPr/>
              <p:nvPr/>
            </p:nvSpPr>
            <p:spPr>
              <a:xfrm>
                <a:off x="5345640" y="4119480"/>
                <a:ext cx="360" cy="3316320"/>
              </a:xfrm>
              <a:custGeom>
                <a:avLst/>
                <a:gdLst/>
                <a:ahLst/>
                <a:rect l="l" t="t" r="r" b="b"/>
                <a:pathLst>
                  <a:path w="0" h="3312159">
                    <a:moveTo>
                      <a:pt x="0" y="3311994"/>
                    </a:moveTo>
                    <a:lnTo>
                      <a:pt x="0" y="0"/>
                    </a:lnTo>
                  </a:path>
                </a:pathLst>
              </a:custGeom>
              <a:noFill/>
              <a:ln w="8280">
                <a:solidFill>
                  <a:srgbClr val="231f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8" name="object 8"/>
            <p:cNvSpPr/>
            <p:nvPr/>
          </p:nvSpPr>
          <p:spPr>
            <a:xfrm>
              <a:off x="3730320" y="272880"/>
              <a:ext cx="186480" cy="262800"/>
            </a:xfrm>
            <a:custGeom>
              <a:avLst/>
              <a:gdLst/>
              <a:ahLst/>
              <a:rect l="l" t="t" r="r" b="b"/>
              <a:pathLst>
                <a:path w="186689" h="262890">
                  <a:moveTo>
                    <a:pt x="186499" y="0"/>
                  </a:moveTo>
                  <a:lnTo>
                    <a:pt x="0" y="0"/>
                  </a:lnTo>
                  <a:lnTo>
                    <a:pt x="0" y="40640"/>
                  </a:lnTo>
                  <a:lnTo>
                    <a:pt x="0" y="109220"/>
                  </a:lnTo>
                  <a:lnTo>
                    <a:pt x="0" y="149860"/>
                  </a:lnTo>
                  <a:lnTo>
                    <a:pt x="0" y="262890"/>
                  </a:lnTo>
                  <a:lnTo>
                    <a:pt x="48602" y="262890"/>
                  </a:lnTo>
                  <a:lnTo>
                    <a:pt x="48602" y="149860"/>
                  </a:lnTo>
                  <a:lnTo>
                    <a:pt x="173545" y="149860"/>
                  </a:lnTo>
                  <a:lnTo>
                    <a:pt x="173545" y="109220"/>
                  </a:lnTo>
                  <a:lnTo>
                    <a:pt x="48602" y="109220"/>
                  </a:lnTo>
                  <a:lnTo>
                    <a:pt x="48602" y="40640"/>
                  </a:lnTo>
                  <a:lnTo>
                    <a:pt x="186499" y="40640"/>
                  </a:lnTo>
                  <a:lnTo>
                    <a:pt x="1864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object 9"/>
            <p:cNvSpPr/>
            <p:nvPr/>
          </p:nvSpPr>
          <p:spPr>
            <a:xfrm>
              <a:off x="3963240" y="263880"/>
              <a:ext cx="222840" cy="280440"/>
            </a:xfrm>
            <a:custGeom>
              <a:avLst/>
              <a:gdLst/>
              <a:ahLst/>
              <a:rect l="l" t="t" r="r" b="b"/>
              <a:pathLst>
                <a:path w="222885" h="280670">
                  <a:moveTo>
                    <a:pt x="109816" y="0"/>
                  </a:moveTo>
                  <a:lnTo>
                    <a:pt x="71551" y="4316"/>
                  </a:lnTo>
                  <a:lnTo>
                    <a:pt x="37577" y="18051"/>
                  </a:lnTo>
                  <a:lnTo>
                    <a:pt x="13260" y="42385"/>
                  </a:lnTo>
                  <a:lnTo>
                    <a:pt x="3962" y="78498"/>
                  </a:lnTo>
                  <a:lnTo>
                    <a:pt x="10228" y="110527"/>
                  </a:lnTo>
                  <a:lnTo>
                    <a:pt x="26550" y="132772"/>
                  </a:lnTo>
                  <a:lnTo>
                    <a:pt x="49219" y="147053"/>
                  </a:lnTo>
                  <a:lnTo>
                    <a:pt x="74523" y="155194"/>
                  </a:lnTo>
                  <a:lnTo>
                    <a:pt x="137896" y="169227"/>
                  </a:lnTo>
                  <a:lnTo>
                    <a:pt x="153433" y="173771"/>
                  </a:lnTo>
                  <a:lnTo>
                    <a:pt x="164447" y="179936"/>
                  </a:lnTo>
                  <a:lnTo>
                    <a:pt x="171006" y="188669"/>
                  </a:lnTo>
                  <a:lnTo>
                    <a:pt x="173177" y="200914"/>
                  </a:lnTo>
                  <a:lnTo>
                    <a:pt x="164830" y="222577"/>
                  </a:lnTo>
                  <a:lnTo>
                    <a:pt x="145548" y="234080"/>
                  </a:lnTo>
                  <a:lnTo>
                    <a:pt x="123971" y="238629"/>
                  </a:lnTo>
                  <a:lnTo>
                    <a:pt x="108737" y="239433"/>
                  </a:lnTo>
                  <a:lnTo>
                    <a:pt x="91442" y="238044"/>
                  </a:lnTo>
                  <a:lnTo>
                    <a:pt x="72188" y="231830"/>
                  </a:lnTo>
                  <a:lnTo>
                    <a:pt x="56175" y="217717"/>
                  </a:lnTo>
                  <a:lnTo>
                    <a:pt x="48602" y="192633"/>
                  </a:lnTo>
                  <a:lnTo>
                    <a:pt x="0" y="192633"/>
                  </a:lnTo>
                  <a:lnTo>
                    <a:pt x="13007" y="238048"/>
                  </a:lnTo>
                  <a:lnTo>
                    <a:pt x="41135" y="264596"/>
                  </a:lnTo>
                  <a:lnTo>
                    <a:pt x="76959" y="277035"/>
                  </a:lnTo>
                  <a:lnTo>
                    <a:pt x="113055" y="280123"/>
                  </a:lnTo>
                  <a:lnTo>
                    <a:pt x="159532" y="273688"/>
                  </a:lnTo>
                  <a:lnTo>
                    <a:pt x="194024" y="255912"/>
                  </a:lnTo>
                  <a:lnTo>
                    <a:pt x="215486" y="229090"/>
                  </a:lnTo>
                  <a:lnTo>
                    <a:pt x="222872" y="195516"/>
                  </a:lnTo>
                  <a:lnTo>
                    <a:pt x="215411" y="163262"/>
                  </a:lnTo>
                  <a:lnTo>
                    <a:pt x="197484" y="142179"/>
                  </a:lnTo>
                  <a:lnTo>
                    <a:pt x="175777" y="129940"/>
                  </a:lnTo>
                  <a:lnTo>
                    <a:pt x="156971" y="124218"/>
                  </a:lnTo>
                  <a:lnTo>
                    <a:pt x="88569" y="109105"/>
                  </a:lnTo>
                  <a:lnTo>
                    <a:pt x="70929" y="103473"/>
                  </a:lnTo>
                  <a:lnTo>
                    <a:pt x="59497" y="95915"/>
                  </a:lnTo>
                  <a:lnTo>
                    <a:pt x="53331" y="86668"/>
                  </a:lnTo>
                  <a:lnTo>
                    <a:pt x="51485" y="75971"/>
                  </a:lnTo>
                  <a:lnTo>
                    <a:pt x="59270" y="56085"/>
                  </a:lnTo>
                  <a:lnTo>
                    <a:pt x="77046" y="45683"/>
                  </a:lnTo>
                  <a:lnTo>
                    <a:pt x="96443" y="41693"/>
                  </a:lnTo>
                  <a:lnTo>
                    <a:pt x="109092" y="41046"/>
                  </a:lnTo>
                  <a:lnTo>
                    <a:pt x="123405" y="42002"/>
                  </a:lnTo>
                  <a:lnTo>
                    <a:pt x="142038" y="47077"/>
                  </a:lnTo>
                  <a:lnTo>
                    <a:pt x="158511" y="59579"/>
                  </a:lnTo>
                  <a:lnTo>
                    <a:pt x="166344" y="82816"/>
                  </a:lnTo>
                  <a:lnTo>
                    <a:pt x="214947" y="82816"/>
                  </a:lnTo>
                  <a:lnTo>
                    <a:pt x="198743" y="36282"/>
                  </a:lnTo>
                  <a:lnTo>
                    <a:pt x="148612" y="4725"/>
                  </a:lnTo>
                  <a:lnTo>
                    <a:pt x="128065" y="962"/>
                  </a:lnTo>
                  <a:lnTo>
                    <a:pt x="1098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object 10"/>
            <p:cNvSpPr/>
            <p:nvPr/>
          </p:nvSpPr>
          <p:spPr>
            <a:xfrm>
              <a:off x="4235760" y="263880"/>
              <a:ext cx="241200" cy="280440"/>
            </a:xfrm>
            <a:custGeom>
              <a:avLst/>
              <a:gdLst/>
              <a:ahLst/>
              <a:rect l="l" t="t" r="r" b="b"/>
              <a:pathLst>
                <a:path w="241300" h="280670">
                  <a:moveTo>
                    <a:pt x="129260" y="0"/>
                  </a:moveTo>
                  <a:lnTo>
                    <a:pt x="79870" y="8158"/>
                  </a:lnTo>
                  <a:lnTo>
                    <a:pt x="43320" y="30178"/>
                  </a:lnTo>
                  <a:lnTo>
                    <a:pt x="18539" y="62377"/>
                  </a:lnTo>
                  <a:lnTo>
                    <a:pt x="4456" y="101073"/>
                  </a:lnTo>
                  <a:lnTo>
                    <a:pt x="0" y="142582"/>
                  </a:lnTo>
                  <a:lnTo>
                    <a:pt x="4704" y="184538"/>
                  </a:lnTo>
                  <a:lnTo>
                    <a:pt x="19139" y="222105"/>
                  </a:lnTo>
                  <a:lnTo>
                    <a:pt x="43789" y="252448"/>
                  </a:lnTo>
                  <a:lnTo>
                    <a:pt x="79137" y="272732"/>
                  </a:lnTo>
                  <a:lnTo>
                    <a:pt x="125666" y="280123"/>
                  </a:lnTo>
                  <a:lnTo>
                    <a:pt x="175517" y="271111"/>
                  </a:lnTo>
                  <a:lnTo>
                    <a:pt x="210415" y="247989"/>
                  </a:lnTo>
                  <a:lnTo>
                    <a:pt x="231742" y="216633"/>
                  </a:lnTo>
                  <a:lnTo>
                    <a:pt x="240880" y="182918"/>
                  </a:lnTo>
                  <a:lnTo>
                    <a:pt x="189395" y="182918"/>
                  </a:lnTo>
                  <a:lnTo>
                    <a:pt x="187566" y="193036"/>
                  </a:lnTo>
                  <a:lnTo>
                    <a:pt x="184758" y="201772"/>
                  </a:lnTo>
                  <a:lnTo>
                    <a:pt x="150374" y="232783"/>
                  </a:lnTo>
                  <a:lnTo>
                    <a:pt x="124942" y="237642"/>
                  </a:lnTo>
                  <a:lnTo>
                    <a:pt x="96455" y="231334"/>
                  </a:lnTo>
                  <a:lnTo>
                    <a:pt x="73099" y="212839"/>
                  </a:lnTo>
                  <a:lnTo>
                    <a:pt x="57303" y="182799"/>
                  </a:lnTo>
                  <a:lnTo>
                    <a:pt x="51498" y="141859"/>
                  </a:lnTo>
                  <a:lnTo>
                    <a:pt x="58045" y="98592"/>
                  </a:lnTo>
                  <a:lnTo>
                    <a:pt x="75526" y="67646"/>
                  </a:lnTo>
                  <a:lnTo>
                    <a:pt x="100704" y="49054"/>
                  </a:lnTo>
                  <a:lnTo>
                    <a:pt x="130340" y="42849"/>
                  </a:lnTo>
                  <a:lnTo>
                    <a:pt x="141192" y="43609"/>
                  </a:lnTo>
                  <a:lnTo>
                    <a:pt x="158791" y="48926"/>
                  </a:lnTo>
                  <a:lnTo>
                    <a:pt x="176928" y="63359"/>
                  </a:lnTo>
                  <a:lnTo>
                    <a:pt x="189395" y="91465"/>
                  </a:lnTo>
                  <a:lnTo>
                    <a:pt x="240880" y="91465"/>
                  </a:lnTo>
                  <a:lnTo>
                    <a:pt x="232150" y="59546"/>
                  </a:lnTo>
                  <a:lnTo>
                    <a:pt x="211535" y="30064"/>
                  </a:lnTo>
                  <a:lnTo>
                    <a:pt x="177689" y="8415"/>
                  </a:lnTo>
                  <a:lnTo>
                    <a:pt x="1292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object 11"/>
            <p:cNvSpPr/>
            <p:nvPr/>
          </p:nvSpPr>
          <p:spPr>
            <a:xfrm>
              <a:off x="4527360" y="242280"/>
              <a:ext cx="328680" cy="311040"/>
            </a:xfrm>
            <a:custGeom>
              <a:avLst/>
              <a:gdLst/>
              <a:ahLst/>
              <a:rect l="l" t="t" r="r" b="b"/>
              <a:pathLst>
                <a:path w="328929" h="311150">
                  <a:moveTo>
                    <a:pt x="111620" y="249161"/>
                  </a:moveTo>
                  <a:lnTo>
                    <a:pt x="70929" y="249161"/>
                  </a:lnTo>
                  <a:lnTo>
                    <a:pt x="70929" y="311086"/>
                  </a:lnTo>
                  <a:lnTo>
                    <a:pt x="111620" y="311086"/>
                  </a:lnTo>
                  <a:lnTo>
                    <a:pt x="111620" y="249161"/>
                  </a:lnTo>
                  <a:close/>
                </a:path>
                <a:path w="328929" h="311150">
                  <a:moveTo>
                    <a:pt x="292980" y="238366"/>
                  </a:moveTo>
                  <a:lnTo>
                    <a:pt x="213512" y="238366"/>
                  </a:lnTo>
                  <a:lnTo>
                    <a:pt x="213512" y="311086"/>
                  </a:lnTo>
                  <a:lnTo>
                    <a:pt x="254558" y="311086"/>
                  </a:lnTo>
                  <a:lnTo>
                    <a:pt x="254558" y="247002"/>
                  </a:lnTo>
                  <a:lnTo>
                    <a:pt x="302655" y="247002"/>
                  </a:lnTo>
                  <a:lnTo>
                    <a:pt x="297545" y="242908"/>
                  </a:lnTo>
                  <a:lnTo>
                    <a:pt x="292980" y="238366"/>
                  </a:lnTo>
                  <a:close/>
                </a:path>
                <a:path w="328929" h="311150">
                  <a:moveTo>
                    <a:pt x="262128" y="203072"/>
                  </a:moveTo>
                  <a:lnTo>
                    <a:pt x="197675" y="203072"/>
                  </a:lnTo>
                  <a:lnTo>
                    <a:pt x="186973" y="218920"/>
                  </a:lnTo>
                  <a:lnTo>
                    <a:pt x="171750" y="237734"/>
                  </a:lnTo>
                  <a:lnTo>
                    <a:pt x="150585" y="258572"/>
                  </a:lnTo>
                  <a:lnTo>
                    <a:pt x="122059" y="280492"/>
                  </a:lnTo>
                  <a:lnTo>
                    <a:pt x="153022" y="307124"/>
                  </a:lnTo>
                  <a:lnTo>
                    <a:pt x="173512" y="288431"/>
                  </a:lnTo>
                  <a:lnTo>
                    <a:pt x="189749" y="270987"/>
                  </a:lnTo>
                  <a:lnTo>
                    <a:pt x="202744" y="254422"/>
                  </a:lnTo>
                  <a:lnTo>
                    <a:pt x="213512" y="238366"/>
                  </a:lnTo>
                  <a:lnTo>
                    <a:pt x="292980" y="238366"/>
                  </a:lnTo>
                  <a:lnTo>
                    <a:pt x="280325" y="225776"/>
                  </a:lnTo>
                  <a:lnTo>
                    <a:pt x="262128" y="203072"/>
                  </a:lnTo>
                  <a:close/>
                </a:path>
                <a:path w="328929" h="311150">
                  <a:moveTo>
                    <a:pt x="111620" y="204165"/>
                  </a:moveTo>
                  <a:lnTo>
                    <a:pt x="61214" y="204165"/>
                  </a:lnTo>
                  <a:lnTo>
                    <a:pt x="44559" y="229544"/>
                  </a:lnTo>
                  <a:lnTo>
                    <a:pt x="28444" y="248715"/>
                  </a:lnTo>
                  <a:lnTo>
                    <a:pt x="13411" y="262892"/>
                  </a:lnTo>
                  <a:lnTo>
                    <a:pt x="0" y="273291"/>
                  </a:lnTo>
                  <a:lnTo>
                    <a:pt x="33845" y="299211"/>
                  </a:lnTo>
                  <a:lnTo>
                    <a:pt x="45158" y="286532"/>
                  </a:lnTo>
                  <a:lnTo>
                    <a:pt x="54683" y="274458"/>
                  </a:lnTo>
                  <a:lnTo>
                    <a:pt x="63122" y="262143"/>
                  </a:lnTo>
                  <a:lnTo>
                    <a:pt x="70929" y="249161"/>
                  </a:lnTo>
                  <a:lnTo>
                    <a:pt x="111620" y="249161"/>
                  </a:lnTo>
                  <a:lnTo>
                    <a:pt x="111620" y="247002"/>
                  </a:lnTo>
                  <a:lnTo>
                    <a:pt x="148844" y="247002"/>
                  </a:lnTo>
                  <a:lnTo>
                    <a:pt x="156260" y="239090"/>
                  </a:lnTo>
                  <a:lnTo>
                    <a:pt x="141997" y="229779"/>
                  </a:lnTo>
                  <a:lnTo>
                    <a:pt x="130163" y="220808"/>
                  </a:lnTo>
                  <a:lnTo>
                    <a:pt x="120218" y="212247"/>
                  </a:lnTo>
                  <a:lnTo>
                    <a:pt x="111620" y="204165"/>
                  </a:lnTo>
                  <a:close/>
                </a:path>
                <a:path w="328929" h="311150">
                  <a:moveTo>
                    <a:pt x="302655" y="247002"/>
                  </a:moveTo>
                  <a:lnTo>
                    <a:pt x="254558" y="247002"/>
                  </a:lnTo>
                  <a:lnTo>
                    <a:pt x="263736" y="260170"/>
                  </a:lnTo>
                  <a:lnTo>
                    <a:pt x="273421" y="272159"/>
                  </a:lnTo>
                  <a:lnTo>
                    <a:pt x="284387" y="283812"/>
                  </a:lnTo>
                  <a:lnTo>
                    <a:pt x="297408" y="295973"/>
                  </a:lnTo>
                  <a:lnTo>
                    <a:pt x="328371" y="265722"/>
                  </a:lnTo>
                  <a:lnTo>
                    <a:pt x="313616" y="255784"/>
                  </a:lnTo>
                  <a:lnTo>
                    <a:pt x="302655" y="247002"/>
                  </a:lnTo>
                  <a:close/>
                </a:path>
                <a:path w="328929" h="311150">
                  <a:moveTo>
                    <a:pt x="148844" y="247002"/>
                  </a:moveTo>
                  <a:lnTo>
                    <a:pt x="111620" y="247002"/>
                  </a:lnTo>
                  <a:lnTo>
                    <a:pt x="115691" y="253352"/>
                  </a:lnTo>
                  <a:lnTo>
                    <a:pt x="119087" y="257848"/>
                  </a:lnTo>
                  <a:lnTo>
                    <a:pt x="123272" y="262248"/>
                  </a:lnTo>
                  <a:lnTo>
                    <a:pt x="129260" y="267893"/>
                  </a:lnTo>
                  <a:lnTo>
                    <a:pt x="148844" y="247002"/>
                  </a:lnTo>
                  <a:close/>
                </a:path>
                <a:path w="328929" h="311150">
                  <a:moveTo>
                    <a:pt x="155905" y="166712"/>
                  </a:moveTo>
                  <a:lnTo>
                    <a:pt x="12598" y="166712"/>
                  </a:lnTo>
                  <a:lnTo>
                    <a:pt x="12598" y="204165"/>
                  </a:lnTo>
                  <a:lnTo>
                    <a:pt x="155905" y="204165"/>
                  </a:lnTo>
                  <a:lnTo>
                    <a:pt x="155905" y="166712"/>
                  </a:lnTo>
                  <a:close/>
                </a:path>
                <a:path w="328929" h="311150">
                  <a:moveTo>
                    <a:pt x="320814" y="165633"/>
                  </a:moveTo>
                  <a:lnTo>
                    <a:pt x="164553" y="165633"/>
                  </a:lnTo>
                  <a:lnTo>
                    <a:pt x="164553" y="203072"/>
                  </a:lnTo>
                  <a:lnTo>
                    <a:pt x="320814" y="203072"/>
                  </a:lnTo>
                  <a:lnTo>
                    <a:pt x="320814" y="165633"/>
                  </a:lnTo>
                  <a:close/>
                </a:path>
                <a:path w="328929" h="311150">
                  <a:moveTo>
                    <a:pt x="118821" y="145821"/>
                  </a:moveTo>
                  <a:lnTo>
                    <a:pt x="70929" y="145821"/>
                  </a:lnTo>
                  <a:lnTo>
                    <a:pt x="70929" y="166712"/>
                  </a:lnTo>
                  <a:lnTo>
                    <a:pt x="111620" y="166712"/>
                  </a:lnTo>
                  <a:lnTo>
                    <a:pt x="111707" y="151855"/>
                  </a:lnTo>
                  <a:lnTo>
                    <a:pt x="112699" y="150863"/>
                  </a:lnTo>
                  <a:lnTo>
                    <a:pt x="117741" y="146913"/>
                  </a:lnTo>
                  <a:lnTo>
                    <a:pt x="118821" y="145821"/>
                  </a:lnTo>
                  <a:close/>
                </a:path>
                <a:path w="328929" h="311150">
                  <a:moveTo>
                    <a:pt x="213512" y="132867"/>
                  </a:moveTo>
                  <a:lnTo>
                    <a:pt x="213512" y="165633"/>
                  </a:lnTo>
                  <a:lnTo>
                    <a:pt x="254558" y="165633"/>
                  </a:lnTo>
                  <a:lnTo>
                    <a:pt x="254558" y="148348"/>
                  </a:lnTo>
                  <a:lnTo>
                    <a:pt x="255638" y="146913"/>
                  </a:lnTo>
                  <a:lnTo>
                    <a:pt x="258165" y="144741"/>
                  </a:lnTo>
                  <a:lnTo>
                    <a:pt x="260680" y="142951"/>
                  </a:lnTo>
                  <a:lnTo>
                    <a:pt x="261048" y="142582"/>
                  </a:lnTo>
                  <a:lnTo>
                    <a:pt x="309006" y="142582"/>
                  </a:lnTo>
                  <a:lnTo>
                    <a:pt x="316950" y="134302"/>
                  </a:lnTo>
                  <a:lnTo>
                    <a:pt x="247713" y="134302"/>
                  </a:lnTo>
                  <a:lnTo>
                    <a:pt x="213512" y="132867"/>
                  </a:lnTo>
                  <a:close/>
                </a:path>
                <a:path w="328929" h="311150">
                  <a:moveTo>
                    <a:pt x="217119" y="66979"/>
                  </a:moveTo>
                  <a:lnTo>
                    <a:pt x="117017" y="66979"/>
                  </a:lnTo>
                  <a:lnTo>
                    <a:pt x="109930" y="74600"/>
                  </a:lnTo>
                  <a:lnTo>
                    <a:pt x="101626" y="82322"/>
                  </a:lnTo>
                  <a:lnTo>
                    <a:pt x="55537" y="111975"/>
                  </a:lnTo>
                  <a:lnTo>
                    <a:pt x="9359" y="131063"/>
                  </a:lnTo>
                  <a:lnTo>
                    <a:pt x="40322" y="161670"/>
                  </a:lnTo>
                  <a:lnTo>
                    <a:pt x="51337" y="156256"/>
                  </a:lnTo>
                  <a:lnTo>
                    <a:pt x="59817" y="151855"/>
                  </a:lnTo>
                  <a:lnTo>
                    <a:pt x="70929" y="145821"/>
                  </a:lnTo>
                  <a:lnTo>
                    <a:pt x="118821" y="145821"/>
                  </a:lnTo>
                  <a:lnTo>
                    <a:pt x="119900" y="145110"/>
                  </a:lnTo>
                  <a:lnTo>
                    <a:pt x="119900" y="140068"/>
                  </a:lnTo>
                  <a:lnTo>
                    <a:pt x="116293" y="138988"/>
                  </a:lnTo>
                  <a:lnTo>
                    <a:pt x="87134" y="135026"/>
                  </a:lnTo>
                  <a:lnTo>
                    <a:pt x="103957" y="122831"/>
                  </a:lnTo>
                  <a:lnTo>
                    <a:pt x="118552" y="110902"/>
                  </a:lnTo>
                  <a:lnTo>
                    <a:pt x="132202" y="98164"/>
                  </a:lnTo>
                  <a:lnTo>
                    <a:pt x="146189" y="83540"/>
                  </a:lnTo>
                  <a:lnTo>
                    <a:pt x="187591" y="83540"/>
                  </a:lnTo>
                  <a:lnTo>
                    <a:pt x="187591" y="81737"/>
                  </a:lnTo>
                  <a:lnTo>
                    <a:pt x="235472" y="81737"/>
                  </a:lnTo>
                  <a:lnTo>
                    <a:pt x="217119" y="66979"/>
                  </a:lnTo>
                  <a:close/>
                </a:path>
                <a:path w="328929" h="311150">
                  <a:moveTo>
                    <a:pt x="309006" y="142582"/>
                  </a:moveTo>
                  <a:lnTo>
                    <a:pt x="261048" y="142582"/>
                  </a:lnTo>
                  <a:lnTo>
                    <a:pt x="270520" y="147645"/>
                  </a:lnTo>
                  <a:lnTo>
                    <a:pt x="278777" y="151726"/>
                  </a:lnTo>
                  <a:lnTo>
                    <a:pt x="286358" y="155198"/>
                  </a:lnTo>
                  <a:lnTo>
                    <a:pt x="293801" y="158432"/>
                  </a:lnTo>
                  <a:lnTo>
                    <a:pt x="309006" y="142582"/>
                  </a:lnTo>
                  <a:close/>
                </a:path>
                <a:path w="328929" h="311150">
                  <a:moveTo>
                    <a:pt x="187591" y="83540"/>
                  </a:moveTo>
                  <a:lnTo>
                    <a:pt x="146189" y="83540"/>
                  </a:lnTo>
                  <a:lnTo>
                    <a:pt x="146189" y="152666"/>
                  </a:lnTo>
                  <a:lnTo>
                    <a:pt x="187591" y="152666"/>
                  </a:lnTo>
                  <a:lnTo>
                    <a:pt x="187591" y="83540"/>
                  </a:lnTo>
                  <a:close/>
                </a:path>
                <a:path w="328929" h="311150">
                  <a:moveTo>
                    <a:pt x="235472" y="81737"/>
                  </a:moveTo>
                  <a:lnTo>
                    <a:pt x="187591" y="81737"/>
                  </a:lnTo>
                  <a:lnTo>
                    <a:pt x="204629" y="99824"/>
                  </a:lnTo>
                  <a:lnTo>
                    <a:pt x="219948" y="113825"/>
                  </a:lnTo>
                  <a:lnTo>
                    <a:pt x="234118" y="124922"/>
                  </a:lnTo>
                  <a:lnTo>
                    <a:pt x="247713" y="134302"/>
                  </a:lnTo>
                  <a:lnTo>
                    <a:pt x="316950" y="134302"/>
                  </a:lnTo>
                  <a:lnTo>
                    <a:pt x="327647" y="123151"/>
                  </a:lnTo>
                  <a:lnTo>
                    <a:pt x="300658" y="115385"/>
                  </a:lnTo>
                  <a:lnTo>
                    <a:pt x="271573" y="103705"/>
                  </a:lnTo>
                  <a:lnTo>
                    <a:pt x="242893" y="87704"/>
                  </a:lnTo>
                  <a:lnTo>
                    <a:pt x="235472" y="81737"/>
                  </a:lnTo>
                  <a:close/>
                </a:path>
                <a:path w="328929" h="311150">
                  <a:moveTo>
                    <a:pt x="305333" y="31686"/>
                  </a:moveTo>
                  <a:lnTo>
                    <a:pt x="29527" y="31686"/>
                  </a:lnTo>
                  <a:lnTo>
                    <a:pt x="29527" y="66979"/>
                  </a:lnTo>
                  <a:lnTo>
                    <a:pt x="305333" y="66979"/>
                  </a:lnTo>
                  <a:lnTo>
                    <a:pt x="305333" y="31686"/>
                  </a:lnTo>
                  <a:close/>
                </a:path>
                <a:path w="328929" h="311150">
                  <a:moveTo>
                    <a:pt x="146189" y="0"/>
                  </a:moveTo>
                  <a:lnTo>
                    <a:pt x="146189" y="31686"/>
                  </a:lnTo>
                  <a:lnTo>
                    <a:pt x="187591" y="31686"/>
                  </a:lnTo>
                  <a:lnTo>
                    <a:pt x="187591" y="14770"/>
                  </a:lnTo>
                  <a:lnTo>
                    <a:pt x="194437" y="7924"/>
                  </a:lnTo>
                  <a:lnTo>
                    <a:pt x="194437" y="2882"/>
                  </a:lnTo>
                  <a:lnTo>
                    <a:pt x="190830" y="1803"/>
                  </a:lnTo>
                  <a:lnTo>
                    <a:pt x="185432" y="1447"/>
                  </a:lnTo>
                  <a:lnTo>
                    <a:pt x="1461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object 12"/>
            <p:cNvSpPr/>
            <p:nvPr/>
          </p:nvSpPr>
          <p:spPr>
            <a:xfrm>
              <a:off x="4906080" y="241200"/>
              <a:ext cx="339480" cy="312120"/>
            </a:xfrm>
            <a:custGeom>
              <a:avLst/>
              <a:gdLst/>
              <a:ahLst/>
              <a:rect l="l" t="t" r="r" b="b"/>
              <a:pathLst>
                <a:path w="339725" h="312420">
                  <a:moveTo>
                    <a:pt x="254203" y="194436"/>
                  </a:moveTo>
                  <a:lnTo>
                    <a:pt x="214591" y="194436"/>
                  </a:lnTo>
                  <a:lnTo>
                    <a:pt x="214591" y="312165"/>
                  </a:lnTo>
                  <a:lnTo>
                    <a:pt x="254203" y="312165"/>
                  </a:lnTo>
                  <a:lnTo>
                    <a:pt x="254203" y="194436"/>
                  </a:lnTo>
                  <a:close/>
                </a:path>
                <a:path w="339725" h="312420">
                  <a:moveTo>
                    <a:pt x="116293" y="202717"/>
                  </a:moveTo>
                  <a:lnTo>
                    <a:pt x="77406" y="202717"/>
                  </a:lnTo>
                  <a:lnTo>
                    <a:pt x="77406" y="311810"/>
                  </a:lnTo>
                  <a:lnTo>
                    <a:pt x="116293" y="311810"/>
                  </a:lnTo>
                  <a:lnTo>
                    <a:pt x="116293" y="202717"/>
                  </a:lnTo>
                  <a:close/>
                </a:path>
                <a:path w="339725" h="312420">
                  <a:moveTo>
                    <a:pt x="258165" y="98297"/>
                  </a:moveTo>
                  <a:lnTo>
                    <a:pt x="209194" y="98297"/>
                  </a:lnTo>
                  <a:lnTo>
                    <a:pt x="206302" y="111412"/>
                  </a:lnTo>
                  <a:lnTo>
                    <a:pt x="201183" y="129217"/>
                  </a:lnTo>
                  <a:lnTo>
                    <a:pt x="179666" y="176072"/>
                  </a:lnTo>
                  <a:lnTo>
                    <a:pt x="153206" y="212258"/>
                  </a:lnTo>
                  <a:lnTo>
                    <a:pt x="121335" y="244119"/>
                  </a:lnTo>
                  <a:lnTo>
                    <a:pt x="156984" y="267881"/>
                  </a:lnTo>
                  <a:lnTo>
                    <a:pt x="169942" y="255282"/>
                  </a:lnTo>
                  <a:lnTo>
                    <a:pt x="185116" y="238045"/>
                  </a:lnTo>
                  <a:lnTo>
                    <a:pt x="200681" y="217303"/>
                  </a:lnTo>
                  <a:lnTo>
                    <a:pt x="214591" y="194436"/>
                  </a:lnTo>
                  <a:lnTo>
                    <a:pt x="254203" y="194436"/>
                  </a:lnTo>
                  <a:lnTo>
                    <a:pt x="254203" y="194081"/>
                  </a:lnTo>
                  <a:lnTo>
                    <a:pt x="307353" y="194081"/>
                  </a:lnTo>
                  <a:lnTo>
                    <a:pt x="295562" y="178993"/>
                  </a:lnTo>
                  <a:lnTo>
                    <a:pt x="275226" y="143220"/>
                  </a:lnTo>
                  <a:lnTo>
                    <a:pt x="258165" y="98297"/>
                  </a:lnTo>
                  <a:close/>
                </a:path>
                <a:path w="339725" h="312420">
                  <a:moveTo>
                    <a:pt x="307353" y="194081"/>
                  </a:moveTo>
                  <a:lnTo>
                    <a:pt x="254203" y="194081"/>
                  </a:lnTo>
                  <a:lnTo>
                    <a:pt x="263984" y="208443"/>
                  </a:lnTo>
                  <a:lnTo>
                    <a:pt x="276837" y="225309"/>
                  </a:lnTo>
                  <a:lnTo>
                    <a:pt x="291515" y="242582"/>
                  </a:lnTo>
                  <a:lnTo>
                    <a:pt x="306768" y="258165"/>
                  </a:lnTo>
                  <a:lnTo>
                    <a:pt x="339178" y="228638"/>
                  </a:lnTo>
                  <a:lnTo>
                    <a:pt x="317453" y="207004"/>
                  </a:lnTo>
                  <a:lnTo>
                    <a:pt x="307353" y="194081"/>
                  </a:lnTo>
                  <a:close/>
                </a:path>
                <a:path w="339725" h="312420">
                  <a:moveTo>
                    <a:pt x="116293" y="98297"/>
                  </a:moveTo>
                  <a:lnTo>
                    <a:pt x="72364" y="98297"/>
                  </a:lnTo>
                  <a:lnTo>
                    <a:pt x="67962" y="118682"/>
                  </a:lnTo>
                  <a:lnTo>
                    <a:pt x="62514" y="137680"/>
                  </a:lnTo>
                  <a:lnTo>
                    <a:pt x="46443" y="174624"/>
                  </a:lnTo>
                  <a:lnTo>
                    <a:pt x="19711" y="213693"/>
                  </a:lnTo>
                  <a:lnTo>
                    <a:pt x="0" y="233311"/>
                  </a:lnTo>
                  <a:lnTo>
                    <a:pt x="38887" y="255282"/>
                  </a:lnTo>
                  <a:lnTo>
                    <a:pt x="50524" y="242256"/>
                  </a:lnTo>
                  <a:lnTo>
                    <a:pt x="60442" y="229671"/>
                  </a:lnTo>
                  <a:lnTo>
                    <a:pt x="69212" y="216751"/>
                  </a:lnTo>
                  <a:lnTo>
                    <a:pt x="77406" y="202717"/>
                  </a:lnTo>
                  <a:lnTo>
                    <a:pt x="116293" y="202717"/>
                  </a:lnTo>
                  <a:lnTo>
                    <a:pt x="116293" y="168871"/>
                  </a:lnTo>
                  <a:lnTo>
                    <a:pt x="162449" y="168871"/>
                  </a:lnTo>
                  <a:lnTo>
                    <a:pt x="166344" y="164541"/>
                  </a:lnTo>
                  <a:lnTo>
                    <a:pt x="151994" y="150902"/>
                  </a:lnTo>
                  <a:lnTo>
                    <a:pt x="137947" y="134529"/>
                  </a:lnTo>
                  <a:lnTo>
                    <a:pt x="125585" y="116601"/>
                  </a:lnTo>
                  <a:lnTo>
                    <a:pt x="116293" y="98297"/>
                  </a:lnTo>
                  <a:close/>
                </a:path>
                <a:path w="339725" h="312420">
                  <a:moveTo>
                    <a:pt x="162449" y="168871"/>
                  </a:moveTo>
                  <a:lnTo>
                    <a:pt x="116293" y="168871"/>
                  </a:lnTo>
                  <a:lnTo>
                    <a:pt x="120371" y="174162"/>
                  </a:lnTo>
                  <a:lnTo>
                    <a:pt x="125930" y="180705"/>
                  </a:lnTo>
                  <a:lnTo>
                    <a:pt x="132703" y="187452"/>
                  </a:lnTo>
                  <a:lnTo>
                    <a:pt x="140423" y="193357"/>
                  </a:lnTo>
                  <a:lnTo>
                    <a:pt x="162449" y="168871"/>
                  </a:lnTo>
                  <a:close/>
                </a:path>
                <a:path w="339725" h="312420">
                  <a:moveTo>
                    <a:pt x="163461" y="58331"/>
                  </a:moveTo>
                  <a:lnTo>
                    <a:pt x="15481" y="58331"/>
                  </a:lnTo>
                  <a:lnTo>
                    <a:pt x="15481" y="98297"/>
                  </a:lnTo>
                  <a:lnTo>
                    <a:pt x="163461" y="98297"/>
                  </a:lnTo>
                  <a:lnTo>
                    <a:pt x="163461" y="58331"/>
                  </a:lnTo>
                  <a:close/>
                </a:path>
                <a:path w="339725" h="312420">
                  <a:moveTo>
                    <a:pt x="323697" y="58331"/>
                  </a:moveTo>
                  <a:lnTo>
                    <a:pt x="173189" y="58331"/>
                  </a:lnTo>
                  <a:lnTo>
                    <a:pt x="173189" y="98297"/>
                  </a:lnTo>
                  <a:lnTo>
                    <a:pt x="323697" y="98297"/>
                  </a:lnTo>
                  <a:lnTo>
                    <a:pt x="323697" y="58331"/>
                  </a:lnTo>
                  <a:close/>
                </a:path>
                <a:path w="339725" h="312420">
                  <a:moveTo>
                    <a:pt x="77406" y="0"/>
                  </a:moveTo>
                  <a:lnTo>
                    <a:pt x="77406" y="58331"/>
                  </a:lnTo>
                  <a:lnTo>
                    <a:pt x="116293" y="58331"/>
                  </a:lnTo>
                  <a:lnTo>
                    <a:pt x="116293" y="14757"/>
                  </a:lnTo>
                  <a:lnTo>
                    <a:pt x="117373" y="14046"/>
                  </a:lnTo>
                  <a:lnTo>
                    <a:pt x="122415" y="10083"/>
                  </a:lnTo>
                  <a:lnTo>
                    <a:pt x="123863" y="9004"/>
                  </a:lnTo>
                  <a:lnTo>
                    <a:pt x="124218" y="8280"/>
                  </a:lnTo>
                  <a:lnTo>
                    <a:pt x="124218" y="3606"/>
                  </a:lnTo>
                  <a:lnTo>
                    <a:pt x="120256" y="2882"/>
                  </a:lnTo>
                  <a:lnTo>
                    <a:pt x="77406" y="0"/>
                  </a:lnTo>
                  <a:close/>
                </a:path>
                <a:path w="339725" h="312420">
                  <a:moveTo>
                    <a:pt x="214591" y="723"/>
                  </a:moveTo>
                  <a:lnTo>
                    <a:pt x="214591" y="58331"/>
                  </a:lnTo>
                  <a:lnTo>
                    <a:pt x="254203" y="58331"/>
                  </a:lnTo>
                  <a:lnTo>
                    <a:pt x="254203" y="15125"/>
                  </a:lnTo>
                  <a:lnTo>
                    <a:pt x="254914" y="14046"/>
                  </a:lnTo>
                  <a:lnTo>
                    <a:pt x="258165" y="11887"/>
                  </a:lnTo>
                  <a:lnTo>
                    <a:pt x="261759" y="9728"/>
                  </a:lnTo>
                  <a:lnTo>
                    <a:pt x="261759" y="4330"/>
                  </a:lnTo>
                  <a:lnTo>
                    <a:pt x="258165" y="3606"/>
                  </a:lnTo>
                  <a:lnTo>
                    <a:pt x="214591" y="7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object 13"/>
            <p:cNvSpPr/>
            <p:nvPr/>
          </p:nvSpPr>
          <p:spPr>
            <a:xfrm>
              <a:off x="5304960" y="249120"/>
              <a:ext cx="321120" cy="302040"/>
            </a:xfrm>
            <a:custGeom>
              <a:avLst/>
              <a:gdLst/>
              <a:ahLst/>
              <a:rect l="l" t="t" r="r" b="b"/>
              <a:pathLst>
                <a:path w="321310" h="302259">
                  <a:moveTo>
                    <a:pt x="174624" y="181470"/>
                  </a:moveTo>
                  <a:lnTo>
                    <a:pt x="174694" y="274002"/>
                  </a:lnTo>
                  <a:lnTo>
                    <a:pt x="205587" y="301726"/>
                  </a:lnTo>
                  <a:lnTo>
                    <a:pt x="249516" y="301726"/>
                  </a:lnTo>
                  <a:lnTo>
                    <a:pt x="259633" y="299880"/>
                  </a:lnTo>
                  <a:lnTo>
                    <a:pt x="268060" y="292904"/>
                  </a:lnTo>
                  <a:lnTo>
                    <a:pt x="275946" y="278639"/>
                  </a:lnTo>
                  <a:lnTo>
                    <a:pt x="280447" y="266077"/>
                  </a:lnTo>
                  <a:lnTo>
                    <a:pt x="216039" y="266077"/>
                  </a:lnTo>
                  <a:lnTo>
                    <a:pt x="213880" y="263563"/>
                  </a:lnTo>
                  <a:lnTo>
                    <a:pt x="213880" y="195503"/>
                  </a:lnTo>
                  <a:lnTo>
                    <a:pt x="219633" y="190461"/>
                  </a:lnTo>
                  <a:lnTo>
                    <a:pt x="219989" y="189026"/>
                  </a:lnTo>
                  <a:lnTo>
                    <a:pt x="241397" y="189026"/>
                  </a:lnTo>
                  <a:lnTo>
                    <a:pt x="245758" y="183260"/>
                  </a:lnTo>
                  <a:lnTo>
                    <a:pt x="213512" y="183260"/>
                  </a:lnTo>
                  <a:lnTo>
                    <a:pt x="212077" y="182905"/>
                  </a:lnTo>
                  <a:lnTo>
                    <a:pt x="174624" y="181470"/>
                  </a:lnTo>
                  <a:close/>
                </a:path>
                <a:path w="321310" h="302259">
                  <a:moveTo>
                    <a:pt x="116649" y="187947"/>
                  </a:moveTo>
                  <a:lnTo>
                    <a:pt x="8280" y="187947"/>
                  </a:lnTo>
                  <a:lnTo>
                    <a:pt x="8280" y="301370"/>
                  </a:lnTo>
                  <a:lnTo>
                    <a:pt x="42481" y="301370"/>
                  </a:lnTo>
                  <a:lnTo>
                    <a:pt x="42481" y="286600"/>
                  </a:lnTo>
                  <a:lnTo>
                    <a:pt x="116649" y="286600"/>
                  </a:lnTo>
                  <a:lnTo>
                    <a:pt x="116649" y="274002"/>
                  </a:lnTo>
                  <a:lnTo>
                    <a:pt x="149782" y="274002"/>
                  </a:lnTo>
                  <a:lnTo>
                    <a:pt x="154717" y="262483"/>
                  </a:lnTo>
                  <a:lnTo>
                    <a:pt x="116649" y="262483"/>
                  </a:lnTo>
                  <a:lnTo>
                    <a:pt x="116649" y="253479"/>
                  </a:lnTo>
                  <a:lnTo>
                    <a:pt x="42481" y="253479"/>
                  </a:lnTo>
                  <a:lnTo>
                    <a:pt x="42481" y="220713"/>
                  </a:lnTo>
                  <a:lnTo>
                    <a:pt x="116649" y="220713"/>
                  </a:lnTo>
                  <a:lnTo>
                    <a:pt x="116649" y="187947"/>
                  </a:lnTo>
                  <a:close/>
                </a:path>
                <a:path w="321310" h="302259">
                  <a:moveTo>
                    <a:pt x="116649" y="286600"/>
                  </a:moveTo>
                  <a:lnTo>
                    <a:pt x="82092" y="286600"/>
                  </a:lnTo>
                  <a:lnTo>
                    <a:pt x="82092" y="297040"/>
                  </a:lnTo>
                  <a:lnTo>
                    <a:pt x="116649" y="297040"/>
                  </a:lnTo>
                  <a:lnTo>
                    <a:pt x="116649" y="286600"/>
                  </a:lnTo>
                  <a:close/>
                </a:path>
                <a:path w="321310" h="302259">
                  <a:moveTo>
                    <a:pt x="149782" y="274002"/>
                  </a:moveTo>
                  <a:lnTo>
                    <a:pt x="116649" y="274002"/>
                  </a:lnTo>
                  <a:lnTo>
                    <a:pt x="146545" y="281558"/>
                  </a:lnTo>
                  <a:lnTo>
                    <a:pt x="149782" y="274002"/>
                  </a:lnTo>
                  <a:close/>
                </a:path>
                <a:path w="321310" h="302259">
                  <a:moveTo>
                    <a:pt x="247357" y="232232"/>
                  </a:moveTo>
                  <a:lnTo>
                    <a:pt x="236181" y="266077"/>
                  </a:lnTo>
                  <a:lnTo>
                    <a:pt x="280447" y="266077"/>
                  </a:lnTo>
                  <a:lnTo>
                    <a:pt x="284441" y="254927"/>
                  </a:lnTo>
                  <a:lnTo>
                    <a:pt x="247357" y="232232"/>
                  </a:lnTo>
                  <a:close/>
                </a:path>
                <a:path w="321310" h="302259">
                  <a:moveTo>
                    <a:pt x="284441" y="181825"/>
                  </a:moveTo>
                  <a:lnTo>
                    <a:pt x="255638" y="198754"/>
                  </a:lnTo>
                  <a:lnTo>
                    <a:pt x="263429" y="210654"/>
                  </a:lnTo>
                  <a:lnTo>
                    <a:pt x="272602" y="226202"/>
                  </a:lnTo>
                  <a:lnTo>
                    <a:pt x="282113" y="244317"/>
                  </a:lnTo>
                  <a:lnTo>
                    <a:pt x="290918" y="263918"/>
                  </a:lnTo>
                  <a:lnTo>
                    <a:pt x="321170" y="243039"/>
                  </a:lnTo>
                  <a:lnTo>
                    <a:pt x="313554" y="226788"/>
                  </a:lnTo>
                  <a:lnTo>
                    <a:pt x="304287" y="210270"/>
                  </a:lnTo>
                  <a:lnTo>
                    <a:pt x="294279" y="194833"/>
                  </a:lnTo>
                  <a:lnTo>
                    <a:pt x="284441" y="181825"/>
                  </a:lnTo>
                  <a:close/>
                </a:path>
                <a:path w="321310" h="302259">
                  <a:moveTo>
                    <a:pt x="138252" y="195872"/>
                  </a:moveTo>
                  <a:lnTo>
                    <a:pt x="132703" y="217822"/>
                  </a:lnTo>
                  <a:lnTo>
                    <a:pt x="125776" y="238870"/>
                  </a:lnTo>
                  <a:lnTo>
                    <a:pt x="119976" y="254299"/>
                  </a:lnTo>
                  <a:lnTo>
                    <a:pt x="116649" y="262483"/>
                  </a:lnTo>
                  <a:lnTo>
                    <a:pt x="154717" y="262483"/>
                  </a:lnTo>
                  <a:lnTo>
                    <a:pt x="155844" y="259852"/>
                  </a:lnTo>
                  <a:lnTo>
                    <a:pt x="162648" y="238621"/>
                  </a:lnTo>
                  <a:lnTo>
                    <a:pt x="166890" y="222117"/>
                  </a:lnTo>
                  <a:lnTo>
                    <a:pt x="168503" y="214591"/>
                  </a:lnTo>
                  <a:lnTo>
                    <a:pt x="170306" y="213867"/>
                  </a:lnTo>
                  <a:lnTo>
                    <a:pt x="173901" y="212788"/>
                  </a:lnTo>
                  <a:lnTo>
                    <a:pt x="173901" y="207390"/>
                  </a:lnTo>
                  <a:lnTo>
                    <a:pt x="172110" y="206311"/>
                  </a:lnTo>
                  <a:lnTo>
                    <a:pt x="169938" y="205587"/>
                  </a:lnTo>
                  <a:lnTo>
                    <a:pt x="138252" y="195872"/>
                  </a:lnTo>
                  <a:close/>
                </a:path>
                <a:path w="321310" h="302259">
                  <a:moveTo>
                    <a:pt x="116649" y="220713"/>
                  </a:moveTo>
                  <a:lnTo>
                    <a:pt x="81724" y="220713"/>
                  </a:lnTo>
                  <a:lnTo>
                    <a:pt x="81724" y="253479"/>
                  </a:lnTo>
                  <a:lnTo>
                    <a:pt x="116649" y="253479"/>
                  </a:lnTo>
                  <a:lnTo>
                    <a:pt x="116649" y="220713"/>
                  </a:lnTo>
                  <a:close/>
                </a:path>
                <a:path w="321310" h="302259">
                  <a:moveTo>
                    <a:pt x="241397" y="189026"/>
                  </a:moveTo>
                  <a:lnTo>
                    <a:pt x="219989" y="189026"/>
                  </a:lnTo>
                  <a:lnTo>
                    <a:pt x="225399" y="193713"/>
                  </a:lnTo>
                  <a:lnTo>
                    <a:pt x="226110" y="194068"/>
                  </a:lnTo>
                  <a:lnTo>
                    <a:pt x="232956" y="200190"/>
                  </a:lnTo>
                  <a:lnTo>
                    <a:pt x="241397" y="189026"/>
                  </a:lnTo>
                  <a:close/>
                </a:path>
                <a:path w="321310" h="302259">
                  <a:moveTo>
                    <a:pt x="209549" y="135737"/>
                  </a:moveTo>
                  <a:lnTo>
                    <a:pt x="186143" y="162026"/>
                  </a:lnTo>
                  <a:lnTo>
                    <a:pt x="190977" y="165446"/>
                  </a:lnTo>
                  <a:lnTo>
                    <a:pt x="196722" y="169676"/>
                  </a:lnTo>
                  <a:lnTo>
                    <a:pt x="204021" y="175390"/>
                  </a:lnTo>
                  <a:lnTo>
                    <a:pt x="213512" y="183260"/>
                  </a:lnTo>
                  <a:lnTo>
                    <a:pt x="245758" y="183260"/>
                  </a:lnTo>
                  <a:lnTo>
                    <a:pt x="254190" y="172110"/>
                  </a:lnTo>
                  <a:lnTo>
                    <a:pt x="249384" y="167115"/>
                  </a:lnTo>
                  <a:lnTo>
                    <a:pt x="244070" y="162158"/>
                  </a:lnTo>
                  <a:lnTo>
                    <a:pt x="238958" y="157674"/>
                  </a:lnTo>
                  <a:lnTo>
                    <a:pt x="234759" y="154101"/>
                  </a:lnTo>
                  <a:lnTo>
                    <a:pt x="248728" y="154101"/>
                  </a:lnTo>
                  <a:lnTo>
                    <a:pt x="261310" y="152392"/>
                  </a:lnTo>
                  <a:lnTo>
                    <a:pt x="264924" y="150863"/>
                  </a:lnTo>
                  <a:lnTo>
                    <a:pt x="230428" y="150863"/>
                  </a:lnTo>
                  <a:lnTo>
                    <a:pt x="222864" y="144904"/>
                  </a:lnTo>
                  <a:lnTo>
                    <a:pt x="217155" y="140733"/>
                  </a:lnTo>
                  <a:lnTo>
                    <a:pt x="212864" y="137845"/>
                  </a:lnTo>
                  <a:lnTo>
                    <a:pt x="209549" y="135737"/>
                  </a:lnTo>
                  <a:close/>
                </a:path>
                <a:path w="321310" h="302259">
                  <a:moveTo>
                    <a:pt x="108750" y="140423"/>
                  </a:moveTo>
                  <a:lnTo>
                    <a:pt x="13322" y="140423"/>
                  </a:lnTo>
                  <a:lnTo>
                    <a:pt x="13322" y="170306"/>
                  </a:lnTo>
                  <a:lnTo>
                    <a:pt x="108750" y="170306"/>
                  </a:lnTo>
                  <a:lnTo>
                    <a:pt x="108750" y="140423"/>
                  </a:lnTo>
                  <a:close/>
                </a:path>
                <a:path w="321310" h="302259">
                  <a:moveTo>
                    <a:pt x="148704" y="54013"/>
                  </a:moveTo>
                  <a:lnTo>
                    <a:pt x="130695" y="85331"/>
                  </a:lnTo>
                  <a:lnTo>
                    <a:pt x="139267" y="88825"/>
                  </a:lnTo>
                  <a:lnTo>
                    <a:pt x="146584" y="91946"/>
                  </a:lnTo>
                  <a:lnTo>
                    <a:pt x="153428" y="94998"/>
                  </a:lnTo>
                  <a:lnTo>
                    <a:pt x="160578" y="98285"/>
                  </a:lnTo>
                  <a:lnTo>
                    <a:pt x="154610" y="106610"/>
                  </a:lnTo>
                  <a:lnTo>
                    <a:pt x="147396" y="114631"/>
                  </a:lnTo>
                  <a:lnTo>
                    <a:pt x="137143" y="123665"/>
                  </a:lnTo>
                  <a:lnTo>
                    <a:pt x="122059" y="135026"/>
                  </a:lnTo>
                  <a:lnTo>
                    <a:pt x="150863" y="160578"/>
                  </a:lnTo>
                  <a:lnTo>
                    <a:pt x="164595" y="149284"/>
                  </a:lnTo>
                  <a:lnTo>
                    <a:pt x="175660" y="138528"/>
                  </a:lnTo>
                  <a:lnTo>
                    <a:pt x="185038" y="127367"/>
                  </a:lnTo>
                  <a:lnTo>
                    <a:pt x="193713" y="114858"/>
                  </a:lnTo>
                  <a:lnTo>
                    <a:pt x="223091" y="114858"/>
                  </a:lnTo>
                  <a:lnTo>
                    <a:pt x="236181" y="93611"/>
                  </a:lnTo>
                  <a:lnTo>
                    <a:pt x="227417" y="88434"/>
                  </a:lnTo>
                  <a:lnTo>
                    <a:pt x="220446" y="84548"/>
                  </a:lnTo>
                  <a:lnTo>
                    <a:pt x="210261" y="79209"/>
                  </a:lnTo>
                  <a:lnTo>
                    <a:pt x="213063" y="69317"/>
                  </a:lnTo>
                  <a:lnTo>
                    <a:pt x="214199" y="64084"/>
                  </a:lnTo>
                  <a:lnTo>
                    <a:pt x="176060" y="64084"/>
                  </a:lnTo>
                  <a:lnTo>
                    <a:pt x="165406" y="59829"/>
                  </a:lnTo>
                  <a:lnTo>
                    <a:pt x="157791" y="57024"/>
                  </a:lnTo>
                  <a:lnTo>
                    <a:pt x="152471" y="55231"/>
                  </a:lnTo>
                  <a:lnTo>
                    <a:pt x="148704" y="54013"/>
                  </a:lnTo>
                  <a:close/>
                </a:path>
                <a:path w="321310" h="302259">
                  <a:moveTo>
                    <a:pt x="248728" y="154101"/>
                  </a:moveTo>
                  <a:lnTo>
                    <a:pt x="234759" y="154101"/>
                  </a:lnTo>
                  <a:lnTo>
                    <a:pt x="248303" y="154159"/>
                  </a:lnTo>
                  <a:lnTo>
                    <a:pt x="248728" y="154101"/>
                  </a:lnTo>
                  <a:close/>
                </a:path>
                <a:path w="321310" h="302259">
                  <a:moveTo>
                    <a:pt x="288796" y="118097"/>
                  </a:moveTo>
                  <a:lnTo>
                    <a:pt x="221424" y="118097"/>
                  </a:lnTo>
                  <a:lnTo>
                    <a:pt x="230428" y="150863"/>
                  </a:lnTo>
                  <a:lnTo>
                    <a:pt x="264924" y="150863"/>
                  </a:lnTo>
                  <a:lnTo>
                    <a:pt x="272833" y="147517"/>
                  </a:lnTo>
                  <a:lnTo>
                    <a:pt x="281927" y="138252"/>
                  </a:lnTo>
                  <a:lnTo>
                    <a:pt x="288796" y="118097"/>
                  </a:lnTo>
                  <a:close/>
                </a:path>
                <a:path w="321310" h="302259">
                  <a:moveTo>
                    <a:pt x="223091" y="114858"/>
                  </a:moveTo>
                  <a:lnTo>
                    <a:pt x="193713" y="114858"/>
                  </a:lnTo>
                  <a:lnTo>
                    <a:pt x="200913" y="118452"/>
                  </a:lnTo>
                  <a:lnTo>
                    <a:pt x="207035" y="122059"/>
                  </a:lnTo>
                  <a:lnTo>
                    <a:pt x="215671" y="127457"/>
                  </a:lnTo>
                  <a:lnTo>
                    <a:pt x="221424" y="118097"/>
                  </a:lnTo>
                  <a:lnTo>
                    <a:pt x="288796" y="118097"/>
                  </a:lnTo>
                  <a:lnTo>
                    <a:pt x="289411" y="116293"/>
                  </a:lnTo>
                  <a:lnTo>
                    <a:pt x="228269" y="116293"/>
                  </a:lnTo>
                  <a:lnTo>
                    <a:pt x="222872" y="115214"/>
                  </a:lnTo>
                  <a:lnTo>
                    <a:pt x="223091" y="114858"/>
                  </a:lnTo>
                  <a:close/>
                </a:path>
                <a:path w="321310" h="302259">
                  <a:moveTo>
                    <a:pt x="108026" y="93979"/>
                  </a:moveTo>
                  <a:lnTo>
                    <a:pt x="13322" y="93979"/>
                  </a:lnTo>
                  <a:lnTo>
                    <a:pt x="13322" y="123507"/>
                  </a:lnTo>
                  <a:lnTo>
                    <a:pt x="108026" y="123507"/>
                  </a:lnTo>
                  <a:lnTo>
                    <a:pt x="108026" y="93979"/>
                  </a:lnTo>
                  <a:close/>
                </a:path>
                <a:path w="321310" h="302259">
                  <a:moveTo>
                    <a:pt x="300278" y="3238"/>
                  </a:moveTo>
                  <a:lnTo>
                    <a:pt x="133210" y="3238"/>
                  </a:lnTo>
                  <a:lnTo>
                    <a:pt x="133210" y="38887"/>
                  </a:lnTo>
                  <a:lnTo>
                    <a:pt x="259600" y="38887"/>
                  </a:lnTo>
                  <a:lnTo>
                    <a:pt x="258481" y="55968"/>
                  </a:lnTo>
                  <a:lnTo>
                    <a:pt x="252755" y="101536"/>
                  </a:lnTo>
                  <a:lnTo>
                    <a:pt x="245554" y="116293"/>
                  </a:lnTo>
                  <a:lnTo>
                    <a:pt x="289411" y="116293"/>
                  </a:lnTo>
                  <a:lnTo>
                    <a:pt x="293654" y="103842"/>
                  </a:lnTo>
                  <a:lnTo>
                    <a:pt x="299070" y="59539"/>
                  </a:lnTo>
                  <a:lnTo>
                    <a:pt x="300502" y="20839"/>
                  </a:lnTo>
                  <a:lnTo>
                    <a:pt x="300278" y="3238"/>
                  </a:lnTo>
                  <a:close/>
                </a:path>
                <a:path w="321310" h="302259">
                  <a:moveTo>
                    <a:pt x="122059" y="47523"/>
                  </a:moveTo>
                  <a:lnTo>
                    <a:pt x="0" y="47523"/>
                  </a:lnTo>
                  <a:lnTo>
                    <a:pt x="0" y="78841"/>
                  </a:lnTo>
                  <a:lnTo>
                    <a:pt x="122059" y="78841"/>
                  </a:lnTo>
                  <a:lnTo>
                    <a:pt x="122059" y="47523"/>
                  </a:lnTo>
                  <a:close/>
                </a:path>
                <a:path w="321310" h="302259">
                  <a:moveTo>
                    <a:pt x="217474" y="38887"/>
                  </a:moveTo>
                  <a:lnTo>
                    <a:pt x="180390" y="38887"/>
                  </a:lnTo>
                  <a:lnTo>
                    <a:pt x="179764" y="44592"/>
                  </a:lnTo>
                  <a:lnTo>
                    <a:pt x="178901" y="50266"/>
                  </a:lnTo>
                  <a:lnTo>
                    <a:pt x="177597" y="57024"/>
                  </a:lnTo>
                  <a:lnTo>
                    <a:pt x="176060" y="64084"/>
                  </a:lnTo>
                  <a:lnTo>
                    <a:pt x="214199" y="64084"/>
                  </a:lnTo>
                  <a:lnTo>
                    <a:pt x="215087" y="59996"/>
                  </a:lnTo>
                  <a:lnTo>
                    <a:pt x="216501" y="50200"/>
                  </a:lnTo>
                  <a:lnTo>
                    <a:pt x="217474" y="38887"/>
                  </a:lnTo>
                  <a:close/>
                </a:path>
                <a:path w="321310" h="302259">
                  <a:moveTo>
                    <a:pt x="105854" y="0"/>
                  </a:moveTo>
                  <a:lnTo>
                    <a:pt x="13322" y="0"/>
                  </a:lnTo>
                  <a:lnTo>
                    <a:pt x="13322" y="30606"/>
                  </a:lnTo>
                  <a:lnTo>
                    <a:pt x="105854" y="30606"/>
                  </a:lnTo>
                  <a:lnTo>
                    <a:pt x="1058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object 14"/>
            <p:cNvSpPr/>
            <p:nvPr/>
          </p:nvSpPr>
          <p:spPr>
            <a:xfrm>
              <a:off x="5685480" y="248400"/>
              <a:ext cx="307800" cy="302040"/>
            </a:xfrm>
            <a:custGeom>
              <a:avLst/>
              <a:gdLst/>
              <a:ahLst/>
              <a:rect l="l" t="t" r="r" b="b"/>
              <a:pathLst>
                <a:path w="307975" h="302259">
                  <a:moveTo>
                    <a:pt x="119887" y="180746"/>
                  </a:moveTo>
                  <a:lnTo>
                    <a:pt x="7556" y="180746"/>
                  </a:lnTo>
                  <a:lnTo>
                    <a:pt x="7556" y="302082"/>
                  </a:lnTo>
                  <a:lnTo>
                    <a:pt x="46075" y="302082"/>
                  </a:lnTo>
                  <a:lnTo>
                    <a:pt x="46075" y="284441"/>
                  </a:lnTo>
                  <a:lnTo>
                    <a:pt x="119887" y="284441"/>
                  </a:lnTo>
                  <a:lnTo>
                    <a:pt x="119887" y="250240"/>
                  </a:lnTo>
                  <a:lnTo>
                    <a:pt x="46088" y="250240"/>
                  </a:lnTo>
                  <a:lnTo>
                    <a:pt x="46088" y="212432"/>
                  </a:lnTo>
                  <a:lnTo>
                    <a:pt x="119887" y="212432"/>
                  </a:lnTo>
                  <a:lnTo>
                    <a:pt x="119887" y="180746"/>
                  </a:lnTo>
                  <a:close/>
                </a:path>
                <a:path w="307975" h="302259">
                  <a:moveTo>
                    <a:pt x="119887" y="284441"/>
                  </a:moveTo>
                  <a:lnTo>
                    <a:pt x="81368" y="284441"/>
                  </a:lnTo>
                  <a:lnTo>
                    <a:pt x="81368" y="299199"/>
                  </a:lnTo>
                  <a:lnTo>
                    <a:pt x="119887" y="299199"/>
                  </a:lnTo>
                  <a:lnTo>
                    <a:pt x="119887" y="284441"/>
                  </a:lnTo>
                  <a:close/>
                </a:path>
                <a:path w="307975" h="302259">
                  <a:moveTo>
                    <a:pt x="142214" y="76682"/>
                  </a:moveTo>
                  <a:lnTo>
                    <a:pt x="142214" y="257797"/>
                  </a:lnTo>
                  <a:lnTo>
                    <a:pt x="126733" y="257797"/>
                  </a:lnTo>
                  <a:lnTo>
                    <a:pt x="126733" y="294881"/>
                  </a:lnTo>
                  <a:lnTo>
                    <a:pt x="307847" y="294881"/>
                  </a:lnTo>
                  <a:lnTo>
                    <a:pt x="307847" y="257073"/>
                  </a:lnTo>
                  <a:lnTo>
                    <a:pt x="183260" y="257073"/>
                  </a:lnTo>
                  <a:lnTo>
                    <a:pt x="183260" y="92887"/>
                  </a:lnTo>
                  <a:lnTo>
                    <a:pt x="183984" y="92532"/>
                  </a:lnTo>
                  <a:lnTo>
                    <a:pt x="187578" y="90017"/>
                  </a:lnTo>
                  <a:lnTo>
                    <a:pt x="190106" y="87845"/>
                  </a:lnTo>
                  <a:lnTo>
                    <a:pt x="191554" y="86410"/>
                  </a:lnTo>
                  <a:lnTo>
                    <a:pt x="191554" y="80289"/>
                  </a:lnTo>
                  <a:lnTo>
                    <a:pt x="186143" y="78854"/>
                  </a:lnTo>
                  <a:lnTo>
                    <a:pt x="142214" y="76682"/>
                  </a:lnTo>
                  <a:close/>
                </a:path>
                <a:path w="307975" h="302259">
                  <a:moveTo>
                    <a:pt x="245186" y="33845"/>
                  </a:moveTo>
                  <a:lnTo>
                    <a:pt x="202704" y="33845"/>
                  </a:lnTo>
                  <a:lnTo>
                    <a:pt x="202704" y="257073"/>
                  </a:lnTo>
                  <a:lnTo>
                    <a:pt x="245186" y="257073"/>
                  </a:lnTo>
                  <a:lnTo>
                    <a:pt x="245186" y="156984"/>
                  </a:lnTo>
                  <a:lnTo>
                    <a:pt x="298475" y="156984"/>
                  </a:lnTo>
                  <a:lnTo>
                    <a:pt x="298475" y="115214"/>
                  </a:lnTo>
                  <a:lnTo>
                    <a:pt x="245186" y="115214"/>
                  </a:lnTo>
                  <a:lnTo>
                    <a:pt x="245186" y="33845"/>
                  </a:lnTo>
                  <a:close/>
                </a:path>
                <a:path w="307975" h="302259">
                  <a:moveTo>
                    <a:pt x="119887" y="212432"/>
                  </a:moveTo>
                  <a:lnTo>
                    <a:pt x="81368" y="212432"/>
                  </a:lnTo>
                  <a:lnTo>
                    <a:pt x="81368" y="250240"/>
                  </a:lnTo>
                  <a:lnTo>
                    <a:pt x="119887" y="250240"/>
                  </a:lnTo>
                  <a:lnTo>
                    <a:pt x="119887" y="212432"/>
                  </a:lnTo>
                  <a:close/>
                </a:path>
                <a:path w="307975" h="302259">
                  <a:moveTo>
                    <a:pt x="112331" y="133934"/>
                  </a:moveTo>
                  <a:lnTo>
                    <a:pt x="12953" y="133934"/>
                  </a:lnTo>
                  <a:lnTo>
                    <a:pt x="12953" y="164896"/>
                  </a:lnTo>
                  <a:lnTo>
                    <a:pt x="112331" y="164896"/>
                  </a:lnTo>
                  <a:lnTo>
                    <a:pt x="112331" y="133934"/>
                  </a:lnTo>
                  <a:close/>
                </a:path>
                <a:path w="307975" h="302259">
                  <a:moveTo>
                    <a:pt x="112687" y="91097"/>
                  </a:moveTo>
                  <a:lnTo>
                    <a:pt x="12953" y="91097"/>
                  </a:lnTo>
                  <a:lnTo>
                    <a:pt x="12953" y="121335"/>
                  </a:lnTo>
                  <a:lnTo>
                    <a:pt x="112687" y="121335"/>
                  </a:lnTo>
                  <a:lnTo>
                    <a:pt x="112687" y="91097"/>
                  </a:lnTo>
                  <a:close/>
                </a:path>
                <a:path w="307975" h="302259">
                  <a:moveTo>
                    <a:pt x="126733" y="46443"/>
                  </a:moveTo>
                  <a:lnTo>
                    <a:pt x="0" y="46443"/>
                  </a:lnTo>
                  <a:lnTo>
                    <a:pt x="0" y="75603"/>
                  </a:lnTo>
                  <a:lnTo>
                    <a:pt x="126733" y="75603"/>
                  </a:lnTo>
                  <a:lnTo>
                    <a:pt x="126733" y="46443"/>
                  </a:lnTo>
                  <a:close/>
                </a:path>
                <a:path w="307975" h="302259">
                  <a:moveTo>
                    <a:pt x="307479" y="355"/>
                  </a:moveTo>
                  <a:lnTo>
                    <a:pt x="132143" y="355"/>
                  </a:lnTo>
                  <a:lnTo>
                    <a:pt x="132143" y="33845"/>
                  </a:lnTo>
                  <a:lnTo>
                    <a:pt x="307479" y="33845"/>
                  </a:lnTo>
                  <a:lnTo>
                    <a:pt x="307479" y="355"/>
                  </a:lnTo>
                  <a:close/>
                </a:path>
                <a:path w="307975" h="302259">
                  <a:moveTo>
                    <a:pt x="110883" y="0"/>
                  </a:moveTo>
                  <a:lnTo>
                    <a:pt x="12953" y="0"/>
                  </a:lnTo>
                  <a:lnTo>
                    <a:pt x="12953" y="31330"/>
                  </a:lnTo>
                  <a:lnTo>
                    <a:pt x="110883" y="31330"/>
                  </a:lnTo>
                  <a:lnTo>
                    <a:pt x="1108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object 15"/>
            <p:cNvSpPr/>
            <p:nvPr/>
          </p:nvSpPr>
          <p:spPr>
            <a:xfrm>
              <a:off x="6059160" y="295200"/>
              <a:ext cx="280440" cy="225360"/>
            </a:xfrm>
            <a:custGeom>
              <a:avLst/>
              <a:gdLst/>
              <a:ahLst/>
              <a:rect l="l" t="t" r="r" b="b"/>
              <a:pathLst>
                <a:path w="280670" h="225425">
                  <a:moveTo>
                    <a:pt x="250240" y="0"/>
                  </a:moveTo>
                  <a:lnTo>
                    <a:pt x="238366" y="7924"/>
                  </a:lnTo>
                  <a:lnTo>
                    <a:pt x="0" y="7924"/>
                  </a:lnTo>
                  <a:lnTo>
                    <a:pt x="0" y="48602"/>
                  </a:lnTo>
                  <a:lnTo>
                    <a:pt x="202704" y="48602"/>
                  </a:lnTo>
                  <a:lnTo>
                    <a:pt x="167512" y="85739"/>
                  </a:lnTo>
                  <a:lnTo>
                    <a:pt x="129616" y="124218"/>
                  </a:lnTo>
                  <a:lnTo>
                    <a:pt x="118821" y="113842"/>
                  </a:lnTo>
                  <a:lnTo>
                    <a:pt x="109140" y="104954"/>
                  </a:lnTo>
                  <a:lnTo>
                    <a:pt x="99798" y="96877"/>
                  </a:lnTo>
                  <a:lnTo>
                    <a:pt x="90017" y="88938"/>
                  </a:lnTo>
                  <a:lnTo>
                    <a:pt x="61925" y="117017"/>
                  </a:lnTo>
                  <a:lnTo>
                    <a:pt x="84302" y="136627"/>
                  </a:lnTo>
                  <a:lnTo>
                    <a:pt x="107834" y="161032"/>
                  </a:lnTo>
                  <a:lnTo>
                    <a:pt x="131096" y="190434"/>
                  </a:lnTo>
                  <a:lnTo>
                    <a:pt x="152666" y="225031"/>
                  </a:lnTo>
                  <a:lnTo>
                    <a:pt x="189026" y="195872"/>
                  </a:lnTo>
                  <a:lnTo>
                    <a:pt x="182276" y="185673"/>
                  </a:lnTo>
                  <a:lnTo>
                    <a:pt x="175526" y="176422"/>
                  </a:lnTo>
                  <a:lnTo>
                    <a:pt x="167967" y="166904"/>
                  </a:lnTo>
                  <a:lnTo>
                    <a:pt x="158788" y="155905"/>
                  </a:lnTo>
                  <a:lnTo>
                    <a:pt x="192731" y="120243"/>
                  </a:lnTo>
                  <a:lnTo>
                    <a:pt x="224543" y="87488"/>
                  </a:lnTo>
                  <a:lnTo>
                    <a:pt x="263563" y="48247"/>
                  </a:lnTo>
                  <a:lnTo>
                    <a:pt x="280123" y="34924"/>
                  </a:lnTo>
                  <a:lnTo>
                    <a:pt x="2502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object 16"/>
            <p:cNvSpPr/>
            <p:nvPr/>
          </p:nvSpPr>
          <p:spPr>
            <a:xfrm>
              <a:off x="6393240" y="375480"/>
              <a:ext cx="256320" cy="46080"/>
            </a:xfrm>
            <a:custGeom>
              <a:avLst/>
              <a:gdLst/>
              <a:ahLst/>
              <a:rect l="l" t="t" r="r" b="b"/>
              <a:pathLst>
                <a:path w="256540" h="46354">
                  <a:moveTo>
                    <a:pt x="255993" y="0"/>
                  </a:moveTo>
                  <a:lnTo>
                    <a:pt x="0" y="0"/>
                  </a:lnTo>
                  <a:lnTo>
                    <a:pt x="0" y="45732"/>
                  </a:lnTo>
                  <a:lnTo>
                    <a:pt x="255993" y="45732"/>
                  </a:lnTo>
                  <a:lnTo>
                    <a:pt x="2559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bject 17"/>
            <p:cNvSpPr/>
            <p:nvPr/>
          </p:nvSpPr>
          <p:spPr>
            <a:xfrm>
              <a:off x="6708600" y="248760"/>
              <a:ext cx="252720" cy="298080"/>
            </a:xfrm>
            <a:custGeom>
              <a:avLst/>
              <a:gdLst/>
              <a:ahLst/>
              <a:rect l="l" t="t" r="r" b="b"/>
              <a:pathLst>
                <a:path w="252729" h="298450">
                  <a:moveTo>
                    <a:pt x="99364" y="0"/>
                  </a:moveTo>
                  <a:lnTo>
                    <a:pt x="85001" y="34014"/>
                  </a:lnTo>
                  <a:lnTo>
                    <a:pt x="63584" y="69813"/>
                  </a:lnTo>
                  <a:lnTo>
                    <a:pt x="35215" y="105272"/>
                  </a:lnTo>
                  <a:lnTo>
                    <a:pt x="0" y="138264"/>
                  </a:lnTo>
                  <a:lnTo>
                    <a:pt x="35636" y="162750"/>
                  </a:lnTo>
                  <a:lnTo>
                    <a:pt x="59943" y="137951"/>
                  </a:lnTo>
                  <a:lnTo>
                    <a:pt x="78887" y="116124"/>
                  </a:lnTo>
                  <a:lnTo>
                    <a:pt x="93309" y="97536"/>
                  </a:lnTo>
                  <a:lnTo>
                    <a:pt x="104051" y="82461"/>
                  </a:lnTo>
                  <a:lnTo>
                    <a:pt x="196227" y="82461"/>
                  </a:lnTo>
                  <a:lnTo>
                    <a:pt x="181910" y="121438"/>
                  </a:lnTo>
                  <a:lnTo>
                    <a:pt x="148704" y="177152"/>
                  </a:lnTo>
                  <a:lnTo>
                    <a:pt x="116155" y="214468"/>
                  </a:lnTo>
                  <a:lnTo>
                    <a:pt x="84653" y="241287"/>
                  </a:lnTo>
                  <a:lnTo>
                    <a:pt x="36004" y="271132"/>
                  </a:lnTo>
                  <a:lnTo>
                    <a:pt x="75247" y="298132"/>
                  </a:lnTo>
                  <a:lnTo>
                    <a:pt x="119033" y="267615"/>
                  </a:lnTo>
                  <a:lnTo>
                    <a:pt x="172821" y="212801"/>
                  </a:lnTo>
                  <a:lnTo>
                    <a:pt x="195895" y="179502"/>
                  </a:lnTo>
                  <a:lnTo>
                    <a:pt x="226383" y="118167"/>
                  </a:lnTo>
                  <a:lnTo>
                    <a:pt x="239801" y="83184"/>
                  </a:lnTo>
                  <a:lnTo>
                    <a:pt x="245186" y="78498"/>
                  </a:lnTo>
                  <a:lnTo>
                    <a:pt x="252387" y="73456"/>
                  </a:lnTo>
                  <a:lnTo>
                    <a:pt x="223227" y="39255"/>
                  </a:lnTo>
                  <a:lnTo>
                    <a:pt x="217462" y="42849"/>
                  </a:lnTo>
                  <a:lnTo>
                    <a:pt x="211708" y="46088"/>
                  </a:lnTo>
                  <a:lnTo>
                    <a:pt x="126733" y="46088"/>
                  </a:lnTo>
                  <a:lnTo>
                    <a:pt x="130327" y="39255"/>
                  </a:lnTo>
                  <a:lnTo>
                    <a:pt x="134645" y="32054"/>
                  </a:lnTo>
                  <a:lnTo>
                    <a:pt x="136817" y="26657"/>
                  </a:lnTo>
                  <a:lnTo>
                    <a:pt x="141858" y="25209"/>
                  </a:lnTo>
                  <a:lnTo>
                    <a:pt x="145808" y="24498"/>
                  </a:lnTo>
                  <a:lnTo>
                    <a:pt x="145808" y="18008"/>
                  </a:lnTo>
                  <a:lnTo>
                    <a:pt x="138620" y="14770"/>
                  </a:lnTo>
                  <a:lnTo>
                    <a:pt x="993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object 18"/>
            <p:cNvSpPr/>
            <p:nvPr/>
          </p:nvSpPr>
          <p:spPr>
            <a:xfrm>
              <a:off x="3852360" y="677160"/>
              <a:ext cx="336960" cy="311040"/>
            </a:xfrm>
            <a:custGeom>
              <a:avLst/>
              <a:gdLst/>
              <a:ahLst/>
              <a:rect l="l" t="t" r="r" b="b"/>
              <a:pathLst>
                <a:path w="337185" h="311150">
                  <a:moveTo>
                    <a:pt x="174993" y="182181"/>
                  </a:moveTo>
                  <a:lnTo>
                    <a:pt x="146189" y="199466"/>
                  </a:lnTo>
                  <a:lnTo>
                    <a:pt x="152772" y="211142"/>
                  </a:lnTo>
                  <a:lnTo>
                    <a:pt x="159421" y="221337"/>
                  </a:lnTo>
                  <a:lnTo>
                    <a:pt x="166744" y="230857"/>
                  </a:lnTo>
                  <a:lnTo>
                    <a:pt x="175348" y="240512"/>
                  </a:lnTo>
                  <a:lnTo>
                    <a:pt x="162860" y="252433"/>
                  </a:lnTo>
                  <a:lnTo>
                    <a:pt x="148345" y="262431"/>
                  </a:lnTo>
                  <a:lnTo>
                    <a:pt x="128968" y="271550"/>
                  </a:lnTo>
                  <a:lnTo>
                    <a:pt x="101892" y="280835"/>
                  </a:lnTo>
                  <a:lnTo>
                    <a:pt x="129984" y="311086"/>
                  </a:lnTo>
                  <a:lnTo>
                    <a:pt x="156670" y="298618"/>
                  </a:lnTo>
                  <a:lnTo>
                    <a:pt x="176336" y="287770"/>
                  </a:lnTo>
                  <a:lnTo>
                    <a:pt x="191549" y="277059"/>
                  </a:lnTo>
                  <a:lnTo>
                    <a:pt x="204876" y="264998"/>
                  </a:lnTo>
                  <a:lnTo>
                    <a:pt x="319760" y="264998"/>
                  </a:lnTo>
                  <a:lnTo>
                    <a:pt x="295296" y="261935"/>
                  </a:lnTo>
                  <a:lnTo>
                    <a:pt x="263879" y="253474"/>
                  </a:lnTo>
                  <a:lnTo>
                    <a:pt x="240764" y="243663"/>
                  </a:lnTo>
                  <a:lnTo>
                    <a:pt x="223964" y="234391"/>
                  </a:lnTo>
                  <a:lnTo>
                    <a:pt x="227236" y="225070"/>
                  </a:lnTo>
                  <a:lnTo>
                    <a:pt x="230479" y="213553"/>
                  </a:lnTo>
                  <a:lnTo>
                    <a:pt x="231368" y="209181"/>
                  </a:lnTo>
                  <a:lnTo>
                    <a:pt x="193713" y="209181"/>
                  </a:lnTo>
                  <a:lnTo>
                    <a:pt x="186941" y="201474"/>
                  </a:lnTo>
                  <a:lnTo>
                    <a:pt x="181924" y="194743"/>
                  </a:lnTo>
                  <a:lnTo>
                    <a:pt x="178121" y="188480"/>
                  </a:lnTo>
                  <a:lnTo>
                    <a:pt x="174993" y="182181"/>
                  </a:lnTo>
                  <a:close/>
                </a:path>
                <a:path w="337185" h="311150">
                  <a:moveTo>
                    <a:pt x="319760" y="264998"/>
                  </a:moveTo>
                  <a:lnTo>
                    <a:pt x="204876" y="264998"/>
                  </a:lnTo>
                  <a:lnTo>
                    <a:pt x="227726" y="278313"/>
                  </a:lnTo>
                  <a:lnTo>
                    <a:pt x="252129" y="289166"/>
                  </a:lnTo>
                  <a:lnTo>
                    <a:pt x="281528" y="298466"/>
                  </a:lnTo>
                  <a:lnTo>
                    <a:pt x="319366" y="307124"/>
                  </a:lnTo>
                  <a:lnTo>
                    <a:pt x="337007" y="267157"/>
                  </a:lnTo>
                  <a:lnTo>
                    <a:pt x="319760" y="264998"/>
                  </a:lnTo>
                  <a:close/>
                </a:path>
                <a:path w="337185" h="311150">
                  <a:moveTo>
                    <a:pt x="90741" y="156616"/>
                  </a:moveTo>
                  <a:lnTo>
                    <a:pt x="51485" y="156616"/>
                  </a:lnTo>
                  <a:lnTo>
                    <a:pt x="51485" y="306768"/>
                  </a:lnTo>
                  <a:lnTo>
                    <a:pt x="90741" y="306768"/>
                  </a:lnTo>
                  <a:lnTo>
                    <a:pt x="90741" y="156616"/>
                  </a:lnTo>
                  <a:close/>
                </a:path>
                <a:path w="337185" h="311150">
                  <a:moveTo>
                    <a:pt x="236194" y="178943"/>
                  </a:moveTo>
                  <a:lnTo>
                    <a:pt x="199834" y="178943"/>
                  </a:lnTo>
                  <a:lnTo>
                    <a:pt x="198928" y="185946"/>
                  </a:lnTo>
                  <a:lnTo>
                    <a:pt x="197716" y="193119"/>
                  </a:lnTo>
                  <a:lnTo>
                    <a:pt x="196034" y="200763"/>
                  </a:lnTo>
                  <a:lnTo>
                    <a:pt x="193713" y="209181"/>
                  </a:lnTo>
                  <a:lnTo>
                    <a:pt x="231368" y="209181"/>
                  </a:lnTo>
                  <a:lnTo>
                    <a:pt x="233522" y="198593"/>
                  </a:lnTo>
                  <a:lnTo>
                    <a:pt x="236194" y="178943"/>
                  </a:lnTo>
                  <a:close/>
                </a:path>
                <a:path w="337185" h="311150">
                  <a:moveTo>
                    <a:pt x="74536" y="0"/>
                  </a:moveTo>
                  <a:lnTo>
                    <a:pt x="64409" y="37980"/>
                  </a:lnTo>
                  <a:lnTo>
                    <a:pt x="45377" y="85686"/>
                  </a:lnTo>
                  <a:lnTo>
                    <a:pt x="20797" y="130695"/>
                  </a:lnTo>
                  <a:lnTo>
                    <a:pt x="0" y="160578"/>
                  </a:lnTo>
                  <a:lnTo>
                    <a:pt x="35648" y="180378"/>
                  </a:lnTo>
                  <a:lnTo>
                    <a:pt x="39037" y="175804"/>
                  </a:lnTo>
                  <a:lnTo>
                    <a:pt x="42491" y="170792"/>
                  </a:lnTo>
                  <a:lnTo>
                    <a:pt x="46482" y="164633"/>
                  </a:lnTo>
                  <a:lnTo>
                    <a:pt x="51485" y="156616"/>
                  </a:lnTo>
                  <a:lnTo>
                    <a:pt x="90741" y="156616"/>
                  </a:lnTo>
                  <a:lnTo>
                    <a:pt x="90741" y="97929"/>
                  </a:lnTo>
                  <a:lnTo>
                    <a:pt x="95770" y="91808"/>
                  </a:lnTo>
                  <a:lnTo>
                    <a:pt x="95770" y="88214"/>
                  </a:lnTo>
                  <a:lnTo>
                    <a:pt x="91821" y="85686"/>
                  </a:lnTo>
                  <a:lnTo>
                    <a:pt x="87858" y="83527"/>
                  </a:lnTo>
                  <a:lnTo>
                    <a:pt x="92433" y="72492"/>
                  </a:lnTo>
                  <a:lnTo>
                    <a:pt x="97483" y="59769"/>
                  </a:lnTo>
                  <a:lnTo>
                    <a:pt x="102940" y="45155"/>
                  </a:lnTo>
                  <a:lnTo>
                    <a:pt x="108737" y="28448"/>
                  </a:lnTo>
                  <a:lnTo>
                    <a:pt x="110185" y="24117"/>
                  </a:lnTo>
                  <a:lnTo>
                    <a:pt x="110896" y="22313"/>
                  </a:lnTo>
                  <a:lnTo>
                    <a:pt x="116293" y="20523"/>
                  </a:lnTo>
                  <a:lnTo>
                    <a:pt x="119545" y="19075"/>
                  </a:lnTo>
                  <a:lnTo>
                    <a:pt x="121335" y="17995"/>
                  </a:lnTo>
                  <a:lnTo>
                    <a:pt x="121335" y="11874"/>
                  </a:lnTo>
                  <a:lnTo>
                    <a:pt x="115582" y="9715"/>
                  </a:lnTo>
                  <a:lnTo>
                    <a:pt x="107657" y="7912"/>
                  </a:lnTo>
                  <a:lnTo>
                    <a:pt x="74536" y="0"/>
                  </a:lnTo>
                  <a:close/>
                </a:path>
                <a:path w="337185" h="311150">
                  <a:moveTo>
                    <a:pt x="322249" y="77050"/>
                  </a:moveTo>
                  <a:lnTo>
                    <a:pt x="121335" y="77050"/>
                  </a:lnTo>
                  <a:lnTo>
                    <a:pt x="121335" y="178943"/>
                  </a:lnTo>
                  <a:lnTo>
                    <a:pt x="322249" y="178943"/>
                  </a:lnTo>
                  <a:lnTo>
                    <a:pt x="322249" y="147256"/>
                  </a:lnTo>
                  <a:lnTo>
                    <a:pt x="161302" y="147256"/>
                  </a:lnTo>
                  <a:lnTo>
                    <a:pt x="161302" y="108369"/>
                  </a:lnTo>
                  <a:lnTo>
                    <a:pt x="322249" y="108369"/>
                  </a:lnTo>
                  <a:lnTo>
                    <a:pt x="322249" y="77050"/>
                  </a:lnTo>
                  <a:close/>
                </a:path>
                <a:path w="337185" h="311150">
                  <a:moveTo>
                    <a:pt x="237998" y="108369"/>
                  </a:moveTo>
                  <a:lnTo>
                    <a:pt x="199466" y="108369"/>
                  </a:lnTo>
                  <a:lnTo>
                    <a:pt x="199734" y="116774"/>
                  </a:lnTo>
                  <a:lnTo>
                    <a:pt x="199963" y="126869"/>
                  </a:lnTo>
                  <a:lnTo>
                    <a:pt x="200128" y="137637"/>
                  </a:lnTo>
                  <a:lnTo>
                    <a:pt x="200190" y="147256"/>
                  </a:lnTo>
                  <a:lnTo>
                    <a:pt x="238353" y="147256"/>
                  </a:lnTo>
                  <a:lnTo>
                    <a:pt x="238309" y="126869"/>
                  </a:lnTo>
                  <a:lnTo>
                    <a:pt x="237998" y="108369"/>
                  </a:lnTo>
                  <a:close/>
                </a:path>
                <a:path w="337185" h="311150">
                  <a:moveTo>
                    <a:pt x="322249" y="108369"/>
                  </a:moveTo>
                  <a:lnTo>
                    <a:pt x="281927" y="108369"/>
                  </a:lnTo>
                  <a:lnTo>
                    <a:pt x="281927" y="147256"/>
                  </a:lnTo>
                  <a:lnTo>
                    <a:pt x="322249" y="147256"/>
                  </a:lnTo>
                  <a:lnTo>
                    <a:pt x="322249" y="108369"/>
                  </a:lnTo>
                  <a:close/>
                </a:path>
                <a:path w="337185" h="311150">
                  <a:moveTo>
                    <a:pt x="237274" y="54368"/>
                  </a:moveTo>
                  <a:lnTo>
                    <a:pt x="198386" y="54368"/>
                  </a:lnTo>
                  <a:lnTo>
                    <a:pt x="198755" y="67322"/>
                  </a:lnTo>
                  <a:lnTo>
                    <a:pt x="198755" y="77050"/>
                  </a:lnTo>
                  <a:lnTo>
                    <a:pt x="237642" y="77050"/>
                  </a:lnTo>
                  <a:lnTo>
                    <a:pt x="237274" y="54368"/>
                  </a:lnTo>
                  <a:close/>
                </a:path>
                <a:path w="337185" h="311150">
                  <a:moveTo>
                    <a:pt x="330530" y="23037"/>
                  </a:moveTo>
                  <a:lnTo>
                    <a:pt x="116662" y="23037"/>
                  </a:lnTo>
                  <a:lnTo>
                    <a:pt x="116662" y="54368"/>
                  </a:lnTo>
                  <a:lnTo>
                    <a:pt x="330530" y="54368"/>
                  </a:lnTo>
                  <a:lnTo>
                    <a:pt x="330530" y="23037"/>
                  </a:lnTo>
                  <a:close/>
                </a:path>
                <a:path w="337185" h="311150">
                  <a:moveTo>
                    <a:pt x="197307" y="0"/>
                  </a:moveTo>
                  <a:lnTo>
                    <a:pt x="197976" y="17995"/>
                  </a:lnTo>
                  <a:lnTo>
                    <a:pt x="198031" y="23037"/>
                  </a:lnTo>
                  <a:lnTo>
                    <a:pt x="237274" y="23037"/>
                  </a:lnTo>
                  <a:lnTo>
                    <a:pt x="237274" y="15836"/>
                  </a:lnTo>
                  <a:lnTo>
                    <a:pt x="237998" y="14757"/>
                  </a:lnTo>
                  <a:lnTo>
                    <a:pt x="238721" y="14033"/>
                  </a:lnTo>
                  <a:lnTo>
                    <a:pt x="242316" y="10795"/>
                  </a:lnTo>
                  <a:lnTo>
                    <a:pt x="243395" y="8636"/>
                  </a:lnTo>
                  <a:lnTo>
                    <a:pt x="243395" y="4318"/>
                  </a:lnTo>
                  <a:lnTo>
                    <a:pt x="235839" y="3594"/>
                  </a:lnTo>
                  <a:lnTo>
                    <a:pt x="234759" y="3594"/>
                  </a:lnTo>
                  <a:lnTo>
                    <a:pt x="19730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object 19"/>
            <p:cNvSpPr/>
            <p:nvPr/>
          </p:nvSpPr>
          <p:spPr>
            <a:xfrm>
              <a:off x="4245840" y="682560"/>
              <a:ext cx="280440" cy="302040"/>
            </a:xfrm>
            <a:custGeom>
              <a:avLst/>
              <a:gdLst/>
              <a:ahLst/>
              <a:rect l="l" t="t" r="r" b="b"/>
              <a:pathLst>
                <a:path w="280670" h="302259">
                  <a:moveTo>
                    <a:pt x="203073" y="262470"/>
                  </a:moveTo>
                  <a:lnTo>
                    <a:pt x="222885" y="301726"/>
                  </a:lnTo>
                  <a:lnTo>
                    <a:pt x="255826" y="297449"/>
                  </a:lnTo>
                  <a:lnTo>
                    <a:pt x="272835" y="290471"/>
                  </a:lnTo>
                  <a:lnTo>
                    <a:pt x="279179" y="280659"/>
                  </a:lnTo>
                  <a:lnTo>
                    <a:pt x="280123" y="267881"/>
                  </a:lnTo>
                  <a:lnTo>
                    <a:pt x="280123" y="263918"/>
                  </a:lnTo>
                  <a:lnTo>
                    <a:pt x="214591" y="263918"/>
                  </a:lnTo>
                  <a:lnTo>
                    <a:pt x="208470" y="263550"/>
                  </a:lnTo>
                  <a:lnTo>
                    <a:pt x="203073" y="262470"/>
                  </a:lnTo>
                  <a:close/>
                </a:path>
                <a:path w="280670" h="302259">
                  <a:moveTo>
                    <a:pt x="280123" y="0"/>
                  </a:moveTo>
                  <a:lnTo>
                    <a:pt x="24130" y="0"/>
                  </a:lnTo>
                  <a:lnTo>
                    <a:pt x="26226" y="28355"/>
                  </a:lnTo>
                  <a:lnTo>
                    <a:pt x="27681" y="56710"/>
                  </a:lnTo>
                  <a:lnTo>
                    <a:pt x="28528" y="85062"/>
                  </a:lnTo>
                  <a:lnTo>
                    <a:pt x="28803" y="113410"/>
                  </a:lnTo>
                  <a:lnTo>
                    <a:pt x="27644" y="172557"/>
                  </a:lnTo>
                  <a:lnTo>
                    <a:pt x="23312" y="217963"/>
                  </a:lnTo>
                  <a:lnTo>
                    <a:pt x="14525" y="254121"/>
                  </a:lnTo>
                  <a:lnTo>
                    <a:pt x="0" y="285521"/>
                  </a:lnTo>
                  <a:lnTo>
                    <a:pt x="37452" y="298843"/>
                  </a:lnTo>
                  <a:lnTo>
                    <a:pt x="49761" y="270699"/>
                  </a:lnTo>
                  <a:lnTo>
                    <a:pt x="58154" y="244113"/>
                  </a:lnTo>
                  <a:lnTo>
                    <a:pt x="63578" y="215097"/>
                  </a:lnTo>
                  <a:lnTo>
                    <a:pt x="66979" y="179666"/>
                  </a:lnTo>
                  <a:lnTo>
                    <a:pt x="280123" y="179666"/>
                  </a:lnTo>
                  <a:lnTo>
                    <a:pt x="280123" y="145821"/>
                  </a:lnTo>
                  <a:lnTo>
                    <a:pt x="68414" y="145821"/>
                  </a:lnTo>
                  <a:lnTo>
                    <a:pt x="68476" y="140605"/>
                  </a:lnTo>
                  <a:lnTo>
                    <a:pt x="68638" y="133802"/>
                  </a:lnTo>
                  <a:lnTo>
                    <a:pt x="68870" y="122477"/>
                  </a:lnTo>
                  <a:lnTo>
                    <a:pt x="69138" y="103695"/>
                  </a:lnTo>
                  <a:lnTo>
                    <a:pt x="280123" y="103695"/>
                  </a:lnTo>
                  <a:lnTo>
                    <a:pt x="280123" y="69850"/>
                  </a:lnTo>
                  <a:lnTo>
                    <a:pt x="68770" y="69850"/>
                  </a:lnTo>
                  <a:lnTo>
                    <a:pt x="68726" y="52249"/>
                  </a:lnTo>
                  <a:lnTo>
                    <a:pt x="68620" y="43973"/>
                  </a:lnTo>
                  <a:lnTo>
                    <a:pt x="68414" y="34925"/>
                  </a:lnTo>
                  <a:lnTo>
                    <a:pt x="280123" y="34925"/>
                  </a:lnTo>
                  <a:lnTo>
                    <a:pt x="280123" y="0"/>
                  </a:lnTo>
                  <a:close/>
                </a:path>
                <a:path w="280670" h="302259">
                  <a:moveTo>
                    <a:pt x="174269" y="179666"/>
                  </a:moveTo>
                  <a:lnTo>
                    <a:pt x="133578" y="179666"/>
                  </a:lnTo>
                  <a:lnTo>
                    <a:pt x="133578" y="282282"/>
                  </a:lnTo>
                  <a:lnTo>
                    <a:pt x="174269" y="282282"/>
                  </a:lnTo>
                  <a:lnTo>
                    <a:pt x="174269" y="179666"/>
                  </a:lnTo>
                  <a:close/>
                </a:path>
                <a:path w="280670" h="302259">
                  <a:moveTo>
                    <a:pt x="280123" y="179666"/>
                  </a:moveTo>
                  <a:lnTo>
                    <a:pt x="239077" y="179666"/>
                  </a:lnTo>
                  <a:lnTo>
                    <a:pt x="239077" y="261035"/>
                  </a:lnTo>
                  <a:lnTo>
                    <a:pt x="234403" y="263918"/>
                  </a:lnTo>
                  <a:lnTo>
                    <a:pt x="280123" y="263918"/>
                  </a:lnTo>
                  <a:lnTo>
                    <a:pt x="280123" y="179666"/>
                  </a:lnTo>
                  <a:close/>
                </a:path>
                <a:path w="280670" h="302259">
                  <a:moveTo>
                    <a:pt x="174256" y="103695"/>
                  </a:moveTo>
                  <a:lnTo>
                    <a:pt x="133578" y="103695"/>
                  </a:lnTo>
                  <a:lnTo>
                    <a:pt x="133578" y="145821"/>
                  </a:lnTo>
                  <a:lnTo>
                    <a:pt x="174256" y="145821"/>
                  </a:lnTo>
                  <a:lnTo>
                    <a:pt x="174256" y="103695"/>
                  </a:lnTo>
                  <a:close/>
                </a:path>
                <a:path w="280670" h="302259">
                  <a:moveTo>
                    <a:pt x="280123" y="103695"/>
                  </a:moveTo>
                  <a:lnTo>
                    <a:pt x="239077" y="103695"/>
                  </a:lnTo>
                  <a:lnTo>
                    <a:pt x="239077" y="145821"/>
                  </a:lnTo>
                  <a:lnTo>
                    <a:pt x="280123" y="145821"/>
                  </a:lnTo>
                  <a:lnTo>
                    <a:pt x="280123" y="103695"/>
                  </a:lnTo>
                  <a:close/>
                </a:path>
                <a:path w="280670" h="302259">
                  <a:moveTo>
                    <a:pt x="174256" y="34925"/>
                  </a:moveTo>
                  <a:lnTo>
                    <a:pt x="133578" y="34925"/>
                  </a:lnTo>
                  <a:lnTo>
                    <a:pt x="133578" y="69850"/>
                  </a:lnTo>
                  <a:lnTo>
                    <a:pt x="174256" y="69850"/>
                  </a:lnTo>
                  <a:lnTo>
                    <a:pt x="174256" y="34925"/>
                  </a:lnTo>
                  <a:close/>
                </a:path>
                <a:path w="280670" h="302259">
                  <a:moveTo>
                    <a:pt x="280123" y="34925"/>
                  </a:moveTo>
                  <a:lnTo>
                    <a:pt x="239077" y="34925"/>
                  </a:lnTo>
                  <a:lnTo>
                    <a:pt x="239077" y="69850"/>
                  </a:lnTo>
                  <a:lnTo>
                    <a:pt x="280123" y="69850"/>
                  </a:lnTo>
                  <a:lnTo>
                    <a:pt x="280123" y="349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object 20"/>
            <p:cNvSpPr/>
            <p:nvPr/>
          </p:nvSpPr>
          <p:spPr>
            <a:xfrm>
              <a:off x="4615560" y="676800"/>
              <a:ext cx="310320" cy="297720"/>
            </a:xfrm>
            <a:custGeom>
              <a:avLst/>
              <a:gdLst/>
              <a:ahLst/>
              <a:rect l="l" t="t" r="r" b="b"/>
              <a:pathLst>
                <a:path w="310514" h="297815">
                  <a:moveTo>
                    <a:pt x="125298" y="0"/>
                  </a:moveTo>
                  <a:lnTo>
                    <a:pt x="125298" y="257797"/>
                  </a:lnTo>
                  <a:lnTo>
                    <a:pt x="0" y="257797"/>
                  </a:lnTo>
                  <a:lnTo>
                    <a:pt x="0" y="297764"/>
                  </a:lnTo>
                  <a:lnTo>
                    <a:pt x="310007" y="297764"/>
                  </a:lnTo>
                  <a:lnTo>
                    <a:pt x="310007" y="257797"/>
                  </a:lnTo>
                  <a:lnTo>
                    <a:pt x="169951" y="257797"/>
                  </a:lnTo>
                  <a:lnTo>
                    <a:pt x="169951" y="147256"/>
                  </a:lnTo>
                  <a:lnTo>
                    <a:pt x="286600" y="147256"/>
                  </a:lnTo>
                  <a:lnTo>
                    <a:pt x="286600" y="105498"/>
                  </a:lnTo>
                  <a:lnTo>
                    <a:pt x="169951" y="105498"/>
                  </a:lnTo>
                  <a:lnTo>
                    <a:pt x="169951" y="15481"/>
                  </a:lnTo>
                  <a:lnTo>
                    <a:pt x="173189" y="14046"/>
                  </a:lnTo>
                  <a:lnTo>
                    <a:pt x="179311" y="10795"/>
                  </a:lnTo>
                  <a:lnTo>
                    <a:pt x="179311" y="5041"/>
                  </a:lnTo>
                  <a:lnTo>
                    <a:pt x="176072" y="3962"/>
                  </a:lnTo>
                  <a:lnTo>
                    <a:pt x="173913" y="3962"/>
                  </a:lnTo>
                  <a:lnTo>
                    <a:pt x="12529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object 21"/>
            <p:cNvSpPr/>
            <p:nvPr/>
          </p:nvSpPr>
          <p:spPr>
            <a:xfrm>
              <a:off x="4996080" y="698760"/>
              <a:ext cx="292680" cy="271080"/>
            </a:xfrm>
            <a:custGeom>
              <a:avLst/>
              <a:gdLst/>
              <a:ahLst/>
              <a:rect l="l" t="t" r="r" b="b"/>
              <a:pathLst>
                <a:path w="292735" h="271144">
                  <a:moveTo>
                    <a:pt x="252825" y="36728"/>
                  </a:moveTo>
                  <a:lnTo>
                    <a:pt x="162750" y="36728"/>
                  </a:lnTo>
                  <a:lnTo>
                    <a:pt x="174738" y="37914"/>
                  </a:lnTo>
                  <a:lnTo>
                    <a:pt x="189836" y="41090"/>
                  </a:lnTo>
                  <a:lnTo>
                    <a:pt x="223951" y="60845"/>
                  </a:lnTo>
                  <a:lnTo>
                    <a:pt x="248658" y="108342"/>
                  </a:lnTo>
                  <a:lnTo>
                    <a:pt x="249872" y="123863"/>
                  </a:lnTo>
                  <a:lnTo>
                    <a:pt x="248912" y="138093"/>
                  </a:lnTo>
                  <a:lnTo>
                    <a:pt x="237270" y="175601"/>
                  </a:lnTo>
                  <a:lnTo>
                    <a:pt x="206840" y="211956"/>
                  </a:lnTo>
                  <a:lnTo>
                    <a:pt x="173018" y="229734"/>
                  </a:lnTo>
                  <a:lnTo>
                    <a:pt x="159143" y="234035"/>
                  </a:lnTo>
                  <a:lnTo>
                    <a:pt x="185788" y="271119"/>
                  </a:lnTo>
                  <a:lnTo>
                    <a:pt x="224897" y="251448"/>
                  </a:lnTo>
                  <a:lnTo>
                    <a:pt x="269684" y="207746"/>
                  </a:lnTo>
                  <a:lnTo>
                    <a:pt x="290996" y="153623"/>
                  </a:lnTo>
                  <a:lnTo>
                    <a:pt x="292722" y="131051"/>
                  </a:lnTo>
                  <a:lnTo>
                    <a:pt x="285981" y="86590"/>
                  </a:lnTo>
                  <a:lnTo>
                    <a:pt x="267142" y="50236"/>
                  </a:lnTo>
                  <a:lnTo>
                    <a:pt x="252825" y="36728"/>
                  </a:lnTo>
                  <a:close/>
                </a:path>
                <a:path w="292735" h="271144">
                  <a:moveTo>
                    <a:pt x="158788" y="0"/>
                  </a:moveTo>
                  <a:lnTo>
                    <a:pt x="106600" y="8203"/>
                  </a:lnTo>
                  <a:lnTo>
                    <a:pt x="62761" y="30717"/>
                  </a:lnTo>
                  <a:lnTo>
                    <a:pt x="29138" y="64396"/>
                  </a:lnTo>
                  <a:lnTo>
                    <a:pt x="7595" y="106094"/>
                  </a:lnTo>
                  <a:lnTo>
                    <a:pt x="0" y="152666"/>
                  </a:lnTo>
                  <a:lnTo>
                    <a:pt x="9427" y="194985"/>
                  </a:lnTo>
                  <a:lnTo>
                    <a:pt x="31141" y="225256"/>
                  </a:lnTo>
                  <a:lnTo>
                    <a:pt x="55287" y="243445"/>
                  </a:lnTo>
                  <a:lnTo>
                    <a:pt x="72009" y="249516"/>
                  </a:lnTo>
                  <a:lnTo>
                    <a:pt x="85593" y="244441"/>
                  </a:lnTo>
                  <a:lnTo>
                    <a:pt x="118097" y="196951"/>
                  </a:lnTo>
                  <a:lnTo>
                    <a:pt x="63004" y="193344"/>
                  </a:lnTo>
                  <a:lnTo>
                    <a:pt x="56672" y="190525"/>
                  </a:lnTo>
                  <a:lnTo>
                    <a:pt x="49056" y="182137"/>
                  </a:lnTo>
                  <a:lnTo>
                    <a:pt x="42655" y="168280"/>
                  </a:lnTo>
                  <a:lnTo>
                    <a:pt x="39966" y="149059"/>
                  </a:lnTo>
                  <a:lnTo>
                    <a:pt x="41997" y="130744"/>
                  </a:lnTo>
                  <a:lnTo>
                    <a:pt x="59560" y="88855"/>
                  </a:lnTo>
                  <a:lnTo>
                    <a:pt x="88659" y="58439"/>
                  </a:lnTo>
                  <a:lnTo>
                    <a:pt x="119900" y="43205"/>
                  </a:lnTo>
                  <a:lnTo>
                    <a:pt x="161610" y="43205"/>
                  </a:lnTo>
                  <a:lnTo>
                    <a:pt x="162750" y="36728"/>
                  </a:lnTo>
                  <a:lnTo>
                    <a:pt x="252825" y="36728"/>
                  </a:lnTo>
                  <a:lnTo>
                    <a:pt x="238280" y="23006"/>
                  </a:lnTo>
                  <a:lnTo>
                    <a:pt x="201470" y="5921"/>
                  </a:lnTo>
                  <a:lnTo>
                    <a:pt x="158788" y="0"/>
                  </a:lnTo>
                  <a:close/>
                </a:path>
                <a:path w="292735" h="271144">
                  <a:moveTo>
                    <a:pt x="161610" y="43205"/>
                  </a:moveTo>
                  <a:lnTo>
                    <a:pt x="119900" y="43205"/>
                  </a:lnTo>
                  <a:lnTo>
                    <a:pt x="110607" y="90362"/>
                  </a:lnTo>
                  <a:lnTo>
                    <a:pt x="95777" y="139339"/>
                  </a:lnTo>
                  <a:lnTo>
                    <a:pt x="78784" y="177784"/>
                  </a:lnTo>
                  <a:lnTo>
                    <a:pt x="63004" y="193344"/>
                  </a:lnTo>
                  <a:lnTo>
                    <a:pt x="119711" y="193344"/>
                  </a:lnTo>
                  <a:lnTo>
                    <a:pt x="128462" y="173786"/>
                  </a:lnTo>
                  <a:lnTo>
                    <a:pt x="140552" y="139923"/>
                  </a:lnTo>
                  <a:lnTo>
                    <a:pt x="152578" y="94519"/>
                  </a:lnTo>
                  <a:lnTo>
                    <a:pt x="161610" y="43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object 22"/>
            <p:cNvSpPr/>
            <p:nvPr/>
          </p:nvSpPr>
          <p:spPr>
            <a:xfrm>
              <a:off x="5349240" y="672480"/>
              <a:ext cx="320400" cy="314280"/>
            </a:xfrm>
            <a:custGeom>
              <a:avLst/>
              <a:gdLst/>
              <a:ahLst/>
              <a:rect l="l" t="t" r="r" b="b"/>
              <a:pathLst>
                <a:path w="320675" h="314325">
                  <a:moveTo>
                    <a:pt x="68414" y="177152"/>
                  </a:moveTo>
                  <a:lnTo>
                    <a:pt x="49895" y="217412"/>
                  </a:lnTo>
                  <a:lnTo>
                    <a:pt x="32358" y="248662"/>
                  </a:lnTo>
                  <a:lnTo>
                    <a:pt x="16913" y="271878"/>
                  </a:lnTo>
                  <a:lnTo>
                    <a:pt x="4673" y="288036"/>
                  </a:lnTo>
                  <a:lnTo>
                    <a:pt x="29883" y="306400"/>
                  </a:lnTo>
                  <a:lnTo>
                    <a:pt x="33121" y="308927"/>
                  </a:lnTo>
                  <a:lnTo>
                    <a:pt x="41046" y="313956"/>
                  </a:lnTo>
                  <a:lnTo>
                    <a:pt x="47891" y="313956"/>
                  </a:lnTo>
                  <a:lnTo>
                    <a:pt x="49682" y="311086"/>
                  </a:lnTo>
                  <a:lnTo>
                    <a:pt x="49593" y="306400"/>
                  </a:lnTo>
                  <a:lnTo>
                    <a:pt x="48971" y="301358"/>
                  </a:lnTo>
                  <a:lnTo>
                    <a:pt x="48971" y="298488"/>
                  </a:lnTo>
                  <a:lnTo>
                    <a:pt x="71786" y="258967"/>
                  </a:lnTo>
                  <a:lnTo>
                    <a:pt x="100456" y="203428"/>
                  </a:lnTo>
                  <a:lnTo>
                    <a:pt x="68414" y="177152"/>
                  </a:lnTo>
                  <a:close/>
                </a:path>
                <a:path w="320675" h="314325">
                  <a:moveTo>
                    <a:pt x="320446" y="266077"/>
                  </a:moveTo>
                  <a:lnTo>
                    <a:pt x="97574" y="266077"/>
                  </a:lnTo>
                  <a:lnTo>
                    <a:pt x="97574" y="304965"/>
                  </a:lnTo>
                  <a:lnTo>
                    <a:pt x="320446" y="304965"/>
                  </a:lnTo>
                  <a:lnTo>
                    <a:pt x="320446" y="266077"/>
                  </a:lnTo>
                  <a:close/>
                </a:path>
                <a:path w="320675" h="314325">
                  <a:moveTo>
                    <a:pt x="232956" y="193344"/>
                  </a:moveTo>
                  <a:lnTo>
                    <a:pt x="186512" y="193344"/>
                  </a:lnTo>
                  <a:lnTo>
                    <a:pt x="186512" y="266077"/>
                  </a:lnTo>
                  <a:lnTo>
                    <a:pt x="232956" y="266077"/>
                  </a:lnTo>
                  <a:lnTo>
                    <a:pt x="232956" y="193344"/>
                  </a:lnTo>
                  <a:close/>
                </a:path>
                <a:path w="320675" h="314325">
                  <a:moveTo>
                    <a:pt x="295605" y="151942"/>
                  </a:moveTo>
                  <a:lnTo>
                    <a:pt x="121335" y="151942"/>
                  </a:lnTo>
                  <a:lnTo>
                    <a:pt x="121335" y="193344"/>
                  </a:lnTo>
                  <a:lnTo>
                    <a:pt x="295605" y="193344"/>
                  </a:lnTo>
                  <a:lnTo>
                    <a:pt x="295605" y="151942"/>
                  </a:lnTo>
                  <a:close/>
                </a:path>
                <a:path w="320675" h="314325">
                  <a:moveTo>
                    <a:pt x="18364" y="85331"/>
                  </a:moveTo>
                  <a:lnTo>
                    <a:pt x="0" y="122059"/>
                  </a:lnTo>
                  <a:lnTo>
                    <a:pt x="19304" y="130372"/>
                  </a:lnTo>
                  <a:lnTo>
                    <a:pt x="35332" y="138349"/>
                  </a:lnTo>
                  <a:lnTo>
                    <a:pt x="49268" y="146460"/>
                  </a:lnTo>
                  <a:lnTo>
                    <a:pt x="62293" y="155181"/>
                  </a:lnTo>
                  <a:lnTo>
                    <a:pt x="81737" y="120611"/>
                  </a:lnTo>
                  <a:lnTo>
                    <a:pt x="67225" y="109578"/>
                  </a:lnTo>
                  <a:lnTo>
                    <a:pt x="52341" y="100404"/>
                  </a:lnTo>
                  <a:lnTo>
                    <a:pt x="36311" y="92513"/>
                  </a:lnTo>
                  <a:lnTo>
                    <a:pt x="18364" y="85331"/>
                  </a:lnTo>
                  <a:close/>
                </a:path>
                <a:path w="320675" h="314325">
                  <a:moveTo>
                    <a:pt x="232956" y="95046"/>
                  </a:moveTo>
                  <a:lnTo>
                    <a:pt x="186512" y="95046"/>
                  </a:lnTo>
                  <a:lnTo>
                    <a:pt x="186512" y="151942"/>
                  </a:lnTo>
                  <a:lnTo>
                    <a:pt x="232956" y="151942"/>
                  </a:lnTo>
                  <a:lnTo>
                    <a:pt x="232956" y="95046"/>
                  </a:lnTo>
                  <a:close/>
                </a:path>
                <a:path w="320675" h="314325">
                  <a:moveTo>
                    <a:pt x="317563" y="54724"/>
                  </a:moveTo>
                  <a:lnTo>
                    <a:pt x="108737" y="54724"/>
                  </a:lnTo>
                  <a:lnTo>
                    <a:pt x="108737" y="95046"/>
                  </a:lnTo>
                  <a:lnTo>
                    <a:pt x="317563" y="95046"/>
                  </a:lnTo>
                  <a:lnTo>
                    <a:pt x="317563" y="54724"/>
                  </a:lnTo>
                  <a:close/>
                </a:path>
                <a:path w="320675" h="314325">
                  <a:moveTo>
                    <a:pt x="54000" y="355"/>
                  </a:moveTo>
                  <a:lnTo>
                    <a:pt x="33489" y="34925"/>
                  </a:lnTo>
                  <a:lnTo>
                    <a:pt x="49849" y="42580"/>
                  </a:lnTo>
                  <a:lnTo>
                    <a:pt x="63912" y="50271"/>
                  </a:lnTo>
                  <a:lnTo>
                    <a:pt x="76623" y="58569"/>
                  </a:lnTo>
                  <a:lnTo>
                    <a:pt x="88925" y="68046"/>
                  </a:lnTo>
                  <a:lnTo>
                    <a:pt x="111607" y="34925"/>
                  </a:lnTo>
                  <a:lnTo>
                    <a:pt x="98863" y="24510"/>
                  </a:lnTo>
                  <a:lnTo>
                    <a:pt x="85509" y="15616"/>
                  </a:lnTo>
                  <a:lnTo>
                    <a:pt x="70802" y="7734"/>
                  </a:lnTo>
                  <a:lnTo>
                    <a:pt x="54000" y="355"/>
                  </a:lnTo>
                  <a:close/>
                </a:path>
                <a:path w="320675" h="314325">
                  <a:moveTo>
                    <a:pt x="194792" y="0"/>
                  </a:moveTo>
                  <a:lnTo>
                    <a:pt x="162382" y="24841"/>
                  </a:lnTo>
                  <a:lnTo>
                    <a:pt x="170963" y="31737"/>
                  </a:lnTo>
                  <a:lnTo>
                    <a:pt x="178633" y="38701"/>
                  </a:lnTo>
                  <a:lnTo>
                    <a:pt x="185829" y="46206"/>
                  </a:lnTo>
                  <a:lnTo>
                    <a:pt x="192989" y="54724"/>
                  </a:lnTo>
                  <a:lnTo>
                    <a:pt x="221437" y="54724"/>
                  </a:lnTo>
                  <a:lnTo>
                    <a:pt x="236918" y="41757"/>
                  </a:lnTo>
                  <a:lnTo>
                    <a:pt x="229018" y="31237"/>
                  </a:lnTo>
                  <a:lnTo>
                    <a:pt x="219903" y="21016"/>
                  </a:lnTo>
                  <a:lnTo>
                    <a:pt x="208764" y="10726"/>
                  </a:lnTo>
                  <a:lnTo>
                    <a:pt x="1947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object 23"/>
            <p:cNvSpPr/>
            <p:nvPr/>
          </p:nvSpPr>
          <p:spPr>
            <a:xfrm>
              <a:off x="5739480" y="676800"/>
              <a:ext cx="312120" cy="307800"/>
            </a:xfrm>
            <a:custGeom>
              <a:avLst/>
              <a:gdLst/>
              <a:ahLst/>
              <a:rect l="l" t="t" r="r" b="b"/>
              <a:pathLst>
                <a:path w="312420" h="307975">
                  <a:moveTo>
                    <a:pt x="90385" y="230428"/>
                  </a:moveTo>
                  <a:lnTo>
                    <a:pt x="90418" y="283572"/>
                  </a:lnTo>
                  <a:lnTo>
                    <a:pt x="125310" y="307848"/>
                  </a:lnTo>
                  <a:lnTo>
                    <a:pt x="206324" y="307848"/>
                  </a:lnTo>
                  <a:lnTo>
                    <a:pt x="224173" y="302198"/>
                  </a:lnTo>
                  <a:lnTo>
                    <a:pt x="234399" y="289121"/>
                  </a:lnTo>
                  <a:lnTo>
                    <a:pt x="238777" y="275793"/>
                  </a:lnTo>
                  <a:lnTo>
                    <a:pt x="125666" y="275793"/>
                  </a:lnTo>
                  <a:lnTo>
                    <a:pt x="123507" y="270764"/>
                  </a:lnTo>
                  <a:lnTo>
                    <a:pt x="123507" y="242316"/>
                  </a:lnTo>
                  <a:lnTo>
                    <a:pt x="124929" y="240868"/>
                  </a:lnTo>
                  <a:lnTo>
                    <a:pt x="128904" y="236918"/>
                  </a:lnTo>
                  <a:lnTo>
                    <a:pt x="128904" y="234035"/>
                  </a:lnTo>
                  <a:lnTo>
                    <a:pt x="126733" y="232232"/>
                  </a:lnTo>
                  <a:lnTo>
                    <a:pt x="121335" y="231876"/>
                  </a:lnTo>
                  <a:lnTo>
                    <a:pt x="90385" y="230428"/>
                  </a:lnTo>
                  <a:close/>
                </a:path>
                <a:path w="312420" h="307975">
                  <a:moveTo>
                    <a:pt x="43929" y="230797"/>
                  </a:moveTo>
                  <a:lnTo>
                    <a:pt x="35509" y="244981"/>
                  </a:lnTo>
                  <a:lnTo>
                    <a:pt x="25380" y="259842"/>
                  </a:lnTo>
                  <a:lnTo>
                    <a:pt x="14611" y="274031"/>
                  </a:lnTo>
                  <a:lnTo>
                    <a:pt x="3962" y="286600"/>
                  </a:lnTo>
                  <a:lnTo>
                    <a:pt x="33134" y="304965"/>
                  </a:lnTo>
                  <a:lnTo>
                    <a:pt x="58196" y="270226"/>
                  </a:lnTo>
                  <a:lnTo>
                    <a:pt x="66979" y="256349"/>
                  </a:lnTo>
                  <a:lnTo>
                    <a:pt x="67335" y="256349"/>
                  </a:lnTo>
                  <a:lnTo>
                    <a:pt x="71297" y="255638"/>
                  </a:lnTo>
                  <a:lnTo>
                    <a:pt x="72377" y="255638"/>
                  </a:lnTo>
                  <a:lnTo>
                    <a:pt x="75971" y="255270"/>
                  </a:lnTo>
                  <a:lnTo>
                    <a:pt x="75971" y="249872"/>
                  </a:lnTo>
                  <a:lnTo>
                    <a:pt x="72377" y="247357"/>
                  </a:lnTo>
                  <a:lnTo>
                    <a:pt x="70218" y="246265"/>
                  </a:lnTo>
                  <a:lnTo>
                    <a:pt x="43929" y="230797"/>
                  </a:lnTo>
                  <a:close/>
                </a:path>
                <a:path w="312420" h="307975">
                  <a:moveTo>
                    <a:pt x="269684" y="232232"/>
                  </a:moveTo>
                  <a:lnTo>
                    <a:pt x="241249" y="248437"/>
                  </a:lnTo>
                  <a:lnTo>
                    <a:pt x="250493" y="258574"/>
                  </a:lnTo>
                  <a:lnTo>
                    <a:pt x="259870" y="269857"/>
                  </a:lnTo>
                  <a:lnTo>
                    <a:pt x="270195" y="283572"/>
                  </a:lnTo>
                  <a:lnTo>
                    <a:pt x="282282" y="301002"/>
                  </a:lnTo>
                  <a:lnTo>
                    <a:pt x="308940" y="281190"/>
                  </a:lnTo>
                  <a:lnTo>
                    <a:pt x="299313" y="267416"/>
                  </a:lnTo>
                  <a:lnTo>
                    <a:pt x="289988" y="255230"/>
                  </a:lnTo>
                  <a:lnTo>
                    <a:pt x="280325" y="243784"/>
                  </a:lnTo>
                  <a:lnTo>
                    <a:pt x="269684" y="232232"/>
                  </a:lnTo>
                  <a:close/>
                </a:path>
                <a:path w="312420" h="307975">
                  <a:moveTo>
                    <a:pt x="208470" y="249148"/>
                  </a:moveTo>
                  <a:lnTo>
                    <a:pt x="207757" y="259842"/>
                  </a:lnTo>
                  <a:lnTo>
                    <a:pt x="205459" y="268276"/>
                  </a:lnTo>
                  <a:lnTo>
                    <a:pt x="201339" y="273807"/>
                  </a:lnTo>
                  <a:lnTo>
                    <a:pt x="195160" y="275793"/>
                  </a:lnTo>
                  <a:lnTo>
                    <a:pt x="238777" y="275793"/>
                  </a:lnTo>
                  <a:lnTo>
                    <a:pt x="239226" y="274425"/>
                  </a:lnTo>
                  <a:lnTo>
                    <a:pt x="240880" y="263918"/>
                  </a:lnTo>
                  <a:lnTo>
                    <a:pt x="208470" y="249148"/>
                  </a:lnTo>
                  <a:close/>
                </a:path>
                <a:path w="312420" h="307975">
                  <a:moveTo>
                    <a:pt x="172834" y="222872"/>
                  </a:moveTo>
                  <a:lnTo>
                    <a:pt x="154470" y="222872"/>
                  </a:lnTo>
                  <a:lnTo>
                    <a:pt x="141858" y="233667"/>
                  </a:lnTo>
                  <a:lnTo>
                    <a:pt x="149400" y="241420"/>
                  </a:lnTo>
                  <a:lnTo>
                    <a:pt x="155732" y="248437"/>
                  </a:lnTo>
                  <a:lnTo>
                    <a:pt x="161511" y="255441"/>
                  </a:lnTo>
                  <a:lnTo>
                    <a:pt x="167424" y="263194"/>
                  </a:lnTo>
                  <a:lnTo>
                    <a:pt x="195160" y="247357"/>
                  </a:lnTo>
                  <a:lnTo>
                    <a:pt x="191968" y="243078"/>
                  </a:lnTo>
                  <a:lnTo>
                    <a:pt x="187769" y="237953"/>
                  </a:lnTo>
                  <a:lnTo>
                    <a:pt x="181684" y="231409"/>
                  </a:lnTo>
                  <a:lnTo>
                    <a:pt x="172834" y="222872"/>
                  </a:lnTo>
                  <a:close/>
                </a:path>
                <a:path w="312420" h="307975">
                  <a:moveTo>
                    <a:pt x="263207" y="116293"/>
                  </a:moveTo>
                  <a:lnTo>
                    <a:pt x="50050" y="116293"/>
                  </a:lnTo>
                  <a:lnTo>
                    <a:pt x="50050" y="222872"/>
                  </a:lnTo>
                  <a:lnTo>
                    <a:pt x="263207" y="222872"/>
                  </a:lnTo>
                  <a:lnTo>
                    <a:pt x="263207" y="196227"/>
                  </a:lnTo>
                  <a:lnTo>
                    <a:pt x="89661" y="196227"/>
                  </a:lnTo>
                  <a:lnTo>
                    <a:pt x="89661" y="179298"/>
                  </a:lnTo>
                  <a:lnTo>
                    <a:pt x="263207" y="179298"/>
                  </a:lnTo>
                  <a:lnTo>
                    <a:pt x="263207" y="155905"/>
                  </a:lnTo>
                  <a:lnTo>
                    <a:pt x="89661" y="155905"/>
                  </a:lnTo>
                  <a:lnTo>
                    <a:pt x="89661" y="139344"/>
                  </a:lnTo>
                  <a:lnTo>
                    <a:pt x="263207" y="139344"/>
                  </a:lnTo>
                  <a:lnTo>
                    <a:pt x="263207" y="116293"/>
                  </a:lnTo>
                  <a:close/>
                </a:path>
                <a:path w="312420" h="307975">
                  <a:moveTo>
                    <a:pt x="263207" y="179298"/>
                  </a:moveTo>
                  <a:lnTo>
                    <a:pt x="222516" y="179298"/>
                  </a:lnTo>
                  <a:lnTo>
                    <a:pt x="222516" y="196227"/>
                  </a:lnTo>
                  <a:lnTo>
                    <a:pt x="263207" y="196227"/>
                  </a:lnTo>
                  <a:lnTo>
                    <a:pt x="263207" y="179298"/>
                  </a:lnTo>
                  <a:close/>
                </a:path>
                <a:path w="312420" h="307975">
                  <a:moveTo>
                    <a:pt x="263207" y="139344"/>
                  </a:moveTo>
                  <a:lnTo>
                    <a:pt x="222516" y="139344"/>
                  </a:lnTo>
                  <a:lnTo>
                    <a:pt x="222516" y="155905"/>
                  </a:lnTo>
                  <a:lnTo>
                    <a:pt x="263207" y="155905"/>
                  </a:lnTo>
                  <a:lnTo>
                    <a:pt x="263207" y="139344"/>
                  </a:lnTo>
                  <a:close/>
                </a:path>
                <a:path w="312420" h="307975">
                  <a:moveTo>
                    <a:pt x="312178" y="70205"/>
                  </a:moveTo>
                  <a:lnTo>
                    <a:pt x="0" y="70205"/>
                  </a:lnTo>
                  <a:lnTo>
                    <a:pt x="0" y="101523"/>
                  </a:lnTo>
                  <a:lnTo>
                    <a:pt x="312178" y="101523"/>
                  </a:lnTo>
                  <a:lnTo>
                    <a:pt x="312178" y="70205"/>
                  </a:lnTo>
                  <a:close/>
                </a:path>
                <a:path w="312420" h="307975">
                  <a:moveTo>
                    <a:pt x="115569" y="48958"/>
                  </a:moveTo>
                  <a:lnTo>
                    <a:pt x="71653" y="48958"/>
                  </a:lnTo>
                  <a:lnTo>
                    <a:pt x="74167" y="53644"/>
                  </a:lnTo>
                  <a:lnTo>
                    <a:pt x="77419" y="59766"/>
                  </a:lnTo>
                  <a:lnTo>
                    <a:pt x="81013" y="70205"/>
                  </a:lnTo>
                  <a:lnTo>
                    <a:pt x="126733" y="70205"/>
                  </a:lnTo>
                  <a:lnTo>
                    <a:pt x="124586" y="65163"/>
                  </a:lnTo>
                  <a:lnTo>
                    <a:pt x="120980" y="57607"/>
                  </a:lnTo>
                  <a:lnTo>
                    <a:pt x="115569" y="48958"/>
                  </a:lnTo>
                  <a:close/>
                </a:path>
                <a:path w="312420" h="307975">
                  <a:moveTo>
                    <a:pt x="238721" y="48958"/>
                  </a:moveTo>
                  <a:lnTo>
                    <a:pt x="193357" y="48958"/>
                  </a:lnTo>
                  <a:lnTo>
                    <a:pt x="190474" y="57238"/>
                  </a:lnTo>
                  <a:lnTo>
                    <a:pt x="188315" y="61925"/>
                  </a:lnTo>
                  <a:lnTo>
                    <a:pt x="184353" y="70205"/>
                  </a:lnTo>
                  <a:lnTo>
                    <a:pt x="228638" y="70205"/>
                  </a:lnTo>
                  <a:lnTo>
                    <a:pt x="233679" y="61556"/>
                  </a:lnTo>
                  <a:lnTo>
                    <a:pt x="235470" y="56883"/>
                  </a:lnTo>
                  <a:lnTo>
                    <a:pt x="238721" y="48958"/>
                  </a:lnTo>
                  <a:close/>
                </a:path>
                <a:path w="312420" h="307975">
                  <a:moveTo>
                    <a:pt x="289852" y="19443"/>
                  </a:moveTo>
                  <a:lnTo>
                    <a:pt x="20535" y="19443"/>
                  </a:lnTo>
                  <a:lnTo>
                    <a:pt x="20535" y="48958"/>
                  </a:lnTo>
                  <a:lnTo>
                    <a:pt x="289852" y="48958"/>
                  </a:lnTo>
                  <a:lnTo>
                    <a:pt x="289852" y="19443"/>
                  </a:lnTo>
                  <a:close/>
                </a:path>
                <a:path w="312420" h="307975">
                  <a:moveTo>
                    <a:pt x="133222" y="0"/>
                  </a:moveTo>
                  <a:lnTo>
                    <a:pt x="133222" y="19443"/>
                  </a:lnTo>
                  <a:lnTo>
                    <a:pt x="177152" y="19443"/>
                  </a:lnTo>
                  <a:lnTo>
                    <a:pt x="177152" y="11874"/>
                  </a:lnTo>
                  <a:lnTo>
                    <a:pt x="177507" y="11150"/>
                  </a:lnTo>
                  <a:lnTo>
                    <a:pt x="179666" y="9715"/>
                  </a:lnTo>
                  <a:lnTo>
                    <a:pt x="181114" y="8991"/>
                  </a:lnTo>
                  <a:lnTo>
                    <a:pt x="183273" y="7556"/>
                  </a:lnTo>
                  <a:lnTo>
                    <a:pt x="183273" y="4673"/>
                  </a:lnTo>
                  <a:lnTo>
                    <a:pt x="181114" y="2870"/>
                  </a:lnTo>
                  <a:lnTo>
                    <a:pt x="176072" y="2514"/>
                  </a:lnTo>
                  <a:lnTo>
                    <a:pt x="1332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object 24"/>
            <p:cNvSpPr/>
            <p:nvPr/>
          </p:nvSpPr>
          <p:spPr>
            <a:xfrm>
              <a:off x="6125400" y="671040"/>
              <a:ext cx="303480" cy="317160"/>
            </a:xfrm>
            <a:custGeom>
              <a:avLst/>
              <a:gdLst/>
              <a:ahLst/>
              <a:rect l="l" t="t" r="r" b="b"/>
              <a:pathLst>
                <a:path w="303529" h="317500">
                  <a:moveTo>
                    <a:pt x="93967" y="277952"/>
                  </a:moveTo>
                  <a:lnTo>
                    <a:pt x="111963" y="317207"/>
                  </a:lnTo>
                  <a:lnTo>
                    <a:pt x="142518" y="315206"/>
                  </a:lnTo>
                  <a:lnTo>
                    <a:pt x="160581" y="309595"/>
                  </a:lnTo>
                  <a:lnTo>
                    <a:pt x="169191" y="300139"/>
                  </a:lnTo>
                  <a:lnTo>
                    <a:pt x="171386" y="286600"/>
                  </a:lnTo>
                  <a:lnTo>
                    <a:pt x="171386" y="279755"/>
                  </a:lnTo>
                  <a:lnTo>
                    <a:pt x="119532" y="279755"/>
                  </a:lnTo>
                  <a:lnTo>
                    <a:pt x="114273" y="279575"/>
                  </a:lnTo>
                  <a:lnTo>
                    <a:pt x="107969" y="279125"/>
                  </a:lnTo>
                  <a:lnTo>
                    <a:pt x="93967" y="277952"/>
                  </a:lnTo>
                  <a:close/>
                </a:path>
                <a:path w="303529" h="317500">
                  <a:moveTo>
                    <a:pt x="171386" y="260680"/>
                  </a:moveTo>
                  <a:lnTo>
                    <a:pt x="130695" y="260680"/>
                  </a:lnTo>
                  <a:lnTo>
                    <a:pt x="130695" y="277952"/>
                  </a:lnTo>
                  <a:lnTo>
                    <a:pt x="125298" y="279755"/>
                  </a:lnTo>
                  <a:lnTo>
                    <a:pt x="171386" y="279755"/>
                  </a:lnTo>
                  <a:lnTo>
                    <a:pt x="171386" y="260680"/>
                  </a:lnTo>
                  <a:close/>
                </a:path>
                <a:path w="303529" h="317500">
                  <a:moveTo>
                    <a:pt x="282994" y="217106"/>
                  </a:moveTo>
                  <a:lnTo>
                    <a:pt x="245186" y="217106"/>
                  </a:lnTo>
                  <a:lnTo>
                    <a:pt x="245186" y="232587"/>
                  </a:lnTo>
                  <a:lnTo>
                    <a:pt x="20878" y="232587"/>
                  </a:lnTo>
                  <a:lnTo>
                    <a:pt x="20878" y="260680"/>
                  </a:lnTo>
                  <a:lnTo>
                    <a:pt x="245186" y="260680"/>
                  </a:lnTo>
                  <a:lnTo>
                    <a:pt x="245186" y="270395"/>
                  </a:lnTo>
                  <a:lnTo>
                    <a:pt x="282994" y="270395"/>
                  </a:lnTo>
                  <a:lnTo>
                    <a:pt x="282994" y="217106"/>
                  </a:lnTo>
                  <a:close/>
                </a:path>
                <a:path w="303529" h="317500">
                  <a:moveTo>
                    <a:pt x="171373" y="217106"/>
                  </a:moveTo>
                  <a:lnTo>
                    <a:pt x="130695" y="217106"/>
                  </a:lnTo>
                  <a:lnTo>
                    <a:pt x="130695" y="232587"/>
                  </a:lnTo>
                  <a:lnTo>
                    <a:pt x="171373" y="232587"/>
                  </a:lnTo>
                  <a:lnTo>
                    <a:pt x="171373" y="217106"/>
                  </a:lnTo>
                  <a:close/>
                </a:path>
                <a:path w="303529" h="317500">
                  <a:moveTo>
                    <a:pt x="303161" y="189026"/>
                  </a:moveTo>
                  <a:lnTo>
                    <a:pt x="0" y="189026"/>
                  </a:lnTo>
                  <a:lnTo>
                    <a:pt x="0" y="217106"/>
                  </a:lnTo>
                  <a:lnTo>
                    <a:pt x="303161" y="217106"/>
                  </a:lnTo>
                  <a:lnTo>
                    <a:pt x="303161" y="189026"/>
                  </a:lnTo>
                  <a:close/>
                </a:path>
                <a:path w="303529" h="317500">
                  <a:moveTo>
                    <a:pt x="171373" y="175336"/>
                  </a:moveTo>
                  <a:lnTo>
                    <a:pt x="130695" y="175336"/>
                  </a:lnTo>
                  <a:lnTo>
                    <a:pt x="130695" y="189026"/>
                  </a:lnTo>
                  <a:lnTo>
                    <a:pt x="282994" y="189026"/>
                  </a:lnTo>
                  <a:lnTo>
                    <a:pt x="171373" y="189014"/>
                  </a:lnTo>
                  <a:lnTo>
                    <a:pt x="171373" y="175336"/>
                  </a:lnTo>
                  <a:close/>
                </a:path>
                <a:path w="303529" h="317500">
                  <a:moveTo>
                    <a:pt x="282994" y="147256"/>
                  </a:moveTo>
                  <a:lnTo>
                    <a:pt x="20878" y="147256"/>
                  </a:lnTo>
                  <a:lnTo>
                    <a:pt x="20878" y="175336"/>
                  </a:lnTo>
                  <a:lnTo>
                    <a:pt x="245186" y="175336"/>
                  </a:lnTo>
                  <a:lnTo>
                    <a:pt x="245186" y="189014"/>
                  </a:lnTo>
                  <a:lnTo>
                    <a:pt x="282994" y="189014"/>
                  </a:lnTo>
                  <a:lnTo>
                    <a:pt x="282994" y="147256"/>
                  </a:lnTo>
                  <a:close/>
                </a:path>
                <a:path w="303529" h="317500">
                  <a:moveTo>
                    <a:pt x="171386" y="133578"/>
                  </a:moveTo>
                  <a:lnTo>
                    <a:pt x="130695" y="133578"/>
                  </a:lnTo>
                  <a:lnTo>
                    <a:pt x="130695" y="147256"/>
                  </a:lnTo>
                  <a:lnTo>
                    <a:pt x="171386" y="147256"/>
                  </a:lnTo>
                  <a:lnTo>
                    <a:pt x="171386" y="133578"/>
                  </a:lnTo>
                  <a:close/>
                </a:path>
                <a:path w="303529" h="317500">
                  <a:moveTo>
                    <a:pt x="259587" y="67322"/>
                  </a:moveTo>
                  <a:lnTo>
                    <a:pt x="42113" y="67322"/>
                  </a:lnTo>
                  <a:lnTo>
                    <a:pt x="42113" y="133578"/>
                  </a:lnTo>
                  <a:lnTo>
                    <a:pt x="259587" y="133578"/>
                  </a:lnTo>
                  <a:lnTo>
                    <a:pt x="259587" y="109080"/>
                  </a:lnTo>
                  <a:lnTo>
                    <a:pt x="78854" y="109080"/>
                  </a:lnTo>
                  <a:lnTo>
                    <a:pt x="78854" y="91808"/>
                  </a:lnTo>
                  <a:lnTo>
                    <a:pt x="259587" y="91808"/>
                  </a:lnTo>
                  <a:lnTo>
                    <a:pt x="259587" y="67322"/>
                  </a:lnTo>
                  <a:close/>
                </a:path>
                <a:path w="303529" h="317500">
                  <a:moveTo>
                    <a:pt x="171386" y="91808"/>
                  </a:moveTo>
                  <a:lnTo>
                    <a:pt x="130695" y="91808"/>
                  </a:lnTo>
                  <a:lnTo>
                    <a:pt x="130695" y="109080"/>
                  </a:lnTo>
                  <a:lnTo>
                    <a:pt x="171386" y="109080"/>
                  </a:lnTo>
                  <a:lnTo>
                    <a:pt x="171386" y="91808"/>
                  </a:lnTo>
                  <a:close/>
                </a:path>
                <a:path w="303529" h="317500">
                  <a:moveTo>
                    <a:pt x="259587" y="91808"/>
                  </a:moveTo>
                  <a:lnTo>
                    <a:pt x="222504" y="91808"/>
                  </a:lnTo>
                  <a:lnTo>
                    <a:pt x="222504" y="109080"/>
                  </a:lnTo>
                  <a:lnTo>
                    <a:pt x="259587" y="109080"/>
                  </a:lnTo>
                  <a:lnTo>
                    <a:pt x="259587" y="91808"/>
                  </a:lnTo>
                  <a:close/>
                </a:path>
                <a:path w="303529" h="317500">
                  <a:moveTo>
                    <a:pt x="171386" y="54724"/>
                  </a:moveTo>
                  <a:lnTo>
                    <a:pt x="130695" y="54724"/>
                  </a:lnTo>
                  <a:lnTo>
                    <a:pt x="130695" y="67322"/>
                  </a:lnTo>
                  <a:lnTo>
                    <a:pt x="171386" y="67322"/>
                  </a:lnTo>
                  <a:lnTo>
                    <a:pt x="171386" y="54724"/>
                  </a:lnTo>
                  <a:close/>
                </a:path>
                <a:path w="303529" h="317500">
                  <a:moveTo>
                    <a:pt x="301726" y="23761"/>
                  </a:moveTo>
                  <a:lnTo>
                    <a:pt x="0" y="23761"/>
                  </a:lnTo>
                  <a:lnTo>
                    <a:pt x="0" y="54724"/>
                  </a:lnTo>
                  <a:lnTo>
                    <a:pt x="301726" y="54724"/>
                  </a:lnTo>
                  <a:lnTo>
                    <a:pt x="301726" y="23761"/>
                  </a:lnTo>
                  <a:close/>
                </a:path>
                <a:path w="303529" h="317500">
                  <a:moveTo>
                    <a:pt x="130695" y="0"/>
                  </a:moveTo>
                  <a:lnTo>
                    <a:pt x="130695" y="23761"/>
                  </a:lnTo>
                  <a:lnTo>
                    <a:pt x="171386" y="23761"/>
                  </a:lnTo>
                  <a:lnTo>
                    <a:pt x="171386" y="15112"/>
                  </a:lnTo>
                  <a:lnTo>
                    <a:pt x="172808" y="14033"/>
                  </a:lnTo>
                  <a:lnTo>
                    <a:pt x="173545" y="13677"/>
                  </a:lnTo>
                  <a:lnTo>
                    <a:pt x="176784" y="11163"/>
                  </a:lnTo>
                  <a:lnTo>
                    <a:pt x="177495" y="10795"/>
                  </a:lnTo>
                  <a:lnTo>
                    <a:pt x="177495" y="6476"/>
                  </a:lnTo>
                  <a:lnTo>
                    <a:pt x="174980" y="5753"/>
                  </a:lnTo>
                  <a:lnTo>
                    <a:pt x="173189" y="5397"/>
                  </a:lnTo>
                  <a:lnTo>
                    <a:pt x="1306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object 25"/>
            <p:cNvSpPr/>
            <p:nvPr/>
          </p:nvSpPr>
          <p:spPr>
            <a:xfrm>
              <a:off x="6495840" y="682920"/>
              <a:ext cx="323640" cy="306000"/>
            </a:xfrm>
            <a:custGeom>
              <a:avLst/>
              <a:gdLst/>
              <a:ahLst/>
              <a:rect l="l" t="t" r="r" b="b"/>
              <a:pathLst>
                <a:path w="323850" h="306069">
                  <a:moveTo>
                    <a:pt x="190461" y="241236"/>
                  </a:moveTo>
                  <a:lnTo>
                    <a:pt x="168490" y="241236"/>
                  </a:lnTo>
                  <a:lnTo>
                    <a:pt x="154851" y="253425"/>
                  </a:lnTo>
                  <a:lnTo>
                    <a:pt x="140365" y="263383"/>
                  </a:lnTo>
                  <a:lnTo>
                    <a:pt x="124190" y="271720"/>
                  </a:lnTo>
                  <a:lnTo>
                    <a:pt x="105486" y="279044"/>
                  </a:lnTo>
                  <a:lnTo>
                    <a:pt x="133565" y="305689"/>
                  </a:lnTo>
                  <a:lnTo>
                    <a:pt x="151531" y="296982"/>
                  </a:lnTo>
                  <a:lnTo>
                    <a:pt x="167332" y="287326"/>
                  </a:lnTo>
                  <a:lnTo>
                    <a:pt x="181375" y="277130"/>
                  </a:lnTo>
                  <a:lnTo>
                    <a:pt x="198031" y="263563"/>
                  </a:lnTo>
                  <a:lnTo>
                    <a:pt x="198742" y="263563"/>
                  </a:lnTo>
                  <a:lnTo>
                    <a:pt x="204139" y="262839"/>
                  </a:lnTo>
                  <a:lnTo>
                    <a:pt x="204508" y="262839"/>
                  </a:lnTo>
                  <a:lnTo>
                    <a:pt x="207746" y="262115"/>
                  </a:lnTo>
                  <a:lnTo>
                    <a:pt x="207746" y="258889"/>
                  </a:lnTo>
                  <a:lnTo>
                    <a:pt x="207391" y="257797"/>
                  </a:lnTo>
                  <a:lnTo>
                    <a:pt x="190461" y="241236"/>
                  </a:lnTo>
                  <a:close/>
                </a:path>
                <a:path w="323850" h="306069">
                  <a:moveTo>
                    <a:pt x="254558" y="241236"/>
                  </a:moveTo>
                  <a:lnTo>
                    <a:pt x="250583" y="241236"/>
                  </a:lnTo>
                  <a:lnTo>
                    <a:pt x="228993" y="262115"/>
                  </a:lnTo>
                  <a:lnTo>
                    <a:pt x="246642" y="276577"/>
                  </a:lnTo>
                  <a:lnTo>
                    <a:pt x="264363" y="287594"/>
                  </a:lnTo>
                  <a:lnTo>
                    <a:pt x="281950" y="296044"/>
                  </a:lnTo>
                  <a:lnTo>
                    <a:pt x="299199" y="302806"/>
                  </a:lnTo>
                  <a:lnTo>
                    <a:pt x="323329" y="274358"/>
                  </a:lnTo>
                  <a:lnTo>
                    <a:pt x="298710" y="266302"/>
                  </a:lnTo>
                  <a:lnTo>
                    <a:pt x="279761" y="257668"/>
                  </a:lnTo>
                  <a:lnTo>
                    <a:pt x="265404" y="249099"/>
                  </a:lnTo>
                  <a:lnTo>
                    <a:pt x="254558" y="241236"/>
                  </a:lnTo>
                  <a:close/>
                </a:path>
                <a:path w="323850" h="306069">
                  <a:moveTo>
                    <a:pt x="299567" y="63373"/>
                  </a:moveTo>
                  <a:lnTo>
                    <a:pt x="140779" y="63373"/>
                  </a:lnTo>
                  <a:lnTo>
                    <a:pt x="140779" y="241236"/>
                  </a:lnTo>
                  <a:lnTo>
                    <a:pt x="299567" y="241236"/>
                  </a:lnTo>
                  <a:lnTo>
                    <a:pt x="299567" y="209194"/>
                  </a:lnTo>
                  <a:lnTo>
                    <a:pt x="180733" y="209194"/>
                  </a:lnTo>
                  <a:lnTo>
                    <a:pt x="180733" y="188302"/>
                  </a:lnTo>
                  <a:lnTo>
                    <a:pt x="299567" y="188302"/>
                  </a:lnTo>
                  <a:lnTo>
                    <a:pt x="299567" y="160959"/>
                  </a:lnTo>
                  <a:lnTo>
                    <a:pt x="180733" y="160959"/>
                  </a:lnTo>
                  <a:lnTo>
                    <a:pt x="180733" y="141147"/>
                  </a:lnTo>
                  <a:lnTo>
                    <a:pt x="299567" y="141147"/>
                  </a:lnTo>
                  <a:lnTo>
                    <a:pt x="299567" y="113779"/>
                  </a:lnTo>
                  <a:lnTo>
                    <a:pt x="180733" y="113779"/>
                  </a:lnTo>
                  <a:lnTo>
                    <a:pt x="180733" y="94335"/>
                  </a:lnTo>
                  <a:lnTo>
                    <a:pt x="299567" y="94335"/>
                  </a:lnTo>
                  <a:lnTo>
                    <a:pt x="299567" y="63373"/>
                  </a:lnTo>
                  <a:close/>
                </a:path>
                <a:path w="323850" h="306069">
                  <a:moveTo>
                    <a:pt x="86398" y="57607"/>
                  </a:moveTo>
                  <a:lnTo>
                    <a:pt x="45364" y="57607"/>
                  </a:lnTo>
                  <a:lnTo>
                    <a:pt x="45364" y="186512"/>
                  </a:lnTo>
                  <a:lnTo>
                    <a:pt x="22944" y="190919"/>
                  </a:lnTo>
                  <a:lnTo>
                    <a:pt x="11436" y="192991"/>
                  </a:lnTo>
                  <a:lnTo>
                    <a:pt x="0" y="194792"/>
                  </a:lnTo>
                  <a:lnTo>
                    <a:pt x="6832" y="234759"/>
                  </a:lnTo>
                  <a:lnTo>
                    <a:pt x="6832" y="236194"/>
                  </a:lnTo>
                  <a:lnTo>
                    <a:pt x="7543" y="237642"/>
                  </a:lnTo>
                  <a:lnTo>
                    <a:pt x="11506" y="237642"/>
                  </a:lnTo>
                  <a:lnTo>
                    <a:pt x="16916" y="232232"/>
                  </a:lnTo>
                  <a:lnTo>
                    <a:pt x="19075" y="231521"/>
                  </a:lnTo>
                  <a:lnTo>
                    <a:pt x="59655" y="222051"/>
                  </a:lnTo>
                  <a:lnTo>
                    <a:pt x="111694" y="207340"/>
                  </a:lnTo>
                  <a:lnTo>
                    <a:pt x="127457" y="202349"/>
                  </a:lnTo>
                  <a:lnTo>
                    <a:pt x="127457" y="177507"/>
                  </a:lnTo>
                  <a:lnTo>
                    <a:pt x="86398" y="177507"/>
                  </a:lnTo>
                  <a:lnTo>
                    <a:pt x="86398" y="57607"/>
                  </a:lnTo>
                  <a:close/>
                </a:path>
                <a:path w="323850" h="306069">
                  <a:moveTo>
                    <a:pt x="299567" y="188302"/>
                  </a:moveTo>
                  <a:lnTo>
                    <a:pt x="259588" y="188302"/>
                  </a:lnTo>
                  <a:lnTo>
                    <a:pt x="259588" y="209194"/>
                  </a:lnTo>
                  <a:lnTo>
                    <a:pt x="299567" y="209194"/>
                  </a:lnTo>
                  <a:lnTo>
                    <a:pt x="299567" y="188302"/>
                  </a:lnTo>
                  <a:close/>
                </a:path>
                <a:path w="323850" h="306069">
                  <a:moveTo>
                    <a:pt x="127457" y="166344"/>
                  </a:moveTo>
                  <a:lnTo>
                    <a:pt x="116230" y="169812"/>
                  </a:lnTo>
                  <a:lnTo>
                    <a:pt x="104632" y="173007"/>
                  </a:lnTo>
                  <a:lnTo>
                    <a:pt x="94181" y="175661"/>
                  </a:lnTo>
                  <a:lnTo>
                    <a:pt x="86398" y="177507"/>
                  </a:lnTo>
                  <a:lnTo>
                    <a:pt x="127457" y="177507"/>
                  </a:lnTo>
                  <a:lnTo>
                    <a:pt x="127457" y="166344"/>
                  </a:lnTo>
                  <a:close/>
                </a:path>
                <a:path w="323850" h="306069">
                  <a:moveTo>
                    <a:pt x="299567" y="141147"/>
                  </a:moveTo>
                  <a:lnTo>
                    <a:pt x="259588" y="141147"/>
                  </a:lnTo>
                  <a:lnTo>
                    <a:pt x="259588" y="160959"/>
                  </a:lnTo>
                  <a:lnTo>
                    <a:pt x="299567" y="160959"/>
                  </a:lnTo>
                  <a:lnTo>
                    <a:pt x="299567" y="141147"/>
                  </a:lnTo>
                  <a:close/>
                </a:path>
                <a:path w="323850" h="306069">
                  <a:moveTo>
                    <a:pt x="299567" y="94335"/>
                  </a:moveTo>
                  <a:lnTo>
                    <a:pt x="259588" y="94335"/>
                  </a:lnTo>
                  <a:lnTo>
                    <a:pt x="259588" y="113779"/>
                  </a:lnTo>
                  <a:lnTo>
                    <a:pt x="299567" y="113779"/>
                  </a:lnTo>
                  <a:lnTo>
                    <a:pt x="299567" y="94335"/>
                  </a:lnTo>
                  <a:close/>
                </a:path>
                <a:path w="323850" h="306069">
                  <a:moveTo>
                    <a:pt x="239077" y="32410"/>
                  </a:moveTo>
                  <a:lnTo>
                    <a:pt x="195148" y="32410"/>
                  </a:lnTo>
                  <a:lnTo>
                    <a:pt x="193019" y="40993"/>
                  </a:lnTo>
                  <a:lnTo>
                    <a:pt x="190863" y="48429"/>
                  </a:lnTo>
                  <a:lnTo>
                    <a:pt x="188509" y="55597"/>
                  </a:lnTo>
                  <a:lnTo>
                    <a:pt x="185788" y="63373"/>
                  </a:lnTo>
                  <a:lnTo>
                    <a:pt x="226466" y="63373"/>
                  </a:lnTo>
                  <a:lnTo>
                    <a:pt x="231624" y="52153"/>
                  </a:lnTo>
                  <a:lnTo>
                    <a:pt x="235062" y="43838"/>
                  </a:lnTo>
                  <a:lnTo>
                    <a:pt x="237355" y="37550"/>
                  </a:lnTo>
                  <a:lnTo>
                    <a:pt x="239077" y="32410"/>
                  </a:lnTo>
                  <a:close/>
                </a:path>
                <a:path w="323850" h="306069">
                  <a:moveTo>
                    <a:pt x="317919" y="0"/>
                  </a:moveTo>
                  <a:lnTo>
                    <a:pt x="121691" y="0"/>
                  </a:lnTo>
                  <a:lnTo>
                    <a:pt x="121691" y="22682"/>
                  </a:lnTo>
                  <a:lnTo>
                    <a:pt x="6832" y="22682"/>
                  </a:lnTo>
                  <a:lnTo>
                    <a:pt x="6832" y="57607"/>
                  </a:lnTo>
                  <a:lnTo>
                    <a:pt x="129247" y="57607"/>
                  </a:lnTo>
                  <a:lnTo>
                    <a:pt x="129247" y="32410"/>
                  </a:lnTo>
                  <a:lnTo>
                    <a:pt x="317919" y="32410"/>
                  </a:lnTo>
                  <a:lnTo>
                    <a:pt x="3179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object 26"/>
            <p:cNvSpPr/>
            <p:nvPr/>
          </p:nvSpPr>
          <p:spPr>
            <a:xfrm>
              <a:off x="1891440" y="4365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80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6"/>
                  </a:lnTo>
                  <a:lnTo>
                    <a:pt x="22846" y="251959"/>
                  </a:lnTo>
                  <a:lnTo>
                    <a:pt x="49018" y="285842"/>
                  </a:lnTo>
                  <a:lnTo>
                    <a:pt x="82901" y="312014"/>
                  </a:lnTo>
                  <a:lnTo>
                    <a:pt x="122904" y="328884"/>
                  </a:lnTo>
                  <a:lnTo>
                    <a:pt x="167436" y="334860"/>
                  </a:lnTo>
                  <a:lnTo>
                    <a:pt x="211720" y="328934"/>
                  </a:lnTo>
                  <a:lnTo>
                    <a:pt x="224198" y="323697"/>
                  </a:lnTo>
                  <a:lnTo>
                    <a:pt x="167436" y="323697"/>
                  </a:lnTo>
                  <a:lnTo>
                    <a:pt x="117997" y="315741"/>
                  </a:lnTo>
                  <a:lnTo>
                    <a:pt x="75093" y="293579"/>
                  </a:lnTo>
                  <a:lnTo>
                    <a:pt x="41281" y="259767"/>
                  </a:lnTo>
                  <a:lnTo>
                    <a:pt x="19119" y="216863"/>
                  </a:lnTo>
                  <a:lnTo>
                    <a:pt x="11163" y="167424"/>
                  </a:lnTo>
                  <a:lnTo>
                    <a:pt x="19050" y="118269"/>
                  </a:lnTo>
                  <a:lnTo>
                    <a:pt x="41076" y="75403"/>
                  </a:lnTo>
                  <a:lnTo>
                    <a:pt x="74786" y="41489"/>
                  </a:lnTo>
                  <a:lnTo>
                    <a:pt x="117724" y="19188"/>
                  </a:lnTo>
                  <a:lnTo>
                    <a:pt x="167436" y="11163"/>
                  </a:lnTo>
                  <a:lnTo>
                    <a:pt x="224269" y="11163"/>
                  </a:lnTo>
                  <a:lnTo>
                    <a:pt x="211967" y="5975"/>
                  </a:lnTo>
                  <a:lnTo>
                    <a:pt x="167436" y="0"/>
                  </a:lnTo>
                  <a:close/>
                </a:path>
                <a:path w="335280" h="335279">
                  <a:moveTo>
                    <a:pt x="224269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80" y="75090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63"/>
                  </a:lnTo>
                  <a:lnTo>
                    <a:pt x="293580" y="259767"/>
                  </a:lnTo>
                  <a:lnTo>
                    <a:pt x="259770" y="293579"/>
                  </a:lnTo>
                  <a:lnTo>
                    <a:pt x="216869" y="315741"/>
                  </a:lnTo>
                  <a:lnTo>
                    <a:pt x="167436" y="323697"/>
                  </a:lnTo>
                  <a:lnTo>
                    <a:pt x="224198" y="323697"/>
                  </a:lnTo>
                  <a:lnTo>
                    <a:pt x="285581" y="286113"/>
                  </a:lnTo>
                  <a:lnTo>
                    <a:pt x="311859" y="252280"/>
                  </a:lnTo>
                  <a:lnTo>
                    <a:pt x="328835" y="212207"/>
                  </a:lnTo>
                  <a:lnTo>
                    <a:pt x="334860" y="167424"/>
                  </a:lnTo>
                  <a:lnTo>
                    <a:pt x="328884" y="122893"/>
                  </a:lnTo>
                  <a:lnTo>
                    <a:pt x="312017" y="82892"/>
                  </a:lnTo>
                  <a:lnTo>
                    <a:pt x="285848" y="49012"/>
                  </a:lnTo>
                  <a:lnTo>
                    <a:pt x="251968" y="22843"/>
                  </a:lnTo>
                  <a:lnTo>
                    <a:pt x="224269" y="11163"/>
                  </a:lnTo>
                  <a:close/>
                </a:path>
                <a:path w="335280" h="335279">
                  <a:moveTo>
                    <a:pt x="183273" y="96494"/>
                  </a:moveTo>
                  <a:lnTo>
                    <a:pt x="159512" y="96494"/>
                  </a:lnTo>
                  <a:lnTo>
                    <a:pt x="159512" y="259956"/>
                  </a:lnTo>
                  <a:lnTo>
                    <a:pt x="183273" y="259956"/>
                  </a:lnTo>
                  <a:lnTo>
                    <a:pt x="183273" y="96494"/>
                  </a:lnTo>
                  <a:close/>
                </a:path>
                <a:path w="335280" h="335279">
                  <a:moveTo>
                    <a:pt x="183273" y="74891"/>
                  </a:moveTo>
                  <a:lnTo>
                    <a:pt x="160947" y="74891"/>
                  </a:lnTo>
                  <a:lnTo>
                    <a:pt x="123507" y="94335"/>
                  </a:lnTo>
                  <a:lnTo>
                    <a:pt x="128181" y="113055"/>
                  </a:lnTo>
                  <a:lnTo>
                    <a:pt x="159156" y="96494"/>
                  </a:lnTo>
                  <a:lnTo>
                    <a:pt x="183273" y="96494"/>
                  </a:lnTo>
                  <a:lnTo>
                    <a:pt x="183273" y="74891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object 27"/>
            <p:cNvSpPr/>
            <p:nvPr/>
          </p:nvSpPr>
          <p:spPr>
            <a:xfrm>
              <a:off x="1891440" y="5213880"/>
              <a:ext cx="335160" cy="335160"/>
            </a:xfrm>
            <a:custGeom>
              <a:avLst/>
              <a:gdLst/>
              <a:ahLst/>
              <a:rect l="l" t="t" r="r" b="b"/>
              <a:pathLst>
                <a:path w="335280" h="335279">
                  <a:moveTo>
                    <a:pt x="167436" y="0"/>
                  </a:moveTo>
                  <a:lnTo>
                    <a:pt x="122904" y="5974"/>
                  </a:lnTo>
                  <a:lnTo>
                    <a:pt x="82901" y="22840"/>
                  </a:lnTo>
                  <a:lnTo>
                    <a:pt x="49018" y="49006"/>
                  </a:lnTo>
                  <a:lnTo>
                    <a:pt x="22846" y="82883"/>
                  </a:lnTo>
                  <a:lnTo>
                    <a:pt x="5976" y="122881"/>
                  </a:lnTo>
                  <a:lnTo>
                    <a:pt x="0" y="167411"/>
                  </a:lnTo>
                  <a:lnTo>
                    <a:pt x="5976" y="211947"/>
                  </a:lnTo>
                  <a:lnTo>
                    <a:pt x="22846" y="251952"/>
                  </a:lnTo>
                  <a:lnTo>
                    <a:pt x="49018" y="285834"/>
                  </a:lnTo>
                  <a:lnTo>
                    <a:pt x="82901" y="312004"/>
                  </a:lnTo>
                  <a:lnTo>
                    <a:pt x="122904" y="328872"/>
                  </a:lnTo>
                  <a:lnTo>
                    <a:pt x="167436" y="334848"/>
                  </a:lnTo>
                  <a:lnTo>
                    <a:pt x="211716" y="328921"/>
                  </a:lnTo>
                  <a:lnTo>
                    <a:pt x="224193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6"/>
                  </a:lnTo>
                  <a:lnTo>
                    <a:pt x="41281" y="259754"/>
                  </a:lnTo>
                  <a:lnTo>
                    <a:pt x="19119" y="216850"/>
                  </a:lnTo>
                  <a:lnTo>
                    <a:pt x="11163" y="167411"/>
                  </a:lnTo>
                  <a:lnTo>
                    <a:pt x="19050" y="118257"/>
                  </a:lnTo>
                  <a:lnTo>
                    <a:pt x="41076" y="75395"/>
                  </a:lnTo>
                  <a:lnTo>
                    <a:pt x="74786" y="41484"/>
                  </a:lnTo>
                  <a:lnTo>
                    <a:pt x="117724" y="19187"/>
                  </a:lnTo>
                  <a:lnTo>
                    <a:pt x="167436" y="11163"/>
                  </a:lnTo>
                  <a:lnTo>
                    <a:pt x="224273" y="11163"/>
                  </a:lnTo>
                  <a:lnTo>
                    <a:pt x="211967" y="5974"/>
                  </a:lnTo>
                  <a:lnTo>
                    <a:pt x="167436" y="0"/>
                  </a:lnTo>
                  <a:close/>
                </a:path>
                <a:path w="335280" h="335279">
                  <a:moveTo>
                    <a:pt x="224273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79"/>
                  </a:lnTo>
                  <a:lnTo>
                    <a:pt x="293580" y="75088"/>
                  </a:lnTo>
                  <a:lnTo>
                    <a:pt x="315741" y="117984"/>
                  </a:lnTo>
                  <a:lnTo>
                    <a:pt x="323697" y="167411"/>
                  </a:lnTo>
                  <a:lnTo>
                    <a:pt x="315741" y="216850"/>
                  </a:lnTo>
                  <a:lnTo>
                    <a:pt x="293580" y="259754"/>
                  </a:lnTo>
                  <a:lnTo>
                    <a:pt x="259770" y="293566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3" y="323684"/>
                  </a:lnTo>
                  <a:lnTo>
                    <a:pt x="285576" y="286100"/>
                  </a:lnTo>
                  <a:lnTo>
                    <a:pt x="311856" y="252268"/>
                  </a:lnTo>
                  <a:lnTo>
                    <a:pt x="328834" y="212194"/>
                  </a:lnTo>
                  <a:lnTo>
                    <a:pt x="334860" y="167411"/>
                  </a:lnTo>
                  <a:lnTo>
                    <a:pt x="328884" y="122881"/>
                  </a:lnTo>
                  <a:lnTo>
                    <a:pt x="312017" y="82883"/>
                  </a:lnTo>
                  <a:lnTo>
                    <a:pt x="285848" y="49006"/>
                  </a:lnTo>
                  <a:lnTo>
                    <a:pt x="251968" y="22840"/>
                  </a:lnTo>
                  <a:lnTo>
                    <a:pt x="224273" y="11163"/>
                  </a:lnTo>
                  <a:close/>
                </a:path>
                <a:path w="335280" h="335279">
                  <a:moveTo>
                    <a:pt x="213317" y="93967"/>
                  </a:moveTo>
                  <a:lnTo>
                    <a:pt x="160235" y="93967"/>
                  </a:lnTo>
                  <a:lnTo>
                    <a:pt x="180017" y="97382"/>
                  </a:lnTo>
                  <a:lnTo>
                    <a:pt x="192641" y="106165"/>
                  </a:lnTo>
                  <a:lnTo>
                    <a:pt x="199248" y="117984"/>
                  </a:lnTo>
                  <a:lnTo>
                    <a:pt x="199345" y="118257"/>
                  </a:lnTo>
                  <a:lnTo>
                    <a:pt x="201282" y="131051"/>
                  </a:lnTo>
                  <a:lnTo>
                    <a:pt x="197503" y="148573"/>
                  </a:lnTo>
                  <a:lnTo>
                    <a:pt x="185080" y="167511"/>
                  </a:lnTo>
                  <a:lnTo>
                    <a:pt x="161584" y="191714"/>
                  </a:lnTo>
                  <a:lnTo>
                    <a:pt x="104419" y="243039"/>
                  </a:lnTo>
                  <a:lnTo>
                    <a:pt x="104419" y="258152"/>
                  </a:lnTo>
                  <a:lnTo>
                    <a:pt x="230441" y="258152"/>
                  </a:lnTo>
                  <a:lnTo>
                    <a:pt x="230441" y="237985"/>
                  </a:lnTo>
                  <a:lnTo>
                    <a:pt x="138264" y="237985"/>
                  </a:lnTo>
                  <a:lnTo>
                    <a:pt x="138264" y="237261"/>
                  </a:lnTo>
                  <a:lnTo>
                    <a:pt x="183624" y="198224"/>
                  </a:lnTo>
                  <a:lnTo>
                    <a:pt x="220745" y="151287"/>
                  </a:lnTo>
                  <a:lnTo>
                    <a:pt x="225399" y="126733"/>
                  </a:lnTo>
                  <a:lnTo>
                    <a:pt x="222382" y="109498"/>
                  </a:lnTo>
                  <a:lnTo>
                    <a:pt x="213317" y="93967"/>
                  </a:lnTo>
                  <a:close/>
                </a:path>
                <a:path w="335280" h="335279">
                  <a:moveTo>
                    <a:pt x="165265" y="73799"/>
                  </a:moveTo>
                  <a:lnTo>
                    <a:pt x="149859" y="75129"/>
                  </a:lnTo>
                  <a:lnTo>
                    <a:pt x="135161" y="79025"/>
                  </a:lnTo>
                  <a:lnTo>
                    <a:pt x="121475" y="85351"/>
                  </a:lnTo>
                  <a:lnTo>
                    <a:pt x="109105" y="93967"/>
                  </a:lnTo>
                  <a:lnTo>
                    <a:pt x="116662" y="110883"/>
                  </a:lnTo>
                  <a:lnTo>
                    <a:pt x="125444" y="104747"/>
                  </a:lnTo>
                  <a:lnTo>
                    <a:pt x="135882" y="99320"/>
                  </a:lnTo>
                  <a:lnTo>
                    <a:pt x="147603" y="95446"/>
                  </a:lnTo>
                  <a:lnTo>
                    <a:pt x="160235" y="93967"/>
                  </a:lnTo>
                  <a:lnTo>
                    <a:pt x="213317" y="93967"/>
                  </a:lnTo>
                  <a:lnTo>
                    <a:pt x="212344" y="92298"/>
                  </a:lnTo>
                  <a:lnTo>
                    <a:pt x="193799" y="79082"/>
                  </a:lnTo>
                  <a:lnTo>
                    <a:pt x="165265" y="73799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object 28"/>
            <p:cNvSpPr/>
            <p:nvPr/>
          </p:nvSpPr>
          <p:spPr>
            <a:xfrm>
              <a:off x="1891440" y="6021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80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5"/>
                  </a:lnTo>
                  <a:lnTo>
                    <a:pt x="22846" y="251955"/>
                  </a:lnTo>
                  <a:lnTo>
                    <a:pt x="49018" y="285835"/>
                  </a:lnTo>
                  <a:lnTo>
                    <a:pt x="82901" y="312004"/>
                  </a:lnTo>
                  <a:lnTo>
                    <a:pt x="122904" y="328872"/>
                  </a:lnTo>
                  <a:lnTo>
                    <a:pt x="167436" y="334848"/>
                  </a:lnTo>
                  <a:lnTo>
                    <a:pt x="211716" y="328921"/>
                  </a:lnTo>
                  <a:lnTo>
                    <a:pt x="224193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7"/>
                  </a:lnTo>
                  <a:lnTo>
                    <a:pt x="41281" y="259757"/>
                  </a:lnTo>
                  <a:lnTo>
                    <a:pt x="19119" y="216856"/>
                  </a:lnTo>
                  <a:lnTo>
                    <a:pt x="11163" y="167424"/>
                  </a:lnTo>
                  <a:lnTo>
                    <a:pt x="19050" y="118269"/>
                  </a:lnTo>
                  <a:lnTo>
                    <a:pt x="41076" y="75403"/>
                  </a:lnTo>
                  <a:lnTo>
                    <a:pt x="74786" y="41489"/>
                  </a:lnTo>
                  <a:lnTo>
                    <a:pt x="117724" y="19188"/>
                  </a:lnTo>
                  <a:lnTo>
                    <a:pt x="167436" y="11163"/>
                  </a:lnTo>
                  <a:lnTo>
                    <a:pt x="224269" y="11163"/>
                  </a:lnTo>
                  <a:lnTo>
                    <a:pt x="211967" y="5975"/>
                  </a:lnTo>
                  <a:lnTo>
                    <a:pt x="167436" y="0"/>
                  </a:lnTo>
                  <a:close/>
                </a:path>
                <a:path w="335280" h="335279">
                  <a:moveTo>
                    <a:pt x="224269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90" y="75111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56"/>
                  </a:lnTo>
                  <a:lnTo>
                    <a:pt x="293578" y="259759"/>
                  </a:lnTo>
                  <a:lnTo>
                    <a:pt x="259770" y="293567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3" y="323684"/>
                  </a:lnTo>
                  <a:lnTo>
                    <a:pt x="285576" y="286102"/>
                  </a:lnTo>
                  <a:lnTo>
                    <a:pt x="311856" y="252271"/>
                  </a:lnTo>
                  <a:lnTo>
                    <a:pt x="328834" y="212202"/>
                  </a:lnTo>
                  <a:lnTo>
                    <a:pt x="334860" y="167424"/>
                  </a:lnTo>
                  <a:lnTo>
                    <a:pt x="328884" y="122893"/>
                  </a:lnTo>
                  <a:lnTo>
                    <a:pt x="312017" y="82892"/>
                  </a:lnTo>
                  <a:lnTo>
                    <a:pt x="285848" y="49012"/>
                  </a:lnTo>
                  <a:lnTo>
                    <a:pt x="251968" y="22843"/>
                  </a:lnTo>
                  <a:lnTo>
                    <a:pt x="224269" y="11163"/>
                  </a:lnTo>
                  <a:close/>
                </a:path>
                <a:path w="335280" h="335279">
                  <a:moveTo>
                    <a:pt x="112344" y="228625"/>
                  </a:moveTo>
                  <a:lnTo>
                    <a:pt x="140348" y="259759"/>
                  </a:lnTo>
                  <a:lnTo>
                    <a:pt x="156997" y="261035"/>
                  </a:lnTo>
                  <a:lnTo>
                    <a:pt x="188995" y="256237"/>
                  </a:lnTo>
                  <a:lnTo>
                    <a:pt x="211310" y="243709"/>
                  </a:lnTo>
                  <a:lnTo>
                    <a:pt x="213162" y="241236"/>
                  </a:lnTo>
                  <a:lnTo>
                    <a:pt x="157353" y="241236"/>
                  </a:lnTo>
                  <a:lnTo>
                    <a:pt x="143532" y="239975"/>
                  </a:lnTo>
                  <a:lnTo>
                    <a:pt x="130795" y="236821"/>
                  </a:lnTo>
                  <a:lnTo>
                    <a:pt x="120085" y="232722"/>
                  </a:lnTo>
                  <a:lnTo>
                    <a:pt x="112344" y="228625"/>
                  </a:lnTo>
                  <a:close/>
                </a:path>
                <a:path w="335280" h="335279">
                  <a:moveTo>
                    <a:pt x="212220" y="93967"/>
                  </a:moveTo>
                  <a:lnTo>
                    <a:pt x="160235" y="93967"/>
                  </a:lnTo>
                  <a:lnTo>
                    <a:pt x="177344" y="96471"/>
                  </a:lnTo>
                  <a:lnTo>
                    <a:pt x="188312" y="102927"/>
                  </a:lnTo>
                  <a:lnTo>
                    <a:pt x="194150" y="111744"/>
                  </a:lnTo>
                  <a:lnTo>
                    <a:pt x="195872" y="121335"/>
                  </a:lnTo>
                  <a:lnTo>
                    <a:pt x="191766" y="134968"/>
                  </a:lnTo>
                  <a:lnTo>
                    <a:pt x="181113" y="144245"/>
                  </a:lnTo>
                  <a:lnTo>
                    <a:pt x="166409" y="149537"/>
                  </a:lnTo>
                  <a:lnTo>
                    <a:pt x="150152" y="151218"/>
                  </a:lnTo>
                  <a:lnTo>
                    <a:pt x="134302" y="151218"/>
                  </a:lnTo>
                  <a:lnTo>
                    <a:pt x="134302" y="169938"/>
                  </a:lnTo>
                  <a:lnTo>
                    <a:pt x="149428" y="169938"/>
                  </a:lnTo>
                  <a:lnTo>
                    <a:pt x="167586" y="171525"/>
                  </a:lnTo>
                  <a:lnTo>
                    <a:pt x="185073" y="177230"/>
                  </a:lnTo>
                  <a:lnTo>
                    <a:pt x="198241" y="188471"/>
                  </a:lnTo>
                  <a:lnTo>
                    <a:pt x="203441" y="206667"/>
                  </a:lnTo>
                  <a:lnTo>
                    <a:pt x="201656" y="216472"/>
                  </a:lnTo>
                  <a:lnTo>
                    <a:pt x="194841" y="227866"/>
                  </a:lnTo>
                  <a:lnTo>
                    <a:pt x="180804" y="237303"/>
                  </a:lnTo>
                  <a:lnTo>
                    <a:pt x="157353" y="241236"/>
                  </a:lnTo>
                  <a:lnTo>
                    <a:pt x="213162" y="241236"/>
                  </a:lnTo>
                  <a:lnTo>
                    <a:pt x="224379" y="226252"/>
                  </a:lnTo>
                  <a:lnTo>
                    <a:pt x="228638" y="206667"/>
                  </a:lnTo>
                  <a:lnTo>
                    <a:pt x="225425" y="190400"/>
                  </a:lnTo>
                  <a:lnTo>
                    <a:pt x="216439" y="176696"/>
                  </a:lnTo>
                  <a:lnTo>
                    <a:pt x="202663" y="166367"/>
                  </a:lnTo>
                  <a:lnTo>
                    <a:pt x="185077" y="160223"/>
                  </a:lnTo>
                  <a:lnTo>
                    <a:pt x="185077" y="159499"/>
                  </a:lnTo>
                  <a:lnTo>
                    <a:pt x="200364" y="152411"/>
                  </a:lnTo>
                  <a:lnTo>
                    <a:pt x="211534" y="142755"/>
                  </a:lnTo>
                  <a:lnTo>
                    <a:pt x="218384" y="130940"/>
                  </a:lnTo>
                  <a:lnTo>
                    <a:pt x="220713" y="117373"/>
                  </a:lnTo>
                  <a:lnTo>
                    <a:pt x="217710" y="101908"/>
                  </a:lnTo>
                  <a:lnTo>
                    <a:pt x="212220" y="93967"/>
                  </a:lnTo>
                  <a:close/>
                </a:path>
                <a:path w="335280" h="335279">
                  <a:moveTo>
                    <a:pt x="164541" y="73812"/>
                  </a:moveTo>
                  <a:lnTo>
                    <a:pt x="149313" y="75111"/>
                  </a:lnTo>
                  <a:lnTo>
                    <a:pt x="135027" y="78535"/>
                  </a:lnTo>
                  <a:lnTo>
                    <a:pt x="122630" y="83376"/>
                  </a:lnTo>
                  <a:lnTo>
                    <a:pt x="113068" y="88925"/>
                  </a:lnTo>
                  <a:lnTo>
                    <a:pt x="119532" y="106578"/>
                  </a:lnTo>
                  <a:lnTo>
                    <a:pt x="127462" y="101870"/>
                  </a:lnTo>
                  <a:lnTo>
                    <a:pt x="137317" y="97839"/>
                  </a:lnTo>
                  <a:lnTo>
                    <a:pt x="148455" y="95025"/>
                  </a:lnTo>
                  <a:lnTo>
                    <a:pt x="160235" y="93967"/>
                  </a:lnTo>
                  <a:lnTo>
                    <a:pt x="212220" y="93967"/>
                  </a:lnTo>
                  <a:lnTo>
                    <a:pt x="208024" y="87896"/>
                  </a:lnTo>
                  <a:lnTo>
                    <a:pt x="190639" y="77732"/>
                  </a:lnTo>
                  <a:lnTo>
                    <a:pt x="164541" y="7381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object 29"/>
            <p:cNvSpPr/>
            <p:nvPr/>
          </p:nvSpPr>
          <p:spPr>
            <a:xfrm>
              <a:off x="1891440" y="6849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80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6"/>
                  </a:lnTo>
                  <a:lnTo>
                    <a:pt x="22846" y="251959"/>
                  </a:lnTo>
                  <a:lnTo>
                    <a:pt x="49018" y="285842"/>
                  </a:lnTo>
                  <a:lnTo>
                    <a:pt x="82901" y="312014"/>
                  </a:lnTo>
                  <a:lnTo>
                    <a:pt x="122904" y="328884"/>
                  </a:lnTo>
                  <a:lnTo>
                    <a:pt x="167436" y="334860"/>
                  </a:lnTo>
                  <a:lnTo>
                    <a:pt x="211716" y="328934"/>
                  </a:lnTo>
                  <a:lnTo>
                    <a:pt x="224193" y="323697"/>
                  </a:lnTo>
                  <a:lnTo>
                    <a:pt x="167436" y="323697"/>
                  </a:lnTo>
                  <a:lnTo>
                    <a:pt x="117997" y="315741"/>
                  </a:lnTo>
                  <a:lnTo>
                    <a:pt x="75093" y="293579"/>
                  </a:lnTo>
                  <a:lnTo>
                    <a:pt x="41281" y="259767"/>
                  </a:lnTo>
                  <a:lnTo>
                    <a:pt x="19119" y="216863"/>
                  </a:lnTo>
                  <a:lnTo>
                    <a:pt x="11163" y="167424"/>
                  </a:lnTo>
                  <a:lnTo>
                    <a:pt x="19050" y="118269"/>
                  </a:lnTo>
                  <a:lnTo>
                    <a:pt x="41076" y="75403"/>
                  </a:lnTo>
                  <a:lnTo>
                    <a:pt x="74786" y="41489"/>
                  </a:lnTo>
                  <a:lnTo>
                    <a:pt x="117724" y="19188"/>
                  </a:lnTo>
                  <a:lnTo>
                    <a:pt x="167436" y="11163"/>
                  </a:lnTo>
                  <a:lnTo>
                    <a:pt x="224269" y="11163"/>
                  </a:lnTo>
                  <a:lnTo>
                    <a:pt x="211967" y="5975"/>
                  </a:lnTo>
                  <a:lnTo>
                    <a:pt x="167436" y="0"/>
                  </a:lnTo>
                  <a:close/>
                </a:path>
                <a:path w="335280" h="335279">
                  <a:moveTo>
                    <a:pt x="224269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80" y="75090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63"/>
                  </a:lnTo>
                  <a:lnTo>
                    <a:pt x="293580" y="259767"/>
                  </a:lnTo>
                  <a:lnTo>
                    <a:pt x="259770" y="293579"/>
                  </a:lnTo>
                  <a:lnTo>
                    <a:pt x="216869" y="315741"/>
                  </a:lnTo>
                  <a:lnTo>
                    <a:pt x="167436" y="323697"/>
                  </a:lnTo>
                  <a:lnTo>
                    <a:pt x="224193" y="323697"/>
                  </a:lnTo>
                  <a:lnTo>
                    <a:pt x="285576" y="286113"/>
                  </a:lnTo>
                  <a:lnTo>
                    <a:pt x="311856" y="252280"/>
                  </a:lnTo>
                  <a:lnTo>
                    <a:pt x="328834" y="212207"/>
                  </a:lnTo>
                  <a:lnTo>
                    <a:pt x="334860" y="167424"/>
                  </a:lnTo>
                  <a:lnTo>
                    <a:pt x="328884" y="122893"/>
                  </a:lnTo>
                  <a:lnTo>
                    <a:pt x="312017" y="82892"/>
                  </a:lnTo>
                  <a:lnTo>
                    <a:pt x="285848" y="49012"/>
                  </a:lnTo>
                  <a:lnTo>
                    <a:pt x="251968" y="22843"/>
                  </a:lnTo>
                  <a:lnTo>
                    <a:pt x="224269" y="11163"/>
                  </a:lnTo>
                  <a:close/>
                </a:path>
                <a:path w="335280" h="335279">
                  <a:moveTo>
                    <a:pt x="205600" y="211353"/>
                  </a:moveTo>
                  <a:lnTo>
                    <a:pt x="182194" y="211353"/>
                  </a:lnTo>
                  <a:lnTo>
                    <a:pt x="182194" y="259956"/>
                  </a:lnTo>
                  <a:lnTo>
                    <a:pt x="205600" y="259956"/>
                  </a:lnTo>
                  <a:lnTo>
                    <a:pt x="205600" y="211353"/>
                  </a:lnTo>
                  <a:close/>
                </a:path>
                <a:path w="335280" h="335279">
                  <a:moveTo>
                    <a:pt x="205600" y="74891"/>
                  </a:moveTo>
                  <a:lnTo>
                    <a:pt x="181470" y="74891"/>
                  </a:lnTo>
                  <a:lnTo>
                    <a:pt x="86423" y="195160"/>
                  </a:lnTo>
                  <a:lnTo>
                    <a:pt x="86423" y="211353"/>
                  </a:lnTo>
                  <a:lnTo>
                    <a:pt x="233311" y="211353"/>
                  </a:lnTo>
                  <a:lnTo>
                    <a:pt x="233311" y="192265"/>
                  </a:lnTo>
                  <a:lnTo>
                    <a:pt x="109105" y="192265"/>
                  </a:lnTo>
                  <a:lnTo>
                    <a:pt x="109105" y="191541"/>
                  </a:lnTo>
                  <a:lnTo>
                    <a:pt x="168871" y="119900"/>
                  </a:lnTo>
                  <a:lnTo>
                    <a:pt x="173189" y="113411"/>
                  </a:lnTo>
                  <a:lnTo>
                    <a:pt x="177876" y="105854"/>
                  </a:lnTo>
                  <a:lnTo>
                    <a:pt x="182194" y="98298"/>
                  </a:lnTo>
                  <a:lnTo>
                    <a:pt x="205600" y="98298"/>
                  </a:lnTo>
                  <a:lnTo>
                    <a:pt x="205600" y="74891"/>
                  </a:lnTo>
                  <a:close/>
                </a:path>
                <a:path w="335280" h="335279">
                  <a:moveTo>
                    <a:pt x="205600" y="98298"/>
                  </a:moveTo>
                  <a:lnTo>
                    <a:pt x="182194" y="98298"/>
                  </a:lnTo>
                  <a:lnTo>
                    <a:pt x="182918" y="98653"/>
                  </a:lnTo>
                  <a:lnTo>
                    <a:pt x="182549" y="105143"/>
                  </a:lnTo>
                  <a:lnTo>
                    <a:pt x="182247" y="113411"/>
                  </a:lnTo>
                  <a:lnTo>
                    <a:pt x="182194" y="192265"/>
                  </a:lnTo>
                  <a:lnTo>
                    <a:pt x="205600" y="192265"/>
                  </a:lnTo>
                  <a:lnTo>
                    <a:pt x="205600" y="98298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object 30"/>
            <p:cNvSpPr/>
            <p:nvPr/>
          </p:nvSpPr>
          <p:spPr>
            <a:xfrm>
              <a:off x="7108920" y="43686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79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5"/>
                  </a:lnTo>
                  <a:lnTo>
                    <a:pt x="22846" y="251955"/>
                  </a:lnTo>
                  <a:lnTo>
                    <a:pt x="49018" y="285835"/>
                  </a:lnTo>
                  <a:lnTo>
                    <a:pt x="82901" y="312004"/>
                  </a:lnTo>
                  <a:lnTo>
                    <a:pt x="122904" y="328872"/>
                  </a:lnTo>
                  <a:lnTo>
                    <a:pt x="167436" y="334848"/>
                  </a:lnTo>
                  <a:lnTo>
                    <a:pt x="211715" y="328921"/>
                  </a:lnTo>
                  <a:lnTo>
                    <a:pt x="224192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7"/>
                  </a:lnTo>
                  <a:lnTo>
                    <a:pt x="41281" y="259757"/>
                  </a:lnTo>
                  <a:lnTo>
                    <a:pt x="19119" y="216856"/>
                  </a:lnTo>
                  <a:lnTo>
                    <a:pt x="11163" y="167424"/>
                  </a:lnTo>
                  <a:lnTo>
                    <a:pt x="19049" y="118269"/>
                  </a:lnTo>
                  <a:lnTo>
                    <a:pt x="41073" y="75403"/>
                  </a:lnTo>
                  <a:lnTo>
                    <a:pt x="74780" y="41489"/>
                  </a:lnTo>
                  <a:lnTo>
                    <a:pt x="117719" y="19188"/>
                  </a:lnTo>
                  <a:lnTo>
                    <a:pt x="167436" y="11163"/>
                  </a:lnTo>
                  <a:lnTo>
                    <a:pt x="224267" y="11163"/>
                  </a:lnTo>
                  <a:lnTo>
                    <a:pt x="211966" y="5975"/>
                  </a:lnTo>
                  <a:lnTo>
                    <a:pt x="167436" y="0"/>
                  </a:lnTo>
                  <a:close/>
                </a:path>
                <a:path w="335279" h="335279">
                  <a:moveTo>
                    <a:pt x="224267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80" y="75090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56"/>
                  </a:lnTo>
                  <a:lnTo>
                    <a:pt x="293580" y="259757"/>
                  </a:lnTo>
                  <a:lnTo>
                    <a:pt x="259770" y="293567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2" y="323684"/>
                  </a:lnTo>
                  <a:lnTo>
                    <a:pt x="285570" y="286102"/>
                  </a:lnTo>
                  <a:lnTo>
                    <a:pt x="311847" y="252271"/>
                  </a:lnTo>
                  <a:lnTo>
                    <a:pt x="328822" y="212202"/>
                  </a:lnTo>
                  <a:lnTo>
                    <a:pt x="334848" y="167424"/>
                  </a:lnTo>
                  <a:lnTo>
                    <a:pt x="328873" y="122893"/>
                  </a:lnTo>
                  <a:lnTo>
                    <a:pt x="312007" y="82892"/>
                  </a:lnTo>
                  <a:lnTo>
                    <a:pt x="285842" y="49012"/>
                  </a:lnTo>
                  <a:lnTo>
                    <a:pt x="251965" y="22843"/>
                  </a:lnTo>
                  <a:lnTo>
                    <a:pt x="224267" y="11163"/>
                  </a:lnTo>
                  <a:close/>
                </a:path>
                <a:path w="335279" h="335279">
                  <a:moveTo>
                    <a:pt x="114147" y="230073"/>
                  </a:moveTo>
                  <a:lnTo>
                    <a:pt x="141440" y="259883"/>
                  </a:lnTo>
                  <a:lnTo>
                    <a:pt x="157708" y="261035"/>
                  </a:lnTo>
                  <a:lnTo>
                    <a:pt x="186107" y="256371"/>
                  </a:lnTo>
                  <a:lnTo>
                    <a:pt x="208565" y="243436"/>
                  </a:lnTo>
                  <a:lnTo>
                    <a:pt x="210221" y="241236"/>
                  </a:lnTo>
                  <a:lnTo>
                    <a:pt x="157708" y="241236"/>
                  </a:lnTo>
                  <a:lnTo>
                    <a:pt x="144063" y="240201"/>
                  </a:lnTo>
                  <a:lnTo>
                    <a:pt x="132008" y="237545"/>
                  </a:lnTo>
                  <a:lnTo>
                    <a:pt x="121913" y="233944"/>
                  </a:lnTo>
                  <a:lnTo>
                    <a:pt x="114147" y="230073"/>
                  </a:lnTo>
                  <a:close/>
                </a:path>
                <a:path w="335279" h="335279">
                  <a:moveTo>
                    <a:pt x="211693" y="160947"/>
                  </a:moveTo>
                  <a:lnTo>
                    <a:pt x="148704" y="160947"/>
                  </a:lnTo>
                  <a:lnTo>
                    <a:pt x="174173" y="164080"/>
                  </a:lnTo>
                  <a:lnTo>
                    <a:pt x="191238" y="172781"/>
                  </a:lnTo>
                  <a:lnTo>
                    <a:pt x="200809" y="186005"/>
                  </a:lnTo>
                  <a:lnTo>
                    <a:pt x="203796" y="202704"/>
                  </a:lnTo>
                  <a:lnTo>
                    <a:pt x="200240" y="217533"/>
                  </a:lnTo>
                  <a:lnTo>
                    <a:pt x="190473" y="229800"/>
                  </a:lnTo>
                  <a:lnTo>
                    <a:pt x="175845" y="238151"/>
                  </a:lnTo>
                  <a:lnTo>
                    <a:pt x="157708" y="241236"/>
                  </a:lnTo>
                  <a:lnTo>
                    <a:pt x="210221" y="241236"/>
                  </a:lnTo>
                  <a:lnTo>
                    <a:pt x="223327" y="223820"/>
                  </a:lnTo>
                  <a:lnTo>
                    <a:pt x="228638" y="199110"/>
                  </a:lnTo>
                  <a:lnTo>
                    <a:pt x="222955" y="174214"/>
                  </a:lnTo>
                  <a:lnTo>
                    <a:pt x="211693" y="160947"/>
                  </a:lnTo>
                  <a:close/>
                </a:path>
                <a:path w="335279" h="335279">
                  <a:moveTo>
                    <a:pt x="223964" y="76682"/>
                  </a:moveTo>
                  <a:lnTo>
                    <a:pt x="130340" y="76682"/>
                  </a:lnTo>
                  <a:lnTo>
                    <a:pt x="119532" y="163461"/>
                  </a:lnTo>
                  <a:lnTo>
                    <a:pt x="125663" y="162613"/>
                  </a:lnTo>
                  <a:lnTo>
                    <a:pt x="132637" y="161799"/>
                  </a:lnTo>
                  <a:lnTo>
                    <a:pt x="140351" y="161188"/>
                  </a:lnTo>
                  <a:lnTo>
                    <a:pt x="148704" y="160947"/>
                  </a:lnTo>
                  <a:lnTo>
                    <a:pt x="211693" y="160947"/>
                  </a:lnTo>
                  <a:lnTo>
                    <a:pt x="207754" y="156306"/>
                  </a:lnTo>
                  <a:lnTo>
                    <a:pt x="185802" y="145487"/>
                  </a:lnTo>
                  <a:lnTo>
                    <a:pt x="172756" y="143662"/>
                  </a:lnTo>
                  <a:lnTo>
                    <a:pt x="141858" y="143662"/>
                  </a:lnTo>
                  <a:lnTo>
                    <a:pt x="148704" y="96850"/>
                  </a:lnTo>
                  <a:lnTo>
                    <a:pt x="223964" y="96850"/>
                  </a:lnTo>
                  <a:lnTo>
                    <a:pt x="223964" y="76682"/>
                  </a:lnTo>
                  <a:close/>
                </a:path>
                <a:path w="335279" h="335279">
                  <a:moveTo>
                    <a:pt x="159867" y="141858"/>
                  </a:moveTo>
                  <a:lnTo>
                    <a:pt x="152666" y="141858"/>
                  </a:lnTo>
                  <a:lnTo>
                    <a:pt x="146913" y="142582"/>
                  </a:lnTo>
                  <a:lnTo>
                    <a:pt x="141858" y="143662"/>
                  </a:lnTo>
                  <a:lnTo>
                    <a:pt x="172756" y="143662"/>
                  </a:lnTo>
                  <a:lnTo>
                    <a:pt x="159867" y="141858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object 31"/>
            <p:cNvSpPr/>
            <p:nvPr/>
          </p:nvSpPr>
          <p:spPr>
            <a:xfrm>
              <a:off x="7108920" y="5193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79" h="335279">
                  <a:moveTo>
                    <a:pt x="167436" y="0"/>
                  </a:moveTo>
                  <a:lnTo>
                    <a:pt x="122904" y="5975"/>
                  </a:lnTo>
                  <a:lnTo>
                    <a:pt x="82901" y="22843"/>
                  </a:lnTo>
                  <a:lnTo>
                    <a:pt x="49018" y="49012"/>
                  </a:lnTo>
                  <a:lnTo>
                    <a:pt x="22846" y="82892"/>
                  </a:lnTo>
                  <a:lnTo>
                    <a:pt x="5976" y="122893"/>
                  </a:lnTo>
                  <a:lnTo>
                    <a:pt x="0" y="167424"/>
                  </a:lnTo>
                  <a:lnTo>
                    <a:pt x="5976" y="211955"/>
                  </a:lnTo>
                  <a:lnTo>
                    <a:pt x="22846" y="251955"/>
                  </a:lnTo>
                  <a:lnTo>
                    <a:pt x="49018" y="285835"/>
                  </a:lnTo>
                  <a:lnTo>
                    <a:pt x="82901" y="312004"/>
                  </a:lnTo>
                  <a:lnTo>
                    <a:pt x="122904" y="328872"/>
                  </a:lnTo>
                  <a:lnTo>
                    <a:pt x="167436" y="334848"/>
                  </a:lnTo>
                  <a:lnTo>
                    <a:pt x="211716" y="328922"/>
                  </a:lnTo>
                  <a:lnTo>
                    <a:pt x="224197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7"/>
                  </a:lnTo>
                  <a:lnTo>
                    <a:pt x="41281" y="259757"/>
                  </a:lnTo>
                  <a:lnTo>
                    <a:pt x="19119" y="216856"/>
                  </a:lnTo>
                  <a:lnTo>
                    <a:pt x="11163" y="167424"/>
                  </a:lnTo>
                  <a:lnTo>
                    <a:pt x="19050" y="118269"/>
                  </a:lnTo>
                  <a:lnTo>
                    <a:pt x="41076" y="75403"/>
                  </a:lnTo>
                  <a:lnTo>
                    <a:pt x="74786" y="41489"/>
                  </a:lnTo>
                  <a:lnTo>
                    <a:pt x="117724" y="19188"/>
                  </a:lnTo>
                  <a:lnTo>
                    <a:pt x="167436" y="11163"/>
                  </a:lnTo>
                  <a:lnTo>
                    <a:pt x="224269" y="11163"/>
                  </a:lnTo>
                  <a:lnTo>
                    <a:pt x="211967" y="5975"/>
                  </a:lnTo>
                  <a:lnTo>
                    <a:pt x="167436" y="0"/>
                  </a:lnTo>
                  <a:close/>
                </a:path>
                <a:path w="335279" h="335279">
                  <a:moveTo>
                    <a:pt x="224269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80"/>
                  </a:lnTo>
                  <a:lnTo>
                    <a:pt x="293580" y="75090"/>
                  </a:lnTo>
                  <a:lnTo>
                    <a:pt x="315741" y="117991"/>
                  </a:lnTo>
                  <a:lnTo>
                    <a:pt x="323697" y="167424"/>
                  </a:lnTo>
                  <a:lnTo>
                    <a:pt x="315741" y="216856"/>
                  </a:lnTo>
                  <a:lnTo>
                    <a:pt x="293580" y="259757"/>
                  </a:lnTo>
                  <a:lnTo>
                    <a:pt x="259770" y="293567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7" y="323684"/>
                  </a:lnTo>
                  <a:lnTo>
                    <a:pt x="285576" y="286107"/>
                  </a:lnTo>
                  <a:lnTo>
                    <a:pt x="311856" y="252277"/>
                  </a:lnTo>
                  <a:lnTo>
                    <a:pt x="328834" y="212206"/>
                  </a:lnTo>
                  <a:lnTo>
                    <a:pt x="334860" y="167424"/>
                  </a:lnTo>
                  <a:lnTo>
                    <a:pt x="328884" y="122893"/>
                  </a:lnTo>
                  <a:lnTo>
                    <a:pt x="312017" y="82892"/>
                  </a:lnTo>
                  <a:lnTo>
                    <a:pt x="285848" y="49012"/>
                  </a:lnTo>
                  <a:lnTo>
                    <a:pt x="251968" y="22843"/>
                  </a:lnTo>
                  <a:lnTo>
                    <a:pt x="224269" y="11163"/>
                  </a:lnTo>
                  <a:close/>
                </a:path>
                <a:path w="335279" h="335279">
                  <a:moveTo>
                    <a:pt x="209008" y="73735"/>
                  </a:moveTo>
                  <a:lnTo>
                    <a:pt x="152258" y="86195"/>
                  </a:lnTo>
                  <a:lnTo>
                    <a:pt x="106886" y="141530"/>
                  </a:lnTo>
                  <a:lnTo>
                    <a:pt x="100469" y="182905"/>
                  </a:lnTo>
                  <a:lnTo>
                    <a:pt x="105536" y="217439"/>
                  </a:lnTo>
                  <a:lnTo>
                    <a:pt x="119410" y="241815"/>
                  </a:lnTo>
                  <a:lnTo>
                    <a:pt x="140101" y="256269"/>
                  </a:lnTo>
                  <a:lnTo>
                    <a:pt x="165620" y="261035"/>
                  </a:lnTo>
                  <a:lnTo>
                    <a:pt x="194087" y="255448"/>
                  </a:lnTo>
                  <a:lnTo>
                    <a:pt x="211628" y="243395"/>
                  </a:lnTo>
                  <a:lnTo>
                    <a:pt x="168516" y="243395"/>
                  </a:lnTo>
                  <a:lnTo>
                    <a:pt x="145889" y="237529"/>
                  </a:lnTo>
                  <a:lnTo>
                    <a:pt x="132278" y="223191"/>
                  </a:lnTo>
                  <a:lnTo>
                    <a:pt x="125623" y="205274"/>
                  </a:lnTo>
                  <a:lnTo>
                    <a:pt x="123863" y="188671"/>
                  </a:lnTo>
                  <a:lnTo>
                    <a:pt x="127919" y="175648"/>
                  </a:lnTo>
                  <a:lnTo>
                    <a:pt x="138490" y="165263"/>
                  </a:lnTo>
                  <a:lnTo>
                    <a:pt x="149263" y="160223"/>
                  </a:lnTo>
                  <a:lnTo>
                    <a:pt x="125310" y="160223"/>
                  </a:lnTo>
                  <a:lnTo>
                    <a:pt x="152449" y="110531"/>
                  </a:lnTo>
                  <a:lnTo>
                    <a:pt x="191198" y="95415"/>
                  </a:lnTo>
                  <a:lnTo>
                    <a:pt x="203085" y="93980"/>
                  </a:lnTo>
                  <a:lnTo>
                    <a:pt x="214604" y="93980"/>
                  </a:lnTo>
                  <a:lnTo>
                    <a:pt x="214604" y="73812"/>
                  </a:lnTo>
                  <a:lnTo>
                    <a:pt x="209008" y="73735"/>
                  </a:lnTo>
                  <a:close/>
                </a:path>
                <a:path w="335279" h="335279">
                  <a:moveTo>
                    <a:pt x="218662" y="155905"/>
                  </a:moveTo>
                  <a:lnTo>
                    <a:pt x="169595" y="155905"/>
                  </a:lnTo>
                  <a:lnTo>
                    <a:pt x="186531" y="159313"/>
                  </a:lnTo>
                  <a:lnTo>
                    <a:pt x="199250" y="168325"/>
                  </a:lnTo>
                  <a:lnTo>
                    <a:pt x="207311" y="181119"/>
                  </a:lnTo>
                  <a:lnTo>
                    <a:pt x="210273" y="195872"/>
                  </a:lnTo>
                  <a:lnTo>
                    <a:pt x="207546" y="212866"/>
                  </a:lnTo>
                  <a:lnTo>
                    <a:pt x="199520" y="228139"/>
                  </a:lnTo>
                  <a:lnTo>
                    <a:pt x="186431" y="239159"/>
                  </a:lnTo>
                  <a:lnTo>
                    <a:pt x="168516" y="243395"/>
                  </a:lnTo>
                  <a:lnTo>
                    <a:pt x="211628" y="243395"/>
                  </a:lnTo>
                  <a:lnTo>
                    <a:pt x="215630" y="240645"/>
                  </a:lnTo>
                  <a:lnTo>
                    <a:pt x="229271" y="219566"/>
                  </a:lnTo>
                  <a:lnTo>
                    <a:pt x="234035" y="195148"/>
                  </a:lnTo>
                  <a:lnTo>
                    <a:pt x="230189" y="174164"/>
                  </a:lnTo>
                  <a:lnTo>
                    <a:pt x="218919" y="156083"/>
                  </a:lnTo>
                  <a:lnTo>
                    <a:pt x="218662" y="155905"/>
                  </a:lnTo>
                  <a:close/>
                </a:path>
                <a:path w="335279" h="335279">
                  <a:moveTo>
                    <a:pt x="175704" y="138620"/>
                  </a:moveTo>
                  <a:lnTo>
                    <a:pt x="161723" y="139813"/>
                  </a:lnTo>
                  <a:lnTo>
                    <a:pt x="148618" y="143570"/>
                  </a:lnTo>
                  <a:lnTo>
                    <a:pt x="136728" y="150161"/>
                  </a:lnTo>
                  <a:lnTo>
                    <a:pt x="126390" y="159854"/>
                  </a:lnTo>
                  <a:lnTo>
                    <a:pt x="125310" y="160223"/>
                  </a:lnTo>
                  <a:lnTo>
                    <a:pt x="149263" y="160223"/>
                  </a:lnTo>
                  <a:lnTo>
                    <a:pt x="153181" y="158390"/>
                  </a:lnTo>
                  <a:lnTo>
                    <a:pt x="169595" y="155905"/>
                  </a:lnTo>
                  <a:lnTo>
                    <a:pt x="218662" y="155905"/>
                  </a:lnTo>
                  <a:lnTo>
                    <a:pt x="200624" y="143402"/>
                  </a:lnTo>
                  <a:lnTo>
                    <a:pt x="175704" y="138620"/>
                  </a:lnTo>
                  <a:close/>
                </a:path>
                <a:path w="335279" h="335279">
                  <a:moveTo>
                    <a:pt x="214604" y="93980"/>
                  </a:moveTo>
                  <a:lnTo>
                    <a:pt x="212445" y="93980"/>
                  </a:lnTo>
                  <a:lnTo>
                    <a:pt x="214604" y="94335"/>
                  </a:lnTo>
                  <a:lnTo>
                    <a:pt x="214604" y="93980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object 32"/>
            <p:cNvSpPr/>
            <p:nvPr/>
          </p:nvSpPr>
          <p:spPr>
            <a:xfrm>
              <a:off x="7108920" y="6021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79" h="335279">
                  <a:moveTo>
                    <a:pt x="167424" y="0"/>
                  </a:moveTo>
                  <a:lnTo>
                    <a:pt x="122893" y="5975"/>
                  </a:lnTo>
                  <a:lnTo>
                    <a:pt x="82892" y="22840"/>
                  </a:lnTo>
                  <a:lnTo>
                    <a:pt x="49012" y="49007"/>
                  </a:lnTo>
                  <a:lnTo>
                    <a:pt x="22843" y="82886"/>
                  </a:lnTo>
                  <a:lnTo>
                    <a:pt x="5975" y="122888"/>
                  </a:lnTo>
                  <a:lnTo>
                    <a:pt x="0" y="167424"/>
                  </a:lnTo>
                  <a:lnTo>
                    <a:pt x="5975" y="211955"/>
                  </a:lnTo>
                  <a:lnTo>
                    <a:pt x="22843" y="251955"/>
                  </a:lnTo>
                  <a:lnTo>
                    <a:pt x="49012" y="285835"/>
                  </a:lnTo>
                  <a:lnTo>
                    <a:pt x="82892" y="312004"/>
                  </a:lnTo>
                  <a:lnTo>
                    <a:pt x="122893" y="328872"/>
                  </a:lnTo>
                  <a:lnTo>
                    <a:pt x="167424" y="334848"/>
                  </a:lnTo>
                  <a:lnTo>
                    <a:pt x="211708" y="328921"/>
                  </a:lnTo>
                  <a:lnTo>
                    <a:pt x="224185" y="323684"/>
                  </a:lnTo>
                  <a:lnTo>
                    <a:pt x="167424" y="323684"/>
                  </a:lnTo>
                  <a:lnTo>
                    <a:pt x="117991" y="315729"/>
                  </a:lnTo>
                  <a:lnTo>
                    <a:pt x="75090" y="293567"/>
                  </a:lnTo>
                  <a:lnTo>
                    <a:pt x="41280" y="259757"/>
                  </a:lnTo>
                  <a:lnTo>
                    <a:pt x="19118" y="216856"/>
                  </a:lnTo>
                  <a:lnTo>
                    <a:pt x="11163" y="167424"/>
                  </a:lnTo>
                  <a:lnTo>
                    <a:pt x="19049" y="118264"/>
                  </a:lnTo>
                  <a:lnTo>
                    <a:pt x="41072" y="75398"/>
                  </a:lnTo>
                  <a:lnTo>
                    <a:pt x="74778" y="41485"/>
                  </a:lnTo>
                  <a:lnTo>
                    <a:pt x="117713" y="19187"/>
                  </a:lnTo>
                  <a:lnTo>
                    <a:pt x="167424" y="11163"/>
                  </a:lnTo>
                  <a:lnTo>
                    <a:pt x="224264" y="11163"/>
                  </a:lnTo>
                  <a:lnTo>
                    <a:pt x="211959" y="5975"/>
                  </a:lnTo>
                  <a:lnTo>
                    <a:pt x="167424" y="0"/>
                  </a:lnTo>
                  <a:close/>
                </a:path>
                <a:path w="335279" h="335279">
                  <a:moveTo>
                    <a:pt x="224264" y="11163"/>
                  </a:moveTo>
                  <a:lnTo>
                    <a:pt x="167424" y="11163"/>
                  </a:lnTo>
                  <a:lnTo>
                    <a:pt x="216856" y="19118"/>
                  </a:lnTo>
                  <a:lnTo>
                    <a:pt x="259757" y="41280"/>
                  </a:lnTo>
                  <a:lnTo>
                    <a:pt x="293567" y="75090"/>
                  </a:lnTo>
                  <a:lnTo>
                    <a:pt x="315729" y="117991"/>
                  </a:lnTo>
                  <a:lnTo>
                    <a:pt x="323684" y="167424"/>
                  </a:lnTo>
                  <a:lnTo>
                    <a:pt x="315729" y="216856"/>
                  </a:lnTo>
                  <a:lnTo>
                    <a:pt x="293567" y="259757"/>
                  </a:lnTo>
                  <a:lnTo>
                    <a:pt x="259757" y="293567"/>
                  </a:lnTo>
                  <a:lnTo>
                    <a:pt x="216856" y="315729"/>
                  </a:lnTo>
                  <a:lnTo>
                    <a:pt x="167424" y="323684"/>
                  </a:lnTo>
                  <a:lnTo>
                    <a:pt x="224185" y="323684"/>
                  </a:lnTo>
                  <a:lnTo>
                    <a:pt x="285569" y="286102"/>
                  </a:lnTo>
                  <a:lnTo>
                    <a:pt x="311846" y="252271"/>
                  </a:lnTo>
                  <a:lnTo>
                    <a:pt x="328822" y="212202"/>
                  </a:lnTo>
                  <a:lnTo>
                    <a:pt x="334848" y="167424"/>
                  </a:lnTo>
                  <a:lnTo>
                    <a:pt x="328873" y="122888"/>
                  </a:lnTo>
                  <a:lnTo>
                    <a:pt x="312007" y="82886"/>
                  </a:lnTo>
                  <a:lnTo>
                    <a:pt x="285840" y="49007"/>
                  </a:lnTo>
                  <a:lnTo>
                    <a:pt x="251961" y="22840"/>
                  </a:lnTo>
                  <a:lnTo>
                    <a:pt x="224264" y="11163"/>
                  </a:lnTo>
                  <a:close/>
                </a:path>
                <a:path w="335279" h="335279">
                  <a:moveTo>
                    <a:pt x="230073" y="76682"/>
                  </a:moveTo>
                  <a:lnTo>
                    <a:pt x="106933" y="76682"/>
                  </a:lnTo>
                  <a:lnTo>
                    <a:pt x="106933" y="96850"/>
                  </a:lnTo>
                  <a:lnTo>
                    <a:pt x="205231" y="96850"/>
                  </a:lnTo>
                  <a:lnTo>
                    <a:pt x="205231" y="97574"/>
                  </a:lnTo>
                  <a:lnTo>
                    <a:pt x="116293" y="259956"/>
                  </a:lnTo>
                  <a:lnTo>
                    <a:pt x="141490" y="259956"/>
                  </a:lnTo>
                  <a:lnTo>
                    <a:pt x="230073" y="94335"/>
                  </a:lnTo>
                  <a:lnTo>
                    <a:pt x="230073" y="76682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object 33"/>
            <p:cNvSpPr/>
            <p:nvPr/>
          </p:nvSpPr>
          <p:spPr>
            <a:xfrm>
              <a:off x="7108920" y="6849000"/>
              <a:ext cx="335160" cy="335160"/>
            </a:xfrm>
            <a:custGeom>
              <a:avLst/>
              <a:gdLst/>
              <a:ahLst/>
              <a:rect l="l" t="t" r="r" b="b"/>
              <a:pathLst>
                <a:path w="335279" h="335279">
                  <a:moveTo>
                    <a:pt x="167436" y="0"/>
                  </a:moveTo>
                  <a:lnTo>
                    <a:pt x="122904" y="5974"/>
                  </a:lnTo>
                  <a:lnTo>
                    <a:pt x="82901" y="22840"/>
                  </a:lnTo>
                  <a:lnTo>
                    <a:pt x="49018" y="49006"/>
                  </a:lnTo>
                  <a:lnTo>
                    <a:pt x="22846" y="82883"/>
                  </a:lnTo>
                  <a:lnTo>
                    <a:pt x="5976" y="122881"/>
                  </a:lnTo>
                  <a:lnTo>
                    <a:pt x="0" y="167411"/>
                  </a:lnTo>
                  <a:lnTo>
                    <a:pt x="5976" y="211943"/>
                  </a:lnTo>
                  <a:lnTo>
                    <a:pt x="22846" y="251946"/>
                  </a:lnTo>
                  <a:lnTo>
                    <a:pt x="49018" y="285829"/>
                  </a:lnTo>
                  <a:lnTo>
                    <a:pt x="82901" y="312001"/>
                  </a:lnTo>
                  <a:lnTo>
                    <a:pt x="122904" y="328871"/>
                  </a:lnTo>
                  <a:lnTo>
                    <a:pt x="167436" y="334848"/>
                  </a:lnTo>
                  <a:lnTo>
                    <a:pt x="211716" y="328921"/>
                  </a:lnTo>
                  <a:lnTo>
                    <a:pt x="224193" y="323684"/>
                  </a:lnTo>
                  <a:lnTo>
                    <a:pt x="167436" y="323684"/>
                  </a:lnTo>
                  <a:lnTo>
                    <a:pt x="117997" y="315729"/>
                  </a:lnTo>
                  <a:lnTo>
                    <a:pt x="75093" y="293566"/>
                  </a:lnTo>
                  <a:lnTo>
                    <a:pt x="41281" y="259754"/>
                  </a:lnTo>
                  <a:lnTo>
                    <a:pt x="19119" y="216850"/>
                  </a:lnTo>
                  <a:lnTo>
                    <a:pt x="11163" y="167411"/>
                  </a:lnTo>
                  <a:lnTo>
                    <a:pt x="19050" y="118257"/>
                  </a:lnTo>
                  <a:lnTo>
                    <a:pt x="41076" y="75395"/>
                  </a:lnTo>
                  <a:lnTo>
                    <a:pt x="74786" y="41484"/>
                  </a:lnTo>
                  <a:lnTo>
                    <a:pt x="117724" y="19187"/>
                  </a:lnTo>
                  <a:lnTo>
                    <a:pt x="167436" y="11163"/>
                  </a:lnTo>
                  <a:lnTo>
                    <a:pt x="224273" y="11163"/>
                  </a:lnTo>
                  <a:lnTo>
                    <a:pt x="211967" y="5974"/>
                  </a:lnTo>
                  <a:lnTo>
                    <a:pt x="167436" y="0"/>
                  </a:lnTo>
                  <a:close/>
                </a:path>
                <a:path w="335279" h="335279">
                  <a:moveTo>
                    <a:pt x="224273" y="11163"/>
                  </a:moveTo>
                  <a:lnTo>
                    <a:pt x="167436" y="11163"/>
                  </a:lnTo>
                  <a:lnTo>
                    <a:pt x="216869" y="19118"/>
                  </a:lnTo>
                  <a:lnTo>
                    <a:pt x="259770" y="41279"/>
                  </a:lnTo>
                  <a:lnTo>
                    <a:pt x="293580" y="75088"/>
                  </a:lnTo>
                  <a:lnTo>
                    <a:pt x="315741" y="117984"/>
                  </a:lnTo>
                  <a:lnTo>
                    <a:pt x="323697" y="167411"/>
                  </a:lnTo>
                  <a:lnTo>
                    <a:pt x="315741" y="216850"/>
                  </a:lnTo>
                  <a:lnTo>
                    <a:pt x="293580" y="259754"/>
                  </a:lnTo>
                  <a:lnTo>
                    <a:pt x="259770" y="293566"/>
                  </a:lnTo>
                  <a:lnTo>
                    <a:pt x="216869" y="315729"/>
                  </a:lnTo>
                  <a:lnTo>
                    <a:pt x="167436" y="323684"/>
                  </a:lnTo>
                  <a:lnTo>
                    <a:pt x="224193" y="323684"/>
                  </a:lnTo>
                  <a:lnTo>
                    <a:pt x="285576" y="286100"/>
                  </a:lnTo>
                  <a:lnTo>
                    <a:pt x="311856" y="252268"/>
                  </a:lnTo>
                  <a:lnTo>
                    <a:pt x="328834" y="212194"/>
                  </a:lnTo>
                  <a:lnTo>
                    <a:pt x="334860" y="167411"/>
                  </a:lnTo>
                  <a:lnTo>
                    <a:pt x="328884" y="122881"/>
                  </a:lnTo>
                  <a:lnTo>
                    <a:pt x="312017" y="82883"/>
                  </a:lnTo>
                  <a:lnTo>
                    <a:pt x="285848" y="49006"/>
                  </a:lnTo>
                  <a:lnTo>
                    <a:pt x="251968" y="22840"/>
                  </a:lnTo>
                  <a:lnTo>
                    <a:pt x="224273" y="11163"/>
                  </a:lnTo>
                  <a:close/>
                </a:path>
                <a:path w="335279" h="335279">
                  <a:moveTo>
                    <a:pt x="169240" y="73799"/>
                  </a:moveTo>
                  <a:lnTo>
                    <a:pt x="144523" y="77450"/>
                  </a:lnTo>
                  <a:lnTo>
                    <a:pt x="124902" y="87617"/>
                  </a:lnTo>
                  <a:lnTo>
                    <a:pt x="111966" y="103117"/>
                  </a:lnTo>
                  <a:lnTo>
                    <a:pt x="107302" y="122770"/>
                  </a:lnTo>
                  <a:lnTo>
                    <a:pt x="108911" y="134075"/>
                  </a:lnTo>
                  <a:lnTo>
                    <a:pt x="114234" y="144872"/>
                  </a:lnTo>
                  <a:lnTo>
                    <a:pt x="124013" y="154521"/>
                  </a:lnTo>
                  <a:lnTo>
                    <a:pt x="138988" y="162382"/>
                  </a:lnTo>
                  <a:lnTo>
                    <a:pt x="138988" y="163461"/>
                  </a:lnTo>
                  <a:lnTo>
                    <a:pt x="121821" y="171992"/>
                  </a:lnTo>
                  <a:lnTo>
                    <a:pt x="109686" y="182854"/>
                  </a:lnTo>
                  <a:lnTo>
                    <a:pt x="102480" y="195812"/>
                  </a:lnTo>
                  <a:lnTo>
                    <a:pt x="100101" y="210629"/>
                  </a:lnTo>
                  <a:lnTo>
                    <a:pt x="105400" y="232021"/>
                  </a:lnTo>
                  <a:lnTo>
                    <a:pt x="119813" y="247842"/>
                  </a:lnTo>
                  <a:lnTo>
                    <a:pt x="141115" y="257655"/>
                  </a:lnTo>
                  <a:lnTo>
                    <a:pt x="167081" y="261023"/>
                  </a:lnTo>
                  <a:lnTo>
                    <a:pt x="192482" y="257496"/>
                  </a:lnTo>
                  <a:lnTo>
                    <a:pt x="213966" y="247119"/>
                  </a:lnTo>
                  <a:lnTo>
                    <a:pt x="216613" y="244106"/>
                  </a:lnTo>
                  <a:lnTo>
                    <a:pt x="167436" y="244106"/>
                  </a:lnTo>
                  <a:lnTo>
                    <a:pt x="148926" y="241130"/>
                  </a:lnTo>
                  <a:lnTo>
                    <a:pt x="135248" y="233259"/>
                  </a:lnTo>
                  <a:lnTo>
                    <a:pt x="126771" y="222080"/>
                  </a:lnTo>
                  <a:lnTo>
                    <a:pt x="123863" y="209181"/>
                  </a:lnTo>
                  <a:lnTo>
                    <a:pt x="123935" y="207022"/>
                  </a:lnTo>
                  <a:lnTo>
                    <a:pt x="126434" y="194395"/>
                  </a:lnTo>
                  <a:lnTo>
                    <a:pt x="133900" y="183664"/>
                  </a:lnTo>
                  <a:lnTo>
                    <a:pt x="145889" y="175433"/>
                  </a:lnTo>
                  <a:lnTo>
                    <a:pt x="162026" y="169938"/>
                  </a:lnTo>
                  <a:lnTo>
                    <a:pt x="212957" y="169938"/>
                  </a:lnTo>
                  <a:lnTo>
                    <a:pt x="212070" y="169198"/>
                  </a:lnTo>
                  <a:lnTo>
                    <a:pt x="194437" y="161658"/>
                  </a:lnTo>
                  <a:lnTo>
                    <a:pt x="194437" y="160578"/>
                  </a:lnTo>
                  <a:lnTo>
                    <a:pt x="204332" y="155168"/>
                  </a:lnTo>
                  <a:lnTo>
                    <a:pt x="172110" y="155168"/>
                  </a:lnTo>
                  <a:lnTo>
                    <a:pt x="154193" y="150354"/>
                  </a:lnTo>
                  <a:lnTo>
                    <a:pt x="141100" y="143341"/>
                  </a:lnTo>
                  <a:lnTo>
                    <a:pt x="133069" y="133962"/>
                  </a:lnTo>
                  <a:lnTo>
                    <a:pt x="130340" y="122046"/>
                  </a:lnTo>
                  <a:lnTo>
                    <a:pt x="132765" y="110014"/>
                  </a:lnTo>
                  <a:lnTo>
                    <a:pt x="140019" y="100037"/>
                  </a:lnTo>
                  <a:lnTo>
                    <a:pt x="152066" y="93232"/>
                  </a:lnTo>
                  <a:lnTo>
                    <a:pt x="168871" y="90716"/>
                  </a:lnTo>
                  <a:lnTo>
                    <a:pt x="215263" y="90716"/>
                  </a:lnTo>
                  <a:lnTo>
                    <a:pt x="212034" y="86717"/>
                  </a:lnTo>
                  <a:lnTo>
                    <a:pt x="193691" y="77237"/>
                  </a:lnTo>
                  <a:lnTo>
                    <a:pt x="169240" y="73799"/>
                  </a:lnTo>
                  <a:close/>
                </a:path>
                <a:path w="335279" h="335279">
                  <a:moveTo>
                    <a:pt x="212957" y="169938"/>
                  </a:moveTo>
                  <a:lnTo>
                    <a:pt x="162026" y="169938"/>
                  </a:lnTo>
                  <a:lnTo>
                    <a:pt x="182746" y="175174"/>
                  </a:lnTo>
                  <a:lnTo>
                    <a:pt x="198127" y="183213"/>
                  </a:lnTo>
                  <a:lnTo>
                    <a:pt x="207701" y="194695"/>
                  </a:lnTo>
                  <a:lnTo>
                    <a:pt x="210997" y="210261"/>
                  </a:lnTo>
                  <a:lnTo>
                    <a:pt x="208341" y="222230"/>
                  </a:lnTo>
                  <a:lnTo>
                    <a:pt x="200285" y="233122"/>
                  </a:lnTo>
                  <a:lnTo>
                    <a:pt x="186694" y="241045"/>
                  </a:lnTo>
                  <a:lnTo>
                    <a:pt x="167436" y="244106"/>
                  </a:lnTo>
                  <a:lnTo>
                    <a:pt x="216613" y="244106"/>
                  </a:lnTo>
                  <a:lnTo>
                    <a:pt x="228835" y="230194"/>
                  </a:lnTo>
                  <a:lnTo>
                    <a:pt x="234391" y="207022"/>
                  </a:lnTo>
                  <a:lnTo>
                    <a:pt x="231945" y="192388"/>
                  </a:lnTo>
                  <a:lnTo>
                    <a:pt x="224539" y="179611"/>
                  </a:lnTo>
                  <a:lnTo>
                    <a:pt x="212957" y="169938"/>
                  </a:lnTo>
                  <a:close/>
                </a:path>
                <a:path w="335279" h="335279">
                  <a:moveTo>
                    <a:pt x="215263" y="90716"/>
                  </a:moveTo>
                  <a:lnTo>
                    <a:pt x="168871" y="90716"/>
                  </a:lnTo>
                  <a:lnTo>
                    <a:pt x="186093" y="93671"/>
                  </a:lnTo>
                  <a:lnTo>
                    <a:pt x="197310" y="101117"/>
                  </a:lnTo>
                  <a:lnTo>
                    <a:pt x="203397" y="110925"/>
                  </a:lnTo>
                  <a:lnTo>
                    <a:pt x="205232" y="120967"/>
                  </a:lnTo>
                  <a:lnTo>
                    <a:pt x="202691" y="133608"/>
                  </a:lnTo>
                  <a:lnTo>
                    <a:pt x="195695" y="143478"/>
                  </a:lnTo>
                  <a:lnTo>
                    <a:pt x="185188" y="150642"/>
                  </a:lnTo>
                  <a:lnTo>
                    <a:pt x="172110" y="155168"/>
                  </a:lnTo>
                  <a:lnTo>
                    <a:pt x="204332" y="155168"/>
                  </a:lnTo>
                  <a:lnTo>
                    <a:pt x="211002" y="151521"/>
                  </a:lnTo>
                  <a:lnTo>
                    <a:pt x="221122" y="140774"/>
                  </a:lnTo>
                  <a:lnTo>
                    <a:pt x="226180" y="129487"/>
                  </a:lnTo>
                  <a:lnTo>
                    <a:pt x="227558" y="118808"/>
                  </a:lnTo>
                  <a:lnTo>
                    <a:pt x="223559" y="100990"/>
                  </a:lnTo>
                  <a:lnTo>
                    <a:pt x="215263" y="90716"/>
                  </a:lnTo>
                  <a:close/>
                </a:path>
              </a:pathLst>
            </a:custGeom>
            <a:solidFill>
              <a:srgbClr val="231f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object 34"/>
            <p:cNvSpPr/>
            <p:nvPr/>
          </p:nvSpPr>
          <p:spPr>
            <a:xfrm>
              <a:off x="3278160" y="3404160"/>
              <a:ext cx="301320" cy="316800"/>
            </a:xfrm>
            <a:custGeom>
              <a:avLst/>
              <a:gdLst/>
              <a:ahLst/>
              <a:rect l="l" t="t" r="r" b="b"/>
              <a:pathLst>
                <a:path w="301625" h="316864">
                  <a:moveTo>
                    <a:pt x="144741" y="223596"/>
                  </a:moveTo>
                  <a:lnTo>
                    <a:pt x="101892" y="223596"/>
                  </a:lnTo>
                  <a:lnTo>
                    <a:pt x="101892" y="316852"/>
                  </a:lnTo>
                  <a:lnTo>
                    <a:pt x="144741" y="316852"/>
                  </a:lnTo>
                  <a:lnTo>
                    <a:pt x="144741" y="299199"/>
                  </a:lnTo>
                  <a:lnTo>
                    <a:pt x="301358" y="299199"/>
                  </a:lnTo>
                  <a:lnTo>
                    <a:pt x="301358" y="265366"/>
                  </a:lnTo>
                  <a:lnTo>
                    <a:pt x="144741" y="265366"/>
                  </a:lnTo>
                  <a:lnTo>
                    <a:pt x="144741" y="223596"/>
                  </a:lnTo>
                  <a:close/>
                </a:path>
                <a:path w="301625" h="316864">
                  <a:moveTo>
                    <a:pt x="301358" y="299199"/>
                  </a:moveTo>
                  <a:lnTo>
                    <a:pt x="258521" y="299199"/>
                  </a:lnTo>
                  <a:lnTo>
                    <a:pt x="258521" y="311810"/>
                  </a:lnTo>
                  <a:lnTo>
                    <a:pt x="301358" y="311810"/>
                  </a:lnTo>
                  <a:lnTo>
                    <a:pt x="301358" y="299199"/>
                  </a:lnTo>
                  <a:close/>
                </a:path>
                <a:path w="301625" h="316864">
                  <a:moveTo>
                    <a:pt x="301358" y="209550"/>
                  </a:moveTo>
                  <a:lnTo>
                    <a:pt x="258521" y="209550"/>
                  </a:lnTo>
                  <a:lnTo>
                    <a:pt x="258521" y="265366"/>
                  </a:lnTo>
                  <a:lnTo>
                    <a:pt x="301358" y="265366"/>
                  </a:lnTo>
                  <a:lnTo>
                    <a:pt x="301358" y="209550"/>
                  </a:lnTo>
                  <a:close/>
                </a:path>
                <a:path w="301625" h="316864">
                  <a:moveTo>
                    <a:pt x="148471" y="119532"/>
                  </a:moveTo>
                  <a:lnTo>
                    <a:pt x="91097" y="119532"/>
                  </a:lnTo>
                  <a:lnTo>
                    <a:pt x="102373" y="128223"/>
                  </a:lnTo>
                  <a:lnTo>
                    <a:pt x="112741" y="137182"/>
                  </a:lnTo>
                  <a:lnTo>
                    <a:pt x="122636" y="146678"/>
                  </a:lnTo>
                  <a:lnTo>
                    <a:pt x="132499" y="156984"/>
                  </a:lnTo>
                  <a:lnTo>
                    <a:pt x="102328" y="179122"/>
                  </a:lnTo>
                  <a:lnTo>
                    <a:pt x="72055" y="197175"/>
                  </a:lnTo>
                  <a:lnTo>
                    <a:pt x="38878" y="212325"/>
                  </a:lnTo>
                  <a:lnTo>
                    <a:pt x="0" y="225755"/>
                  </a:lnTo>
                  <a:lnTo>
                    <a:pt x="30607" y="257797"/>
                  </a:lnTo>
                  <a:lnTo>
                    <a:pt x="53387" y="247845"/>
                  </a:lnTo>
                  <a:lnTo>
                    <a:pt x="70569" y="240020"/>
                  </a:lnTo>
                  <a:lnTo>
                    <a:pt x="85590" y="232533"/>
                  </a:lnTo>
                  <a:lnTo>
                    <a:pt x="101892" y="223596"/>
                  </a:lnTo>
                  <a:lnTo>
                    <a:pt x="144741" y="223596"/>
                  </a:lnTo>
                  <a:lnTo>
                    <a:pt x="144741" y="209550"/>
                  </a:lnTo>
                  <a:lnTo>
                    <a:pt x="301358" y="209550"/>
                  </a:lnTo>
                  <a:lnTo>
                    <a:pt x="301358" y="175348"/>
                  </a:lnTo>
                  <a:lnTo>
                    <a:pt x="169583" y="175348"/>
                  </a:lnTo>
                  <a:lnTo>
                    <a:pt x="195110" y="149942"/>
                  </a:lnTo>
                  <a:lnTo>
                    <a:pt x="211663" y="130695"/>
                  </a:lnTo>
                  <a:lnTo>
                    <a:pt x="160591" y="130695"/>
                  </a:lnTo>
                  <a:lnTo>
                    <a:pt x="151574" y="122222"/>
                  </a:lnTo>
                  <a:lnTo>
                    <a:pt x="148471" y="119532"/>
                  </a:lnTo>
                  <a:close/>
                </a:path>
                <a:path w="301625" h="316864">
                  <a:moveTo>
                    <a:pt x="123850" y="0"/>
                  </a:moveTo>
                  <a:lnTo>
                    <a:pt x="104449" y="37813"/>
                  </a:lnTo>
                  <a:lnTo>
                    <a:pt x="82313" y="69446"/>
                  </a:lnTo>
                  <a:lnTo>
                    <a:pt x="53221" y="98580"/>
                  </a:lnTo>
                  <a:lnTo>
                    <a:pt x="12953" y="128892"/>
                  </a:lnTo>
                  <a:lnTo>
                    <a:pt x="46088" y="157340"/>
                  </a:lnTo>
                  <a:lnTo>
                    <a:pt x="58891" y="147532"/>
                  </a:lnTo>
                  <a:lnTo>
                    <a:pt x="69940" y="138569"/>
                  </a:lnTo>
                  <a:lnTo>
                    <a:pt x="80315" y="129540"/>
                  </a:lnTo>
                  <a:lnTo>
                    <a:pt x="91097" y="119532"/>
                  </a:lnTo>
                  <a:lnTo>
                    <a:pt x="148471" y="119532"/>
                  </a:lnTo>
                  <a:lnTo>
                    <a:pt x="141412" y="113412"/>
                  </a:lnTo>
                  <a:lnTo>
                    <a:pt x="129496" y="104062"/>
                  </a:lnTo>
                  <a:lnTo>
                    <a:pt x="115214" y="93967"/>
                  </a:lnTo>
                  <a:lnTo>
                    <a:pt x="119562" y="88788"/>
                  </a:lnTo>
                  <a:lnTo>
                    <a:pt x="123272" y="84115"/>
                  </a:lnTo>
                  <a:lnTo>
                    <a:pt x="126915" y="79236"/>
                  </a:lnTo>
                  <a:lnTo>
                    <a:pt x="131063" y="73444"/>
                  </a:lnTo>
                  <a:lnTo>
                    <a:pt x="251120" y="73444"/>
                  </a:lnTo>
                  <a:lnTo>
                    <a:pt x="257441" y="62649"/>
                  </a:lnTo>
                  <a:lnTo>
                    <a:pt x="236194" y="39255"/>
                  </a:lnTo>
                  <a:lnTo>
                    <a:pt x="151218" y="39255"/>
                  </a:lnTo>
                  <a:lnTo>
                    <a:pt x="152298" y="37084"/>
                  </a:lnTo>
                  <a:lnTo>
                    <a:pt x="156616" y="27012"/>
                  </a:lnTo>
                  <a:lnTo>
                    <a:pt x="158064" y="25196"/>
                  </a:lnTo>
                  <a:lnTo>
                    <a:pt x="158775" y="23761"/>
                  </a:lnTo>
                  <a:lnTo>
                    <a:pt x="166344" y="22326"/>
                  </a:lnTo>
                  <a:lnTo>
                    <a:pt x="168148" y="20523"/>
                  </a:lnTo>
                  <a:lnTo>
                    <a:pt x="168503" y="19443"/>
                  </a:lnTo>
                  <a:lnTo>
                    <a:pt x="168503" y="14757"/>
                  </a:lnTo>
                  <a:lnTo>
                    <a:pt x="160591" y="11518"/>
                  </a:lnTo>
                  <a:lnTo>
                    <a:pt x="157695" y="10439"/>
                  </a:lnTo>
                  <a:lnTo>
                    <a:pt x="123850" y="0"/>
                  </a:lnTo>
                  <a:close/>
                </a:path>
                <a:path w="301625" h="316864">
                  <a:moveTo>
                    <a:pt x="251120" y="73444"/>
                  </a:moveTo>
                  <a:lnTo>
                    <a:pt x="200913" y="73444"/>
                  </a:lnTo>
                  <a:lnTo>
                    <a:pt x="192179" y="88922"/>
                  </a:lnTo>
                  <a:lnTo>
                    <a:pt x="183176" y="102746"/>
                  </a:lnTo>
                  <a:lnTo>
                    <a:pt x="172962" y="116231"/>
                  </a:lnTo>
                  <a:lnTo>
                    <a:pt x="160591" y="130695"/>
                  </a:lnTo>
                  <a:lnTo>
                    <a:pt x="211663" y="130695"/>
                  </a:lnTo>
                  <a:lnTo>
                    <a:pt x="218241" y="123047"/>
                  </a:lnTo>
                  <a:lnTo>
                    <a:pt x="239007" y="94128"/>
                  </a:lnTo>
                  <a:lnTo>
                    <a:pt x="251120" y="734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object 35"/>
            <p:cNvSpPr/>
            <p:nvPr/>
          </p:nvSpPr>
          <p:spPr>
            <a:xfrm>
              <a:off x="3636720" y="3412440"/>
              <a:ext cx="315360" cy="310320"/>
            </a:xfrm>
            <a:custGeom>
              <a:avLst/>
              <a:gdLst/>
              <a:ahLst/>
              <a:rect l="l" t="t" r="r" b="b"/>
              <a:pathLst>
                <a:path w="315595" h="310514">
                  <a:moveTo>
                    <a:pt x="227558" y="263207"/>
                  </a:moveTo>
                  <a:lnTo>
                    <a:pt x="244475" y="309638"/>
                  </a:lnTo>
                  <a:lnTo>
                    <a:pt x="256335" y="309347"/>
                  </a:lnTo>
                  <a:lnTo>
                    <a:pt x="277512" y="306493"/>
                  </a:lnTo>
                  <a:lnTo>
                    <a:pt x="297744" y="298103"/>
                  </a:lnTo>
                  <a:lnTo>
                    <a:pt x="306768" y="281203"/>
                  </a:lnTo>
                  <a:lnTo>
                    <a:pt x="306768" y="264287"/>
                  </a:lnTo>
                  <a:lnTo>
                    <a:pt x="236918" y="264287"/>
                  </a:lnTo>
                  <a:lnTo>
                    <a:pt x="232956" y="263550"/>
                  </a:lnTo>
                  <a:lnTo>
                    <a:pt x="227558" y="263207"/>
                  </a:lnTo>
                  <a:close/>
                </a:path>
                <a:path w="315595" h="310514">
                  <a:moveTo>
                    <a:pt x="266446" y="0"/>
                  </a:moveTo>
                  <a:lnTo>
                    <a:pt x="266446" y="264287"/>
                  </a:lnTo>
                  <a:lnTo>
                    <a:pt x="306768" y="264287"/>
                  </a:lnTo>
                  <a:lnTo>
                    <a:pt x="306768" y="15836"/>
                  </a:lnTo>
                  <a:lnTo>
                    <a:pt x="307492" y="15481"/>
                  </a:lnTo>
                  <a:lnTo>
                    <a:pt x="313969" y="10071"/>
                  </a:lnTo>
                  <a:lnTo>
                    <a:pt x="315048" y="9004"/>
                  </a:lnTo>
                  <a:lnTo>
                    <a:pt x="315048" y="3238"/>
                  </a:lnTo>
                  <a:lnTo>
                    <a:pt x="308203" y="2514"/>
                  </a:lnTo>
                  <a:lnTo>
                    <a:pt x="306412" y="2514"/>
                  </a:lnTo>
                  <a:lnTo>
                    <a:pt x="266446" y="0"/>
                  </a:lnTo>
                  <a:close/>
                </a:path>
                <a:path w="315595" h="310514">
                  <a:moveTo>
                    <a:pt x="199110" y="43561"/>
                  </a:moveTo>
                  <a:lnTo>
                    <a:pt x="199110" y="227914"/>
                  </a:lnTo>
                  <a:lnTo>
                    <a:pt x="239433" y="227914"/>
                  </a:lnTo>
                  <a:lnTo>
                    <a:pt x="239433" y="59055"/>
                  </a:lnTo>
                  <a:lnTo>
                    <a:pt x="240157" y="57962"/>
                  </a:lnTo>
                  <a:lnTo>
                    <a:pt x="244119" y="55448"/>
                  </a:lnTo>
                  <a:lnTo>
                    <a:pt x="245922" y="54368"/>
                  </a:lnTo>
                  <a:lnTo>
                    <a:pt x="247726" y="52565"/>
                  </a:lnTo>
                  <a:lnTo>
                    <a:pt x="247726" y="46443"/>
                  </a:lnTo>
                  <a:lnTo>
                    <a:pt x="242316" y="45732"/>
                  </a:lnTo>
                  <a:lnTo>
                    <a:pt x="239077" y="45732"/>
                  </a:lnTo>
                  <a:lnTo>
                    <a:pt x="199110" y="43561"/>
                  </a:lnTo>
                  <a:close/>
                </a:path>
                <a:path w="315595" h="310514">
                  <a:moveTo>
                    <a:pt x="117373" y="241236"/>
                  </a:moveTo>
                  <a:lnTo>
                    <a:pt x="77774" y="241236"/>
                  </a:lnTo>
                  <a:lnTo>
                    <a:pt x="77774" y="310007"/>
                  </a:lnTo>
                  <a:lnTo>
                    <a:pt x="117373" y="310007"/>
                  </a:lnTo>
                  <a:lnTo>
                    <a:pt x="117373" y="241236"/>
                  </a:lnTo>
                  <a:close/>
                </a:path>
                <a:path w="315595" h="310514">
                  <a:moveTo>
                    <a:pt x="117373" y="118452"/>
                  </a:moveTo>
                  <a:lnTo>
                    <a:pt x="77774" y="118452"/>
                  </a:lnTo>
                  <a:lnTo>
                    <a:pt x="77774" y="156629"/>
                  </a:lnTo>
                  <a:lnTo>
                    <a:pt x="63543" y="188089"/>
                  </a:lnTo>
                  <a:lnTo>
                    <a:pt x="46040" y="217697"/>
                  </a:lnTo>
                  <a:lnTo>
                    <a:pt x="24961" y="244675"/>
                  </a:lnTo>
                  <a:lnTo>
                    <a:pt x="0" y="268249"/>
                  </a:lnTo>
                  <a:lnTo>
                    <a:pt x="36004" y="291642"/>
                  </a:lnTo>
                  <a:lnTo>
                    <a:pt x="48101" y="279816"/>
                  </a:lnTo>
                  <a:lnTo>
                    <a:pt x="59589" y="266439"/>
                  </a:lnTo>
                  <a:lnTo>
                    <a:pt x="69728" y="253062"/>
                  </a:lnTo>
                  <a:lnTo>
                    <a:pt x="77774" y="241236"/>
                  </a:lnTo>
                  <a:lnTo>
                    <a:pt x="117373" y="241236"/>
                  </a:lnTo>
                  <a:lnTo>
                    <a:pt x="117373" y="227190"/>
                  </a:lnTo>
                  <a:lnTo>
                    <a:pt x="178366" y="227190"/>
                  </a:lnTo>
                  <a:lnTo>
                    <a:pt x="179666" y="225755"/>
                  </a:lnTo>
                  <a:lnTo>
                    <a:pt x="167452" y="218232"/>
                  </a:lnTo>
                  <a:lnTo>
                    <a:pt x="151087" y="206895"/>
                  </a:lnTo>
                  <a:lnTo>
                    <a:pt x="133437" y="192386"/>
                  </a:lnTo>
                  <a:lnTo>
                    <a:pt x="117373" y="175348"/>
                  </a:lnTo>
                  <a:lnTo>
                    <a:pt x="117373" y="151942"/>
                  </a:lnTo>
                  <a:lnTo>
                    <a:pt x="180035" y="151942"/>
                  </a:lnTo>
                  <a:lnTo>
                    <a:pt x="180035" y="151574"/>
                  </a:lnTo>
                  <a:lnTo>
                    <a:pt x="129260" y="151574"/>
                  </a:lnTo>
                  <a:lnTo>
                    <a:pt x="117373" y="150139"/>
                  </a:lnTo>
                  <a:lnTo>
                    <a:pt x="117373" y="118452"/>
                  </a:lnTo>
                  <a:close/>
                </a:path>
                <a:path w="315595" h="310514">
                  <a:moveTo>
                    <a:pt x="178366" y="227190"/>
                  </a:moveTo>
                  <a:lnTo>
                    <a:pt x="117373" y="227190"/>
                  </a:lnTo>
                  <a:lnTo>
                    <a:pt x="125159" y="234995"/>
                  </a:lnTo>
                  <a:lnTo>
                    <a:pt x="133986" y="242860"/>
                  </a:lnTo>
                  <a:lnTo>
                    <a:pt x="143149" y="250180"/>
                  </a:lnTo>
                  <a:lnTo>
                    <a:pt x="151942" y="256349"/>
                  </a:lnTo>
                  <a:lnTo>
                    <a:pt x="178366" y="227190"/>
                  </a:lnTo>
                  <a:close/>
                </a:path>
                <a:path w="315595" h="310514">
                  <a:moveTo>
                    <a:pt x="180035" y="83527"/>
                  </a:moveTo>
                  <a:lnTo>
                    <a:pt x="14401" y="83527"/>
                  </a:lnTo>
                  <a:lnTo>
                    <a:pt x="14401" y="192265"/>
                  </a:lnTo>
                  <a:lnTo>
                    <a:pt x="51130" y="192265"/>
                  </a:lnTo>
                  <a:lnTo>
                    <a:pt x="51130" y="118452"/>
                  </a:lnTo>
                  <a:lnTo>
                    <a:pt x="180035" y="118452"/>
                  </a:lnTo>
                  <a:lnTo>
                    <a:pt x="180035" y="83527"/>
                  </a:lnTo>
                  <a:close/>
                </a:path>
                <a:path w="315595" h="310514">
                  <a:moveTo>
                    <a:pt x="180035" y="151942"/>
                  </a:moveTo>
                  <a:lnTo>
                    <a:pt x="117373" y="151942"/>
                  </a:lnTo>
                  <a:lnTo>
                    <a:pt x="135737" y="190461"/>
                  </a:lnTo>
                  <a:lnTo>
                    <a:pt x="145821" y="190461"/>
                  </a:lnTo>
                  <a:lnTo>
                    <a:pt x="153022" y="189026"/>
                  </a:lnTo>
                  <a:lnTo>
                    <a:pt x="167422" y="184256"/>
                  </a:lnTo>
                  <a:lnTo>
                    <a:pt x="175037" y="179128"/>
                  </a:lnTo>
                  <a:lnTo>
                    <a:pt x="178937" y="172917"/>
                  </a:lnTo>
                  <a:lnTo>
                    <a:pt x="180035" y="165620"/>
                  </a:lnTo>
                  <a:lnTo>
                    <a:pt x="180035" y="151942"/>
                  </a:lnTo>
                  <a:close/>
                </a:path>
                <a:path w="315595" h="310514">
                  <a:moveTo>
                    <a:pt x="180035" y="118452"/>
                  </a:moveTo>
                  <a:lnTo>
                    <a:pt x="142582" y="118452"/>
                  </a:lnTo>
                  <a:lnTo>
                    <a:pt x="142582" y="150863"/>
                  </a:lnTo>
                  <a:lnTo>
                    <a:pt x="140068" y="151574"/>
                  </a:lnTo>
                  <a:lnTo>
                    <a:pt x="180035" y="151574"/>
                  </a:lnTo>
                  <a:lnTo>
                    <a:pt x="180035" y="118452"/>
                  </a:lnTo>
                  <a:close/>
                </a:path>
                <a:path w="315595" h="310514">
                  <a:moveTo>
                    <a:pt x="117373" y="64084"/>
                  </a:moveTo>
                  <a:lnTo>
                    <a:pt x="77774" y="64084"/>
                  </a:lnTo>
                  <a:lnTo>
                    <a:pt x="77774" y="83527"/>
                  </a:lnTo>
                  <a:lnTo>
                    <a:pt x="117373" y="83527"/>
                  </a:lnTo>
                  <a:lnTo>
                    <a:pt x="117373" y="64084"/>
                  </a:lnTo>
                  <a:close/>
                </a:path>
                <a:path w="315595" h="310514">
                  <a:moveTo>
                    <a:pt x="186512" y="27368"/>
                  </a:moveTo>
                  <a:lnTo>
                    <a:pt x="5765" y="27368"/>
                  </a:lnTo>
                  <a:lnTo>
                    <a:pt x="5765" y="64084"/>
                  </a:lnTo>
                  <a:lnTo>
                    <a:pt x="186512" y="64084"/>
                  </a:lnTo>
                  <a:lnTo>
                    <a:pt x="186512" y="27368"/>
                  </a:lnTo>
                  <a:close/>
                </a:path>
                <a:path w="315595" h="310514">
                  <a:moveTo>
                    <a:pt x="77774" y="355"/>
                  </a:moveTo>
                  <a:lnTo>
                    <a:pt x="77774" y="27368"/>
                  </a:lnTo>
                  <a:lnTo>
                    <a:pt x="117373" y="27368"/>
                  </a:lnTo>
                  <a:lnTo>
                    <a:pt x="117373" y="16205"/>
                  </a:lnTo>
                  <a:lnTo>
                    <a:pt x="118821" y="15113"/>
                  </a:lnTo>
                  <a:lnTo>
                    <a:pt x="122059" y="12598"/>
                  </a:lnTo>
                  <a:lnTo>
                    <a:pt x="125653" y="10439"/>
                  </a:lnTo>
                  <a:lnTo>
                    <a:pt x="126377" y="9004"/>
                  </a:lnTo>
                  <a:lnTo>
                    <a:pt x="126377" y="2882"/>
                  </a:lnTo>
                  <a:lnTo>
                    <a:pt x="119900" y="1803"/>
                  </a:lnTo>
                  <a:lnTo>
                    <a:pt x="117373" y="1803"/>
                  </a:lnTo>
                  <a:lnTo>
                    <a:pt x="77774" y="3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object 36" descr=""/>
            <p:cNvPicPr/>
            <p:nvPr/>
          </p:nvPicPr>
          <p:blipFill>
            <a:blip r:embed="rId1"/>
            <a:stretch/>
          </p:blipFill>
          <p:spPr>
            <a:xfrm>
              <a:off x="4115160" y="3527280"/>
              <a:ext cx="80640" cy="8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object 37"/>
            <p:cNvSpPr/>
            <p:nvPr/>
          </p:nvSpPr>
          <p:spPr>
            <a:xfrm>
              <a:off x="4349520" y="3406320"/>
              <a:ext cx="607680" cy="299520"/>
            </a:xfrm>
            <a:custGeom>
              <a:avLst/>
              <a:gdLst/>
              <a:ahLst/>
              <a:rect l="l" t="t" r="r" b="b"/>
              <a:pathLst>
                <a:path w="607695" h="299720">
                  <a:moveTo>
                    <a:pt x="109105" y="176784"/>
                  </a:moveTo>
                  <a:lnTo>
                    <a:pt x="103695" y="173177"/>
                  </a:lnTo>
                  <a:lnTo>
                    <a:pt x="102260" y="172453"/>
                  </a:lnTo>
                  <a:lnTo>
                    <a:pt x="72732" y="153022"/>
                  </a:lnTo>
                  <a:lnTo>
                    <a:pt x="56095" y="177977"/>
                  </a:lnTo>
                  <a:lnTo>
                    <a:pt x="38252" y="199872"/>
                  </a:lnTo>
                  <a:lnTo>
                    <a:pt x="19456" y="218592"/>
                  </a:lnTo>
                  <a:lnTo>
                    <a:pt x="0" y="234035"/>
                  </a:lnTo>
                  <a:lnTo>
                    <a:pt x="37084" y="257073"/>
                  </a:lnTo>
                  <a:lnTo>
                    <a:pt x="56984" y="238480"/>
                  </a:lnTo>
                  <a:lnTo>
                    <a:pt x="72326" y="221513"/>
                  </a:lnTo>
                  <a:lnTo>
                    <a:pt x="85432" y="204419"/>
                  </a:lnTo>
                  <a:lnTo>
                    <a:pt x="98653" y="185420"/>
                  </a:lnTo>
                  <a:lnTo>
                    <a:pt x="99733" y="183984"/>
                  </a:lnTo>
                  <a:lnTo>
                    <a:pt x="100101" y="183984"/>
                  </a:lnTo>
                  <a:lnTo>
                    <a:pt x="104775" y="182549"/>
                  </a:lnTo>
                  <a:lnTo>
                    <a:pt x="106934" y="182181"/>
                  </a:lnTo>
                  <a:lnTo>
                    <a:pt x="109105" y="181457"/>
                  </a:lnTo>
                  <a:lnTo>
                    <a:pt x="109105" y="176784"/>
                  </a:lnTo>
                  <a:close/>
                </a:path>
                <a:path w="607695" h="299720">
                  <a:moveTo>
                    <a:pt x="275450" y="85331"/>
                  </a:moveTo>
                  <a:lnTo>
                    <a:pt x="172110" y="85331"/>
                  </a:lnTo>
                  <a:lnTo>
                    <a:pt x="172110" y="37439"/>
                  </a:lnTo>
                  <a:lnTo>
                    <a:pt x="173913" y="36004"/>
                  </a:lnTo>
                  <a:lnTo>
                    <a:pt x="175348" y="35280"/>
                  </a:lnTo>
                  <a:lnTo>
                    <a:pt x="178587" y="33121"/>
                  </a:lnTo>
                  <a:lnTo>
                    <a:pt x="180035" y="32042"/>
                  </a:lnTo>
                  <a:lnTo>
                    <a:pt x="180035" y="27000"/>
                  </a:lnTo>
                  <a:lnTo>
                    <a:pt x="176072" y="25920"/>
                  </a:lnTo>
                  <a:lnTo>
                    <a:pt x="131419" y="20154"/>
                  </a:lnTo>
                  <a:lnTo>
                    <a:pt x="131419" y="85331"/>
                  </a:lnTo>
                  <a:lnTo>
                    <a:pt x="26644" y="85331"/>
                  </a:lnTo>
                  <a:lnTo>
                    <a:pt x="26644" y="122402"/>
                  </a:lnTo>
                  <a:lnTo>
                    <a:pt x="131419" y="122402"/>
                  </a:lnTo>
                  <a:lnTo>
                    <a:pt x="131419" y="257797"/>
                  </a:lnTo>
                  <a:lnTo>
                    <a:pt x="129616" y="260667"/>
                  </a:lnTo>
                  <a:lnTo>
                    <a:pt x="118097" y="260667"/>
                  </a:lnTo>
                  <a:lnTo>
                    <a:pt x="110109" y="260413"/>
                  </a:lnTo>
                  <a:lnTo>
                    <a:pt x="102527" y="259765"/>
                  </a:lnTo>
                  <a:lnTo>
                    <a:pt x="95618" y="258851"/>
                  </a:lnTo>
                  <a:lnTo>
                    <a:pt x="89649" y="257797"/>
                  </a:lnTo>
                  <a:lnTo>
                    <a:pt x="103339" y="299554"/>
                  </a:lnTo>
                  <a:lnTo>
                    <a:pt x="160261" y="292176"/>
                  </a:lnTo>
                  <a:lnTo>
                    <a:pt x="172110" y="122402"/>
                  </a:lnTo>
                  <a:lnTo>
                    <a:pt x="275450" y="122402"/>
                  </a:lnTo>
                  <a:lnTo>
                    <a:pt x="275450" y="85331"/>
                  </a:lnTo>
                  <a:close/>
                </a:path>
                <a:path w="607695" h="299720">
                  <a:moveTo>
                    <a:pt x="290207" y="223227"/>
                  </a:moveTo>
                  <a:lnTo>
                    <a:pt x="280644" y="208813"/>
                  </a:lnTo>
                  <a:lnTo>
                    <a:pt x="266941" y="190055"/>
                  </a:lnTo>
                  <a:lnTo>
                    <a:pt x="249643" y="169595"/>
                  </a:lnTo>
                  <a:lnTo>
                    <a:pt x="229362" y="150126"/>
                  </a:lnTo>
                  <a:lnTo>
                    <a:pt x="201637" y="173901"/>
                  </a:lnTo>
                  <a:lnTo>
                    <a:pt x="218313" y="190817"/>
                  </a:lnTo>
                  <a:lnTo>
                    <a:pt x="233045" y="208508"/>
                  </a:lnTo>
                  <a:lnTo>
                    <a:pt x="246291" y="227622"/>
                  </a:lnTo>
                  <a:lnTo>
                    <a:pt x="258521" y="248793"/>
                  </a:lnTo>
                  <a:lnTo>
                    <a:pt x="290207" y="223227"/>
                  </a:lnTo>
                  <a:close/>
                </a:path>
                <a:path w="607695" h="299720">
                  <a:moveTo>
                    <a:pt x="313969" y="33845"/>
                  </a:moveTo>
                  <a:lnTo>
                    <a:pt x="311315" y="20497"/>
                  </a:lnTo>
                  <a:lnTo>
                    <a:pt x="306527" y="13322"/>
                  </a:lnTo>
                  <a:lnTo>
                    <a:pt x="304152" y="9766"/>
                  </a:lnTo>
                  <a:lnTo>
                    <a:pt x="301002" y="7632"/>
                  </a:lnTo>
                  <a:lnTo>
                    <a:pt x="301002" y="33845"/>
                  </a:lnTo>
                  <a:lnTo>
                    <a:pt x="299364" y="41897"/>
                  </a:lnTo>
                  <a:lnTo>
                    <a:pt x="294970" y="48412"/>
                  </a:lnTo>
                  <a:lnTo>
                    <a:pt x="288556" y="52768"/>
                  </a:lnTo>
                  <a:lnTo>
                    <a:pt x="280847" y="54356"/>
                  </a:lnTo>
                  <a:lnTo>
                    <a:pt x="272986" y="52768"/>
                  </a:lnTo>
                  <a:lnTo>
                    <a:pt x="266573" y="48412"/>
                  </a:lnTo>
                  <a:lnTo>
                    <a:pt x="262255" y="41897"/>
                  </a:lnTo>
                  <a:lnTo>
                    <a:pt x="260680" y="33845"/>
                  </a:lnTo>
                  <a:lnTo>
                    <a:pt x="262216" y="25920"/>
                  </a:lnTo>
                  <a:lnTo>
                    <a:pt x="266433" y="19392"/>
                  </a:lnTo>
                  <a:lnTo>
                    <a:pt x="272834" y="14960"/>
                  </a:lnTo>
                  <a:lnTo>
                    <a:pt x="280847" y="13322"/>
                  </a:lnTo>
                  <a:lnTo>
                    <a:pt x="288696" y="14960"/>
                  </a:lnTo>
                  <a:lnTo>
                    <a:pt x="295109" y="19392"/>
                  </a:lnTo>
                  <a:lnTo>
                    <a:pt x="299415" y="25933"/>
                  </a:lnTo>
                  <a:lnTo>
                    <a:pt x="301002" y="33845"/>
                  </a:lnTo>
                  <a:lnTo>
                    <a:pt x="301002" y="7632"/>
                  </a:lnTo>
                  <a:lnTo>
                    <a:pt x="293611" y="2603"/>
                  </a:lnTo>
                  <a:lnTo>
                    <a:pt x="280847" y="0"/>
                  </a:lnTo>
                  <a:lnTo>
                    <a:pt x="267703" y="2654"/>
                  </a:lnTo>
                  <a:lnTo>
                    <a:pt x="257073" y="9906"/>
                  </a:lnTo>
                  <a:lnTo>
                    <a:pt x="249948" y="20662"/>
                  </a:lnTo>
                  <a:lnTo>
                    <a:pt x="247357" y="33845"/>
                  </a:lnTo>
                  <a:lnTo>
                    <a:pt x="249897" y="46875"/>
                  </a:lnTo>
                  <a:lnTo>
                    <a:pt x="256933" y="57645"/>
                  </a:lnTo>
                  <a:lnTo>
                    <a:pt x="267550" y="64973"/>
                  </a:lnTo>
                  <a:lnTo>
                    <a:pt x="280847" y="67678"/>
                  </a:lnTo>
                  <a:lnTo>
                    <a:pt x="293763" y="65074"/>
                  </a:lnTo>
                  <a:lnTo>
                    <a:pt x="304292" y="57912"/>
                  </a:lnTo>
                  <a:lnTo>
                    <a:pt x="306641" y="54356"/>
                  </a:lnTo>
                  <a:lnTo>
                    <a:pt x="311365" y="47180"/>
                  </a:lnTo>
                  <a:lnTo>
                    <a:pt x="313969" y="33845"/>
                  </a:lnTo>
                  <a:close/>
                </a:path>
                <a:path w="607695" h="299720">
                  <a:moveTo>
                    <a:pt x="607364" y="254914"/>
                  </a:moveTo>
                  <a:lnTo>
                    <a:pt x="584911" y="231203"/>
                  </a:lnTo>
                  <a:lnTo>
                    <a:pt x="561682" y="208292"/>
                  </a:lnTo>
                  <a:lnTo>
                    <a:pt x="537438" y="186461"/>
                  </a:lnTo>
                  <a:lnTo>
                    <a:pt x="511949" y="165976"/>
                  </a:lnTo>
                  <a:lnTo>
                    <a:pt x="526313" y="142544"/>
                  </a:lnTo>
                  <a:lnTo>
                    <a:pt x="536740" y="123228"/>
                  </a:lnTo>
                  <a:lnTo>
                    <a:pt x="545211" y="105130"/>
                  </a:lnTo>
                  <a:lnTo>
                    <a:pt x="553720" y="85331"/>
                  </a:lnTo>
                  <a:lnTo>
                    <a:pt x="557568" y="78257"/>
                  </a:lnTo>
                  <a:lnTo>
                    <a:pt x="562356" y="72504"/>
                  </a:lnTo>
                  <a:lnTo>
                    <a:pt x="567690" y="67754"/>
                  </a:lnTo>
                  <a:lnTo>
                    <a:pt x="573163" y="63715"/>
                  </a:lnTo>
                  <a:lnTo>
                    <a:pt x="545439" y="33108"/>
                  </a:lnTo>
                  <a:lnTo>
                    <a:pt x="533552" y="41033"/>
                  </a:lnTo>
                  <a:lnTo>
                    <a:pt x="371538" y="41033"/>
                  </a:lnTo>
                  <a:lnTo>
                    <a:pt x="371538" y="82804"/>
                  </a:lnTo>
                  <a:lnTo>
                    <a:pt x="508711" y="82804"/>
                  </a:lnTo>
                  <a:lnTo>
                    <a:pt x="501116" y="101003"/>
                  </a:lnTo>
                  <a:lnTo>
                    <a:pt x="472313" y="151155"/>
                  </a:lnTo>
                  <a:lnTo>
                    <a:pt x="447509" y="181102"/>
                  </a:lnTo>
                  <a:lnTo>
                    <a:pt x="413550" y="212344"/>
                  </a:lnTo>
                  <a:lnTo>
                    <a:pt x="381698" y="234442"/>
                  </a:lnTo>
                  <a:lnTo>
                    <a:pt x="332651" y="258864"/>
                  </a:lnTo>
                  <a:lnTo>
                    <a:pt x="364337" y="291630"/>
                  </a:lnTo>
                  <a:lnTo>
                    <a:pt x="408076" y="267703"/>
                  </a:lnTo>
                  <a:lnTo>
                    <a:pt x="440474" y="244970"/>
                  </a:lnTo>
                  <a:lnTo>
                    <a:pt x="465594" y="222427"/>
                  </a:lnTo>
                  <a:lnTo>
                    <a:pt x="487476" y="199110"/>
                  </a:lnTo>
                  <a:lnTo>
                    <a:pt x="509041" y="217525"/>
                  </a:lnTo>
                  <a:lnTo>
                    <a:pt x="530174" y="237909"/>
                  </a:lnTo>
                  <a:lnTo>
                    <a:pt x="551916" y="261391"/>
                  </a:lnTo>
                  <a:lnTo>
                    <a:pt x="575322" y="289115"/>
                  </a:lnTo>
                  <a:lnTo>
                    <a:pt x="607364" y="2549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object 38"/>
            <p:cNvSpPr/>
            <p:nvPr/>
          </p:nvSpPr>
          <p:spPr>
            <a:xfrm>
              <a:off x="5025600" y="3418560"/>
              <a:ext cx="489960" cy="296280"/>
            </a:xfrm>
            <a:custGeom>
              <a:avLst/>
              <a:gdLst/>
              <a:ahLst/>
              <a:rect l="l" t="t" r="r" b="b"/>
              <a:pathLst>
                <a:path w="490220" h="296545">
                  <a:moveTo>
                    <a:pt x="176784" y="172466"/>
                  </a:moveTo>
                  <a:lnTo>
                    <a:pt x="139369" y="142151"/>
                  </a:lnTo>
                  <a:lnTo>
                    <a:pt x="100571" y="116751"/>
                  </a:lnTo>
                  <a:lnTo>
                    <a:pt x="59410" y="96494"/>
                  </a:lnTo>
                  <a:lnTo>
                    <a:pt x="42481" y="123139"/>
                  </a:lnTo>
                  <a:lnTo>
                    <a:pt x="42481" y="26644"/>
                  </a:lnTo>
                  <a:lnTo>
                    <a:pt x="51841" y="20878"/>
                  </a:lnTo>
                  <a:lnTo>
                    <a:pt x="51841" y="14414"/>
                  </a:lnTo>
                  <a:lnTo>
                    <a:pt x="44284" y="13322"/>
                  </a:lnTo>
                  <a:lnTo>
                    <a:pt x="43205" y="12966"/>
                  </a:lnTo>
                  <a:lnTo>
                    <a:pt x="0" y="5397"/>
                  </a:lnTo>
                  <a:lnTo>
                    <a:pt x="0" y="290563"/>
                  </a:lnTo>
                  <a:lnTo>
                    <a:pt x="42481" y="290563"/>
                  </a:lnTo>
                  <a:lnTo>
                    <a:pt x="42481" y="135026"/>
                  </a:lnTo>
                  <a:lnTo>
                    <a:pt x="73507" y="150380"/>
                  </a:lnTo>
                  <a:lnTo>
                    <a:pt x="101625" y="168465"/>
                  </a:lnTo>
                  <a:lnTo>
                    <a:pt x="126631" y="187833"/>
                  </a:lnTo>
                  <a:lnTo>
                    <a:pt x="148336" y="207035"/>
                  </a:lnTo>
                  <a:lnTo>
                    <a:pt x="176784" y="172466"/>
                  </a:lnTo>
                  <a:close/>
                </a:path>
                <a:path w="490220" h="296545">
                  <a:moveTo>
                    <a:pt x="489648" y="71297"/>
                  </a:moveTo>
                  <a:lnTo>
                    <a:pt x="376580" y="71297"/>
                  </a:lnTo>
                  <a:lnTo>
                    <a:pt x="378663" y="43027"/>
                  </a:lnTo>
                  <a:lnTo>
                    <a:pt x="379018" y="32816"/>
                  </a:lnTo>
                  <a:lnTo>
                    <a:pt x="379120" y="16916"/>
                  </a:lnTo>
                  <a:lnTo>
                    <a:pt x="386308" y="10083"/>
                  </a:lnTo>
                  <a:lnTo>
                    <a:pt x="386308" y="6121"/>
                  </a:lnTo>
                  <a:lnTo>
                    <a:pt x="385953" y="4318"/>
                  </a:lnTo>
                  <a:lnTo>
                    <a:pt x="333743" y="0"/>
                  </a:lnTo>
                  <a:lnTo>
                    <a:pt x="334060" y="24358"/>
                  </a:lnTo>
                  <a:lnTo>
                    <a:pt x="333641" y="43611"/>
                  </a:lnTo>
                  <a:lnTo>
                    <a:pt x="331927" y="71297"/>
                  </a:lnTo>
                  <a:lnTo>
                    <a:pt x="227520" y="71297"/>
                  </a:lnTo>
                  <a:lnTo>
                    <a:pt x="227520" y="110896"/>
                  </a:lnTo>
                  <a:lnTo>
                    <a:pt x="326174" y="110896"/>
                  </a:lnTo>
                  <a:lnTo>
                    <a:pt x="322986" y="125590"/>
                  </a:lnTo>
                  <a:lnTo>
                    <a:pt x="309308" y="165785"/>
                  </a:lnTo>
                  <a:lnTo>
                    <a:pt x="274942" y="219570"/>
                  </a:lnTo>
                  <a:lnTo>
                    <a:pt x="231228" y="256844"/>
                  </a:lnTo>
                  <a:lnTo>
                    <a:pt x="213829" y="267169"/>
                  </a:lnTo>
                  <a:lnTo>
                    <a:pt x="250202" y="295973"/>
                  </a:lnTo>
                  <a:lnTo>
                    <a:pt x="289306" y="266941"/>
                  </a:lnTo>
                  <a:lnTo>
                    <a:pt x="336257" y="207391"/>
                  </a:lnTo>
                  <a:lnTo>
                    <a:pt x="360426" y="151180"/>
                  </a:lnTo>
                  <a:lnTo>
                    <a:pt x="370827" y="110896"/>
                  </a:lnTo>
                  <a:lnTo>
                    <a:pt x="444639" y="110896"/>
                  </a:lnTo>
                  <a:lnTo>
                    <a:pt x="442112" y="151003"/>
                  </a:lnTo>
                  <a:lnTo>
                    <a:pt x="429387" y="219862"/>
                  </a:lnTo>
                  <a:lnTo>
                    <a:pt x="409714" y="250596"/>
                  </a:lnTo>
                  <a:lnTo>
                    <a:pt x="392226" y="250431"/>
                  </a:lnTo>
                  <a:lnTo>
                    <a:pt x="385368" y="249834"/>
                  </a:lnTo>
                  <a:lnTo>
                    <a:pt x="360387" y="246634"/>
                  </a:lnTo>
                  <a:lnTo>
                    <a:pt x="380911" y="293090"/>
                  </a:lnTo>
                  <a:lnTo>
                    <a:pt x="427443" y="288086"/>
                  </a:lnTo>
                  <a:lnTo>
                    <a:pt x="465188" y="246481"/>
                  </a:lnTo>
                  <a:lnTo>
                    <a:pt x="476275" y="206222"/>
                  </a:lnTo>
                  <a:lnTo>
                    <a:pt x="485140" y="148005"/>
                  </a:lnTo>
                  <a:lnTo>
                    <a:pt x="489648" y="712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object 39"/>
            <p:cNvSpPr/>
            <p:nvPr/>
          </p:nvSpPr>
          <p:spPr>
            <a:xfrm>
              <a:off x="5560920" y="3544560"/>
              <a:ext cx="256320" cy="46080"/>
            </a:xfrm>
            <a:custGeom>
              <a:avLst/>
              <a:gdLst/>
              <a:ahLst/>
              <a:rect l="l" t="t" r="r" b="b"/>
              <a:pathLst>
                <a:path w="256539" h="46354">
                  <a:moveTo>
                    <a:pt x="255993" y="0"/>
                  </a:moveTo>
                  <a:lnTo>
                    <a:pt x="0" y="0"/>
                  </a:lnTo>
                  <a:lnTo>
                    <a:pt x="0" y="45732"/>
                  </a:lnTo>
                  <a:lnTo>
                    <a:pt x="255993" y="45732"/>
                  </a:lnTo>
                  <a:lnTo>
                    <a:pt x="25599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object 40"/>
            <p:cNvSpPr/>
            <p:nvPr/>
          </p:nvSpPr>
          <p:spPr>
            <a:xfrm>
              <a:off x="5888520" y="3419640"/>
              <a:ext cx="518040" cy="302040"/>
            </a:xfrm>
            <a:custGeom>
              <a:avLst/>
              <a:gdLst/>
              <a:ahLst/>
              <a:rect l="l" t="t" r="r" b="b"/>
              <a:pathLst>
                <a:path w="518160" h="302260">
                  <a:moveTo>
                    <a:pt x="176796" y="170662"/>
                  </a:moveTo>
                  <a:lnTo>
                    <a:pt x="132105" y="135737"/>
                  </a:lnTo>
                  <a:lnTo>
                    <a:pt x="95021" y="112483"/>
                  </a:lnTo>
                  <a:lnTo>
                    <a:pt x="60858" y="95770"/>
                  </a:lnTo>
                  <a:lnTo>
                    <a:pt x="44284" y="120980"/>
                  </a:lnTo>
                  <a:lnTo>
                    <a:pt x="44284" y="25920"/>
                  </a:lnTo>
                  <a:lnTo>
                    <a:pt x="53289" y="20167"/>
                  </a:lnTo>
                  <a:lnTo>
                    <a:pt x="53289" y="13677"/>
                  </a:lnTo>
                  <a:lnTo>
                    <a:pt x="45364" y="12242"/>
                  </a:lnTo>
                  <a:lnTo>
                    <a:pt x="44640" y="12242"/>
                  </a:lnTo>
                  <a:lnTo>
                    <a:pt x="0" y="4318"/>
                  </a:lnTo>
                  <a:lnTo>
                    <a:pt x="0" y="289483"/>
                  </a:lnTo>
                  <a:lnTo>
                    <a:pt x="44284" y="289483"/>
                  </a:lnTo>
                  <a:lnTo>
                    <a:pt x="44284" y="135737"/>
                  </a:lnTo>
                  <a:lnTo>
                    <a:pt x="72593" y="149618"/>
                  </a:lnTo>
                  <a:lnTo>
                    <a:pt x="99288" y="166484"/>
                  </a:lnTo>
                  <a:lnTo>
                    <a:pt x="124485" y="185712"/>
                  </a:lnTo>
                  <a:lnTo>
                    <a:pt x="148336" y="206667"/>
                  </a:lnTo>
                  <a:lnTo>
                    <a:pt x="176796" y="170662"/>
                  </a:lnTo>
                  <a:close/>
                </a:path>
                <a:path w="518160" h="302260">
                  <a:moveTo>
                    <a:pt x="178587" y="67322"/>
                  </a:moveTo>
                  <a:lnTo>
                    <a:pt x="170891" y="57924"/>
                  </a:lnTo>
                  <a:lnTo>
                    <a:pt x="162928" y="49606"/>
                  </a:lnTo>
                  <a:lnTo>
                    <a:pt x="154686" y="42227"/>
                  </a:lnTo>
                  <a:lnTo>
                    <a:pt x="146177" y="35648"/>
                  </a:lnTo>
                  <a:lnTo>
                    <a:pt x="126377" y="51485"/>
                  </a:lnTo>
                  <a:lnTo>
                    <a:pt x="134886" y="58064"/>
                  </a:lnTo>
                  <a:lnTo>
                    <a:pt x="143129" y="65443"/>
                  </a:lnTo>
                  <a:lnTo>
                    <a:pt x="151091" y="73774"/>
                  </a:lnTo>
                  <a:lnTo>
                    <a:pt x="158788" y="83172"/>
                  </a:lnTo>
                  <a:lnTo>
                    <a:pt x="178587" y="67322"/>
                  </a:lnTo>
                  <a:close/>
                </a:path>
                <a:path w="518160" h="302260">
                  <a:moveTo>
                    <a:pt x="219633" y="43929"/>
                  </a:moveTo>
                  <a:lnTo>
                    <a:pt x="212128" y="34823"/>
                  </a:lnTo>
                  <a:lnTo>
                    <a:pt x="204114" y="26377"/>
                  </a:lnTo>
                  <a:lnTo>
                    <a:pt x="195478" y="18618"/>
                  </a:lnTo>
                  <a:lnTo>
                    <a:pt x="186143" y="11531"/>
                  </a:lnTo>
                  <a:lnTo>
                    <a:pt x="167424" y="27368"/>
                  </a:lnTo>
                  <a:lnTo>
                    <a:pt x="176606" y="34302"/>
                  </a:lnTo>
                  <a:lnTo>
                    <a:pt x="185242" y="42087"/>
                  </a:lnTo>
                  <a:lnTo>
                    <a:pt x="193357" y="50609"/>
                  </a:lnTo>
                  <a:lnTo>
                    <a:pt x="200914" y="59766"/>
                  </a:lnTo>
                  <a:lnTo>
                    <a:pt x="219633" y="43929"/>
                  </a:lnTo>
                  <a:close/>
                </a:path>
                <a:path w="518160" h="302260">
                  <a:moveTo>
                    <a:pt x="517715" y="0"/>
                  </a:moveTo>
                  <a:lnTo>
                    <a:pt x="476681" y="0"/>
                  </a:lnTo>
                  <a:lnTo>
                    <a:pt x="476681" y="34925"/>
                  </a:lnTo>
                  <a:lnTo>
                    <a:pt x="476681" y="69850"/>
                  </a:lnTo>
                  <a:lnTo>
                    <a:pt x="476681" y="103695"/>
                  </a:lnTo>
                  <a:lnTo>
                    <a:pt x="476681" y="145821"/>
                  </a:lnTo>
                  <a:lnTo>
                    <a:pt x="411861" y="145821"/>
                  </a:lnTo>
                  <a:lnTo>
                    <a:pt x="411861" y="103695"/>
                  </a:lnTo>
                  <a:lnTo>
                    <a:pt x="476681" y="103695"/>
                  </a:lnTo>
                  <a:lnTo>
                    <a:pt x="476681" y="69850"/>
                  </a:lnTo>
                  <a:lnTo>
                    <a:pt x="411861" y="69850"/>
                  </a:lnTo>
                  <a:lnTo>
                    <a:pt x="411861" y="34925"/>
                  </a:lnTo>
                  <a:lnTo>
                    <a:pt x="476681" y="34925"/>
                  </a:lnTo>
                  <a:lnTo>
                    <a:pt x="476681" y="0"/>
                  </a:lnTo>
                  <a:lnTo>
                    <a:pt x="371170" y="0"/>
                  </a:lnTo>
                  <a:lnTo>
                    <a:pt x="371170" y="34925"/>
                  </a:lnTo>
                  <a:lnTo>
                    <a:pt x="371170" y="69850"/>
                  </a:lnTo>
                  <a:lnTo>
                    <a:pt x="371170" y="103695"/>
                  </a:lnTo>
                  <a:lnTo>
                    <a:pt x="371170" y="145821"/>
                  </a:lnTo>
                  <a:lnTo>
                    <a:pt x="306006" y="145821"/>
                  </a:lnTo>
                  <a:lnTo>
                    <a:pt x="306057" y="140614"/>
                  </a:lnTo>
                  <a:lnTo>
                    <a:pt x="306222" y="133807"/>
                  </a:lnTo>
                  <a:lnTo>
                    <a:pt x="306451" y="122478"/>
                  </a:lnTo>
                  <a:lnTo>
                    <a:pt x="306730" y="103695"/>
                  </a:lnTo>
                  <a:lnTo>
                    <a:pt x="371170" y="103695"/>
                  </a:lnTo>
                  <a:lnTo>
                    <a:pt x="371170" y="69850"/>
                  </a:lnTo>
                  <a:lnTo>
                    <a:pt x="306362" y="69850"/>
                  </a:lnTo>
                  <a:lnTo>
                    <a:pt x="306311" y="52260"/>
                  </a:lnTo>
                  <a:lnTo>
                    <a:pt x="306209" y="43980"/>
                  </a:lnTo>
                  <a:lnTo>
                    <a:pt x="306006" y="34925"/>
                  </a:lnTo>
                  <a:lnTo>
                    <a:pt x="371170" y="34925"/>
                  </a:lnTo>
                  <a:lnTo>
                    <a:pt x="371170" y="0"/>
                  </a:lnTo>
                  <a:lnTo>
                    <a:pt x="261721" y="0"/>
                  </a:lnTo>
                  <a:lnTo>
                    <a:pt x="263817" y="28359"/>
                  </a:lnTo>
                  <a:lnTo>
                    <a:pt x="265264" y="56718"/>
                  </a:lnTo>
                  <a:lnTo>
                    <a:pt x="266115" y="85064"/>
                  </a:lnTo>
                  <a:lnTo>
                    <a:pt x="266395" y="113411"/>
                  </a:lnTo>
                  <a:lnTo>
                    <a:pt x="265226" y="172567"/>
                  </a:lnTo>
                  <a:lnTo>
                    <a:pt x="260896" y="217970"/>
                  </a:lnTo>
                  <a:lnTo>
                    <a:pt x="252107" y="254127"/>
                  </a:lnTo>
                  <a:lnTo>
                    <a:pt x="237591" y="285521"/>
                  </a:lnTo>
                  <a:lnTo>
                    <a:pt x="275043" y="298843"/>
                  </a:lnTo>
                  <a:lnTo>
                    <a:pt x="287350" y="270700"/>
                  </a:lnTo>
                  <a:lnTo>
                    <a:pt x="295744" y="244119"/>
                  </a:lnTo>
                  <a:lnTo>
                    <a:pt x="301167" y="215099"/>
                  </a:lnTo>
                  <a:lnTo>
                    <a:pt x="304571" y="179666"/>
                  </a:lnTo>
                  <a:lnTo>
                    <a:pt x="371170" y="179666"/>
                  </a:lnTo>
                  <a:lnTo>
                    <a:pt x="371170" y="282282"/>
                  </a:lnTo>
                  <a:lnTo>
                    <a:pt x="411861" y="282282"/>
                  </a:lnTo>
                  <a:lnTo>
                    <a:pt x="411861" y="179666"/>
                  </a:lnTo>
                  <a:lnTo>
                    <a:pt x="476681" y="179666"/>
                  </a:lnTo>
                  <a:lnTo>
                    <a:pt x="476681" y="261048"/>
                  </a:lnTo>
                  <a:lnTo>
                    <a:pt x="471982" y="263918"/>
                  </a:lnTo>
                  <a:lnTo>
                    <a:pt x="452183" y="263918"/>
                  </a:lnTo>
                  <a:lnTo>
                    <a:pt x="446062" y="263550"/>
                  </a:lnTo>
                  <a:lnTo>
                    <a:pt x="440664" y="262470"/>
                  </a:lnTo>
                  <a:lnTo>
                    <a:pt x="460463" y="301726"/>
                  </a:lnTo>
                  <a:lnTo>
                    <a:pt x="493407" y="297459"/>
                  </a:lnTo>
                  <a:lnTo>
                    <a:pt x="510425" y="290487"/>
                  </a:lnTo>
                  <a:lnTo>
                    <a:pt x="516763" y="280670"/>
                  </a:lnTo>
                  <a:lnTo>
                    <a:pt x="517715" y="267881"/>
                  </a:lnTo>
                  <a:lnTo>
                    <a:pt x="517715" y="263918"/>
                  </a:lnTo>
                  <a:lnTo>
                    <a:pt x="517715" y="179666"/>
                  </a:lnTo>
                  <a:lnTo>
                    <a:pt x="517715" y="145821"/>
                  </a:lnTo>
                  <a:lnTo>
                    <a:pt x="517715" y="103695"/>
                  </a:lnTo>
                  <a:lnTo>
                    <a:pt x="517715" y="69850"/>
                  </a:lnTo>
                  <a:lnTo>
                    <a:pt x="517715" y="34925"/>
                  </a:lnTo>
                  <a:lnTo>
                    <a:pt x="5177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object 41"/>
            <p:cNvSpPr/>
            <p:nvPr/>
          </p:nvSpPr>
          <p:spPr>
            <a:xfrm>
              <a:off x="6474240" y="3418200"/>
              <a:ext cx="938880" cy="303480"/>
            </a:xfrm>
            <a:custGeom>
              <a:avLst/>
              <a:gdLst/>
              <a:ahLst/>
              <a:rect l="l" t="t" r="r" b="b"/>
              <a:pathLst>
                <a:path w="939165" h="303529">
                  <a:moveTo>
                    <a:pt x="207035" y="11887"/>
                  </a:moveTo>
                  <a:lnTo>
                    <a:pt x="36004" y="11887"/>
                  </a:lnTo>
                  <a:lnTo>
                    <a:pt x="36004" y="52578"/>
                  </a:lnTo>
                  <a:lnTo>
                    <a:pt x="207035" y="52578"/>
                  </a:lnTo>
                  <a:lnTo>
                    <a:pt x="207035" y="11887"/>
                  </a:lnTo>
                  <a:close/>
                </a:path>
                <a:path w="939165" h="303529">
                  <a:moveTo>
                    <a:pt x="250964" y="116662"/>
                  </a:moveTo>
                  <a:lnTo>
                    <a:pt x="221792" y="85699"/>
                  </a:lnTo>
                  <a:lnTo>
                    <a:pt x="217487" y="88226"/>
                  </a:lnTo>
                  <a:lnTo>
                    <a:pt x="209918" y="92532"/>
                  </a:lnTo>
                  <a:lnTo>
                    <a:pt x="0" y="92532"/>
                  </a:lnTo>
                  <a:lnTo>
                    <a:pt x="0" y="132143"/>
                  </a:lnTo>
                  <a:lnTo>
                    <a:pt x="186867" y="132143"/>
                  </a:lnTo>
                  <a:lnTo>
                    <a:pt x="181851" y="145554"/>
                  </a:lnTo>
                  <a:lnTo>
                    <a:pt x="160337" y="184759"/>
                  </a:lnTo>
                  <a:lnTo>
                    <a:pt x="112014" y="235000"/>
                  </a:lnTo>
                  <a:lnTo>
                    <a:pt x="59715" y="264947"/>
                  </a:lnTo>
                  <a:lnTo>
                    <a:pt x="40309" y="272211"/>
                  </a:lnTo>
                  <a:lnTo>
                    <a:pt x="73812" y="303174"/>
                  </a:lnTo>
                  <a:lnTo>
                    <a:pt x="118999" y="281127"/>
                  </a:lnTo>
                  <a:lnTo>
                    <a:pt x="173913" y="236918"/>
                  </a:lnTo>
                  <a:lnTo>
                    <a:pt x="210629" y="185940"/>
                  </a:lnTo>
                  <a:lnTo>
                    <a:pt x="233324" y="136829"/>
                  </a:lnTo>
                  <a:lnTo>
                    <a:pt x="234759" y="134188"/>
                  </a:lnTo>
                  <a:lnTo>
                    <a:pt x="237820" y="129717"/>
                  </a:lnTo>
                  <a:lnTo>
                    <a:pt x="243039" y="123774"/>
                  </a:lnTo>
                  <a:lnTo>
                    <a:pt x="250964" y="116662"/>
                  </a:lnTo>
                  <a:close/>
                </a:path>
                <a:path w="939165" h="303529">
                  <a:moveTo>
                    <a:pt x="562000" y="65176"/>
                  </a:moveTo>
                  <a:lnTo>
                    <a:pt x="554024" y="57023"/>
                  </a:lnTo>
                  <a:lnTo>
                    <a:pt x="545477" y="49060"/>
                  </a:lnTo>
                  <a:lnTo>
                    <a:pt x="536727" y="41783"/>
                  </a:lnTo>
                  <a:lnTo>
                    <a:pt x="528154" y="35648"/>
                  </a:lnTo>
                  <a:lnTo>
                    <a:pt x="513041" y="54368"/>
                  </a:lnTo>
                  <a:lnTo>
                    <a:pt x="521868" y="60604"/>
                  </a:lnTo>
                  <a:lnTo>
                    <a:pt x="530771" y="68059"/>
                  </a:lnTo>
                  <a:lnTo>
                    <a:pt x="539267" y="76047"/>
                  </a:lnTo>
                  <a:lnTo>
                    <a:pt x="546887" y="83908"/>
                  </a:lnTo>
                  <a:lnTo>
                    <a:pt x="562000" y="65176"/>
                  </a:lnTo>
                  <a:close/>
                </a:path>
                <a:path w="939165" h="303529">
                  <a:moveTo>
                    <a:pt x="594042" y="216408"/>
                  </a:moveTo>
                  <a:lnTo>
                    <a:pt x="560273" y="183972"/>
                  </a:lnTo>
                  <a:lnTo>
                    <a:pt x="527431" y="150520"/>
                  </a:lnTo>
                  <a:lnTo>
                    <a:pt x="495414" y="116255"/>
                  </a:lnTo>
                  <a:lnTo>
                    <a:pt x="478637" y="97574"/>
                  </a:lnTo>
                  <a:lnTo>
                    <a:pt x="464070" y="81368"/>
                  </a:lnTo>
                  <a:lnTo>
                    <a:pt x="451408" y="67678"/>
                  </a:lnTo>
                  <a:lnTo>
                    <a:pt x="440067" y="57886"/>
                  </a:lnTo>
                  <a:lnTo>
                    <a:pt x="427863" y="52019"/>
                  </a:lnTo>
                  <a:lnTo>
                    <a:pt x="412572" y="50050"/>
                  </a:lnTo>
                  <a:lnTo>
                    <a:pt x="398487" y="52019"/>
                  </a:lnTo>
                  <a:lnTo>
                    <a:pt x="385165" y="59423"/>
                  </a:lnTo>
                  <a:lnTo>
                    <a:pt x="368782" y="74663"/>
                  </a:lnTo>
                  <a:lnTo>
                    <a:pt x="345605" y="100101"/>
                  </a:lnTo>
                  <a:lnTo>
                    <a:pt x="324180" y="123913"/>
                  </a:lnTo>
                  <a:lnTo>
                    <a:pt x="309511" y="139852"/>
                  </a:lnTo>
                  <a:lnTo>
                    <a:pt x="296595" y="153022"/>
                  </a:lnTo>
                  <a:lnTo>
                    <a:pt x="280441" y="168516"/>
                  </a:lnTo>
                  <a:lnTo>
                    <a:pt x="317169" y="200558"/>
                  </a:lnTo>
                  <a:lnTo>
                    <a:pt x="332232" y="182994"/>
                  </a:lnTo>
                  <a:lnTo>
                    <a:pt x="389890" y="113055"/>
                  </a:lnTo>
                  <a:lnTo>
                    <a:pt x="394944" y="107149"/>
                  </a:lnTo>
                  <a:lnTo>
                    <a:pt x="400113" y="102222"/>
                  </a:lnTo>
                  <a:lnTo>
                    <a:pt x="405739" y="98831"/>
                  </a:lnTo>
                  <a:lnTo>
                    <a:pt x="412216" y="97574"/>
                  </a:lnTo>
                  <a:lnTo>
                    <a:pt x="418985" y="98691"/>
                  </a:lnTo>
                  <a:lnTo>
                    <a:pt x="425361" y="102666"/>
                  </a:lnTo>
                  <a:lnTo>
                    <a:pt x="433082" y="110502"/>
                  </a:lnTo>
                  <a:lnTo>
                    <a:pt x="472541" y="156768"/>
                  </a:lnTo>
                  <a:lnTo>
                    <a:pt x="499668" y="187604"/>
                  </a:lnTo>
                  <a:lnTo>
                    <a:pt x="528612" y="218440"/>
                  </a:lnTo>
                  <a:lnTo>
                    <a:pt x="562724" y="252044"/>
                  </a:lnTo>
                  <a:lnTo>
                    <a:pt x="594042" y="216408"/>
                  </a:lnTo>
                  <a:close/>
                </a:path>
                <a:path w="939165" h="303529">
                  <a:moveTo>
                    <a:pt x="595490" y="28448"/>
                  </a:moveTo>
                  <a:lnTo>
                    <a:pt x="587057" y="20116"/>
                  </a:lnTo>
                  <a:lnTo>
                    <a:pt x="578523" y="12471"/>
                  </a:lnTo>
                  <a:lnTo>
                    <a:pt x="569912" y="5715"/>
                  </a:lnTo>
                  <a:lnTo>
                    <a:pt x="561276" y="0"/>
                  </a:lnTo>
                  <a:lnTo>
                    <a:pt x="546163" y="18364"/>
                  </a:lnTo>
                  <a:lnTo>
                    <a:pt x="553580" y="23685"/>
                  </a:lnTo>
                  <a:lnTo>
                    <a:pt x="562000" y="30340"/>
                  </a:lnTo>
                  <a:lnTo>
                    <a:pt x="570966" y="38227"/>
                  </a:lnTo>
                  <a:lnTo>
                    <a:pt x="580009" y="47180"/>
                  </a:lnTo>
                  <a:lnTo>
                    <a:pt x="595490" y="28448"/>
                  </a:lnTo>
                  <a:close/>
                </a:path>
                <a:path w="939165" h="303529">
                  <a:moveTo>
                    <a:pt x="744855" y="34213"/>
                  </a:moveTo>
                  <a:lnTo>
                    <a:pt x="740892" y="33134"/>
                  </a:lnTo>
                  <a:lnTo>
                    <a:pt x="734415" y="32778"/>
                  </a:lnTo>
                  <a:lnTo>
                    <a:pt x="690841" y="29883"/>
                  </a:lnTo>
                  <a:lnTo>
                    <a:pt x="692073" y="40373"/>
                  </a:lnTo>
                  <a:lnTo>
                    <a:pt x="693369" y="55410"/>
                  </a:lnTo>
                  <a:lnTo>
                    <a:pt x="694385" y="74701"/>
                  </a:lnTo>
                  <a:lnTo>
                    <a:pt x="694804" y="97942"/>
                  </a:lnTo>
                  <a:lnTo>
                    <a:pt x="687628" y="154876"/>
                  </a:lnTo>
                  <a:lnTo>
                    <a:pt x="669239" y="194221"/>
                  </a:lnTo>
                  <a:lnTo>
                    <a:pt x="644372" y="220535"/>
                  </a:lnTo>
                  <a:lnTo>
                    <a:pt x="617753" y="238366"/>
                  </a:lnTo>
                  <a:lnTo>
                    <a:pt x="657720" y="267525"/>
                  </a:lnTo>
                  <a:lnTo>
                    <a:pt x="703224" y="222300"/>
                  </a:lnTo>
                  <a:lnTo>
                    <a:pt x="723392" y="185762"/>
                  </a:lnTo>
                  <a:lnTo>
                    <a:pt x="735495" y="136829"/>
                  </a:lnTo>
                  <a:lnTo>
                    <a:pt x="737184" y="97942"/>
                  </a:lnTo>
                  <a:lnTo>
                    <a:pt x="737298" y="45732"/>
                  </a:lnTo>
                  <a:lnTo>
                    <a:pt x="739813" y="43573"/>
                  </a:lnTo>
                  <a:lnTo>
                    <a:pt x="744131" y="39979"/>
                  </a:lnTo>
                  <a:lnTo>
                    <a:pt x="744855" y="39611"/>
                  </a:lnTo>
                  <a:lnTo>
                    <a:pt x="744855" y="34213"/>
                  </a:lnTo>
                  <a:close/>
                </a:path>
                <a:path w="939165" h="303529">
                  <a:moveTo>
                    <a:pt x="938923" y="146558"/>
                  </a:moveTo>
                  <a:lnTo>
                    <a:pt x="914438" y="110185"/>
                  </a:lnTo>
                  <a:lnTo>
                    <a:pt x="894219" y="136944"/>
                  </a:lnTo>
                  <a:lnTo>
                    <a:pt x="869886" y="163029"/>
                  </a:lnTo>
                  <a:lnTo>
                    <a:pt x="844067" y="185737"/>
                  </a:lnTo>
                  <a:lnTo>
                    <a:pt x="819391" y="202349"/>
                  </a:lnTo>
                  <a:lnTo>
                    <a:pt x="819391" y="44653"/>
                  </a:lnTo>
                  <a:lnTo>
                    <a:pt x="823696" y="41046"/>
                  </a:lnTo>
                  <a:lnTo>
                    <a:pt x="823696" y="40690"/>
                  </a:lnTo>
                  <a:lnTo>
                    <a:pt x="826947" y="37807"/>
                  </a:lnTo>
                  <a:lnTo>
                    <a:pt x="827671" y="36741"/>
                  </a:lnTo>
                  <a:lnTo>
                    <a:pt x="827671" y="31686"/>
                  </a:lnTo>
                  <a:lnTo>
                    <a:pt x="817587" y="30619"/>
                  </a:lnTo>
                  <a:lnTo>
                    <a:pt x="775817" y="25577"/>
                  </a:lnTo>
                  <a:lnTo>
                    <a:pt x="775817" y="244132"/>
                  </a:lnTo>
                  <a:lnTo>
                    <a:pt x="806424" y="267893"/>
                  </a:lnTo>
                  <a:lnTo>
                    <a:pt x="840397" y="245440"/>
                  </a:lnTo>
                  <a:lnTo>
                    <a:pt x="875639" y="216001"/>
                  </a:lnTo>
                  <a:lnTo>
                    <a:pt x="889266" y="202349"/>
                  </a:lnTo>
                  <a:lnTo>
                    <a:pt x="909408" y="182181"/>
                  </a:lnTo>
                  <a:lnTo>
                    <a:pt x="938923" y="1465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object 42" descr=""/>
            <p:cNvPicPr/>
            <p:nvPr/>
          </p:nvPicPr>
          <p:blipFill>
            <a:blip r:embed="rId2"/>
            <a:stretch/>
          </p:blipFill>
          <p:spPr>
            <a:xfrm>
              <a:off x="9050760" y="1346400"/>
              <a:ext cx="933120" cy="10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44" descr=""/>
            <p:cNvPicPr/>
            <p:nvPr/>
          </p:nvPicPr>
          <p:blipFill>
            <a:blip r:embed="rId3"/>
            <a:stretch/>
          </p:blipFill>
          <p:spPr>
            <a:xfrm>
              <a:off x="336960" y="134316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" name="object 45"/>
            <p:cNvGrpSpPr/>
            <p:nvPr/>
          </p:nvGrpSpPr>
          <p:grpSpPr>
            <a:xfrm>
              <a:off x="609480" y="1316520"/>
              <a:ext cx="6192720" cy="207000"/>
              <a:chOff x="609480" y="1316520"/>
              <a:chExt cx="6192720" cy="207000"/>
            </a:xfrm>
          </p:grpSpPr>
          <p:pic>
            <p:nvPicPr>
              <p:cNvPr id="85" name="object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609480" y="1321200"/>
                <a:ext cx="1416240" cy="192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object 47" descr=""/>
              <p:cNvPicPr/>
              <p:nvPr/>
            </p:nvPicPr>
            <p:blipFill>
              <a:blip r:embed="rId5"/>
              <a:stretch/>
            </p:blipFill>
            <p:spPr>
              <a:xfrm>
                <a:off x="2045160" y="1316520"/>
                <a:ext cx="4757040" cy="207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7" name="object 48" descr=""/>
            <p:cNvPicPr/>
            <p:nvPr/>
          </p:nvPicPr>
          <p:blipFill>
            <a:blip r:embed="rId6"/>
            <a:stretch/>
          </p:blipFill>
          <p:spPr>
            <a:xfrm>
              <a:off x="336960" y="173916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object 49"/>
            <p:cNvGrpSpPr/>
            <p:nvPr/>
          </p:nvGrpSpPr>
          <p:grpSpPr>
            <a:xfrm>
              <a:off x="610200" y="1708560"/>
              <a:ext cx="6248160" cy="210600"/>
              <a:chOff x="610200" y="1708560"/>
              <a:chExt cx="6248160" cy="210600"/>
            </a:xfrm>
          </p:grpSpPr>
          <p:pic>
            <p:nvPicPr>
              <p:cNvPr id="89" name="object 50" descr=""/>
              <p:cNvPicPr/>
              <p:nvPr/>
            </p:nvPicPr>
            <p:blipFill>
              <a:blip r:embed="rId7"/>
              <a:stretch/>
            </p:blipFill>
            <p:spPr>
              <a:xfrm>
                <a:off x="610200" y="1726200"/>
                <a:ext cx="192600" cy="18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object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825480" y="1725840"/>
                <a:ext cx="18468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object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36800" y="1753920"/>
                <a:ext cx="16776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5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24000" y="1708560"/>
                <a:ext cx="5634360" cy="210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3" name="object 54" descr=""/>
            <p:cNvPicPr/>
            <p:nvPr/>
          </p:nvPicPr>
          <p:blipFill>
            <a:blip r:embed="rId11"/>
            <a:stretch/>
          </p:blipFill>
          <p:spPr>
            <a:xfrm>
              <a:off x="336960" y="213516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object 55" descr=""/>
            <p:cNvPicPr/>
            <p:nvPr/>
          </p:nvPicPr>
          <p:blipFill>
            <a:blip r:embed="rId12"/>
            <a:stretch/>
          </p:blipFill>
          <p:spPr>
            <a:xfrm>
              <a:off x="603720" y="2108520"/>
              <a:ext cx="4654440" cy="20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object 56"/>
            <p:cNvGrpSpPr/>
            <p:nvPr/>
          </p:nvGrpSpPr>
          <p:grpSpPr>
            <a:xfrm>
              <a:off x="5349240" y="2108520"/>
              <a:ext cx="2701080" cy="207000"/>
              <a:chOff x="5349240" y="2108520"/>
              <a:chExt cx="2701080" cy="207000"/>
            </a:xfrm>
          </p:grpSpPr>
          <p:pic>
            <p:nvPicPr>
              <p:cNvPr id="96" name="object 57" descr=""/>
              <p:cNvPicPr/>
              <p:nvPr/>
            </p:nvPicPr>
            <p:blipFill>
              <a:blip r:embed="rId13"/>
              <a:stretch/>
            </p:blipFill>
            <p:spPr>
              <a:xfrm>
                <a:off x="5349240" y="2108520"/>
                <a:ext cx="1895400" cy="2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object 58"/>
              <p:cNvSpPr/>
              <p:nvPr/>
            </p:nvSpPr>
            <p:spPr>
              <a:xfrm>
                <a:off x="7264080" y="2197800"/>
                <a:ext cx="153360" cy="27720"/>
              </a:xfrm>
              <a:custGeom>
                <a:avLst/>
                <a:gdLst/>
                <a:ahLst/>
                <a:rect l="l" t="t" r="r" b="b"/>
                <a:pathLst>
                  <a:path w="153670" h="27939">
                    <a:moveTo>
                      <a:pt x="153631" y="0"/>
                    </a:moveTo>
                    <a:lnTo>
                      <a:pt x="0" y="0"/>
                    </a:lnTo>
                    <a:lnTo>
                      <a:pt x="0" y="27444"/>
                    </a:lnTo>
                    <a:lnTo>
                      <a:pt x="153631" y="27444"/>
                    </a:lnTo>
                    <a:lnTo>
                      <a:pt x="153631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8" name="object 59" descr=""/>
              <p:cNvPicPr/>
              <p:nvPr/>
            </p:nvPicPr>
            <p:blipFill>
              <a:blip r:embed="rId14"/>
              <a:stretch/>
            </p:blipFill>
            <p:spPr>
              <a:xfrm>
                <a:off x="7440480" y="2121840"/>
                <a:ext cx="151200" cy="17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object 60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20840" y="2127960"/>
                <a:ext cx="16452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object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7805880" y="2116800"/>
                <a:ext cx="162360" cy="1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object 62"/>
              <p:cNvSpPr/>
              <p:nvPr/>
            </p:nvSpPr>
            <p:spPr>
              <a:xfrm>
                <a:off x="7994160" y="2108520"/>
                <a:ext cx="56160" cy="207000"/>
              </a:xfrm>
              <a:custGeom>
                <a:avLst/>
                <a:gdLst/>
                <a:ahLst/>
                <a:rect l="l" t="t" r="r" b="b"/>
                <a:pathLst>
                  <a:path w="56515" h="207010">
                    <a:moveTo>
                      <a:pt x="16421" y="0"/>
                    </a:moveTo>
                    <a:lnTo>
                      <a:pt x="0" y="14477"/>
                    </a:lnTo>
                    <a:lnTo>
                      <a:pt x="9917" y="27472"/>
                    </a:lnTo>
                    <a:lnTo>
                      <a:pt x="20986" y="46318"/>
                    </a:lnTo>
                    <a:lnTo>
                      <a:pt x="29989" y="71444"/>
                    </a:lnTo>
                    <a:lnTo>
                      <a:pt x="33705" y="103276"/>
                    </a:lnTo>
                    <a:lnTo>
                      <a:pt x="29989" y="135201"/>
                    </a:lnTo>
                    <a:lnTo>
                      <a:pt x="20986" y="160321"/>
                    </a:lnTo>
                    <a:lnTo>
                      <a:pt x="9917" y="179121"/>
                    </a:lnTo>
                    <a:lnTo>
                      <a:pt x="0" y="192087"/>
                    </a:lnTo>
                    <a:lnTo>
                      <a:pt x="16421" y="206565"/>
                    </a:lnTo>
                    <a:lnTo>
                      <a:pt x="28013" y="191703"/>
                    </a:lnTo>
                    <a:lnTo>
                      <a:pt x="41084" y="169832"/>
                    </a:lnTo>
                    <a:lnTo>
                      <a:pt x="51764" y="140505"/>
                    </a:lnTo>
                    <a:lnTo>
                      <a:pt x="56184" y="103276"/>
                    </a:lnTo>
                    <a:lnTo>
                      <a:pt x="51764" y="66176"/>
                    </a:lnTo>
                    <a:lnTo>
                      <a:pt x="41084" y="36893"/>
                    </a:lnTo>
                    <a:lnTo>
                      <a:pt x="28013" y="14983"/>
                    </a:lnTo>
                    <a:lnTo>
                      <a:pt x="16421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2" name="object 63" descr=""/>
            <p:cNvPicPr/>
            <p:nvPr/>
          </p:nvPicPr>
          <p:blipFill>
            <a:blip r:embed="rId17"/>
            <a:stretch/>
          </p:blipFill>
          <p:spPr>
            <a:xfrm>
              <a:off x="8110800" y="2239920"/>
              <a:ext cx="66600" cy="6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object 64" descr=""/>
            <p:cNvPicPr/>
            <p:nvPr/>
          </p:nvPicPr>
          <p:blipFill>
            <a:blip r:embed="rId18"/>
            <a:stretch/>
          </p:blipFill>
          <p:spPr>
            <a:xfrm>
              <a:off x="336960" y="253080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object 65"/>
            <p:cNvGrpSpPr/>
            <p:nvPr/>
          </p:nvGrpSpPr>
          <p:grpSpPr>
            <a:xfrm>
              <a:off x="612720" y="2511360"/>
              <a:ext cx="3918240" cy="199800"/>
              <a:chOff x="612720" y="2511360"/>
              <a:chExt cx="3918240" cy="199800"/>
            </a:xfrm>
          </p:grpSpPr>
          <p:pic>
            <p:nvPicPr>
              <p:cNvPr id="105" name="object 66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2720" y="2512440"/>
                <a:ext cx="206388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object 67" descr=""/>
              <p:cNvPicPr/>
              <p:nvPr/>
            </p:nvPicPr>
            <p:blipFill>
              <a:blip r:embed="rId20"/>
              <a:stretch/>
            </p:blipFill>
            <p:spPr>
              <a:xfrm>
                <a:off x="2696040" y="2511360"/>
                <a:ext cx="1834920" cy="191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7" name="object 68" descr=""/>
            <p:cNvPicPr/>
            <p:nvPr/>
          </p:nvPicPr>
          <p:blipFill>
            <a:blip r:embed="rId21"/>
            <a:stretch/>
          </p:blipFill>
          <p:spPr>
            <a:xfrm>
              <a:off x="4595760" y="2517480"/>
              <a:ext cx="171720" cy="182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object 69"/>
            <p:cNvGrpSpPr/>
            <p:nvPr/>
          </p:nvGrpSpPr>
          <p:grpSpPr>
            <a:xfrm>
              <a:off x="4814280" y="2511360"/>
              <a:ext cx="3535560" cy="193320"/>
              <a:chOff x="4814280" y="2511360"/>
              <a:chExt cx="3535560" cy="193320"/>
            </a:xfrm>
          </p:grpSpPr>
          <p:pic>
            <p:nvPicPr>
              <p:cNvPr id="109" name="object 70" descr=""/>
              <p:cNvPicPr/>
              <p:nvPr/>
            </p:nvPicPr>
            <p:blipFill>
              <a:blip r:embed="rId22"/>
              <a:stretch/>
            </p:blipFill>
            <p:spPr>
              <a:xfrm>
                <a:off x="4814280" y="2511360"/>
                <a:ext cx="340920" cy="189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object 71" descr=""/>
              <p:cNvPicPr/>
              <p:nvPr/>
            </p:nvPicPr>
            <p:blipFill>
              <a:blip r:embed="rId23"/>
              <a:stretch/>
            </p:blipFill>
            <p:spPr>
              <a:xfrm>
                <a:off x="5179680" y="2512440"/>
                <a:ext cx="196560" cy="18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object 72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00000" y="2528640"/>
                <a:ext cx="175680" cy="16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object 73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00880" y="2545560"/>
                <a:ext cx="167760" cy="13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object 74" descr=""/>
              <p:cNvPicPr/>
              <p:nvPr/>
            </p:nvPicPr>
            <p:blipFill>
              <a:blip r:embed="rId26"/>
              <a:stretch/>
            </p:blipFill>
            <p:spPr>
              <a:xfrm>
                <a:off x="5788440" y="2511360"/>
                <a:ext cx="2561400" cy="193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4" name="object 75" descr=""/>
            <p:cNvPicPr/>
            <p:nvPr/>
          </p:nvPicPr>
          <p:blipFill>
            <a:blip r:embed="rId27"/>
            <a:stretch/>
          </p:blipFill>
          <p:spPr>
            <a:xfrm>
              <a:off x="336960" y="2926800"/>
              <a:ext cx="153720" cy="153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object 76"/>
            <p:cNvGrpSpPr/>
            <p:nvPr/>
          </p:nvGrpSpPr>
          <p:grpSpPr>
            <a:xfrm>
              <a:off x="609840" y="2913840"/>
              <a:ext cx="1145880" cy="182520"/>
              <a:chOff x="609840" y="2913840"/>
              <a:chExt cx="1145880" cy="182520"/>
            </a:xfrm>
          </p:grpSpPr>
          <p:pic>
            <p:nvPicPr>
              <p:cNvPr id="116" name="object 77" descr=""/>
              <p:cNvPicPr/>
              <p:nvPr/>
            </p:nvPicPr>
            <p:blipFill>
              <a:blip r:embed="rId28"/>
              <a:stretch/>
            </p:blipFill>
            <p:spPr>
              <a:xfrm>
                <a:off x="609840" y="2916360"/>
                <a:ext cx="184680" cy="18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object 78" descr=""/>
              <p:cNvPicPr/>
              <p:nvPr/>
            </p:nvPicPr>
            <p:blipFill>
              <a:blip r:embed="rId29"/>
              <a:stretch/>
            </p:blipFill>
            <p:spPr>
              <a:xfrm>
                <a:off x="824760" y="2914920"/>
                <a:ext cx="19188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object 79" descr=""/>
              <p:cNvPicPr/>
              <p:nvPr/>
            </p:nvPicPr>
            <p:blipFill>
              <a:blip r:embed="rId30"/>
              <a:stretch/>
            </p:blipFill>
            <p:spPr>
              <a:xfrm>
                <a:off x="1040040" y="2924640"/>
                <a:ext cx="175320" cy="16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object 80" descr=""/>
              <p:cNvPicPr/>
              <p:nvPr/>
            </p:nvPicPr>
            <p:blipFill>
              <a:blip r:embed="rId31"/>
              <a:stretch/>
            </p:blipFill>
            <p:spPr>
              <a:xfrm>
                <a:off x="1240560" y="2941560"/>
                <a:ext cx="167760" cy="13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object 81"/>
              <p:cNvSpPr/>
              <p:nvPr/>
            </p:nvSpPr>
            <p:spPr>
              <a:xfrm>
                <a:off x="1428120" y="2989800"/>
                <a:ext cx="153360" cy="27720"/>
              </a:xfrm>
              <a:custGeom>
                <a:avLst/>
                <a:gdLst/>
                <a:ahLst/>
                <a:rect l="l" t="t" r="r" b="b"/>
                <a:pathLst>
                  <a:path w="153669" h="27939">
                    <a:moveTo>
                      <a:pt x="153631" y="0"/>
                    </a:moveTo>
                    <a:lnTo>
                      <a:pt x="0" y="0"/>
                    </a:lnTo>
                    <a:lnTo>
                      <a:pt x="0" y="27444"/>
                    </a:lnTo>
                    <a:lnTo>
                      <a:pt x="153631" y="27444"/>
                    </a:lnTo>
                    <a:lnTo>
                      <a:pt x="153631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1" name="object 82" descr=""/>
              <p:cNvPicPr/>
              <p:nvPr/>
            </p:nvPicPr>
            <p:blipFill>
              <a:blip r:embed="rId32"/>
              <a:stretch/>
            </p:blipFill>
            <p:spPr>
              <a:xfrm>
                <a:off x="1604520" y="2913840"/>
                <a:ext cx="151200" cy="178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object 83"/>
            <p:cNvGrpSpPr/>
            <p:nvPr/>
          </p:nvGrpSpPr>
          <p:grpSpPr>
            <a:xfrm>
              <a:off x="1816200" y="2899080"/>
              <a:ext cx="1071000" cy="208080"/>
              <a:chOff x="1816200" y="2899080"/>
              <a:chExt cx="1071000" cy="208080"/>
            </a:xfrm>
          </p:grpSpPr>
          <p:sp>
            <p:nvSpPr>
              <p:cNvPr id="123" name="object 84"/>
              <p:cNvSpPr/>
              <p:nvPr/>
            </p:nvSpPr>
            <p:spPr>
              <a:xfrm>
                <a:off x="1816200" y="2900520"/>
                <a:ext cx="56520" cy="206640"/>
              </a:xfrm>
              <a:custGeom>
                <a:avLst/>
                <a:gdLst/>
                <a:ahLst/>
                <a:rect l="l" t="t" r="r" b="b"/>
                <a:pathLst>
                  <a:path w="56514" h="207010">
                    <a:moveTo>
                      <a:pt x="39750" y="0"/>
                    </a:moveTo>
                    <a:lnTo>
                      <a:pt x="28160" y="14861"/>
                    </a:lnTo>
                    <a:lnTo>
                      <a:pt x="15093" y="36731"/>
                    </a:lnTo>
                    <a:lnTo>
                      <a:pt x="4418" y="66054"/>
                    </a:lnTo>
                    <a:lnTo>
                      <a:pt x="0" y="103276"/>
                    </a:lnTo>
                    <a:lnTo>
                      <a:pt x="4418" y="140384"/>
                    </a:lnTo>
                    <a:lnTo>
                      <a:pt x="15093" y="169670"/>
                    </a:lnTo>
                    <a:lnTo>
                      <a:pt x="28160" y="191582"/>
                    </a:lnTo>
                    <a:lnTo>
                      <a:pt x="39750" y="206565"/>
                    </a:lnTo>
                    <a:lnTo>
                      <a:pt x="56172" y="192087"/>
                    </a:lnTo>
                    <a:lnTo>
                      <a:pt x="46254" y="179121"/>
                    </a:lnTo>
                    <a:lnTo>
                      <a:pt x="35185" y="160321"/>
                    </a:lnTo>
                    <a:lnTo>
                      <a:pt x="26182" y="135201"/>
                    </a:lnTo>
                    <a:lnTo>
                      <a:pt x="22466" y="103276"/>
                    </a:lnTo>
                    <a:lnTo>
                      <a:pt x="26182" y="71444"/>
                    </a:lnTo>
                    <a:lnTo>
                      <a:pt x="35185" y="46318"/>
                    </a:lnTo>
                    <a:lnTo>
                      <a:pt x="46254" y="27472"/>
                    </a:lnTo>
                    <a:lnTo>
                      <a:pt x="56172" y="14477"/>
                    </a:lnTo>
                    <a:lnTo>
                      <a:pt x="39750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4" name="object 85" descr=""/>
              <p:cNvPicPr/>
              <p:nvPr/>
            </p:nvPicPr>
            <p:blipFill>
              <a:blip r:embed="rId33"/>
              <a:stretch/>
            </p:blipFill>
            <p:spPr>
              <a:xfrm>
                <a:off x="1894680" y="2899080"/>
                <a:ext cx="303480" cy="200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object 86"/>
              <p:cNvSpPr/>
              <p:nvPr/>
            </p:nvSpPr>
            <p:spPr>
              <a:xfrm>
                <a:off x="2220840" y="2989800"/>
                <a:ext cx="153360" cy="27720"/>
              </a:xfrm>
              <a:custGeom>
                <a:avLst/>
                <a:gdLst/>
                <a:ahLst/>
                <a:rect l="l" t="t" r="r" b="b"/>
                <a:pathLst>
                  <a:path w="153669" h="27939">
                    <a:moveTo>
                      <a:pt x="153631" y="0"/>
                    </a:moveTo>
                    <a:lnTo>
                      <a:pt x="0" y="0"/>
                    </a:lnTo>
                    <a:lnTo>
                      <a:pt x="0" y="27444"/>
                    </a:lnTo>
                    <a:lnTo>
                      <a:pt x="153631" y="27444"/>
                    </a:lnTo>
                    <a:lnTo>
                      <a:pt x="153631" y="0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6" name="object 87" descr=""/>
              <p:cNvPicPr/>
              <p:nvPr/>
            </p:nvPicPr>
            <p:blipFill>
              <a:blip r:embed="rId34"/>
              <a:stretch/>
            </p:blipFill>
            <p:spPr>
              <a:xfrm>
                <a:off x="2403360" y="2900520"/>
                <a:ext cx="483840" cy="206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7" name="object 88"/>
            <p:cNvGrpSpPr/>
            <p:nvPr/>
          </p:nvGrpSpPr>
          <p:grpSpPr>
            <a:xfrm>
              <a:off x="2958120" y="2918880"/>
              <a:ext cx="257760" cy="180000"/>
              <a:chOff x="2958120" y="2918880"/>
              <a:chExt cx="257760" cy="180000"/>
            </a:xfrm>
          </p:grpSpPr>
          <p:pic>
            <p:nvPicPr>
              <p:cNvPr id="128" name="object 89" descr=""/>
              <p:cNvPicPr/>
              <p:nvPr/>
            </p:nvPicPr>
            <p:blipFill>
              <a:blip r:embed="rId35"/>
              <a:stretch/>
            </p:blipFill>
            <p:spPr>
              <a:xfrm>
                <a:off x="2958120" y="2918880"/>
                <a:ext cx="168840" cy="16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90" descr=""/>
              <p:cNvPicPr/>
              <p:nvPr/>
            </p:nvPicPr>
            <p:blipFill>
              <a:blip r:embed="rId36"/>
              <a:stretch/>
            </p:blipFill>
            <p:spPr>
              <a:xfrm>
                <a:off x="3151800" y="3034080"/>
                <a:ext cx="64080" cy="64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0" name="object 91"/>
            <p:cNvGrpSpPr/>
            <p:nvPr/>
          </p:nvGrpSpPr>
          <p:grpSpPr>
            <a:xfrm>
              <a:off x="3269880" y="2904840"/>
              <a:ext cx="6131880" cy="197280"/>
              <a:chOff x="3269880" y="2904840"/>
              <a:chExt cx="6131880" cy="197280"/>
            </a:xfrm>
          </p:grpSpPr>
          <p:sp>
            <p:nvSpPr>
              <p:cNvPr id="131" name="object 92"/>
              <p:cNvSpPr/>
              <p:nvPr/>
            </p:nvSpPr>
            <p:spPr>
              <a:xfrm>
                <a:off x="3269880" y="2904840"/>
                <a:ext cx="349200" cy="190080"/>
              </a:xfrm>
              <a:custGeom>
                <a:avLst/>
                <a:gdLst/>
                <a:ahLst/>
                <a:rect l="l" t="t" r="r" b="b"/>
                <a:pathLst>
                  <a:path w="349250" h="189864">
                    <a:moveTo>
                      <a:pt x="134823" y="17081"/>
                    </a:moveTo>
                    <a:lnTo>
                      <a:pt x="29171" y="17081"/>
                    </a:lnTo>
                    <a:lnTo>
                      <a:pt x="29171" y="40627"/>
                    </a:lnTo>
                    <a:lnTo>
                      <a:pt x="134823" y="40627"/>
                    </a:lnTo>
                    <a:lnTo>
                      <a:pt x="134823" y="17081"/>
                    </a:lnTo>
                    <a:close/>
                  </a:path>
                  <a:path w="349250" h="189864">
                    <a:moveTo>
                      <a:pt x="162267" y="71742"/>
                    </a:moveTo>
                    <a:lnTo>
                      <a:pt x="0" y="71742"/>
                    </a:lnTo>
                    <a:lnTo>
                      <a:pt x="0" y="94208"/>
                    </a:lnTo>
                    <a:lnTo>
                      <a:pt x="72161" y="94208"/>
                    </a:lnTo>
                    <a:lnTo>
                      <a:pt x="68160" y="123913"/>
                    </a:lnTo>
                    <a:lnTo>
                      <a:pt x="57353" y="145199"/>
                    </a:lnTo>
                    <a:lnTo>
                      <a:pt x="39585" y="160324"/>
                    </a:lnTo>
                    <a:lnTo>
                      <a:pt x="14693" y="171564"/>
                    </a:lnTo>
                    <a:lnTo>
                      <a:pt x="35001" y="189712"/>
                    </a:lnTo>
                    <a:lnTo>
                      <a:pt x="62191" y="174066"/>
                    </a:lnTo>
                    <a:lnTo>
                      <a:pt x="81445" y="154114"/>
                    </a:lnTo>
                    <a:lnTo>
                      <a:pt x="93091" y="128092"/>
                    </a:lnTo>
                    <a:lnTo>
                      <a:pt x="97447" y="94208"/>
                    </a:lnTo>
                    <a:lnTo>
                      <a:pt x="162267" y="94208"/>
                    </a:lnTo>
                    <a:lnTo>
                      <a:pt x="162267" y="71742"/>
                    </a:lnTo>
                    <a:close/>
                  </a:path>
                  <a:path w="349250" h="189864">
                    <a:moveTo>
                      <a:pt x="178904" y="41706"/>
                    </a:moveTo>
                    <a:lnTo>
                      <a:pt x="173507" y="37109"/>
                    </a:lnTo>
                    <a:lnTo>
                      <a:pt x="168287" y="33121"/>
                    </a:lnTo>
                    <a:lnTo>
                      <a:pt x="162712" y="29362"/>
                    </a:lnTo>
                    <a:lnTo>
                      <a:pt x="156222" y="25501"/>
                    </a:lnTo>
                    <a:lnTo>
                      <a:pt x="148005" y="37604"/>
                    </a:lnTo>
                    <a:lnTo>
                      <a:pt x="152552" y="40411"/>
                    </a:lnTo>
                    <a:lnTo>
                      <a:pt x="157810" y="43840"/>
                    </a:lnTo>
                    <a:lnTo>
                      <a:pt x="163830" y="48209"/>
                    </a:lnTo>
                    <a:lnTo>
                      <a:pt x="170688" y="53809"/>
                    </a:lnTo>
                    <a:lnTo>
                      <a:pt x="178904" y="41706"/>
                    </a:lnTo>
                    <a:close/>
                  </a:path>
                  <a:path w="349250" h="189864">
                    <a:moveTo>
                      <a:pt x="184950" y="14693"/>
                    </a:moveTo>
                    <a:lnTo>
                      <a:pt x="182079" y="12153"/>
                    </a:lnTo>
                    <a:lnTo>
                      <a:pt x="178092" y="9131"/>
                    </a:lnTo>
                    <a:lnTo>
                      <a:pt x="172072" y="5219"/>
                    </a:lnTo>
                    <a:lnTo>
                      <a:pt x="163131" y="0"/>
                    </a:lnTo>
                    <a:lnTo>
                      <a:pt x="155130" y="11671"/>
                    </a:lnTo>
                    <a:lnTo>
                      <a:pt x="163944" y="16764"/>
                    </a:lnTo>
                    <a:lnTo>
                      <a:pt x="169926" y="20637"/>
                    </a:lnTo>
                    <a:lnTo>
                      <a:pt x="173964" y="23710"/>
                    </a:lnTo>
                    <a:lnTo>
                      <a:pt x="176961" y="26365"/>
                    </a:lnTo>
                    <a:lnTo>
                      <a:pt x="184950" y="14693"/>
                    </a:lnTo>
                    <a:close/>
                  </a:path>
                  <a:path w="349250" h="189864">
                    <a:moveTo>
                      <a:pt x="349110" y="85128"/>
                    </a:moveTo>
                    <a:lnTo>
                      <a:pt x="195491" y="85128"/>
                    </a:lnTo>
                    <a:lnTo>
                      <a:pt x="195491" y="112572"/>
                    </a:lnTo>
                    <a:lnTo>
                      <a:pt x="349110" y="112572"/>
                    </a:lnTo>
                    <a:lnTo>
                      <a:pt x="349110" y="85128"/>
                    </a:lnTo>
                    <a:close/>
                  </a:path>
                </a:pathLst>
              </a:custGeom>
              <a:solidFill>
                <a:srgbClr val="ed1c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2" name="object 93" descr=""/>
              <p:cNvPicPr/>
              <p:nvPr/>
            </p:nvPicPr>
            <p:blipFill>
              <a:blip r:embed="rId37"/>
              <a:stretch/>
            </p:blipFill>
            <p:spPr>
              <a:xfrm>
                <a:off x="3645000" y="2913120"/>
                <a:ext cx="147960" cy="18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94" descr=""/>
              <p:cNvPicPr/>
              <p:nvPr/>
            </p:nvPicPr>
            <p:blipFill>
              <a:blip r:embed="rId38"/>
              <a:stretch/>
            </p:blipFill>
            <p:spPr>
              <a:xfrm>
                <a:off x="3818520" y="2912760"/>
                <a:ext cx="163440" cy="18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95" descr=""/>
              <p:cNvPicPr/>
              <p:nvPr/>
            </p:nvPicPr>
            <p:blipFill>
              <a:blip r:embed="rId39"/>
              <a:stretch/>
            </p:blipFill>
            <p:spPr>
              <a:xfrm>
                <a:off x="4010040" y="2908440"/>
                <a:ext cx="305532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96" descr=""/>
              <p:cNvPicPr/>
              <p:nvPr/>
            </p:nvPicPr>
            <p:blipFill>
              <a:blip r:embed="rId40"/>
              <a:stretch/>
            </p:blipFill>
            <p:spPr>
              <a:xfrm>
                <a:off x="7085160" y="2907360"/>
                <a:ext cx="2316600" cy="193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6" name="object 97"/>
            <p:cNvGrpSpPr/>
            <p:nvPr/>
          </p:nvGrpSpPr>
          <p:grpSpPr>
            <a:xfrm>
              <a:off x="8433000" y="2108520"/>
              <a:ext cx="2044440" cy="136800"/>
              <a:chOff x="8433000" y="2108520"/>
              <a:chExt cx="2044440" cy="136800"/>
            </a:xfrm>
          </p:grpSpPr>
          <p:sp>
            <p:nvSpPr>
              <p:cNvPr id="137" name="object 98"/>
              <p:cNvSpPr/>
              <p:nvPr/>
            </p:nvSpPr>
            <p:spPr>
              <a:xfrm>
                <a:off x="8433000" y="2125080"/>
                <a:ext cx="124200" cy="112320"/>
              </a:xfrm>
              <a:custGeom>
                <a:avLst/>
                <a:gdLst/>
                <a:ahLst/>
                <a:rect l="l" t="t" r="r" b="b"/>
                <a:pathLst>
                  <a:path w="124459" h="112394">
                    <a:moveTo>
                      <a:pt x="117195" y="0"/>
                    </a:moveTo>
                    <a:lnTo>
                      <a:pt x="110858" y="0"/>
                    </a:lnTo>
                    <a:lnTo>
                      <a:pt x="0" y="0"/>
                    </a:lnTo>
                    <a:lnTo>
                      <a:pt x="0" y="13246"/>
                    </a:lnTo>
                    <a:lnTo>
                      <a:pt x="3302" y="15405"/>
                    </a:lnTo>
                    <a:lnTo>
                      <a:pt x="103670" y="15405"/>
                    </a:lnTo>
                    <a:lnTo>
                      <a:pt x="103670" y="17995"/>
                    </a:lnTo>
                    <a:lnTo>
                      <a:pt x="100778" y="24355"/>
                    </a:lnTo>
                    <a:lnTo>
                      <a:pt x="92202" y="36033"/>
                    </a:lnTo>
                    <a:lnTo>
                      <a:pt x="78091" y="50353"/>
                    </a:lnTo>
                    <a:lnTo>
                      <a:pt x="58597" y="64643"/>
                    </a:lnTo>
                    <a:lnTo>
                      <a:pt x="47201" y="54403"/>
                    </a:lnTo>
                    <a:lnTo>
                      <a:pt x="34975" y="44488"/>
                    </a:lnTo>
                    <a:lnTo>
                      <a:pt x="32816" y="43192"/>
                    </a:lnTo>
                    <a:lnTo>
                      <a:pt x="25476" y="43192"/>
                    </a:lnTo>
                    <a:lnTo>
                      <a:pt x="21450" y="48234"/>
                    </a:lnTo>
                    <a:lnTo>
                      <a:pt x="21450" y="55435"/>
                    </a:lnTo>
                    <a:lnTo>
                      <a:pt x="25196" y="58305"/>
                    </a:lnTo>
                    <a:lnTo>
                      <a:pt x="39537" y="70208"/>
                    </a:lnTo>
                    <a:lnTo>
                      <a:pt x="51358" y="81405"/>
                    </a:lnTo>
                    <a:lnTo>
                      <a:pt x="63017" y="93762"/>
                    </a:lnTo>
                    <a:lnTo>
                      <a:pt x="74002" y="106832"/>
                    </a:lnTo>
                    <a:lnTo>
                      <a:pt x="78181" y="112166"/>
                    </a:lnTo>
                    <a:lnTo>
                      <a:pt x="86677" y="112166"/>
                    </a:lnTo>
                    <a:lnTo>
                      <a:pt x="91859" y="107848"/>
                    </a:lnTo>
                    <a:lnTo>
                      <a:pt x="91859" y="102946"/>
                    </a:lnTo>
                    <a:lnTo>
                      <a:pt x="90725" y="99157"/>
                    </a:lnTo>
                    <a:lnTo>
                      <a:pt x="86999" y="93802"/>
                    </a:lnTo>
                    <a:lnTo>
                      <a:pt x="80195" y="86179"/>
                    </a:lnTo>
                    <a:lnTo>
                      <a:pt x="69824" y="75590"/>
                    </a:lnTo>
                    <a:lnTo>
                      <a:pt x="93110" y="57581"/>
                    </a:lnTo>
                    <a:lnTo>
                      <a:pt x="110224" y="38981"/>
                    </a:lnTo>
                    <a:lnTo>
                      <a:pt x="120779" y="22378"/>
                    </a:lnTo>
                    <a:lnTo>
                      <a:pt x="124383" y="10363"/>
                    </a:lnTo>
                    <a:lnTo>
                      <a:pt x="124383" y="2019"/>
                    </a:lnTo>
                    <a:lnTo>
                      <a:pt x="117195" y="0"/>
                    </a:lnTo>
                    <a:close/>
                  </a:path>
                </a:pathLst>
              </a:custGeom>
              <a:solidFill>
                <a:srgbClr val="f15a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object 99" descr=""/>
              <p:cNvPicPr/>
              <p:nvPr/>
            </p:nvPicPr>
            <p:blipFill>
              <a:blip r:embed="rId41"/>
              <a:stretch/>
            </p:blipFill>
            <p:spPr>
              <a:xfrm>
                <a:off x="8574840" y="2108520"/>
                <a:ext cx="1902600" cy="136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9" name="object 100" descr=""/>
            <p:cNvPicPr/>
            <p:nvPr/>
          </p:nvPicPr>
          <p:blipFill>
            <a:blip r:embed="rId42"/>
            <a:stretch/>
          </p:blipFill>
          <p:spPr>
            <a:xfrm>
              <a:off x="8430120" y="2324520"/>
              <a:ext cx="217404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101" descr=""/>
            <p:cNvPicPr/>
            <p:nvPr/>
          </p:nvPicPr>
          <p:blipFill>
            <a:blip r:embed="rId43"/>
            <a:stretch/>
          </p:blipFill>
          <p:spPr>
            <a:xfrm>
              <a:off x="855000" y="3836520"/>
              <a:ext cx="188640" cy="1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object 102"/>
            <p:cNvSpPr/>
            <p:nvPr/>
          </p:nvSpPr>
          <p:spPr>
            <a:xfrm>
              <a:off x="1121400" y="397944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32765"/>
                  </a:lnTo>
                  <a:lnTo>
                    <a:pt x="31724" y="32765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2" name="object 103"/>
            <p:cNvGrpSpPr/>
            <p:nvPr/>
          </p:nvGrpSpPr>
          <p:grpSpPr>
            <a:xfrm>
              <a:off x="1121400" y="3843360"/>
              <a:ext cx="747360" cy="173880"/>
              <a:chOff x="1121400" y="3843360"/>
              <a:chExt cx="747360" cy="173880"/>
            </a:xfrm>
          </p:grpSpPr>
          <p:sp>
            <p:nvSpPr>
              <p:cNvPr id="143" name="object 104"/>
              <p:cNvSpPr/>
              <p:nvPr/>
            </p:nvSpPr>
            <p:spPr>
              <a:xfrm>
                <a:off x="1121400" y="3892320"/>
                <a:ext cx="31680" cy="33120"/>
              </a:xfrm>
              <a:custGeom>
                <a:avLst/>
                <a:gdLst/>
                <a:ahLst/>
                <a:rect l="l" t="t" r="r" b="b"/>
                <a:pathLst>
                  <a:path w="31750" h="33020">
                    <a:moveTo>
                      <a:pt x="31724" y="0"/>
                    </a:moveTo>
                    <a:lnTo>
                      <a:pt x="0" y="0"/>
                    </a:lnTo>
                    <a:lnTo>
                      <a:pt x="0" y="-32567"/>
                    </a:lnTo>
                    <a:lnTo>
                      <a:pt x="31724" y="-32567"/>
                    </a:lnTo>
                    <a:lnTo>
                      <a:pt x="317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4" name="object 105" descr=""/>
              <p:cNvPicPr/>
              <p:nvPr/>
            </p:nvPicPr>
            <p:blipFill>
              <a:blip r:embed="rId44"/>
              <a:stretch/>
            </p:blipFill>
            <p:spPr>
              <a:xfrm>
                <a:off x="1179360" y="3843360"/>
                <a:ext cx="137520" cy="17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object 106" descr=""/>
              <p:cNvPicPr/>
              <p:nvPr/>
            </p:nvPicPr>
            <p:blipFill>
              <a:blip r:embed="rId45"/>
              <a:stretch/>
            </p:blipFill>
            <p:spPr>
              <a:xfrm>
                <a:off x="1338840" y="3843360"/>
                <a:ext cx="138600" cy="17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107" descr=""/>
              <p:cNvPicPr/>
              <p:nvPr/>
            </p:nvPicPr>
            <p:blipFill>
              <a:blip r:embed="rId46"/>
              <a:stretch/>
            </p:blipFill>
            <p:spPr>
              <a:xfrm>
                <a:off x="150048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108" descr=""/>
              <p:cNvPicPr/>
              <p:nvPr/>
            </p:nvPicPr>
            <p:blipFill>
              <a:blip r:embed="rId47"/>
              <a:stretch/>
            </p:blipFill>
            <p:spPr>
              <a:xfrm>
                <a:off x="169776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109" descr=""/>
            <p:cNvPicPr/>
            <p:nvPr/>
          </p:nvPicPr>
          <p:blipFill>
            <a:blip r:embed="rId48"/>
            <a:stretch/>
          </p:blipFill>
          <p:spPr>
            <a:xfrm>
              <a:off x="1987920" y="3862800"/>
              <a:ext cx="134640" cy="13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110"/>
            <p:cNvGrpSpPr/>
            <p:nvPr/>
          </p:nvGrpSpPr>
          <p:grpSpPr>
            <a:xfrm>
              <a:off x="2220480" y="3835800"/>
              <a:ext cx="384480" cy="193320"/>
              <a:chOff x="2220480" y="3835800"/>
              <a:chExt cx="384480" cy="193320"/>
            </a:xfrm>
          </p:grpSpPr>
          <p:pic>
            <p:nvPicPr>
              <p:cNvPr id="150" name="object 111" descr=""/>
              <p:cNvPicPr/>
              <p:nvPr/>
            </p:nvPicPr>
            <p:blipFill>
              <a:blip r:embed="rId49"/>
              <a:stretch/>
            </p:blipFill>
            <p:spPr>
              <a:xfrm>
                <a:off x="2220480" y="3835800"/>
                <a:ext cx="190800" cy="19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112" descr=""/>
              <p:cNvPicPr/>
              <p:nvPr/>
            </p:nvPicPr>
            <p:blipFill>
              <a:blip r:embed="rId50"/>
              <a:stretch/>
            </p:blipFill>
            <p:spPr>
              <a:xfrm>
                <a:off x="2440080" y="3837960"/>
                <a:ext cx="164880" cy="18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object 113"/>
            <p:cNvSpPr/>
            <p:nvPr/>
          </p:nvSpPr>
          <p:spPr>
            <a:xfrm>
              <a:off x="2698560" y="397944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32765"/>
                  </a:lnTo>
                  <a:lnTo>
                    <a:pt x="31724" y="32765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object 114"/>
            <p:cNvSpPr/>
            <p:nvPr/>
          </p:nvSpPr>
          <p:spPr>
            <a:xfrm>
              <a:off x="2698560" y="389232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-32567"/>
                  </a:lnTo>
                  <a:lnTo>
                    <a:pt x="31724" y="-32567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object 115" descr=""/>
            <p:cNvPicPr/>
            <p:nvPr/>
          </p:nvPicPr>
          <p:blipFill>
            <a:blip r:embed="rId51"/>
            <a:stretch/>
          </p:blipFill>
          <p:spPr>
            <a:xfrm>
              <a:off x="2783520" y="3848040"/>
              <a:ext cx="66240" cy="16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116"/>
            <p:cNvGrpSpPr/>
            <p:nvPr/>
          </p:nvGrpSpPr>
          <p:grpSpPr>
            <a:xfrm>
              <a:off x="2915280" y="3848040"/>
              <a:ext cx="754920" cy="169200"/>
              <a:chOff x="2915280" y="3848040"/>
              <a:chExt cx="754920" cy="169200"/>
            </a:xfrm>
          </p:grpSpPr>
          <p:pic>
            <p:nvPicPr>
              <p:cNvPr id="156" name="object 117" descr=""/>
              <p:cNvPicPr/>
              <p:nvPr/>
            </p:nvPicPr>
            <p:blipFill>
              <a:blip r:embed="rId52"/>
              <a:stretch/>
            </p:blipFill>
            <p:spPr>
              <a:xfrm>
                <a:off x="2915280" y="3848040"/>
                <a:ext cx="137880" cy="16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object 118"/>
              <p:cNvSpPr/>
              <p:nvPr/>
            </p:nvSpPr>
            <p:spPr>
              <a:xfrm>
                <a:off x="3081240" y="3979800"/>
                <a:ext cx="31680" cy="32760"/>
              </a:xfrm>
              <a:custGeom>
                <a:avLst/>
                <a:gdLst/>
                <a:ahLst/>
                <a:rect l="l" t="t" r="r" b="b"/>
                <a:pathLst>
                  <a:path w="31750" h="33020">
                    <a:moveTo>
                      <a:pt x="31724" y="0"/>
                    </a:moveTo>
                    <a:lnTo>
                      <a:pt x="0" y="0"/>
                    </a:lnTo>
                    <a:lnTo>
                      <a:pt x="0" y="32765"/>
                    </a:lnTo>
                    <a:lnTo>
                      <a:pt x="31724" y="32765"/>
                    </a:lnTo>
                    <a:lnTo>
                      <a:pt x="317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8" name="object 119" descr=""/>
              <p:cNvPicPr/>
              <p:nvPr/>
            </p:nvPicPr>
            <p:blipFill>
              <a:blip r:embed="rId53"/>
              <a:stretch/>
            </p:blipFill>
            <p:spPr>
              <a:xfrm>
                <a:off x="3139560" y="3848040"/>
                <a:ext cx="137880" cy="1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object 120" descr=""/>
              <p:cNvPicPr/>
              <p:nvPr/>
            </p:nvPicPr>
            <p:blipFill>
              <a:blip r:embed="rId54"/>
              <a:stretch/>
            </p:blipFill>
            <p:spPr>
              <a:xfrm>
                <a:off x="330192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121" descr=""/>
              <p:cNvPicPr/>
              <p:nvPr/>
            </p:nvPicPr>
            <p:blipFill>
              <a:blip r:embed="rId55"/>
              <a:stretch/>
            </p:blipFill>
            <p:spPr>
              <a:xfrm>
                <a:off x="349920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1" name="object 122"/>
            <p:cNvGrpSpPr/>
            <p:nvPr/>
          </p:nvGrpSpPr>
          <p:grpSpPr>
            <a:xfrm>
              <a:off x="3823560" y="3833280"/>
              <a:ext cx="971280" cy="199800"/>
              <a:chOff x="3823560" y="3833280"/>
              <a:chExt cx="971280" cy="199800"/>
            </a:xfrm>
          </p:grpSpPr>
          <p:pic>
            <p:nvPicPr>
              <p:cNvPr id="162" name="object 123" descr=""/>
              <p:cNvPicPr/>
              <p:nvPr/>
            </p:nvPicPr>
            <p:blipFill>
              <a:blip r:embed="rId56"/>
              <a:stretch/>
            </p:blipFill>
            <p:spPr>
              <a:xfrm>
                <a:off x="3823560" y="3833280"/>
                <a:ext cx="272880" cy="19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object 124" descr=""/>
              <p:cNvPicPr/>
              <p:nvPr/>
            </p:nvPicPr>
            <p:blipFill>
              <a:blip r:embed="rId57"/>
              <a:stretch/>
            </p:blipFill>
            <p:spPr>
              <a:xfrm>
                <a:off x="4117320" y="3834720"/>
                <a:ext cx="174960" cy="19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object 125" descr=""/>
              <p:cNvPicPr/>
              <p:nvPr/>
            </p:nvPicPr>
            <p:blipFill>
              <a:blip r:embed="rId58"/>
              <a:stretch/>
            </p:blipFill>
            <p:spPr>
              <a:xfrm>
                <a:off x="4311720" y="3833280"/>
                <a:ext cx="483120" cy="199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65" name="object 126" descr=""/>
            <p:cNvPicPr/>
            <p:nvPr/>
          </p:nvPicPr>
          <p:blipFill>
            <a:blip r:embed="rId59"/>
            <a:stretch/>
          </p:blipFill>
          <p:spPr>
            <a:xfrm>
              <a:off x="6005160" y="3836520"/>
              <a:ext cx="188640" cy="19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object 127"/>
            <p:cNvSpPr/>
            <p:nvPr/>
          </p:nvSpPr>
          <p:spPr>
            <a:xfrm>
              <a:off x="6271200" y="397944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32765"/>
                  </a:lnTo>
                  <a:lnTo>
                    <a:pt x="31724" y="32765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object 128"/>
            <p:cNvGrpSpPr/>
            <p:nvPr/>
          </p:nvGrpSpPr>
          <p:grpSpPr>
            <a:xfrm>
              <a:off x="6271200" y="3843360"/>
              <a:ext cx="747360" cy="169200"/>
              <a:chOff x="6271200" y="3843360"/>
              <a:chExt cx="747360" cy="169200"/>
            </a:xfrm>
          </p:grpSpPr>
          <p:sp>
            <p:nvSpPr>
              <p:cNvPr id="168" name="object 129"/>
              <p:cNvSpPr/>
              <p:nvPr/>
            </p:nvSpPr>
            <p:spPr>
              <a:xfrm>
                <a:off x="6271200" y="3892320"/>
                <a:ext cx="31680" cy="32760"/>
              </a:xfrm>
              <a:custGeom>
                <a:avLst/>
                <a:gdLst/>
                <a:ahLst/>
                <a:rect l="l" t="t" r="r" b="b"/>
                <a:pathLst>
                  <a:path w="31750" h="33020">
                    <a:moveTo>
                      <a:pt x="31724" y="0"/>
                    </a:moveTo>
                    <a:lnTo>
                      <a:pt x="0" y="0"/>
                    </a:lnTo>
                    <a:lnTo>
                      <a:pt x="0" y="-32567"/>
                    </a:lnTo>
                    <a:lnTo>
                      <a:pt x="31724" y="-32567"/>
                    </a:lnTo>
                    <a:lnTo>
                      <a:pt x="317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9" name="object 130" descr=""/>
              <p:cNvPicPr/>
              <p:nvPr/>
            </p:nvPicPr>
            <p:blipFill>
              <a:blip r:embed="rId60"/>
              <a:stretch/>
            </p:blipFill>
            <p:spPr>
              <a:xfrm>
                <a:off x="6329520" y="3843360"/>
                <a:ext cx="138600" cy="1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object 131" descr=""/>
              <p:cNvPicPr/>
              <p:nvPr/>
            </p:nvPicPr>
            <p:blipFill>
              <a:blip r:embed="rId61"/>
              <a:stretch/>
            </p:blipFill>
            <p:spPr>
              <a:xfrm>
                <a:off x="6487920" y="3843360"/>
                <a:ext cx="138600" cy="16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object 132" descr=""/>
              <p:cNvPicPr/>
              <p:nvPr/>
            </p:nvPicPr>
            <p:blipFill>
              <a:blip r:embed="rId62"/>
              <a:stretch/>
            </p:blipFill>
            <p:spPr>
              <a:xfrm>
                <a:off x="665028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object 133" descr=""/>
              <p:cNvPicPr/>
              <p:nvPr/>
            </p:nvPicPr>
            <p:blipFill>
              <a:blip r:embed="rId63"/>
              <a:stretch/>
            </p:blipFill>
            <p:spPr>
              <a:xfrm>
                <a:off x="6847560" y="3888000"/>
                <a:ext cx="171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3" name="object 134" descr=""/>
            <p:cNvPicPr/>
            <p:nvPr/>
          </p:nvPicPr>
          <p:blipFill>
            <a:blip r:embed="rId64"/>
            <a:stretch/>
          </p:blipFill>
          <p:spPr>
            <a:xfrm>
              <a:off x="7137720" y="3862800"/>
              <a:ext cx="134640" cy="134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object 135"/>
            <p:cNvGrpSpPr/>
            <p:nvPr/>
          </p:nvGrpSpPr>
          <p:grpSpPr>
            <a:xfrm>
              <a:off x="7370640" y="3835800"/>
              <a:ext cx="384480" cy="193320"/>
              <a:chOff x="7370640" y="3835800"/>
              <a:chExt cx="384480" cy="193320"/>
            </a:xfrm>
          </p:grpSpPr>
          <p:pic>
            <p:nvPicPr>
              <p:cNvPr id="175" name="object 136" descr=""/>
              <p:cNvPicPr/>
              <p:nvPr/>
            </p:nvPicPr>
            <p:blipFill>
              <a:blip r:embed="rId65"/>
              <a:stretch/>
            </p:blipFill>
            <p:spPr>
              <a:xfrm>
                <a:off x="7370640" y="3835800"/>
                <a:ext cx="190800" cy="19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object 137" descr=""/>
              <p:cNvPicPr/>
              <p:nvPr/>
            </p:nvPicPr>
            <p:blipFill>
              <a:blip r:embed="rId66"/>
              <a:stretch/>
            </p:blipFill>
            <p:spPr>
              <a:xfrm>
                <a:off x="7590240" y="3837960"/>
                <a:ext cx="164880" cy="186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object 138"/>
            <p:cNvSpPr/>
            <p:nvPr/>
          </p:nvSpPr>
          <p:spPr>
            <a:xfrm>
              <a:off x="7848360" y="397944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32765"/>
                  </a:lnTo>
                  <a:lnTo>
                    <a:pt x="31724" y="32765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object 139"/>
            <p:cNvSpPr/>
            <p:nvPr/>
          </p:nvSpPr>
          <p:spPr>
            <a:xfrm>
              <a:off x="7848360" y="3892320"/>
              <a:ext cx="31680" cy="32760"/>
            </a:xfrm>
            <a:custGeom>
              <a:avLst/>
              <a:gdLst/>
              <a:ahLst/>
              <a:rect l="l" t="t" r="r" b="b"/>
              <a:pathLst>
                <a:path w="31750" h="33020">
                  <a:moveTo>
                    <a:pt x="31724" y="0"/>
                  </a:moveTo>
                  <a:lnTo>
                    <a:pt x="0" y="0"/>
                  </a:lnTo>
                  <a:lnTo>
                    <a:pt x="0" y="-32567"/>
                  </a:lnTo>
                  <a:lnTo>
                    <a:pt x="31724" y="-32567"/>
                  </a:lnTo>
                  <a:lnTo>
                    <a:pt x="317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9" name="object 140" descr=""/>
            <p:cNvPicPr/>
            <p:nvPr/>
          </p:nvPicPr>
          <p:blipFill>
            <a:blip r:embed="rId67"/>
            <a:stretch/>
          </p:blipFill>
          <p:spPr>
            <a:xfrm>
              <a:off x="7933680" y="3848040"/>
              <a:ext cx="66240" cy="1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object 141" descr=""/>
            <p:cNvPicPr/>
            <p:nvPr/>
          </p:nvPicPr>
          <p:blipFill>
            <a:blip r:embed="rId68"/>
            <a:stretch/>
          </p:blipFill>
          <p:spPr>
            <a:xfrm>
              <a:off x="8092080" y="3848040"/>
              <a:ext cx="66240" cy="16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object 142"/>
            <p:cNvGrpSpPr/>
            <p:nvPr/>
          </p:nvGrpSpPr>
          <p:grpSpPr>
            <a:xfrm>
              <a:off x="8227080" y="3888000"/>
              <a:ext cx="368280" cy="124200"/>
              <a:chOff x="8227080" y="3888000"/>
              <a:chExt cx="368280" cy="124200"/>
            </a:xfrm>
          </p:grpSpPr>
          <p:pic>
            <p:nvPicPr>
              <p:cNvPr id="182" name="object 143" descr=""/>
              <p:cNvPicPr/>
              <p:nvPr/>
            </p:nvPicPr>
            <p:blipFill>
              <a:blip r:embed="rId69"/>
              <a:stretch/>
            </p:blipFill>
            <p:spPr>
              <a:xfrm>
                <a:off x="8227080" y="3888000"/>
                <a:ext cx="171000" cy="124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object 144" descr=""/>
              <p:cNvPicPr/>
              <p:nvPr/>
            </p:nvPicPr>
            <p:blipFill>
              <a:blip r:embed="rId70"/>
              <a:stretch/>
            </p:blipFill>
            <p:spPr>
              <a:xfrm>
                <a:off x="8424360" y="3888000"/>
                <a:ext cx="171000" cy="124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4" name="object 145"/>
            <p:cNvGrpSpPr/>
            <p:nvPr/>
          </p:nvGrpSpPr>
          <p:grpSpPr>
            <a:xfrm>
              <a:off x="8749440" y="3833280"/>
              <a:ext cx="971280" cy="199800"/>
              <a:chOff x="8749440" y="3833280"/>
              <a:chExt cx="971280" cy="199800"/>
            </a:xfrm>
          </p:grpSpPr>
          <p:pic>
            <p:nvPicPr>
              <p:cNvPr id="185" name="object 146" descr=""/>
              <p:cNvPicPr/>
              <p:nvPr/>
            </p:nvPicPr>
            <p:blipFill>
              <a:blip r:embed="rId71"/>
              <a:stretch/>
            </p:blipFill>
            <p:spPr>
              <a:xfrm>
                <a:off x="8749440" y="3833280"/>
                <a:ext cx="272880" cy="199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object 147" descr=""/>
              <p:cNvPicPr/>
              <p:nvPr/>
            </p:nvPicPr>
            <p:blipFill>
              <a:blip r:embed="rId72"/>
              <a:stretch/>
            </p:blipFill>
            <p:spPr>
              <a:xfrm>
                <a:off x="9043200" y="3834720"/>
                <a:ext cx="174960" cy="19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object 148" descr=""/>
              <p:cNvPicPr/>
              <p:nvPr/>
            </p:nvPicPr>
            <p:blipFill>
              <a:blip r:embed="rId73"/>
              <a:stretch/>
            </p:blipFill>
            <p:spPr>
              <a:xfrm>
                <a:off x="9237600" y="3833280"/>
                <a:ext cx="483120" cy="199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8" name="図 4" descr=""/>
            <p:cNvPicPr/>
            <p:nvPr/>
          </p:nvPicPr>
          <p:blipFill>
            <a:blip r:embed="rId74"/>
            <a:stretch/>
          </p:blipFill>
          <p:spPr>
            <a:xfrm>
              <a:off x="2587320" y="4272120"/>
              <a:ext cx="1080360" cy="55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図 6" descr=""/>
            <p:cNvPicPr/>
            <p:nvPr/>
          </p:nvPicPr>
          <p:blipFill>
            <a:blip r:embed="rId75"/>
            <a:stretch/>
          </p:blipFill>
          <p:spPr>
            <a:xfrm>
              <a:off x="2590560" y="5100120"/>
              <a:ext cx="1080360" cy="55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図 8" descr=""/>
            <p:cNvPicPr/>
            <p:nvPr/>
          </p:nvPicPr>
          <p:blipFill>
            <a:blip r:embed="rId76"/>
            <a:stretch/>
          </p:blipFill>
          <p:spPr>
            <a:xfrm>
              <a:off x="2587320" y="5928840"/>
              <a:ext cx="1080360" cy="55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図 10" descr=""/>
            <p:cNvPicPr/>
            <p:nvPr/>
          </p:nvPicPr>
          <p:blipFill>
            <a:blip r:embed="rId77"/>
            <a:stretch/>
          </p:blipFill>
          <p:spPr>
            <a:xfrm>
              <a:off x="2589480" y="6739200"/>
              <a:ext cx="1080360" cy="55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図 12" descr=""/>
            <p:cNvPicPr/>
            <p:nvPr/>
          </p:nvPicPr>
          <p:blipFill>
            <a:blip r:embed="rId78"/>
            <a:stretch/>
          </p:blipFill>
          <p:spPr>
            <a:xfrm>
              <a:off x="7809120" y="4332600"/>
              <a:ext cx="792360" cy="3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図 14" descr=""/>
            <p:cNvPicPr/>
            <p:nvPr/>
          </p:nvPicPr>
          <p:blipFill>
            <a:blip r:embed="rId79"/>
            <a:stretch/>
          </p:blipFill>
          <p:spPr>
            <a:xfrm>
              <a:off x="7809120" y="5162400"/>
              <a:ext cx="792360" cy="3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図 16" descr=""/>
            <p:cNvPicPr/>
            <p:nvPr/>
          </p:nvPicPr>
          <p:blipFill>
            <a:blip r:embed="rId80"/>
            <a:stretch/>
          </p:blipFill>
          <p:spPr>
            <a:xfrm>
              <a:off x="7803000" y="5988600"/>
              <a:ext cx="792360" cy="3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図 18" descr=""/>
            <p:cNvPicPr/>
            <p:nvPr/>
          </p:nvPicPr>
          <p:blipFill>
            <a:blip r:embed="rId81"/>
            <a:stretch/>
          </p:blipFill>
          <p:spPr>
            <a:xfrm>
              <a:off x="7800120" y="6814800"/>
              <a:ext cx="792360" cy="39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図 20" descr=""/>
            <p:cNvPicPr/>
            <p:nvPr/>
          </p:nvPicPr>
          <p:blipFill>
            <a:blip r:embed="rId82"/>
            <a:stretch/>
          </p:blipFill>
          <p:spPr>
            <a:xfrm>
              <a:off x="8985960" y="1503720"/>
              <a:ext cx="1080360" cy="55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26T03:51:27Z</dcterms:created>
  <dc:creator>A19-205</dc:creator>
  <dc:description/>
  <dc:language>en-US</dc:language>
  <cp:lastModifiedBy>A19-205</cp:lastModifiedBy>
  <dcterms:modified xsi:type="dcterms:W3CDTF">2022-03-24T23:29:41Z</dcterms:modified>
  <cp:revision>2</cp:revision>
  <dc:subject/>
  <dc:title>fscdumm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1-11-26T00:00:00Z</vt:filetime>
  </property>
  <property fmtid="{D5CDD505-2E9C-101B-9397-08002B2CF9AE}" pid="3" name="Creator">
    <vt:lpwstr>Adobe Illustrator 25.0 (Windows)</vt:lpwstr>
  </property>
  <property fmtid="{D5CDD505-2E9C-101B-9397-08002B2CF9AE}" pid="4" name="LastSaved">
    <vt:filetime>2021-11-26T00:00:00Z</vt:filetime>
  </property>
</Properties>
</file>