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7A8-2EE7-441A-BBB8-D36B5449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5741-D2CB-4051-9E7A-BFC2AB80AA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54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10040" y="216000"/>
            <a:ext cx="41148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155680" y="14989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639200" y="1529064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0167840" cy="14017680"/>
            <a:chOff x="982800" y="984240"/>
            <a:chExt cx="10167840" cy="14017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4542920"/>
              <a:ext cx="436320" cy="435960"/>
              <a:chOff x="1005840" y="1454292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7280"/>
              <a:ext cx="436320" cy="435960"/>
              <a:chOff x="10691640" y="100728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14542920"/>
              <a:ext cx="436320" cy="435960"/>
              <a:chOff x="10691640" y="1454292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7535880"/>
              <a:ext cx="304560" cy="914040"/>
              <a:chOff x="982800" y="7535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7535880"/>
              <a:ext cx="304560" cy="914040"/>
              <a:chOff x="10846080" y="7535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4240"/>
              <a:ext cx="914400" cy="304560"/>
              <a:chOff x="560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14697360"/>
              <a:ext cx="914400" cy="304560"/>
              <a:chOff x="5609520" y="14697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1477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1469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3:45Z</dcterms:created>
  <dc:creator/>
  <dc:description/>
  <dc:language>en-US</dc:language>
  <cp:lastModifiedBy/>
  <dcterms:modified xsi:type="dcterms:W3CDTF">2024-08-15T18:48:34Z</dcterms:modified>
  <cp:revision>1</cp:revision>
  <dc:subject/>
  <dc:title/>
</cp:coreProperties>
</file>