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4F55-ABE8-4F84-A23F-9E2E0971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F5A9-E0B1-46FA-A0DC-323DE15C18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788040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662200" y="233280"/>
            <a:ext cx="41022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1113804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880400" y="114444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7467480" cy="10167840"/>
            <a:chOff x="982800" y="982800"/>
            <a:chExt cx="7467480" cy="1016784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10691640"/>
              <a:ext cx="436320" cy="436320"/>
              <a:chOff x="1005840" y="1069164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7991280" y="1005840"/>
              <a:ext cx="436320" cy="436320"/>
              <a:chOff x="799128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810000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799128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7991280" y="10691640"/>
              <a:ext cx="436320" cy="436320"/>
              <a:chOff x="7991280" y="1069164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8100000" y="106916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7991280" y="1080036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5609520"/>
              <a:ext cx="304560" cy="914400"/>
              <a:chOff x="982800" y="560952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8145720" y="5609520"/>
              <a:ext cx="304560" cy="914400"/>
              <a:chOff x="8145720" y="560952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8145720" y="606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8221680" y="560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4259160" y="982800"/>
              <a:ext cx="914400" cy="304560"/>
              <a:chOff x="4259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4259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4716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4259160" y="10846080"/>
              <a:ext cx="914400" cy="304560"/>
              <a:chOff x="4259160" y="1084608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4259160" y="1092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4716360" y="1084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5:10Z</dcterms:created>
  <dc:creator/>
  <dc:description/>
  <dc:language>en-US</dc:language>
  <cp:lastModifiedBy/>
  <dcterms:modified xsi:type="dcterms:W3CDTF">2024-08-15T20:08:50Z</dcterms:modified>
  <cp:revision>1</cp:revision>
  <dc:subject/>
  <dc:title/>
</cp:coreProperties>
</file>