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F4D-FAB5-4483-9E22-4EC7BE52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71E-F841-4A97-93EC-B890CFCDE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1058400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4043520" y="179280"/>
            <a:ext cx="397800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2027160" y="84344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3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7572240" y="865980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337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6"/>
          <p:cNvGrpSpPr/>
          <p:nvPr/>
        </p:nvGrpSpPr>
        <p:grpSpPr>
          <a:xfrm>
            <a:off x="982800" y="982800"/>
            <a:ext cx="10167840" cy="7467480"/>
            <a:chOff x="982800" y="982800"/>
            <a:chExt cx="10167840" cy="746748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7991280"/>
              <a:ext cx="436320" cy="436320"/>
              <a:chOff x="1005840" y="799128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10691640" y="1005840"/>
              <a:ext cx="436320" cy="436320"/>
              <a:chOff x="1069164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1080036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106916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10691640" y="7991280"/>
              <a:ext cx="436320" cy="436320"/>
              <a:chOff x="10691640" y="799128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10800360" y="799128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10691640" y="810000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4259160"/>
              <a:ext cx="304560" cy="914400"/>
              <a:chOff x="982800" y="4259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10846080" y="4259160"/>
              <a:ext cx="304560" cy="914400"/>
              <a:chOff x="10846080" y="4259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1084608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109220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5609520" y="982800"/>
              <a:ext cx="914400" cy="304560"/>
              <a:chOff x="560952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560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606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5609520" y="8145720"/>
              <a:ext cx="914400" cy="304560"/>
              <a:chOff x="5609520" y="814572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5609520" y="8221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606672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4:15Z</dcterms:created>
  <dc:creator/>
  <dc:description/>
  <dc:language>en-US</dc:language>
  <cp:lastModifiedBy/>
  <dcterms:modified xsi:type="dcterms:W3CDTF">2024-08-15T20:00:21Z</dcterms:modified>
  <cp:revision>1</cp:revision>
  <dc:subject/>
  <dc:title/>
</cp:coreProperties>
</file>