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9431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224000" y="685440"/>
            <a:ext cx="4410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84C7-D181-47DB-8433-F66F16C2A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5CA2-3D26-4BCA-9F31-DCF150E560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24000" y="685800"/>
            <a:ext cx="4410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80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898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0660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2980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9898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06600" y="376200"/>
            <a:ext cx="1091844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0578960" y="39384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6086520" y="815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6100920" y="10080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4017960" y="179280"/>
            <a:ext cx="402912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027160" y="843444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62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7572240" y="865980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62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2800"/>
            <a:ext cx="10167840" cy="7467480"/>
            <a:chOff x="982800" y="982800"/>
            <a:chExt cx="10167840" cy="74674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7991280"/>
              <a:ext cx="436320" cy="436320"/>
              <a:chOff x="1005840" y="7991280"/>
              <a:chExt cx="43632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799128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81000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0691640" y="1005840"/>
              <a:ext cx="436320" cy="436320"/>
              <a:chOff x="10691640" y="1005840"/>
              <a:chExt cx="43632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080036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06916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0691640" y="7991280"/>
              <a:ext cx="436320" cy="436320"/>
              <a:chOff x="10691640" y="7991280"/>
              <a:chExt cx="43632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0800360" y="799128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0691640" y="81000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4259160"/>
              <a:ext cx="304560" cy="914400"/>
              <a:chOff x="982800" y="425916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4716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4259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0846080" y="4259160"/>
              <a:ext cx="304560" cy="914400"/>
              <a:chOff x="10846080" y="425916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0846080" y="4716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0922040" y="4259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5609520" y="982800"/>
              <a:ext cx="914400" cy="304560"/>
              <a:chOff x="560952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560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06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5609520" y="8145720"/>
              <a:ext cx="914400" cy="304560"/>
              <a:chOff x="5609520" y="814572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5609520" y="8221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066720" y="8145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4:41Z</dcterms:created>
  <dc:creator/>
  <dc:description/>
  <dc:language>en-US</dc:language>
  <cp:lastModifiedBy/>
  <dcterms:modified xsi:type="dcterms:W3CDTF">2024-08-15T20:04:23Z</dcterms:modified>
  <cp:revision>1</cp:revision>
  <dc:subject/>
  <dc:title/>
</cp:coreProperties>
</file>