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5680" y="39204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45"/>
          <p:cNvSpPr/>
          <p:nvPr/>
        </p:nvSpPr>
        <p:spPr>
          <a:xfrm>
            <a:off x="3773520" y="813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6"/>
          <p:cNvSpPr/>
          <p:nvPr/>
        </p:nvSpPr>
        <p:spPr>
          <a:xfrm>
            <a:off x="37879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14680" y="252360"/>
            <a:ext cx="4054320" cy="611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8440560"/>
            <a:ext cx="335628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29200" y="874404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7415280"/>
            <a:chOff x="1008000" y="1008000"/>
            <a:chExt cx="5470560" cy="7415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67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799164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7991640"/>
              <a:ext cx="324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80992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809928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809928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809928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809928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7415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8099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809928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7415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7991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7991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809928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71636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4259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6200640" y="471636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6276960" y="425916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3286080" y="8220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743280" y="8143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7:09Z</dcterms:created>
  <dc:creator/>
  <dc:description/>
  <dc:language>en-US</dc:language>
  <cp:lastModifiedBy/>
  <dcterms:modified xsi:type="dcterms:W3CDTF">2020-06-12T19:20:39Z</dcterms:modified>
  <cp:revision>1</cp:revision>
  <dc:subject/>
  <dc:title/>
</cp:coreProperties>
</file>