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C69F-4DC9-4FCB-85C8-5AFCB0657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FBA3-4C3D-40F1-B39E-CE5945B5C5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7886880" y="39528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72160" y="619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862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2678040" y="289080"/>
            <a:ext cx="407664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64929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7867800" y="679608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7415280" cy="5472000"/>
            <a:chOff x="1008000" y="1008000"/>
            <a:chExt cx="741528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6551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99164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99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676728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99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9928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9928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6551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91640" y="6156360"/>
              <a:ext cx="107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9928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200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991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99164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9928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09928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9928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200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200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91640" y="133200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099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09928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15636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15636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91640" y="615636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8143920" y="374328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822024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259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716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25916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71636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6:44Z</dcterms:created>
  <dc:creator/>
  <dc:description/>
  <dc:language>en-US</dc:language>
  <cp:lastModifiedBy/>
  <dcterms:modified xsi:type="dcterms:W3CDTF">2020-06-12T18:56:54Z</dcterms:modified>
  <cp:revision>1</cp:revision>
  <dc:subject/>
  <dc:title/>
</cp:coreProperties>
</file>