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70080" y="685440"/>
            <a:ext cx="4317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2352-3E07-422E-9C45-499366B96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4DE5-7754-41E0-B9A9-0A47A9E651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70080" y="685800"/>
            <a:ext cx="431784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188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18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16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188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18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71600" y="298800"/>
            <a:ext cx="84884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トンボ説明ol"/>
          <p:cNvPicPr/>
          <p:nvPr/>
        </p:nvPicPr>
        <p:blipFill>
          <a:blip r:embed="rId2"/>
          <a:stretch/>
        </p:blipFill>
        <p:spPr>
          <a:xfrm>
            <a:off x="7881840" y="39528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4772160" y="6192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47862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3"/>
          <a:stretch/>
        </p:blipFill>
        <p:spPr>
          <a:xfrm>
            <a:off x="2701800" y="216000"/>
            <a:ext cx="402768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3360" y="6492960"/>
            <a:ext cx="335628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62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5"/>
          <p:cNvSpPr/>
          <p:nvPr/>
        </p:nvSpPr>
        <p:spPr>
          <a:xfrm>
            <a:off x="7867800" y="6796080"/>
            <a:ext cx="14904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62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7415280" cy="5472000"/>
            <a:chOff x="1008000" y="1008000"/>
            <a:chExt cx="7415280" cy="547200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6551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991640" y="100800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9928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676728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9928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9928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09928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156360"/>
              <a:ext cx="6551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91640" y="6156360"/>
              <a:ext cx="107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9928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32000" y="1440000"/>
              <a:ext cx="0" cy="460836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32000" y="604836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00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991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99164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099280" y="1008000"/>
              <a:ext cx="0" cy="43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099280" y="1440000"/>
              <a:ext cx="0" cy="460836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099280" y="6048360"/>
              <a:ext cx="0" cy="431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008000" y="133200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40000" y="1332000"/>
              <a:ext cx="6551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91640" y="133200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09928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00800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09928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08000" y="6156360"/>
              <a:ext cx="432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40000" y="6156360"/>
              <a:ext cx="6551640" cy="0"/>
            </a:xfrm>
            <a:prstGeom prst="line">
              <a:avLst/>
            </a:prstGeom>
            <a:ln w="6480">
              <a:solidFill>
                <a:srgbClr val="231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91640" y="6156360"/>
              <a:ext cx="431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object 3"/>
          <p:cNvSpPr/>
          <p:nvPr/>
        </p:nvSpPr>
        <p:spPr>
          <a:xfrm>
            <a:off x="9828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4"/>
          <p:cNvSpPr/>
          <p:nvPr/>
        </p:nvSpPr>
        <p:spPr>
          <a:xfrm>
            <a:off x="121140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5"/>
          <p:cNvSpPr/>
          <p:nvPr/>
        </p:nvSpPr>
        <p:spPr>
          <a:xfrm>
            <a:off x="8143920" y="374328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6"/>
          <p:cNvSpPr/>
          <p:nvPr/>
        </p:nvSpPr>
        <p:spPr>
          <a:xfrm>
            <a:off x="822024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7"/>
          <p:cNvSpPr/>
          <p:nvPr/>
        </p:nvSpPr>
        <p:spPr>
          <a:xfrm>
            <a:off x="425916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8"/>
          <p:cNvSpPr/>
          <p:nvPr/>
        </p:nvSpPr>
        <p:spPr>
          <a:xfrm>
            <a:off x="471636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9"/>
          <p:cNvSpPr/>
          <p:nvPr/>
        </p:nvSpPr>
        <p:spPr>
          <a:xfrm>
            <a:off x="4259160" y="6276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10"/>
          <p:cNvSpPr/>
          <p:nvPr/>
        </p:nvSpPr>
        <p:spPr>
          <a:xfrm>
            <a:off x="4716360" y="620064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6:15Z</dcterms:created>
  <dc:creator/>
  <dc:description/>
  <dc:language>en-US</dc:language>
  <cp:lastModifiedBy/>
  <dcterms:modified xsi:type="dcterms:W3CDTF">2020-06-12T18:56:29Z</dcterms:modified>
  <cp:revision>1</cp:revision>
  <dc:subject/>
  <dc:title/>
</cp:coreProperties>
</file>