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ED3B-30C5-405A-B25C-AFC95D8F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366-DB58-4B4A-B808-1A00BC1400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938920" y="40176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724040" y="270000"/>
            <a:ext cx="404172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93600" y="516240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0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71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911920" y="5437080"/>
            <a:ext cx="1490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0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71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5470560" cy="4140360"/>
            <a:chOff x="1008000" y="1008000"/>
            <a:chExt cx="5470560" cy="414036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46920" y="100800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5456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4822560" cy="34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15456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154560" y="1440000"/>
              <a:ext cx="324000" cy="32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154560" y="471636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482436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4824360"/>
              <a:ext cx="46069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46920" y="4824360"/>
              <a:ext cx="10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154560" y="482436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4692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046920" y="482436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154560" y="1008000"/>
              <a:ext cx="0" cy="4140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15456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154560" y="471636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4824360"/>
              <a:ext cx="5470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374328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28608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3743280" y="48690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8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286080" y="494496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627696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6200640" y="307800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1211400" y="262080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982800" y="307800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8:22Z</dcterms:created>
  <dc:creator/>
  <dc:description/>
  <dc:language>en-US</dc:language>
  <cp:lastModifiedBy/>
  <dcterms:modified xsi:type="dcterms:W3CDTF">2020-06-12T18:58:31Z</dcterms:modified>
  <cp:revision>1</cp:revision>
  <dc:subject/>
  <dc:title/>
</cp:coreProperties>
</file>