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156325" cy="7491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2019240" y="685440"/>
            <a:ext cx="28195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74BE0-35C7-4D1D-B078-6F55B39C2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FE2E8-798B-4AE0-8934-501884051A6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2019240" y="685800"/>
            <a:ext cx="281952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7800" y="1752840"/>
            <a:ext cx="55400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07800" y="4022280"/>
            <a:ext cx="55400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7800" y="175284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146760" y="175284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07800" y="402228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3146760" y="402228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7800" y="1752840"/>
            <a:ext cx="178380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181240" y="1752840"/>
            <a:ext cx="178380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54680" y="1752840"/>
            <a:ext cx="178380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07800" y="4022280"/>
            <a:ext cx="178380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2181240" y="4022280"/>
            <a:ext cx="178380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4054680" y="4022280"/>
            <a:ext cx="178380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07800" y="1752840"/>
            <a:ext cx="554004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7800" y="1752840"/>
            <a:ext cx="554004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7800" y="1752840"/>
            <a:ext cx="270324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146760" y="1752840"/>
            <a:ext cx="270324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7800" y="298800"/>
            <a:ext cx="5540040" cy="57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7800" y="175284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146760" y="1752840"/>
            <a:ext cx="270324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07800" y="402228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7800" y="1752840"/>
            <a:ext cx="270324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146760" y="175284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146760" y="402228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7800" y="175284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146760" y="175284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7800" y="4022280"/>
            <a:ext cx="55400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トンボ説明ol"/>
          <p:cNvPicPr/>
          <p:nvPr/>
        </p:nvPicPr>
        <p:blipFill>
          <a:blip r:embed="rId2"/>
          <a:stretch/>
        </p:blipFill>
        <p:spPr>
          <a:xfrm>
            <a:off x="4600440" y="396720"/>
            <a:ext cx="1040040" cy="1150920"/>
          </a:xfrm>
          <a:prstGeom prst="rect">
            <a:avLst/>
          </a:prstGeom>
          <a:ln w="0">
            <a:noFill/>
          </a:ln>
        </p:spPr>
      </p:pic>
      <p:sp>
        <p:nvSpPr>
          <p:cNvPr id="1" name="AutoShape 52"/>
          <p:cNvSpPr/>
          <p:nvPr/>
        </p:nvSpPr>
        <p:spPr>
          <a:xfrm>
            <a:off x="3121200" y="6216480"/>
            <a:ext cx="247320" cy="247680"/>
          </a:xfrm>
          <a:custGeom>
            <a:avLst/>
            <a:gdLst>
              <a:gd name="textAreaLeft" fmla="*/ 56520 w 247320"/>
              <a:gd name="textAreaRight" fmla="*/ 190800 w 24732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53"/>
          <p:cNvSpPr/>
          <p:nvPr/>
        </p:nvSpPr>
        <p:spPr>
          <a:xfrm>
            <a:off x="313524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4" descr=""/>
          <p:cNvPicPr/>
          <p:nvPr/>
        </p:nvPicPr>
        <p:blipFill>
          <a:blip r:embed="rId3"/>
          <a:stretch/>
        </p:blipFill>
        <p:spPr>
          <a:xfrm>
            <a:off x="92160" y="87480"/>
            <a:ext cx="4057560" cy="612720"/>
          </a:xfrm>
          <a:prstGeom prst="rect">
            <a:avLst/>
          </a:prstGeom>
          <a:ln w="0">
            <a:noFill/>
          </a:ln>
        </p:spPr>
      </p:pic>
      <p:sp>
        <p:nvSpPr>
          <p:cNvPr id="4" name="Text Box 55"/>
          <p:cNvSpPr/>
          <p:nvPr/>
        </p:nvSpPr>
        <p:spPr>
          <a:xfrm>
            <a:off x="60480" y="6508800"/>
            <a:ext cx="335592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71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08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6"/>
          <p:cNvSpPr/>
          <p:nvPr/>
        </p:nvSpPr>
        <p:spPr>
          <a:xfrm>
            <a:off x="4592520" y="6800760"/>
            <a:ext cx="149076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171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208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object 2"/>
          <p:cNvGrpSpPr/>
          <p:nvPr/>
        </p:nvGrpSpPr>
        <p:grpSpPr>
          <a:xfrm>
            <a:off x="1008000" y="1008000"/>
            <a:ext cx="4140360" cy="5472000"/>
            <a:chOff x="1008000" y="1008000"/>
            <a:chExt cx="4140360" cy="5472000"/>
          </a:xfrm>
        </p:grpSpPr>
        <p:sp>
          <p:nvSpPr>
            <p:cNvPr id="7" name=""/>
            <p:cNvSpPr/>
            <p:nvPr/>
          </p:nvSpPr>
          <p:spPr>
            <a:xfrm>
              <a:off x="1008000" y="100800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332000" y="100800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440000" y="1008000"/>
              <a:ext cx="327636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16360" y="100800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824360" y="100800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008000" y="133200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32000" y="1332000"/>
              <a:ext cx="3492360" cy="48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24360" y="133200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08000" y="1440000"/>
              <a:ext cx="324000" cy="46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24360" y="1440000"/>
              <a:ext cx="324000" cy="46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008000" y="604836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824360" y="604836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008000" y="6156360"/>
              <a:ext cx="32400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32000" y="6156360"/>
              <a:ext cx="10800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440000" y="6156360"/>
              <a:ext cx="327636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716360" y="6156360"/>
              <a:ext cx="10800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4824360" y="6156360"/>
              <a:ext cx="32400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32000" y="1008000"/>
              <a:ext cx="0" cy="5472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440000" y="100800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000" y="6156360"/>
              <a:ext cx="0" cy="323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4716360" y="100800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716360" y="6156360"/>
              <a:ext cx="0" cy="323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824360" y="1008000"/>
              <a:ext cx="0" cy="5472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1008000" y="1332000"/>
              <a:ext cx="4140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1008000" y="144000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824360" y="144000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008000" y="604836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4824360" y="604836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1008000" y="6156360"/>
              <a:ext cx="4140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" name="object 3"/>
          <p:cNvSpPr/>
          <p:nvPr/>
        </p:nvSpPr>
        <p:spPr>
          <a:xfrm>
            <a:off x="982800" y="3743280"/>
            <a:ext cx="30456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0" y="0"/>
                </a:moveTo>
                <a:lnTo>
                  <a:pt x="3048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object 4"/>
          <p:cNvSpPr/>
          <p:nvPr/>
        </p:nvSpPr>
        <p:spPr>
          <a:xfrm>
            <a:off x="1211400" y="328608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0"/>
                </a:moveTo>
                <a:lnTo>
                  <a:pt x="0" y="9144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object 5"/>
          <p:cNvSpPr/>
          <p:nvPr/>
        </p:nvSpPr>
        <p:spPr>
          <a:xfrm>
            <a:off x="4869000" y="3743280"/>
            <a:ext cx="30456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3048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object 6"/>
          <p:cNvSpPr/>
          <p:nvPr/>
        </p:nvSpPr>
        <p:spPr>
          <a:xfrm>
            <a:off x="4944960" y="328608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91440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object 7"/>
          <p:cNvSpPr/>
          <p:nvPr/>
        </p:nvSpPr>
        <p:spPr>
          <a:xfrm>
            <a:off x="2620800" y="1211400"/>
            <a:ext cx="914400" cy="360"/>
          </a:xfrm>
          <a:custGeom>
            <a:avLst/>
            <a:gdLst/>
            <a:ahLst/>
            <a:rect l="l" t="t" r="r" b="b"/>
            <a:pathLst>
              <a:path w="914400" h="0">
                <a:moveTo>
                  <a:pt x="0" y="0"/>
                </a:moveTo>
                <a:lnTo>
                  <a:pt x="9144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object 8"/>
          <p:cNvSpPr/>
          <p:nvPr/>
        </p:nvSpPr>
        <p:spPr>
          <a:xfrm>
            <a:off x="3078000" y="982800"/>
            <a:ext cx="360" cy="30456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0"/>
                </a:moveTo>
                <a:lnTo>
                  <a:pt x="0" y="3048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ject 9"/>
          <p:cNvSpPr/>
          <p:nvPr/>
        </p:nvSpPr>
        <p:spPr>
          <a:xfrm>
            <a:off x="2620800" y="6276960"/>
            <a:ext cx="914400" cy="360"/>
          </a:xfrm>
          <a:custGeom>
            <a:avLst/>
            <a:gdLst/>
            <a:ahLst/>
            <a:rect l="l" t="t" r="r" b="b"/>
            <a:pathLst>
              <a:path w="914400" h="0">
                <a:moveTo>
                  <a:pt x="9144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ject 10"/>
          <p:cNvSpPr/>
          <p:nvPr/>
        </p:nvSpPr>
        <p:spPr>
          <a:xfrm>
            <a:off x="3078000" y="6200640"/>
            <a:ext cx="360" cy="30492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30480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12T18:58:45Z</dcterms:created>
  <dc:creator/>
  <dc:description/>
  <dc:language>en-US</dc:language>
  <cp:lastModifiedBy/>
  <dcterms:modified xsi:type="dcterms:W3CDTF">2020-06-12T18:58:53Z</dcterms:modified>
  <cp:revision>1</cp:revision>
  <dc:subject/>
  <dc:title/>
</cp:coreProperties>
</file>