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491413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43160" y="685440"/>
            <a:ext cx="4171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E9A1-BF0D-4B29-81C3-C19A39A3C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6FC2-54BC-4CF6-A871-055F28DB20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43160" y="685800"/>
            <a:ext cx="41716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65428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338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744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65428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9338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74400" y="245520"/>
            <a:ext cx="674208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5938920" y="40176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787920" y="48610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8019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712880" y="270000"/>
            <a:ext cx="4057560" cy="6109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93600" y="518004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5911920" y="543708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5470560" cy="4140360"/>
            <a:chOff x="1008000" y="1008000"/>
            <a:chExt cx="5470560" cy="414036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46069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46920" y="100800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5456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4822560" cy="34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15456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15456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15456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482436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4824360"/>
              <a:ext cx="46069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046920" y="482436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15456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04692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04692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15456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547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15456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15456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4824360"/>
              <a:ext cx="547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374328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328608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3743280" y="48690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3286080" y="4944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627696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6200640" y="307800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121140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982800" y="307800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8:02Z</dcterms:created>
  <dc:creator/>
  <dc:description/>
  <dc:language>en-US</dc:language>
  <cp:lastModifiedBy/>
  <dcterms:modified xsi:type="dcterms:W3CDTF">2020-06-12T18:58:09Z</dcterms:modified>
  <cp:revision>1</cp:revision>
  <dc:subject/>
  <dc:title/>
</cp:coreProperties>
</file>