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5184775" cy="6156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984320" y="685440"/>
            <a:ext cx="28893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EC91-9D77-48A2-8074-5486770A5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13AC-3CC5-47CD-8096-F71FF8EA00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984320" y="685800"/>
            <a:ext cx="288936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46652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59200" y="3305160"/>
            <a:ext cx="46652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92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26496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836720" y="14403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13880" y="14403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59200" y="33051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1836720" y="33051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3413880" y="3305160"/>
            <a:ext cx="150192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59200" y="1440360"/>
            <a:ext cx="46652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46652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728960" y="5136840"/>
            <a:ext cx="455400" cy="24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592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649600" y="33051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92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649600" y="1440360"/>
            <a:ext cx="22762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59200" y="3305160"/>
            <a:ext cx="46652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トンボ説明ol"/>
          <p:cNvPicPr/>
          <p:nvPr/>
        </p:nvPicPr>
        <p:blipFill>
          <a:blip r:embed="rId2"/>
          <a:stretch/>
        </p:blipFill>
        <p:spPr>
          <a:xfrm>
            <a:off x="3633840" y="39528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1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2627280" y="4878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54"/>
          <p:cNvSpPr/>
          <p:nvPr/>
        </p:nvSpPr>
        <p:spPr>
          <a:xfrm>
            <a:off x="2641680" y="103680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5" descr=""/>
          <p:cNvPicPr/>
          <p:nvPr/>
        </p:nvPicPr>
        <p:blipFill>
          <a:blip r:embed="rId3"/>
          <a:stretch/>
        </p:blipFill>
        <p:spPr>
          <a:xfrm>
            <a:off x="82440" y="88920"/>
            <a:ext cx="3490920" cy="528480"/>
          </a:xfrm>
          <a:prstGeom prst="rect">
            <a:avLst/>
          </a:prstGeom>
          <a:ln w="0">
            <a:noFill/>
          </a:ln>
        </p:spPr>
      </p:pic>
      <p:sp>
        <p:nvSpPr>
          <p:cNvPr id="5" name="Text Box 55"/>
          <p:cNvSpPr/>
          <p:nvPr/>
        </p:nvSpPr>
        <p:spPr>
          <a:xfrm>
            <a:off x="61920" y="516096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44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71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7"/>
          <p:cNvSpPr/>
          <p:nvPr/>
        </p:nvSpPr>
        <p:spPr>
          <a:xfrm>
            <a:off x="3584520" y="543096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44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71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bject 2"/>
          <p:cNvGrpSpPr/>
          <p:nvPr/>
        </p:nvGrpSpPr>
        <p:grpSpPr>
          <a:xfrm>
            <a:off x="1008000" y="1008000"/>
            <a:ext cx="3167280" cy="4140360"/>
            <a:chOff x="1008000" y="1008000"/>
            <a:chExt cx="3167280" cy="4140360"/>
          </a:xfrm>
        </p:grpSpPr>
        <p:sp>
          <p:nvSpPr>
            <p:cNvPr id="8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440000" y="1008000"/>
              <a:ext cx="230328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74328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85128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32000" y="1332000"/>
              <a:ext cx="2519280" cy="34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85128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08000" y="1440000"/>
              <a:ext cx="324000" cy="32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851280" y="1440000"/>
              <a:ext cx="324000" cy="32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008000" y="471636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851280" y="471636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008000" y="482436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32000" y="482436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440000" y="4824360"/>
              <a:ext cx="230328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743280" y="482436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51280" y="482436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332000" y="1008000"/>
              <a:ext cx="0" cy="4140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000" y="482436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74328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743280" y="482436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851280" y="1008000"/>
              <a:ext cx="0" cy="4140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008000" y="1332000"/>
              <a:ext cx="3167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85128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008000" y="471636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3851280" y="471636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008000" y="4824360"/>
              <a:ext cx="3167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" name="object 3"/>
          <p:cNvSpPr/>
          <p:nvPr/>
        </p:nvSpPr>
        <p:spPr>
          <a:xfrm>
            <a:off x="982800" y="307800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bject 4"/>
          <p:cNvSpPr/>
          <p:nvPr/>
        </p:nvSpPr>
        <p:spPr>
          <a:xfrm>
            <a:off x="1211400" y="262080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bject 5"/>
          <p:cNvSpPr/>
          <p:nvPr/>
        </p:nvSpPr>
        <p:spPr>
          <a:xfrm>
            <a:off x="3895560" y="3078000"/>
            <a:ext cx="30492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object 6"/>
          <p:cNvSpPr/>
          <p:nvPr/>
        </p:nvSpPr>
        <p:spPr>
          <a:xfrm>
            <a:off x="3971880" y="262080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object 7"/>
          <p:cNvSpPr/>
          <p:nvPr/>
        </p:nvSpPr>
        <p:spPr>
          <a:xfrm>
            <a:off x="213516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8"/>
          <p:cNvSpPr/>
          <p:nvPr/>
        </p:nvSpPr>
        <p:spPr>
          <a:xfrm>
            <a:off x="259236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9"/>
          <p:cNvSpPr/>
          <p:nvPr/>
        </p:nvSpPr>
        <p:spPr>
          <a:xfrm>
            <a:off x="2135160" y="494496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ject 10"/>
          <p:cNvSpPr/>
          <p:nvPr/>
        </p:nvSpPr>
        <p:spPr>
          <a:xfrm>
            <a:off x="2592360" y="48690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8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28960" y="6156000"/>
            <a:ext cx="455400" cy="88920"/>
          </a:xfrm>
          <a:prstGeom prst="rect">
            <a:avLst/>
          </a:prstGeom>
          <a:noFill/>
          <a:ln w="0">
            <a:noFill/>
          </a:ln>
        </p:spPr>
        <p:txBody>
          <a:bodyPr lIns="43200" rIns="43200" tIns="21600" bIns="21600" anchor="ctr">
            <a:noAutofit/>
          </a:bodyPr>
          <a:p>
            <a:pPr indent="0" algn="ctr"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endParaRPr b="0" lang="ja-JP" sz="1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9:23:14Z</dcterms:created>
  <dc:creator/>
  <dc:description/>
  <dc:language>en-US</dc:language>
  <cp:lastModifiedBy/>
  <dcterms:modified xsi:type="dcterms:W3CDTF">2020-06-12T19:23:22Z</dcterms:modified>
  <cp:revision>1</cp:revision>
  <dc:subject/>
  <dc:title/>
</cp:coreProperties>
</file>