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5184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393920" y="685440"/>
            <a:ext cx="4070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CE96-A89C-426B-B04E-2B94D721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CD1D-EDDC-4242-8469-8D4D45BE1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93920" y="685800"/>
            <a:ext cx="40701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18124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054680" y="121284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780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18124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054680" y="2783160"/>
            <a:ext cx="178380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55400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614920" y="4482000"/>
            <a:ext cx="54144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30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6760" y="278316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780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46760" y="1212840"/>
            <a:ext cx="27032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7800" y="2783160"/>
            <a:ext cx="5540040" cy="14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460548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4"/>
          <p:cNvSpPr/>
          <p:nvPr/>
        </p:nvSpPr>
        <p:spPr>
          <a:xfrm>
            <a:off x="3121200" y="388764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5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4240" y="92160"/>
            <a:ext cx="4052880" cy="612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5160" y="41893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4606920" y="449892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4140360" cy="3168720"/>
            <a:chOff x="1008000" y="1008000"/>
            <a:chExt cx="4140360" cy="316872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34923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824360" y="1440000"/>
              <a:ext cx="32400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824360" y="374508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385272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716360" y="385272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24360" y="385272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6360" y="385272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24360" y="1008000"/>
              <a:ext cx="0" cy="3168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24360" y="374508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385272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078000" y="389556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2620800" y="397188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494496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48690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1211400" y="2135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982800" y="2592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14920" y="5184360"/>
            <a:ext cx="541440" cy="745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46Z</dcterms:created>
  <dc:creator/>
  <dc:description/>
  <dc:language>en-US</dc:language>
  <cp:lastModifiedBy/>
  <dcterms:modified xsi:type="dcterms:W3CDTF">2020-06-12T19:22:59Z</dcterms:modified>
  <cp:revision>1</cp:revision>
  <dc:subject/>
  <dc:title/>
</cp:coreProperties>
</file>