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571538" cy="180038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2136600" y="685440"/>
            <a:ext cx="258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en-US" sz="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4118-3365-42F6-AC36-3E7809F09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652E-5BF7-487F-869C-8123A6CEC8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2136600" y="685800"/>
            <a:ext cx="25848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122144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78600" y="9666360"/>
            <a:ext cx="122144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860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93756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08160" y="421272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938080" y="421272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78600" y="966636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4808160" y="966636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8938080" y="966636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78600" y="4212720"/>
            <a:ext cx="1221444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1221444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78600" y="718200"/>
            <a:ext cx="12214440" cy="139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860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3756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78600" y="9666360"/>
            <a:ext cx="122144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トンボ説明ol"/>
          <p:cNvPicPr/>
          <p:nvPr/>
        </p:nvPicPr>
        <p:blipFill>
          <a:blip r:embed="rId2"/>
          <a:stretch/>
        </p:blipFill>
        <p:spPr>
          <a:xfrm>
            <a:off x="12020400" y="387360"/>
            <a:ext cx="1051200" cy="116208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6843600" y="1671336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685800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5" descr=""/>
          <p:cNvPicPr/>
          <p:nvPr/>
        </p:nvPicPr>
        <p:blipFill>
          <a:blip r:embed="rId3"/>
          <a:stretch/>
        </p:blipFill>
        <p:spPr>
          <a:xfrm>
            <a:off x="4711680" y="216000"/>
            <a:ext cx="414180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2577960" y="17006760"/>
            <a:ext cx="3356280" cy="97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500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7"/>
          <p:cNvSpPr/>
          <p:nvPr/>
        </p:nvSpPr>
        <p:spPr>
          <a:xfrm>
            <a:off x="8669160" y="17111520"/>
            <a:ext cx="144180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500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2800" y="984240"/>
            <a:ext cx="11607840" cy="16033680"/>
            <a:chOff x="982800" y="984240"/>
            <a:chExt cx="11607840" cy="1603368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16558920"/>
              <a:ext cx="435960" cy="435960"/>
              <a:chOff x="1005840" y="16558920"/>
              <a:chExt cx="435960" cy="43596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1655892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166676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7280"/>
              <a:ext cx="435960" cy="435960"/>
              <a:chOff x="1005840" y="1007280"/>
              <a:chExt cx="435960" cy="43596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7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7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12131640" y="1007280"/>
              <a:ext cx="435960" cy="435960"/>
              <a:chOff x="12131640" y="1007280"/>
              <a:chExt cx="435960" cy="43596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12240360" y="1007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12131640" y="1007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12131640" y="16558920"/>
              <a:ext cx="435960" cy="435960"/>
              <a:chOff x="12131640" y="16558920"/>
              <a:chExt cx="435960" cy="43596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12240360" y="1655892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12131640" y="166676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8543880"/>
              <a:ext cx="304560" cy="914040"/>
              <a:chOff x="982800" y="8543880"/>
              <a:chExt cx="304560" cy="91404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9000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8543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12286080" y="8543880"/>
              <a:ext cx="304560" cy="914040"/>
              <a:chOff x="12286080" y="8543880"/>
              <a:chExt cx="304560" cy="91404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12286080" y="9000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12362040" y="8543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6329520" y="984240"/>
              <a:ext cx="914400" cy="304560"/>
              <a:chOff x="6329520" y="984240"/>
              <a:chExt cx="91440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6329520" y="12128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6786720" y="9842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6329520" y="16713360"/>
              <a:ext cx="914400" cy="304560"/>
              <a:chOff x="6329520" y="16713360"/>
              <a:chExt cx="91440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6329520" y="1678932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6786720" y="1671336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40:44Z</dcterms:created>
  <dc:creator/>
  <dc:description/>
  <dc:language>en-US</dc:language>
  <cp:lastModifiedBy/>
  <dcterms:modified xsi:type="dcterms:W3CDTF">2024-08-15T19:28:46Z</dcterms:modified>
  <cp:revision>1</cp:revision>
  <dc:subject/>
  <dc:title/>
</cp:coreProperties>
</file>