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2E8D-3C14-40D2-BC5C-334D7E272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B589-7C1B-46FD-AF01-F3BA7822C3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644804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9072720" y="122968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9063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7048440" y="233280"/>
            <a:ext cx="40482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4373640" y="125856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464840" y="125906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38:51Z</dcterms:created>
  <dc:creator/>
  <dc:description/>
  <dc:language>en-US</dc:language>
  <cp:lastModifiedBy/>
  <dcterms:modified xsi:type="dcterms:W3CDTF">2024-08-15T19:24:15Z</dcterms:modified>
  <cp:revision>1</cp:revision>
  <dc:subject/>
  <dc:title/>
</cp:coreProperties>
</file>