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3571538" cy="180038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Img"/>
          </p:nvPr>
        </p:nvSpPr>
        <p:spPr>
          <a:xfrm>
            <a:off x="2136600" y="685440"/>
            <a:ext cx="25848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r>
              <a:rPr b="0" lang="en-US" sz="4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9BD5B-823B-42B8-B856-84D8E66E1F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42679-8FAF-4F8F-8D86-19D9DC30A9A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2136600" y="685800"/>
            <a:ext cx="25848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78600" y="718200"/>
            <a:ext cx="12214440" cy="300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78600" y="4212720"/>
            <a:ext cx="1221444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78600" y="9666360"/>
            <a:ext cx="1221444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78600" y="718200"/>
            <a:ext cx="12214440" cy="300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78600" y="4212720"/>
            <a:ext cx="596052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937560" y="4212720"/>
            <a:ext cx="596052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78600" y="9666360"/>
            <a:ext cx="596052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6937560" y="9666360"/>
            <a:ext cx="596052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78600" y="718200"/>
            <a:ext cx="12214440" cy="300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78600" y="4212720"/>
            <a:ext cx="393264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08160" y="4212720"/>
            <a:ext cx="393264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938080" y="4212720"/>
            <a:ext cx="393264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678600" y="9666360"/>
            <a:ext cx="393264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/>
          </p:nvPr>
        </p:nvSpPr>
        <p:spPr>
          <a:xfrm>
            <a:off x="4808160" y="9666360"/>
            <a:ext cx="393264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7"/>
          <p:cNvSpPr>
            <a:spLocks noGrp="1"/>
          </p:cNvSpPr>
          <p:nvPr>
            <p:ph/>
          </p:nvPr>
        </p:nvSpPr>
        <p:spPr>
          <a:xfrm>
            <a:off x="8938080" y="9666360"/>
            <a:ext cx="393264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78600" y="718200"/>
            <a:ext cx="12214440" cy="300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 type="subTitle"/>
          </p:nvPr>
        </p:nvSpPr>
        <p:spPr>
          <a:xfrm>
            <a:off x="678600" y="4212720"/>
            <a:ext cx="12214440" cy="1044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78600" y="718200"/>
            <a:ext cx="12214440" cy="300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78600" y="4212720"/>
            <a:ext cx="12214440" cy="1044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78600" y="718200"/>
            <a:ext cx="12214440" cy="300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78600" y="4212720"/>
            <a:ext cx="5960520" cy="1044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937560" y="4212720"/>
            <a:ext cx="5960520" cy="1044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78600" y="718200"/>
            <a:ext cx="12214440" cy="300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ubTitle"/>
          </p:nvPr>
        </p:nvSpPr>
        <p:spPr>
          <a:xfrm>
            <a:off x="678600" y="718200"/>
            <a:ext cx="12214440" cy="139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76"/>
              </a:spcBef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78600" y="718200"/>
            <a:ext cx="12214440" cy="300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78600" y="4212720"/>
            <a:ext cx="596052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6937560" y="4212720"/>
            <a:ext cx="5960520" cy="1044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78600" y="9666360"/>
            <a:ext cx="596052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78600" y="718200"/>
            <a:ext cx="12214440" cy="300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78600" y="4212720"/>
            <a:ext cx="5960520" cy="1044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937560" y="4212720"/>
            <a:ext cx="596052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937560" y="9666360"/>
            <a:ext cx="596052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78600" y="718200"/>
            <a:ext cx="12214440" cy="300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78600" y="4212720"/>
            <a:ext cx="596052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937560" y="4212720"/>
            <a:ext cx="596052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78600" y="9666360"/>
            <a:ext cx="1221444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トンボ説明ol"/>
          <p:cNvPicPr/>
          <p:nvPr/>
        </p:nvPicPr>
        <p:blipFill>
          <a:blip r:embed="rId2"/>
          <a:stretch/>
        </p:blipFill>
        <p:spPr>
          <a:xfrm>
            <a:off x="12018960" y="387360"/>
            <a:ext cx="1050840" cy="1162080"/>
          </a:xfrm>
          <a:prstGeom prst="rect">
            <a:avLst/>
          </a:prstGeom>
          <a:ln w="0">
            <a:noFill/>
          </a:ln>
        </p:spPr>
      </p:pic>
      <p:sp>
        <p:nvSpPr>
          <p:cNvPr id="1" name="AutoShape 54"/>
          <p:cNvSpPr/>
          <p:nvPr/>
        </p:nvSpPr>
        <p:spPr>
          <a:xfrm>
            <a:off x="6843600" y="16713360"/>
            <a:ext cx="247680" cy="24732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320"/>
              <a:gd name="textAreaBottom" fmla="*/ 190800 h 247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AutoShape 55"/>
          <p:cNvSpPr/>
          <p:nvPr/>
        </p:nvSpPr>
        <p:spPr>
          <a:xfrm>
            <a:off x="6862680" y="1028880"/>
            <a:ext cx="247680" cy="24732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320"/>
              <a:gd name="textAreaBottom" fmla="*/ 190800 h 247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25" descr=""/>
          <p:cNvPicPr/>
          <p:nvPr/>
        </p:nvPicPr>
        <p:blipFill>
          <a:blip r:embed="rId3"/>
          <a:stretch/>
        </p:blipFill>
        <p:spPr>
          <a:xfrm>
            <a:off x="4786200" y="216000"/>
            <a:ext cx="4029120" cy="612720"/>
          </a:xfrm>
          <a:prstGeom prst="rect">
            <a:avLst/>
          </a:prstGeom>
          <a:ln w="0">
            <a:noFill/>
          </a:ln>
        </p:spPr>
      </p:pic>
      <p:sp>
        <p:nvSpPr>
          <p:cNvPr id="4" name="Text Box 55"/>
          <p:cNvSpPr/>
          <p:nvPr/>
        </p:nvSpPr>
        <p:spPr>
          <a:xfrm>
            <a:off x="2577960" y="17008560"/>
            <a:ext cx="3356280" cy="973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テンプレート使用時の注意点　～必ずお読みください～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①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用紙サイズの変更やトンボの移動、変形などは絶対にしないようお願いします。</a:t>
            </a: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②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「</a:t>
            </a:r>
            <a:r>
              <a:rPr b="0" lang="ja-JP" sz="600" spc="-1" strike="noStrike">
                <a:solidFill>
                  <a:srgbClr val="ff0000"/>
                </a:solidFill>
                <a:latin typeface="ＭＳ Ｐゴシック"/>
              </a:rPr>
              <a:t>ヌリ足し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」まで色や写真を配置して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③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透過性や半透明、パターンなどは変換が正常に出来ない場合がござい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入稿される際は、必ず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形式で保存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したデータでお願いいたし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形式で保存される前に必ず添付の「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owerPoint-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入稿データについて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ｐｄｆ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」をお読み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⑥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書き出し方法については下記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弊社ホームページをご参照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ttp://www.vanfu.co.jp/guide/technical/microsoft-office/#pd00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⑦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を作成後は、必ずこのドキュメントと同じサイズ（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377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ｘ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500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）になっているかご確認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27"/>
          <p:cNvSpPr/>
          <p:nvPr/>
        </p:nvSpPr>
        <p:spPr>
          <a:xfrm>
            <a:off x="8669160" y="17111520"/>
            <a:ext cx="1441800" cy="632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このドキュメントのサイズは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幅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377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×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高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500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になります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グループ化 16"/>
          <p:cNvGrpSpPr/>
          <p:nvPr/>
        </p:nvGrpSpPr>
        <p:grpSpPr>
          <a:xfrm>
            <a:off x="982800" y="984240"/>
            <a:ext cx="11607840" cy="16033680"/>
            <a:chOff x="982800" y="984240"/>
            <a:chExt cx="11607840" cy="16033680"/>
          </a:xfrm>
        </p:grpSpPr>
        <p:grpSp>
          <p:nvGrpSpPr>
            <p:cNvPr id="7" name="object 2"/>
            <p:cNvGrpSpPr/>
            <p:nvPr/>
          </p:nvGrpSpPr>
          <p:grpSpPr>
            <a:xfrm>
              <a:off x="1005840" y="16558920"/>
              <a:ext cx="435960" cy="435960"/>
              <a:chOff x="1005840" y="16558920"/>
              <a:chExt cx="435960" cy="435960"/>
            </a:xfrm>
          </p:grpSpPr>
          <p:sp>
            <p:nvSpPr>
              <p:cNvPr id="8" name="object 3"/>
              <p:cNvSpPr/>
              <p:nvPr/>
            </p:nvSpPr>
            <p:spPr>
              <a:xfrm>
                <a:off x="1005840" y="1655892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5" h="432434">
                    <a:moveTo>
                      <a:pt x="0" y="0"/>
                    </a:moveTo>
                    <a:lnTo>
                      <a:pt x="324002" y="0"/>
                    </a:lnTo>
                    <a:lnTo>
                      <a:pt x="324002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object 4"/>
              <p:cNvSpPr/>
              <p:nvPr/>
            </p:nvSpPr>
            <p:spPr>
              <a:xfrm>
                <a:off x="1005840" y="1666764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432003" y="324002"/>
                    </a:moveTo>
                    <a:lnTo>
                      <a:pt x="432003" y="0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object 5"/>
            <p:cNvGrpSpPr/>
            <p:nvPr/>
          </p:nvGrpSpPr>
          <p:grpSpPr>
            <a:xfrm>
              <a:off x="1005840" y="1007280"/>
              <a:ext cx="435960" cy="435960"/>
              <a:chOff x="1005840" y="1007280"/>
              <a:chExt cx="435960" cy="435960"/>
            </a:xfrm>
          </p:grpSpPr>
          <p:sp>
            <p:nvSpPr>
              <p:cNvPr id="11" name="object 6"/>
              <p:cNvSpPr/>
              <p:nvPr/>
            </p:nvSpPr>
            <p:spPr>
              <a:xfrm>
                <a:off x="1005840" y="100728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5" h="432434">
                    <a:moveTo>
                      <a:pt x="0" y="432003"/>
                    </a:moveTo>
                    <a:lnTo>
                      <a:pt x="324002" y="432003"/>
                    </a:lnTo>
                    <a:lnTo>
                      <a:pt x="324002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object 7"/>
              <p:cNvSpPr/>
              <p:nvPr/>
            </p:nvSpPr>
            <p:spPr>
              <a:xfrm>
                <a:off x="1005840" y="100728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432003" y="0"/>
                    </a:moveTo>
                    <a:lnTo>
                      <a:pt x="432003" y="324002"/>
                    </a:lnTo>
                    <a:lnTo>
                      <a:pt x="0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object 8"/>
            <p:cNvGrpSpPr/>
            <p:nvPr/>
          </p:nvGrpSpPr>
          <p:grpSpPr>
            <a:xfrm>
              <a:off x="12131640" y="1007280"/>
              <a:ext cx="435960" cy="435960"/>
              <a:chOff x="12131640" y="1007280"/>
              <a:chExt cx="435960" cy="435960"/>
            </a:xfrm>
          </p:grpSpPr>
          <p:sp>
            <p:nvSpPr>
              <p:cNvPr id="14" name="object 9"/>
              <p:cNvSpPr/>
              <p:nvPr/>
            </p:nvSpPr>
            <p:spPr>
              <a:xfrm>
                <a:off x="12240360" y="100728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324002" y="432003"/>
                    </a:moveTo>
                    <a:lnTo>
                      <a:pt x="0" y="432003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object 10"/>
              <p:cNvSpPr/>
              <p:nvPr/>
            </p:nvSpPr>
            <p:spPr>
              <a:xfrm>
                <a:off x="12131640" y="100728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0" y="0"/>
                    </a:moveTo>
                    <a:lnTo>
                      <a:pt x="0" y="324002"/>
                    </a:lnTo>
                    <a:lnTo>
                      <a:pt x="432003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" name="object 11"/>
            <p:cNvGrpSpPr/>
            <p:nvPr/>
          </p:nvGrpSpPr>
          <p:grpSpPr>
            <a:xfrm>
              <a:off x="12131640" y="16558920"/>
              <a:ext cx="435960" cy="435960"/>
              <a:chOff x="12131640" y="16558920"/>
              <a:chExt cx="435960" cy="435960"/>
            </a:xfrm>
          </p:grpSpPr>
          <p:sp>
            <p:nvSpPr>
              <p:cNvPr id="17" name="object 12"/>
              <p:cNvSpPr/>
              <p:nvPr/>
            </p:nvSpPr>
            <p:spPr>
              <a:xfrm>
                <a:off x="12240360" y="1655892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324002" y="0"/>
                    </a:moveTo>
                    <a:lnTo>
                      <a:pt x="0" y="0"/>
                    </a:lnTo>
                    <a:lnTo>
                      <a:pt x="0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object 13"/>
              <p:cNvSpPr/>
              <p:nvPr/>
            </p:nvSpPr>
            <p:spPr>
              <a:xfrm>
                <a:off x="12131640" y="1666764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0" y="324002"/>
                    </a:moveTo>
                    <a:lnTo>
                      <a:pt x="0" y="0"/>
                    </a:lnTo>
                    <a:lnTo>
                      <a:pt x="432003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" name="object 14"/>
            <p:cNvGrpSpPr/>
            <p:nvPr/>
          </p:nvGrpSpPr>
          <p:grpSpPr>
            <a:xfrm>
              <a:off x="982800" y="8543880"/>
              <a:ext cx="304560" cy="914040"/>
              <a:chOff x="982800" y="8543880"/>
              <a:chExt cx="304560" cy="914040"/>
            </a:xfrm>
          </p:grpSpPr>
          <p:sp>
            <p:nvSpPr>
              <p:cNvPr id="20" name="object 15"/>
              <p:cNvSpPr/>
              <p:nvPr/>
            </p:nvSpPr>
            <p:spPr>
              <a:xfrm>
                <a:off x="982800" y="900072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0" y="0"/>
                    </a:moveTo>
                    <a:lnTo>
                      <a:pt x="3048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object 16"/>
              <p:cNvSpPr/>
              <p:nvPr/>
            </p:nvSpPr>
            <p:spPr>
              <a:xfrm>
                <a:off x="1211400" y="8543880"/>
                <a:ext cx="360" cy="91404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0"/>
                    </a:moveTo>
                    <a:lnTo>
                      <a:pt x="0" y="9144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" name="object 17"/>
            <p:cNvGrpSpPr/>
            <p:nvPr/>
          </p:nvGrpSpPr>
          <p:grpSpPr>
            <a:xfrm>
              <a:off x="12286080" y="8543880"/>
              <a:ext cx="304560" cy="914040"/>
              <a:chOff x="12286080" y="8543880"/>
              <a:chExt cx="304560" cy="914040"/>
            </a:xfrm>
          </p:grpSpPr>
          <p:sp>
            <p:nvSpPr>
              <p:cNvPr id="23" name="object 18"/>
              <p:cNvSpPr/>
              <p:nvPr/>
            </p:nvSpPr>
            <p:spPr>
              <a:xfrm>
                <a:off x="12286080" y="900072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3048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object 19"/>
              <p:cNvSpPr/>
              <p:nvPr/>
            </p:nvSpPr>
            <p:spPr>
              <a:xfrm>
                <a:off x="12362040" y="8543880"/>
                <a:ext cx="360" cy="91404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9144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" name="object 20"/>
            <p:cNvGrpSpPr/>
            <p:nvPr/>
          </p:nvGrpSpPr>
          <p:grpSpPr>
            <a:xfrm>
              <a:off x="6329520" y="984240"/>
              <a:ext cx="914400" cy="304560"/>
              <a:chOff x="6329520" y="984240"/>
              <a:chExt cx="914400" cy="304560"/>
            </a:xfrm>
          </p:grpSpPr>
          <p:sp>
            <p:nvSpPr>
              <p:cNvPr id="26" name="object 21"/>
              <p:cNvSpPr/>
              <p:nvPr/>
            </p:nvSpPr>
            <p:spPr>
              <a:xfrm>
                <a:off x="6329520" y="121284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0" y="0"/>
                    </a:moveTo>
                    <a:lnTo>
                      <a:pt x="9144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object 22"/>
              <p:cNvSpPr/>
              <p:nvPr/>
            </p:nvSpPr>
            <p:spPr>
              <a:xfrm>
                <a:off x="6786720" y="98424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0"/>
                    </a:moveTo>
                    <a:lnTo>
                      <a:pt x="0" y="3048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" name="object 23"/>
            <p:cNvGrpSpPr/>
            <p:nvPr/>
          </p:nvGrpSpPr>
          <p:grpSpPr>
            <a:xfrm>
              <a:off x="6329520" y="16713360"/>
              <a:ext cx="914400" cy="304560"/>
              <a:chOff x="6329520" y="16713360"/>
              <a:chExt cx="914400" cy="304560"/>
            </a:xfrm>
          </p:grpSpPr>
          <p:sp>
            <p:nvSpPr>
              <p:cNvPr id="29" name="object 24"/>
              <p:cNvSpPr/>
              <p:nvPr/>
            </p:nvSpPr>
            <p:spPr>
              <a:xfrm>
                <a:off x="6329520" y="1678932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9144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object 25"/>
              <p:cNvSpPr/>
              <p:nvPr/>
            </p:nvSpPr>
            <p:spPr>
              <a:xfrm>
                <a:off x="6786720" y="1671336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3048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6-12T18:41:30Z</dcterms:created>
  <dc:creator/>
  <dc:description/>
  <dc:language>en-US</dc:language>
  <cp:lastModifiedBy/>
  <dcterms:modified xsi:type="dcterms:W3CDTF">2024-08-15T19:34:22Z</dcterms:modified>
  <cp:revision>1</cp:revision>
  <dc:subject/>
  <dc:title/>
</cp:coreProperties>
</file>