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44DF-7066-419A-8398-2C8962FC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F4C-5F9C-47D0-9244-4E5F9FA46D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20189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22840" y="179280"/>
            <a:ext cx="4127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292480" y="94536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605800" y="96314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2:13Z</dcterms:created>
  <dc:creator/>
  <dc:description/>
  <dc:language>en-US</dc:language>
  <cp:lastModifiedBy/>
  <dcterms:modified xsi:type="dcterms:W3CDTF">2024-08-15T18:57:07Z</dcterms:modified>
  <cp:revision>1</cp:revision>
  <dc:subject/>
  <dc:title/>
</cp:coreProperties>
</file>