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1200240" y="685440"/>
            <a:ext cx="4457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2B94-E3ED-4FE6-8A08-55E430080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E170-C547-48E9-993A-BDC078EFEA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200240" y="685800"/>
            <a:ext cx="445752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12020400" y="384120"/>
            <a:ext cx="1051200" cy="116208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0"/>
          <p:cNvSpPr/>
          <p:nvPr/>
        </p:nvSpPr>
        <p:spPr>
          <a:xfrm>
            <a:off x="6858000" y="9171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1"/>
          <p:cNvSpPr/>
          <p:nvPr/>
        </p:nvSpPr>
        <p:spPr>
          <a:xfrm>
            <a:off x="6848640" y="1028880"/>
            <a:ext cx="247320" cy="24732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4741920" y="252360"/>
            <a:ext cx="4089240" cy="61128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2292480" y="944712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8605800" y="9631440"/>
            <a:ext cx="144144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7"/>
          <p:cNvGrpSpPr/>
          <p:nvPr/>
        </p:nvGrpSpPr>
        <p:grpSpPr>
          <a:xfrm>
            <a:off x="982800" y="982800"/>
            <a:ext cx="11607840" cy="8475480"/>
            <a:chOff x="982800" y="982800"/>
            <a:chExt cx="11607840" cy="847548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8999280"/>
              <a:ext cx="435960" cy="435960"/>
              <a:chOff x="1005840" y="8999280"/>
              <a:chExt cx="435960" cy="43596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12131640" y="1005840"/>
              <a:ext cx="435960" cy="435960"/>
              <a:chOff x="12131640" y="1005840"/>
              <a:chExt cx="435960" cy="43596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1224036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121316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12131640" y="8999280"/>
              <a:ext cx="435960" cy="435960"/>
              <a:chOff x="12131640" y="8999280"/>
              <a:chExt cx="435960" cy="43596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1224036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121316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4763160"/>
              <a:ext cx="304560" cy="914400"/>
              <a:chOff x="982800" y="476316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12286080" y="4763160"/>
              <a:ext cx="304560" cy="914400"/>
              <a:chOff x="12286080" y="476316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1228608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1236204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6329520" y="982800"/>
              <a:ext cx="914400" cy="304560"/>
              <a:chOff x="6329520" y="982800"/>
              <a:chExt cx="91440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6329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6786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6329520" y="9153720"/>
              <a:ext cx="914400" cy="304560"/>
              <a:chOff x="6329520" y="9153720"/>
              <a:chExt cx="91440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6329520" y="9229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6786720" y="9153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42:52Z</dcterms:created>
  <dc:creator/>
  <dc:description/>
  <dc:language>en-US</dc:language>
  <cp:lastModifiedBy/>
  <dcterms:modified xsi:type="dcterms:W3CDTF">2024-08-15T19:01:59Z</dcterms:modified>
  <cp:revision>1</cp:revision>
  <dc:subject/>
  <dc:title/>
</cp:coreProperties>
</file>