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439400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47760" y="685440"/>
            <a:ext cx="4362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E8C3-F17C-4059-878A-3F80D18AB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A88F-F1A2-4710-A90D-FF66E06DC7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47760" y="685800"/>
            <a:ext cx="436248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864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7528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200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864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87528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22000" y="327240"/>
            <a:ext cx="9395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8886960" y="385920"/>
            <a:ext cx="1050840" cy="11617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0"/>
          <p:cNvSpPr/>
          <p:nvPr/>
        </p:nvSpPr>
        <p:spPr>
          <a:xfrm>
            <a:off x="5262480" y="6923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1"/>
          <p:cNvSpPr/>
          <p:nvPr/>
        </p:nvSpPr>
        <p:spPr>
          <a:xfrm>
            <a:off x="52768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5" descr=""/>
          <p:cNvPicPr/>
          <p:nvPr/>
        </p:nvPicPr>
        <p:blipFill>
          <a:blip r:embed="rId3"/>
          <a:stretch/>
        </p:blipFill>
        <p:spPr>
          <a:xfrm>
            <a:off x="3193920" y="216000"/>
            <a:ext cx="404676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90360" y="721044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8839080" y="742968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8423280" cy="6191280"/>
            <a:chOff x="1008000" y="1008000"/>
            <a:chExt cx="8423280" cy="619128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3440" y="100800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7559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99640" y="100800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10584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3440" y="1333440"/>
              <a:ext cx="7772400" cy="55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10584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544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105840" y="1440000"/>
              <a:ext cx="32544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767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105840" y="6767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873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3440" y="687384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873840"/>
              <a:ext cx="7559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999640" y="687384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105840" y="6873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34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3440" y="1440000"/>
              <a:ext cx="0" cy="5327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333440" y="6767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000" y="6873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99964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999640" y="6873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91058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9105840" y="1440000"/>
              <a:ext cx="0" cy="5327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9105840" y="6767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13334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440000" y="1333440"/>
              <a:ext cx="7559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999640" y="13334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00800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910584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08000" y="6767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105840" y="6767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08000" y="68738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440000" y="6873840"/>
              <a:ext cx="7559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999640" y="68738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object 3"/>
          <p:cNvSpPr/>
          <p:nvPr/>
        </p:nvSpPr>
        <p:spPr>
          <a:xfrm>
            <a:off x="982800" y="4103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4"/>
          <p:cNvSpPr/>
          <p:nvPr/>
        </p:nvSpPr>
        <p:spPr>
          <a:xfrm>
            <a:off x="121140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5"/>
          <p:cNvSpPr/>
          <p:nvPr/>
        </p:nvSpPr>
        <p:spPr>
          <a:xfrm>
            <a:off x="9151920" y="410364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6"/>
          <p:cNvSpPr/>
          <p:nvPr/>
        </p:nvSpPr>
        <p:spPr>
          <a:xfrm>
            <a:off x="922824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7"/>
          <p:cNvSpPr/>
          <p:nvPr/>
        </p:nvSpPr>
        <p:spPr>
          <a:xfrm>
            <a:off x="4762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8"/>
          <p:cNvSpPr/>
          <p:nvPr/>
        </p:nvSpPr>
        <p:spPr>
          <a:xfrm>
            <a:off x="5219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9"/>
          <p:cNvSpPr/>
          <p:nvPr/>
        </p:nvSpPr>
        <p:spPr>
          <a:xfrm>
            <a:off x="4762440" y="6996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10"/>
          <p:cNvSpPr/>
          <p:nvPr/>
        </p:nvSpPr>
        <p:spPr>
          <a:xfrm>
            <a:off x="5219640" y="6919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6:11Z</dcterms:created>
  <dc:creator/>
  <dc:description/>
  <dc:language>en-US</dc:language>
  <cp:lastModifiedBy/>
  <dcterms:modified xsi:type="dcterms:W3CDTF">2020-06-12T18:46:23Z</dcterms:modified>
  <cp:revision>1</cp:revision>
  <dc:subject/>
  <dc:title/>
</cp:coreProperties>
</file>