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8AF-3C33-4716-B4CC-5AF185F3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FA9-82EC-41D1-A2F5-6231D3CFEA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640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58840" y="252360"/>
            <a:ext cx="40849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1280" y="94536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692760" y="973296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8423280"/>
            <a:chOff x="1008000" y="1008000"/>
            <a:chExt cx="6191280" cy="8423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3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5540400" cy="77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3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384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384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9105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910584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9105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384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67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73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38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738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767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873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7384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9105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91058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7640" y="9105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5219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6919920" y="5219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699624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3646440" y="922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103640" y="9151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7:51Z</dcterms:created>
  <dc:creator/>
  <dc:description/>
  <dc:language>en-US</dc:language>
  <cp:lastModifiedBy/>
  <dcterms:modified xsi:type="dcterms:W3CDTF">2020-06-12T18:48:02Z</dcterms:modified>
  <cp:revision>1</cp:revision>
  <dc:subject/>
  <dc:title/>
</cp:coreProperties>
</file>