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8207375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316160" y="685440"/>
            <a:ext cx="4225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6516-BD3E-41B4-A1FF-09F4A5E23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1478-EC63-4038-9261-7045C4ACF3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316160" y="685800"/>
            <a:ext cx="422568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90772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405400" y="155844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10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90772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405400" y="3575880"/>
            <a:ext cx="237816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73868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0400" y="265680"/>
            <a:ext cx="73868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195800" y="357588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0400" y="265680"/>
            <a:ext cx="73868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04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95800" y="1558440"/>
            <a:ext cx="360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0400" y="3575880"/>
            <a:ext cx="73868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6659640" y="385920"/>
            <a:ext cx="1050840" cy="116172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1"/>
          <p:cNvSpPr/>
          <p:nvPr/>
        </p:nvSpPr>
        <p:spPr>
          <a:xfrm>
            <a:off x="4152960" y="53560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2"/>
          <p:cNvSpPr/>
          <p:nvPr/>
        </p:nvSpPr>
        <p:spPr>
          <a:xfrm>
            <a:off x="4167360" y="100800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2068560" y="235080"/>
            <a:ext cx="4071960" cy="6109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144360" y="5680080"/>
            <a:ext cx="3355920" cy="92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6553080" y="5923080"/>
            <a:ext cx="151128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6191280" cy="4643640"/>
            <a:chOff x="1008000" y="1008000"/>
            <a:chExt cx="6191280" cy="464364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532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767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875640" y="100800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5543640" cy="39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875640" y="1332000"/>
              <a:ext cx="3236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875640" y="1440000"/>
              <a:ext cx="323640" cy="37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5219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875640" y="5219640"/>
              <a:ext cx="32364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532764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5327640"/>
              <a:ext cx="5327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767640" y="532764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6875640" y="5327640"/>
              <a:ext cx="323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6767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6767640" y="532764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6875640" y="1008000"/>
              <a:ext cx="0" cy="464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6191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875640" y="144000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5219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875640" y="5219640"/>
              <a:ext cx="32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5327640"/>
              <a:ext cx="6191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4103640" y="537228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3646440" y="544824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410364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3646440" y="1211400"/>
            <a:ext cx="914400" cy="360"/>
          </a:xfrm>
          <a:custGeom>
            <a:avLst/>
            <a:gdLst/>
            <a:ahLst/>
            <a:rect l="l" t="t" r="r" b="b"/>
            <a:pathLst>
              <a:path w="914400" h="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121140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982800" y="333072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6996240" y="287352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6919920" y="3330720"/>
            <a:ext cx="30492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9:02Z</dcterms:created>
  <dc:creator/>
  <dc:description/>
  <dc:language>en-US</dc:language>
  <cp:lastModifiedBy/>
  <dcterms:modified xsi:type="dcterms:W3CDTF">2020-06-12T18:49:09Z</dcterms:modified>
  <cp:revision>1</cp:revision>
  <dc:subject/>
  <dc:title/>
</cp:coreProperties>
</file>