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0DC9-457C-47C2-8CA8-FF87E97C9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82D2-574A-4B20-A45F-922CFBF72D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108400" y="388800"/>
            <a:ext cx="105120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376440" y="69105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390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36440" y="131760"/>
            <a:ext cx="40705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4520" y="7226280"/>
            <a:ext cx="3355920" cy="92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029200" y="7439040"/>
            <a:ext cx="143676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643640" cy="6191280"/>
            <a:chOff x="1008000" y="1008000"/>
            <a:chExt cx="4643640" cy="6191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19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27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995640" cy="55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27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27640" y="1440000"/>
              <a:ext cx="32400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767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27640" y="6767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875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875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875640"/>
              <a:ext cx="3779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19640" y="6875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27640" y="6875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619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6875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219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219640" y="6875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327640" y="1008000"/>
              <a:ext cx="0" cy="619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27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2764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687564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537228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544824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873520" y="1211400"/>
            <a:ext cx="914400" cy="360"/>
          </a:xfrm>
          <a:custGeom>
            <a:avLst/>
            <a:gdLst/>
            <a:ahLst/>
            <a:rect l="l" t="t" r="r" b="b"/>
            <a:pathLst>
              <a:path w="915035" h="0">
                <a:moveTo>
                  <a:pt x="0" y="0"/>
                </a:moveTo>
                <a:lnTo>
                  <a:pt x="914412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33072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873520" y="6996240"/>
            <a:ext cx="914400" cy="360"/>
          </a:xfrm>
          <a:custGeom>
            <a:avLst/>
            <a:gdLst/>
            <a:ahLst/>
            <a:rect l="l" t="t" r="r" b="b"/>
            <a:pathLst>
              <a:path w="915035" h="0">
                <a:moveTo>
                  <a:pt x="914412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330720" y="6919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50:03Z</dcterms:created>
  <dc:creator/>
  <dc:description/>
  <dc:language>en-US</dc:language>
  <cp:lastModifiedBy/>
  <dcterms:modified xsi:type="dcterms:W3CDTF">2020-06-12T18:50:12Z</dcterms:modified>
  <cp:revision>1</cp:revision>
  <dc:subject/>
  <dc:title/>
</cp:coreProperties>
</file>