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2038320" y="685440"/>
            <a:ext cx="27813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A492-A8B3-433B-B720-10916C25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D3B5-9B9C-4B73-89BB-6FC08F292C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038320" y="685800"/>
            <a:ext cx="278136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35944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85880" y="192060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3300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35944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385880" y="4406760"/>
            <a:ext cx="19296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5993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33000" y="327240"/>
            <a:ext cx="5993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04160" y="440676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33000" y="327240"/>
            <a:ext cx="5993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3300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04160" y="1920600"/>
            <a:ext cx="2924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33000" y="4406760"/>
            <a:ext cx="5993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849240"/>
                <a:tab algn="l" pos="1698480"/>
                <a:tab algn="l" pos="2548080"/>
                <a:tab algn="l" pos="3397320"/>
                <a:tab algn="l" pos="4246560"/>
                <a:tab algn="l" pos="5095800"/>
                <a:tab algn="l" pos="5945040"/>
                <a:tab algn="l" pos="6794640"/>
                <a:tab algn="l" pos="7643880"/>
                <a:tab algn="l" pos="8493120"/>
                <a:tab algn="l" pos="9342360"/>
                <a:tab algn="l" pos="101916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4" descr="トンボ説明ol"/>
          <p:cNvPicPr/>
          <p:nvPr/>
        </p:nvPicPr>
        <p:blipFill>
          <a:blip r:embed="rId2"/>
          <a:stretch/>
        </p:blipFill>
        <p:spPr>
          <a:xfrm>
            <a:off x="5110200" y="388800"/>
            <a:ext cx="1050840" cy="1162080"/>
          </a:xfrm>
          <a:prstGeom prst="rect">
            <a:avLst/>
          </a:prstGeom>
          <a:ln w="0">
            <a:noFill/>
          </a:ln>
        </p:spPr>
      </p:pic>
      <p:sp>
        <p:nvSpPr>
          <p:cNvPr id="1" name="AutoShape 52"/>
          <p:cNvSpPr/>
          <p:nvPr/>
        </p:nvSpPr>
        <p:spPr>
          <a:xfrm>
            <a:off x="3376440" y="6910560"/>
            <a:ext cx="247680" cy="24732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320"/>
              <a:gd name="textAreaBottom" fmla="*/ 19080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53"/>
          <p:cNvSpPr/>
          <p:nvPr/>
        </p:nvSpPr>
        <p:spPr>
          <a:xfrm>
            <a:off x="339084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4" descr=""/>
          <p:cNvPicPr/>
          <p:nvPr/>
        </p:nvPicPr>
        <p:blipFill>
          <a:blip r:embed="rId3"/>
          <a:stretch/>
        </p:blipFill>
        <p:spPr>
          <a:xfrm>
            <a:off x="162000" y="144360"/>
            <a:ext cx="4083120" cy="612720"/>
          </a:xfrm>
          <a:prstGeom prst="rect">
            <a:avLst/>
          </a:prstGeom>
          <a:ln w="0">
            <a:noFill/>
          </a:ln>
        </p:spPr>
      </p:pic>
      <p:sp>
        <p:nvSpPr>
          <p:cNvPr id="4" name="Text Box 55"/>
          <p:cNvSpPr/>
          <p:nvPr/>
        </p:nvSpPr>
        <p:spPr>
          <a:xfrm>
            <a:off x="74520" y="7219800"/>
            <a:ext cx="3355920" cy="92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8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228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26"/>
          <p:cNvSpPr/>
          <p:nvPr/>
        </p:nvSpPr>
        <p:spPr>
          <a:xfrm>
            <a:off x="5059440" y="7416720"/>
            <a:ext cx="1465200" cy="632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185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1000" spc="-1" strike="noStrike">
                <a:solidFill>
                  <a:srgbClr val="ff0000"/>
                </a:solidFill>
                <a:latin typeface="ＭＳ Ｐゴシック"/>
              </a:rPr>
              <a:t>228</a:t>
            </a:r>
            <a:r>
              <a:rPr b="1" lang="ja-JP" sz="10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object 2"/>
          <p:cNvGrpSpPr/>
          <p:nvPr/>
        </p:nvGrpSpPr>
        <p:grpSpPr>
          <a:xfrm>
            <a:off x="1008000" y="1008000"/>
            <a:ext cx="4643640" cy="6191280"/>
            <a:chOff x="1008000" y="1008000"/>
            <a:chExt cx="4643640" cy="6191280"/>
          </a:xfrm>
        </p:grpSpPr>
        <p:sp>
          <p:nvSpPr>
            <p:cNvPr id="7" name=""/>
            <p:cNvSpPr/>
            <p:nvPr/>
          </p:nvSpPr>
          <p:spPr>
            <a:xfrm>
              <a:off x="100800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3200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40000" y="1008000"/>
              <a:ext cx="377964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19640" y="1008000"/>
              <a:ext cx="108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27640" y="1008000"/>
              <a:ext cx="32400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00800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32000" y="1332000"/>
              <a:ext cx="3995640" cy="55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27640" y="133200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0800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27640" y="1440000"/>
              <a:ext cx="324000" cy="532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0800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327640" y="6767640"/>
              <a:ext cx="324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00800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3200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440000" y="6875640"/>
              <a:ext cx="377964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219640" y="6875640"/>
              <a:ext cx="108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327640" y="6875640"/>
              <a:ext cx="324000" cy="3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3200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44000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00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219640" y="1008000"/>
              <a:ext cx="0" cy="32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219640" y="6875640"/>
              <a:ext cx="0" cy="323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327640" y="1008000"/>
              <a:ext cx="0" cy="61912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008000" y="133200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00800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327640" y="144000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0800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327640" y="6767640"/>
              <a:ext cx="3240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008000" y="6875640"/>
              <a:ext cx="46436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" name="object 3"/>
          <p:cNvSpPr/>
          <p:nvPr/>
        </p:nvSpPr>
        <p:spPr>
          <a:xfrm>
            <a:off x="98280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0" y="0"/>
                </a:moveTo>
                <a:lnTo>
                  <a:pt x="3048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object 4"/>
          <p:cNvSpPr/>
          <p:nvPr/>
        </p:nvSpPr>
        <p:spPr>
          <a:xfrm>
            <a:off x="121140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object 5"/>
          <p:cNvSpPr/>
          <p:nvPr/>
        </p:nvSpPr>
        <p:spPr>
          <a:xfrm>
            <a:off x="5372280" y="4103640"/>
            <a:ext cx="304560" cy="360"/>
          </a:xfrm>
          <a:custGeom>
            <a:avLst/>
            <a:gdLst/>
            <a:ahLst/>
            <a:rect l="l" t="t" r="r" b="b"/>
            <a:pathLst>
              <a:path w="304800" h="0">
                <a:moveTo>
                  <a:pt x="3048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object 6"/>
          <p:cNvSpPr/>
          <p:nvPr/>
        </p:nvSpPr>
        <p:spPr>
          <a:xfrm>
            <a:off x="5448240" y="3646440"/>
            <a:ext cx="360" cy="914400"/>
          </a:xfrm>
          <a:custGeom>
            <a:avLst/>
            <a:gdLst/>
            <a:ahLst/>
            <a:rect l="l" t="t" r="r" b="b"/>
            <a:pathLst>
              <a:path w="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object 7"/>
          <p:cNvSpPr/>
          <p:nvPr/>
        </p:nvSpPr>
        <p:spPr>
          <a:xfrm>
            <a:off x="2873520" y="121140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0" y="0"/>
                </a:moveTo>
                <a:lnTo>
                  <a:pt x="914412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object 8"/>
          <p:cNvSpPr/>
          <p:nvPr/>
        </p:nvSpPr>
        <p:spPr>
          <a:xfrm>
            <a:off x="3330720" y="982800"/>
            <a:ext cx="360" cy="30456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0"/>
                </a:moveTo>
                <a:lnTo>
                  <a:pt x="0" y="3048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ject 9"/>
          <p:cNvSpPr/>
          <p:nvPr/>
        </p:nvSpPr>
        <p:spPr>
          <a:xfrm>
            <a:off x="2873520" y="6996240"/>
            <a:ext cx="914400" cy="360"/>
          </a:xfrm>
          <a:custGeom>
            <a:avLst/>
            <a:gdLst/>
            <a:ahLst/>
            <a:rect l="l" t="t" r="r" b="b"/>
            <a:pathLst>
              <a:path w="915035" h="0">
                <a:moveTo>
                  <a:pt x="914412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ject 10"/>
          <p:cNvSpPr/>
          <p:nvPr/>
        </p:nvSpPr>
        <p:spPr>
          <a:xfrm>
            <a:off x="3330720" y="6919920"/>
            <a:ext cx="360" cy="304920"/>
          </a:xfrm>
          <a:custGeom>
            <a:avLst/>
            <a:gdLst/>
            <a:ahLst/>
            <a:rect l="l" t="t" r="r" b="b"/>
            <a:pathLst>
              <a:path w="0" h="304800">
                <a:moveTo>
                  <a:pt x="0" y="304799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12T18:49:29Z</dcterms:created>
  <dc:creator/>
  <dc:description/>
  <dc:language>en-US</dc:language>
  <cp:lastModifiedBy/>
  <dcterms:modified xsi:type="dcterms:W3CDTF">2020-06-12T18:49:44Z</dcterms:modified>
  <cp:revision>1</cp:revision>
  <dc:subject/>
  <dc:title/>
</cp:coreProperties>
</file>