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D0F-CA43-4B07-9813-0BBE3CAC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8D24-46EA-4539-AC20-C5E2568FFB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トンボ説明ol"/>
          <p:cNvPicPr/>
          <p:nvPr/>
        </p:nvPicPr>
        <p:blipFill>
          <a:blip r:embed="rId2"/>
          <a:stretch/>
        </p:blipFill>
        <p:spPr>
          <a:xfrm>
            <a:off x="5110200" y="384120"/>
            <a:ext cx="1054080" cy="11653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90360" y="108000"/>
            <a:ext cx="40165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45529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45040" y="4789440"/>
            <a:ext cx="14810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3527640"/>
            <a:chOff x="1008000" y="1008000"/>
            <a:chExt cx="4643640" cy="3527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21164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211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330720" y="4255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2873520" y="4332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544824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537228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1:07Z</dcterms:created>
  <dc:creator/>
  <dc:description/>
  <dc:language>en-US</dc:language>
  <cp:lastModifiedBy/>
  <dcterms:modified xsi:type="dcterms:W3CDTF">2020-06-12T18:51:17Z</dcterms:modified>
  <cp:revision>1</cp:revision>
  <dc:subject/>
  <dc:title/>
</cp:coreProperties>
</file>