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AC42-A33A-424D-B0E6-47E42F44C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FC3-812B-4DC6-9F0F-082B95325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3994200" y="38412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71160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56642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997440" y="59230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3527640" cy="4643640"/>
            <a:chOff x="1008000" y="1008000"/>
            <a:chExt cx="352764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3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11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2879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211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21164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164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03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21164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3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03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11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211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21164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255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332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3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314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2771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314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2771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05Z</dcterms:created>
  <dc:creator/>
  <dc:description/>
  <dc:language>en-US</dc:language>
  <cp:lastModifiedBy/>
  <dcterms:modified xsi:type="dcterms:W3CDTF">2020-06-12T18:52:14Z</dcterms:modified>
  <cp:revision>1</cp:revision>
  <dc:subject/>
  <dc:title/>
</cp:coreProperties>
</file>