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659563" cy="5543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370160" y="685440"/>
            <a:ext cx="4117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3750-BE6D-492F-8828-D90796B2A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90AA-DE6F-4F96-9FA2-55A3C81500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70160" y="685800"/>
            <a:ext cx="411768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3000" y="297684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40416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35944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8588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3300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35944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38588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33000" y="221040"/>
            <a:ext cx="59936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0416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6" descr="トンボ説明ol"/>
          <p:cNvPicPr/>
          <p:nvPr/>
        </p:nvPicPr>
        <p:blipFill>
          <a:blip r:embed="rId2"/>
          <a:stretch/>
        </p:blipFill>
        <p:spPr>
          <a:xfrm>
            <a:off x="5111640" y="396720"/>
            <a:ext cx="104004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3375000" y="4243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338940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5"/>
          <p:cNvSpPr/>
          <p:nvPr/>
        </p:nvSpPr>
        <p:spPr>
          <a:xfrm>
            <a:off x="90360" y="454968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54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4" descr=""/>
          <p:cNvPicPr/>
          <p:nvPr/>
        </p:nvPicPr>
        <p:blipFill>
          <a:blip r:embed="rId3"/>
          <a:stretch/>
        </p:blipFill>
        <p:spPr>
          <a:xfrm>
            <a:off x="235080" y="181080"/>
            <a:ext cx="3571920" cy="547560"/>
          </a:xfrm>
          <a:prstGeom prst="rect">
            <a:avLst/>
          </a:prstGeom>
          <a:ln w="0">
            <a:noFill/>
          </a:ln>
        </p:spPr>
      </p:pic>
      <p:sp>
        <p:nvSpPr>
          <p:cNvPr id="5" name="Text Box 40"/>
          <p:cNvSpPr/>
          <p:nvPr/>
        </p:nvSpPr>
        <p:spPr>
          <a:xfrm>
            <a:off x="5041800" y="480204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5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4643640" cy="3527640"/>
            <a:chOff x="1008000" y="1008000"/>
            <a:chExt cx="4643640" cy="352764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3779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21964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2764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3995640" cy="28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2764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26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327640" y="1440000"/>
              <a:ext cx="324000" cy="26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4103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327640" y="4103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421164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4211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4211640"/>
              <a:ext cx="3779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219640" y="4211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327640" y="421164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352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4211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21964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219640" y="4211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327640" y="1008000"/>
              <a:ext cx="0" cy="352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464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32764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4103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327640" y="4103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4211640"/>
              <a:ext cx="464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333072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287352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3330720" y="425592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2873520" y="433224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5448240" y="2314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5372280" y="2771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1211400" y="2314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982800" y="2771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0:35Z</dcterms:created>
  <dc:creator/>
  <dc:description/>
  <dc:language>en-US</dc:language>
  <cp:lastModifiedBy/>
  <dcterms:modified xsi:type="dcterms:W3CDTF">2020-06-12T18:50:45Z</dcterms:modified>
  <cp:revision>1</cp:revision>
  <dc:subject/>
  <dc:title/>
</cp:coreProperties>
</file>