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543550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001960" y="685440"/>
            <a:ext cx="2854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B680-A259-43CE-8900-7AC4B0ED9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35F0-1333-4A94-BB3F-72B3DD11A3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001960" y="685800"/>
            <a:ext cx="285408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96416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5112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7720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196416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365112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77200" y="265680"/>
            <a:ext cx="49892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3994200" y="392040"/>
            <a:ext cx="1039680" cy="11494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2803680" y="536256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28177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108000" y="90360"/>
            <a:ext cx="3816360" cy="57960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60480" y="566892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54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3889440" y="5945040"/>
            <a:ext cx="153648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5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3527640" cy="4643640"/>
            <a:chOff x="1008000" y="1008000"/>
            <a:chExt cx="3527640" cy="464364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266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10364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21164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287964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21164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37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211640" y="1440000"/>
              <a:ext cx="324000" cy="37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5219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11640" y="5219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5327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5327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5327640"/>
              <a:ext cx="266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103640" y="5327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211640" y="5327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464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5327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103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03640" y="5327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11640" y="1008000"/>
              <a:ext cx="0" cy="464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3527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21164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5219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211640" y="5219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5327640"/>
              <a:ext cx="3527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982800" y="333072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1211400" y="287352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4255920" y="333072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4332240" y="287352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3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231444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277164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2314440" y="5448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2771640" y="537228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1:41Z</dcterms:created>
  <dc:creator/>
  <dc:description/>
  <dc:language>en-US</dc:language>
  <cp:lastModifiedBy/>
  <dcterms:modified xsi:type="dcterms:W3CDTF">2020-06-12T18:51:51Z</dcterms:modified>
  <cp:revision>1</cp:revision>
  <dc:subject/>
  <dc:title/>
</cp:coreProperties>
</file>