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2316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0468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4200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2316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50468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42000" y="452160"/>
            <a:ext cx="6155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"/>
          <p:cNvPicPr/>
          <p:nvPr/>
        </p:nvPicPr>
        <p:blipFill>
          <a:blip r:embed="rId2"/>
          <a:stretch/>
        </p:blipFill>
        <p:spPr>
          <a:xfrm>
            <a:off x="5292720" y="3985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44"/>
          <p:cNvSpPr/>
          <p:nvPr/>
        </p:nvSpPr>
        <p:spPr>
          <a:xfrm>
            <a:off x="3459240" y="10152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5"/>
          <p:cNvSpPr/>
          <p:nvPr/>
        </p:nvSpPr>
        <p:spPr>
          <a:xfrm>
            <a:off x="3449520" y="9558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068480" y="270000"/>
            <a:ext cx="407664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758880" y="10377360"/>
            <a:ext cx="3282840" cy="96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1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4789440" y="105966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9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31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"/>
          <p:cNvGrpSpPr/>
          <p:nvPr/>
        </p:nvGrpSpPr>
        <p:grpSpPr>
          <a:xfrm>
            <a:off x="982800" y="982800"/>
            <a:ext cx="4875120" cy="9375480"/>
            <a:chOff x="982800" y="982800"/>
            <a:chExt cx="4875120" cy="9375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9899280"/>
              <a:ext cx="436320" cy="435960"/>
              <a:chOff x="1005840" y="9899280"/>
              <a:chExt cx="43632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9899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000800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5960"/>
              <a:chOff x="1005840" y="1005840"/>
              <a:chExt cx="43632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5398920" y="1005840"/>
              <a:ext cx="436320" cy="435960"/>
              <a:chOff x="5398920" y="1005840"/>
              <a:chExt cx="43632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550764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539892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5398920" y="9899280"/>
              <a:ext cx="436320" cy="435960"/>
              <a:chOff x="5398920" y="9899280"/>
              <a:chExt cx="43632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5507640" y="9899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5398920" y="1000800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5213160"/>
              <a:ext cx="304560" cy="914400"/>
              <a:chOff x="982800" y="5213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567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521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38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5553360" y="5213160"/>
              <a:ext cx="304560" cy="914400"/>
              <a:chOff x="5553360" y="5213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5553360" y="567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5629320" y="521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2963160" y="982800"/>
              <a:ext cx="915120" cy="304560"/>
              <a:chOff x="2963160" y="982800"/>
              <a:chExt cx="91512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2963160" y="1211400"/>
                <a:ext cx="915120" cy="360"/>
              </a:xfrm>
              <a:custGeom>
                <a:avLst/>
                <a:gdLst/>
                <a:ahLst/>
                <a:rect l="l" t="t" r="r" b="b"/>
                <a:pathLst>
                  <a:path w="915035" h="0">
                    <a:moveTo>
                      <a:pt x="0" y="0"/>
                    </a:moveTo>
                    <a:lnTo>
                      <a:pt x="91441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34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2963160" y="10053720"/>
              <a:ext cx="915120" cy="304560"/>
              <a:chOff x="2963160" y="10053720"/>
              <a:chExt cx="91512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2963160" y="10129680"/>
                <a:ext cx="915120" cy="360"/>
              </a:xfrm>
              <a:custGeom>
                <a:avLst/>
                <a:gdLst/>
                <a:ahLst/>
                <a:rect l="l" t="t" r="r" b="b"/>
                <a:pathLst>
                  <a:path w="915035" h="0">
                    <a:moveTo>
                      <a:pt x="914412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3420360" y="100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47:36Z</dcterms:created>
  <dc:creator/>
  <dc:description/>
  <dc:language>en-US</dc:language>
  <cp:lastModifiedBy/>
  <dcterms:modified xsi:type="dcterms:W3CDTF">2024-08-28T20:47:42Z</dcterms:modified>
  <cp:revision>1</cp:revision>
  <dc:subject/>
  <dc:title/>
</cp:coreProperties>
</file>