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"/>
          <p:cNvPicPr/>
          <p:nvPr/>
        </p:nvPicPr>
        <p:blipFill>
          <a:blip r:embed="rId2"/>
          <a:stretch/>
        </p:blipFill>
        <p:spPr>
          <a:xfrm>
            <a:off x="9799560" y="39996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44"/>
          <p:cNvSpPr/>
          <p:nvPr/>
        </p:nvSpPr>
        <p:spPr>
          <a:xfrm>
            <a:off x="5724360" y="59990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5"/>
          <p:cNvSpPr/>
          <p:nvPr/>
        </p:nvSpPr>
        <p:spPr>
          <a:xfrm>
            <a:off x="5715000" y="961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3562200" y="287280"/>
            <a:ext cx="421668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1846440" y="614196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1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7242120" y="648504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31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200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"/>
          <p:cNvGrpSpPr/>
          <p:nvPr/>
        </p:nvGrpSpPr>
        <p:grpSpPr>
          <a:xfrm>
            <a:off x="982800" y="982800"/>
            <a:ext cx="9375480" cy="5235480"/>
            <a:chOff x="982800" y="982800"/>
            <a:chExt cx="9375480" cy="5235480"/>
          </a:xfrm>
        </p:grpSpPr>
        <p:grpSp>
          <p:nvGrpSpPr>
            <p:cNvPr id="7" name="object 2"/>
            <p:cNvGrpSpPr/>
            <p:nvPr/>
          </p:nvGrpSpPr>
          <p:grpSpPr>
            <a:xfrm>
              <a:off x="9899280" y="5759280"/>
              <a:ext cx="435960" cy="436320"/>
              <a:chOff x="9899280" y="5759280"/>
              <a:chExt cx="43596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9899280" y="5868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323989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08000" y="5759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199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5759280"/>
              <a:ext cx="435960" cy="436320"/>
              <a:chOff x="1005840" y="5759280"/>
              <a:chExt cx="43596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5868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3989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5759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199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005840" y="1005840"/>
              <a:ext cx="435960" cy="436320"/>
              <a:chOff x="1005840" y="1005840"/>
              <a:chExt cx="43596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00584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0058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9899280" y="1005840"/>
              <a:ext cx="435960" cy="436320"/>
              <a:chOff x="9899280" y="1005840"/>
              <a:chExt cx="43596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989928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000800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5213160" y="5913720"/>
              <a:ext cx="914400" cy="304560"/>
              <a:chOff x="5213160" y="5913720"/>
              <a:chExt cx="914400" cy="30456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5670360" y="591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5213160" y="598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387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5213160" y="982800"/>
              <a:ext cx="914400" cy="304560"/>
              <a:chOff x="5213160" y="982800"/>
              <a:chExt cx="914400" cy="30456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567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521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387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982800" y="3143160"/>
              <a:ext cx="304560" cy="914400"/>
              <a:chOff x="982800" y="3143160"/>
              <a:chExt cx="304560" cy="91440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1211400" y="314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982800" y="360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10053720" y="3143160"/>
              <a:ext cx="304560" cy="914400"/>
              <a:chOff x="10053720" y="3143160"/>
              <a:chExt cx="304560" cy="91440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10129680" y="314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10053720" y="360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34:04Z</dcterms:created>
  <dc:creator/>
  <dc:description/>
  <dc:language>en-US</dc:language>
  <cp:lastModifiedBy/>
  <dcterms:modified xsi:type="dcterms:W3CDTF">2024-08-28T20:34:15Z</dcterms:modified>
  <cp:revision>1</cp:revision>
  <dc:subject/>
  <dc:title/>
</cp:coreProperties>
</file>